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9D8-02DD-4A33-BE2B-1BAFB6EE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B8F-DB00-456D-843A-192CD76F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B0741-5DB0-451A-A0D8-596871DB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A4A5E-89A3-4BD8-A387-9B6D5E9A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209A5-6BAB-4ACE-B50D-8E6580CF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74652-F424-4359-AF40-B8C8B47F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74A0B-B900-4DCF-95BE-BF8AE02A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7E736-9610-459B-AD5A-64684057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D59F9-C755-4928-A664-DD753C13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70283-E1D0-4F4A-AB0F-46D96168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12B2B-4630-45FF-8B50-56F1D524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B55-DADD-40F7-86A4-224E21A8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F03-9CB8-47E3-AB2D-0B0146B1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767E-6AE5-4880-93A5-476A5DA7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D462-E89E-4EF2-89ED-0DD4AE5F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49D4-4E22-470B-8E3D-B15E9E54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1DDC-6EF5-46BA-A24D-53403046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EDF4-13AA-4791-81C0-8039A08C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57BF-86AF-442D-BEFB-5E276E11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89E8-A766-4C5F-8064-C2C89300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118-8BC9-4BBD-8C4E-053C2B15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9F94-A76E-4759-B073-B3495267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3D17-7ECB-4546-BE52-3EC099D9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701B-4FA1-490C-8204-6E8A86DA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6C9B-3968-46B9-93F1-238125F9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0EEE-BCA6-461A-AB1A-3F37A29F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1FFF5-5F7F-44ED-985F-C479D740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C585E-2C0A-4E04-A3A6-779B8C2F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9B37B-992C-432B-83B3-6384DB8E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30783-559D-4D1C-B0F3-631981F8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183C3-C198-4A58-BB1F-7E282BBC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146-1B2E-4FB4-85E0-09908A0C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EE08B-6D83-4761-8B1F-0762F21F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B642-9740-40EF-B1C7-0EA0D0F0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FBDD5-2157-42CD-9513-9536AF5B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703FB-B39A-4784-9657-56108DA3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5CEF9-6576-4069-8322-BC86EA0F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61CE3-0288-4991-964E-FC44CDDD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A743-D851-4B8E-9299-B1A5B237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19303-FA49-4FC7-9368-BB3E5EA5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C810D-6097-4AFB-A6E8-100E1EF0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2A927-66DC-413D-9A67-0C94234D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E17-C1A0-4787-831C-53142FBF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DC1AC-862E-4121-B546-40B1FD4B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A3A3D-97ED-4E0E-9994-ACACEF77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E22C5-B8E0-493D-AD4C-E491D275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3BC4F-DBE7-420D-A60C-548CD90C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3D498-0E0C-453E-9DC8-BE683205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14E85-C0AC-4A01-AFEC-C1CBD0DA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960BF-2EE4-4BBD-AE0B-DFE9DE52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4BDE1-7ACE-4F3D-91A0-9C3D866E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B7C17-2E2C-48B8-A4A9-F5E04B01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BE3EB-F431-4BDA-9CF9-91D4889B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42B-7364-40F4-B099-0A8CBD8E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79C7D-7D71-488A-84AD-801AE9CC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AC2E1-DCDB-404A-98EF-0A78DDDB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9EA92-0D52-4E05-B79A-36D7F215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23E3B-F3AC-43F1-850F-054BA3D6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369D0-6182-471A-81CE-2B6AD7A0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652D1-85F7-4E78-8C9F-FF832634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58B88-BB2E-46E8-ACF4-A88024A0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4913A-31F3-460A-A590-4BE8FF6F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9A71F-1A28-4FE4-9D85-6DB11369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2A994-C94C-45BC-851F-49788A51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F11-D4E3-47A4-A486-C1365479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BD303-CAC1-4630-A278-E0AAF0D5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1AB00-EC5B-44C1-8565-CB209B49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9B9B1-F06F-4D16-93A9-41720177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7546F-FAE9-4EB1-BB50-BAF09572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0BF1D-E571-426E-920B-6FD10DA8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BBC21-AA8B-47AF-8E8E-3DB1EC41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18435-C787-422B-8BC2-D294746B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00826-3CA5-47EF-B52C-6442461A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92F05-AA7D-4F7B-B80A-059A3690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0DC02-F58A-463D-BFD7-730AA909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B4D-CF36-4E45-9AB5-FEA202A6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5C389-D3D8-45F1-ADC9-022E1282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11603-05E0-4EA9-90F2-8A238078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AABB2-FC55-4083-91B6-FE993B34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DD34F-8001-4C95-8E1D-1EBC6222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EA08C-6C3E-4151-839F-BE8383A5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59086-05E0-410D-ADF2-8268F831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1727D-C082-44E4-8380-4898180D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90F82-EB7A-49BC-B5AA-86028038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5C574-A829-4024-AEAA-8B537935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AC8A0-B087-4BD9-A844-7BB74F3A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D02-DFA1-4895-BFF4-5707E924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6A639-06CA-4992-B891-9B8CBC73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B1017-1CF9-4D95-9D89-D4431657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1F734-CEBB-4AB8-A38B-352F5452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6866F-7FDF-42DC-AB07-5A76C028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1AD1D-F53E-4C74-85C5-FF3326F2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3528D-A61F-4B93-86B6-A3ABE4D7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F8DEC-A375-41B5-80EB-1127CD9B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7E075-6473-4056-A330-E1F95454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FDBDF-DCE2-481A-B56E-5176DB83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07781-7F84-46AE-BAF9-615609F0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CDF-958F-4EF6-9E78-0671F89E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5BFD5-0C5C-406C-AAD4-6170D283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B50B6-D7DA-4E0F-9081-D52FA831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E499C-4F89-4776-BA83-3785DF17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896C1-9BC6-43C2-98AE-8D6C2ED9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EDD63-8D72-4CA9-A426-A3350CD8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BBE6C-E588-474C-9E6A-D9431632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76EE3-8BD5-46AC-B133-22E85BB2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A29D4-F08F-4323-B837-63736C31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64024-DD57-4646-A81D-C19AB299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08920-6547-432E-B481-F02A714D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0D67-4CEB-4F4B-B9A3-DA91F97AE4E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9007-0404-44D8-B007-B86B5CC8D30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119B-17BD-48FC-855B-AB6BA5CB312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AA6D-21AE-45D9-9F46-C473CF633CB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8125-8666-4286-907C-0A46717F295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6934-DCB1-4A41-8F1B-9D4F442DCF4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E1FE-7754-4053-998E-6FD52700B2F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8A78-DEE4-44CF-9126-AF0081BD0AE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1604-7232-4D9F-8D36-7D012D77B98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sgotov.ru/IM000024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www.g-gift.ru/catalog/20/0120007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fotki.yandex.ru/users/grivinskaja/view/56314/?page=5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bid.dp.ua/upload/pics/bludo.jpg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www.cookingsecrets.ru/images/recipes/rec_67.jpg" TargetMode="External"/><Relationship Id="rId7" Type="http://schemas.openxmlformats.org/officeDocument/2006/relationships/image" Target="../media/image27.jpeg"/><Relationship Id="rId8" Type="http://schemas.openxmlformats.org/officeDocument/2006/relationships/hyperlink" Target="http://s57.radikal.ru/i156/0812/59/1629945a8df0.jpg" TargetMode="External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uking.net/fido/download.php?id=150029&amp;sid=8844273d0741e895d728a202716b701d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rc.lv/images/qna/381741_384920.jpe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www.millionmenu.spb.ru/IMG/im30_883.jpg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3/anndenisov.3/0_616e_74858b69_XL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www.fotobank.ru/img/P000-6737.jpg?size=l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forum.akado.ru/uploads/post-29787-1203071473_thumb.jpg" TargetMode="External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orod.tomsk.ru/uploads/20901/1251127626/syp2.jpeg" TargetMode="External"/><Relationship Id="rId2" Type="http://schemas.openxmlformats.org/officeDocument/2006/relationships/hyperlink" Target="http://i35.beon.ru/41/16/771641/7/22101607/38518776_1232617373_sup_akula_400.jpeg" TargetMode="External"/><Relationship Id="rId3" Type="http://schemas.openxmlformats.org/officeDocument/2006/relationships/hyperlink" Target="http://copypast.ru/uploads/posts/1256274111_09233900b356d3980c70c75ef17ab042.jpg" TargetMode="External"/><Relationship Id="rId4" Type="http://schemas.openxmlformats.org/officeDocument/2006/relationships/hyperlink" Target="http://top-desktop.ru/files/eda/800/40.jpg" TargetMode="External"/><Relationship Id="rId5" Type="http://schemas.openxmlformats.org/officeDocument/2006/relationships/hyperlink" Target="http://sudzhuk.ru/assets/images/kacha03.jpg" TargetMode="External"/><Relationship Id="rId6" Type="http://schemas.openxmlformats.org/officeDocument/2006/relationships/hyperlink" Target="http://img1.liveinternet.ru/images/attach/b/3/17/765/17765783_1202901900_zapekanka.jpg" TargetMode="External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ossa.ru/catalog/lines_mi.php" TargetMode="External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ossa.ru/catalog/lines_mi.php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s.park.ru/servlets/GetDocBody?id=11517198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hchp.ru/gallery/2009/Jun/99/99_19244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avan.ru/doc/23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rambler.ru/home/images/images/article/2007/10/25/1193293867_23564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Прямоугольник 2" descr=""/>
          <p:cNvPicPr/>
          <p:nvPr/>
        </p:nvPicPr>
        <p:blipFill>
          <a:blip r:embed="rId1"/>
          <a:stretch/>
        </p:blipFill>
        <p:spPr>
          <a:xfrm>
            <a:off x="622440" y="566640"/>
            <a:ext cx="7978680" cy="1548000"/>
          </a:xfrm>
          <a:prstGeom prst="rect">
            <a:avLst/>
          </a:prstGeom>
          <a:ln w="0">
            <a:noFill/>
          </a:ln>
        </p:spPr>
      </p:pic>
      <p:sp>
        <p:nvSpPr>
          <p:cNvPr id="400" name="TextBox 5"/>
          <p:cNvSpPr/>
          <p:nvPr/>
        </p:nvSpPr>
        <p:spPr>
          <a:xfrm>
            <a:off x="5643720" y="421488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еева Е.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Гимназия 4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7" descr="d0154d0d34dbbd321ba00aead8b17949"/>
          <p:cNvPicPr/>
          <p:nvPr/>
        </p:nvPicPr>
        <p:blipFill>
          <a:blip r:embed="rId2"/>
          <a:stretch/>
        </p:blipFill>
        <p:spPr>
          <a:xfrm>
            <a:off x="428760" y="1928880"/>
            <a:ext cx="4643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10"/>
          <p:cNvSpPr/>
          <p:nvPr/>
        </p:nvSpPr>
        <p:spPr>
          <a:xfrm>
            <a:off x="357120" y="214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ование в кулин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1" descr="89712DB41AF34B4F8AE9643ED968E92E-14601"/>
          <p:cNvPicPr/>
          <p:nvPr/>
        </p:nvPicPr>
        <p:blipFill>
          <a:blip r:embed="rId1"/>
          <a:stretch/>
        </p:blipFill>
        <p:spPr>
          <a:xfrm>
            <a:off x="4000680" y="214200"/>
            <a:ext cx="4852800" cy="33577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11"/>
          <p:cNvSpPr/>
          <p:nvPr/>
        </p:nvSpPr>
        <p:spPr>
          <a:xfrm>
            <a:off x="571680" y="1643040"/>
            <a:ext cx="32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 макаронные изделия можно использовать в качестве засыпки при приготовлении су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i-main-pic" descr="Картинка 63 из 23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3929040"/>
            <a:ext cx="3822480" cy="2714760"/>
          </a:xfrm>
          <a:prstGeom prst="rect">
            <a:avLst/>
          </a:prstGeom>
          <a:ln w="0">
            <a:noFill/>
          </a:ln>
        </p:spPr>
      </p:pic>
      <p:pic>
        <p:nvPicPr>
          <p:cNvPr id="437" name="i-main-pic" descr="Картинка 54 из 231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00720" y="3929040"/>
            <a:ext cx="41432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акаронные изделия можно отварить  и использовать как второе, в качестве гарнира к мясным, рыбным блюда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0" name="Рисунок 3" descr="http://img-fotki.yandex.ru/get/3600/grivinskaja.1c/0_c31e_74ecb2f8_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200" y="2500200"/>
            <a:ext cx="3214800" cy="2357640"/>
          </a:xfrm>
          <a:prstGeom prst="rect">
            <a:avLst/>
          </a:prstGeom>
          <a:ln w="0">
            <a:noFill/>
          </a:ln>
        </p:spPr>
      </p:pic>
      <p:pic>
        <p:nvPicPr>
          <p:cNvPr id="441" name="i-main-pic" descr="Картинка 3 из 231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3240" y="2500200"/>
            <a:ext cx="3251160" cy="2291040"/>
          </a:xfrm>
          <a:prstGeom prst="rect">
            <a:avLst/>
          </a:prstGeom>
          <a:ln w="0">
            <a:noFill/>
          </a:ln>
        </p:spPr>
      </p:pic>
      <p:pic>
        <p:nvPicPr>
          <p:cNvPr id="442" name="i-main-pic" descr="Картинка 39 из 2311">
            <a:hlinkClick r:id="rId6"/>
          </p:cNvPr>
          <p:cNvPicPr/>
          <p:nvPr/>
        </p:nvPicPr>
        <p:blipFill>
          <a:blip r:embed="rId7"/>
          <a:stretch/>
        </p:blipFill>
        <p:spPr>
          <a:xfrm rot="21195000">
            <a:off x="2263680" y="4503600"/>
            <a:ext cx="2500560" cy="2214720"/>
          </a:xfrm>
          <a:prstGeom prst="rect">
            <a:avLst/>
          </a:prstGeom>
          <a:ln w="0">
            <a:noFill/>
          </a:ln>
        </p:spPr>
      </p:pic>
      <p:pic>
        <p:nvPicPr>
          <p:cNvPr id="443" name="i-main-pic" descr="Картинка 97 из 2311">
            <a:hlinkClick r:id="rId8"/>
          </p:cNvPr>
          <p:cNvPicPr/>
          <p:nvPr/>
        </p:nvPicPr>
        <p:blipFill>
          <a:blip r:embed="rId9"/>
          <a:stretch/>
        </p:blipFill>
        <p:spPr>
          <a:xfrm rot="21033600">
            <a:off x="6113160" y="4564080"/>
            <a:ext cx="28796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2520" y="2880"/>
            <a:ext cx="218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285840" y="214200"/>
            <a:ext cx="37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в кулин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i-main-pic" descr="Картинка 41 из 23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3357720"/>
            <a:ext cx="4095720" cy="3000240"/>
          </a:xfrm>
          <a:prstGeom prst="rect">
            <a:avLst/>
          </a:prstGeom>
          <a:ln w="0">
            <a:noFill/>
          </a:ln>
        </p:spPr>
      </p:pic>
      <p:sp>
        <p:nvSpPr>
          <p:cNvPr id="447" name="TextBox 4"/>
          <p:cNvSpPr/>
          <p:nvPr/>
        </p:nvSpPr>
        <p:spPr>
          <a:xfrm>
            <a:off x="357120" y="1571760"/>
            <a:ext cx="407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арные макаронные изделия можно обжарить с добавлением масла и других прод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i-main-pic" descr="Картинка 43 из 23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120" y="3357720"/>
            <a:ext cx="4238640" cy="3001680"/>
          </a:xfrm>
          <a:prstGeom prst="rect">
            <a:avLst/>
          </a:prstGeom>
          <a:ln w="0">
            <a:noFill/>
          </a:ln>
        </p:spPr>
      </p:pic>
      <p:pic>
        <p:nvPicPr>
          <p:cNvPr id="449" name="i-main-pic" descr="Картинка 45 из 231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4920" y="714240"/>
            <a:ext cx="38131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Box 1"/>
          <p:cNvSpPr/>
          <p:nvPr/>
        </p:nvSpPr>
        <p:spPr>
          <a:xfrm>
            <a:off x="5072040" y="142920"/>
            <a:ext cx="37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в кулин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"/>
          <p:cNvSpPr/>
          <p:nvPr/>
        </p:nvSpPr>
        <p:spPr>
          <a:xfrm>
            <a:off x="5429160" y="1500120"/>
            <a:ext cx="335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тварных макаронных изделий можно приготовить различные запек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i-main-pic" descr="Картинка 9 из 23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285840"/>
            <a:ext cx="4251240" cy="3286080"/>
          </a:xfrm>
          <a:prstGeom prst="rect">
            <a:avLst/>
          </a:prstGeom>
          <a:ln w="0">
            <a:noFill/>
          </a:ln>
        </p:spPr>
      </p:pic>
      <p:pic>
        <p:nvPicPr>
          <p:cNvPr id="453" name="i-main-pic" descr="Картинка 148 из 23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3071880"/>
            <a:ext cx="2786040" cy="3598920"/>
          </a:xfrm>
          <a:prstGeom prst="rect">
            <a:avLst/>
          </a:prstGeom>
          <a:ln w="0">
            <a:noFill/>
          </a:ln>
        </p:spPr>
      </p:pic>
      <p:pic>
        <p:nvPicPr>
          <p:cNvPr id="454" name="i-main-pic" descr="Картинка 200 из 231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760" y="3786120"/>
            <a:ext cx="5073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428760" y="357120"/>
            <a:ext cx="8429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ы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http://gorod.tomsk.ru/uploads/20901/1251127626/syp2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http://i35.beon.ru/41/16/771641/7/22101607/38518776_1232617373_sup_akula_400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3"/>
              </a:rPr>
              <a:t>http://copypast.ru/uploads/posts/1256274111_09233900b356d3980c70c75ef17ab04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4"/>
              </a:rPr>
              <a:t>http://top-desktop.ru/files/eda/800/4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5"/>
              </a:rPr>
              <a:t>http://sudzhuk.ru/assets/images/kacha0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6"/>
              </a:rPr>
              <a:t>http://img1.liveinternet.ru/images/attach/b/3/17/765/17765783_1202901900_zapekank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1.liveinternet.ru/images/attach/b/3/17/685/17685575_zapekanka_s_myasom_kartofelem_i_gribami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forum.vkyysno.ru/index.php?action=dlattach;topic=176.0;attach=2064;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igvolga.ru/files/data/catalog/254_img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emeika.ucoz.ru/_fr/4/834702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ketochka.ucoz.ru/_pu/0/9536163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okingsecrets.ru/images/recipes/rec_15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anzer.at.ua/publ/kuhna/goroh/IMG_4841-web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2"/>
          <p:cNvSpPr/>
          <p:nvPr/>
        </p:nvSpPr>
        <p:spPr>
          <a:xfrm>
            <a:off x="285840" y="428616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онные изделия — это высушенное пшеничное тесто, отформованное в виде трубочек, нитей, различных фигу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обладают большой питательностью, так как содержат не менее 87% сухого ве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i-main-pic" descr="Картинка 1 из 6619"/>
          <p:cNvPicPr/>
          <p:nvPr/>
        </p:nvPicPr>
        <p:blipFill>
          <a:blip r:embed="rId1"/>
          <a:stretch/>
        </p:blipFill>
        <p:spPr>
          <a:xfrm>
            <a:off x="0" y="0"/>
            <a:ext cx="5073480" cy="3813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i?id=5035470&amp;tov=0"/>
          <p:cNvPicPr/>
          <p:nvPr/>
        </p:nvPicPr>
        <p:blipFill>
          <a:blip r:embed="rId2"/>
          <a:stretch/>
        </p:blipFill>
        <p:spPr>
          <a:xfrm>
            <a:off x="5214960" y="142920"/>
            <a:ext cx="1460520" cy="1114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i?id=52157281&amp;tov=4"/>
          <p:cNvPicPr/>
          <p:nvPr/>
        </p:nvPicPr>
        <p:blipFill>
          <a:blip r:embed="rId3"/>
          <a:stretch/>
        </p:blipFill>
        <p:spPr>
          <a:xfrm>
            <a:off x="6286680" y="1285920"/>
            <a:ext cx="1571400" cy="12160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Каталог товаров"/>
          <p:cNvPicPr/>
          <p:nvPr/>
        </p:nvPicPr>
        <p:blipFill>
          <a:blip r:embed="rId4"/>
          <a:stretch/>
        </p:blipFill>
        <p:spPr>
          <a:xfrm>
            <a:off x="5429160" y="2786040"/>
            <a:ext cx="1714680" cy="1428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Каталог товаров"/>
          <p:cNvPicPr/>
          <p:nvPr/>
        </p:nvPicPr>
        <p:blipFill>
          <a:blip r:embed="rId5"/>
          <a:stretch/>
        </p:blipFill>
        <p:spPr>
          <a:xfrm>
            <a:off x="7500960" y="257184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428760" y="142920"/>
            <a:ext cx="82152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Производство макаронных издел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следующих этап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сырья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ырьем для макаронного производства служит пшеничная мука высшего или 1-го сорта, полученная макаронным помолом из твердой пше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риготовление тес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это самое простое тесто, которое приготовляется из муки и воды, не подвергается брожению или искусственному разрыхл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форм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 формование изделий осуществляют двумя способами: прессованием и штампованием. Эта операция обусловливает внешний вид продукта (шероховатость), плотность и варочные сво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"/>
          <p:cNvSpPr/>
          <p:nvPr/>
        </p:nvSpPr>
        <p:spPr>
          <a:xfrm>
            <a:off x="714240" y="285840"/>
            <a:ext cx="8143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этапы производствоа макаронных изде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шка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амый ответственный этап производства макаронных изделий. Продолжительность  зависит от вида изделия, типа сушилок : *30 мин — для лапши и вермишели при температуре 50-70 "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16-40 ч для длинных трубчатых изделий при температуре 30-50 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 упаков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акаронные изделия выпускают фасованными и весов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i-main-pic" descr="Картинка 47 из 6619"/>
          <p:cNvPicPr/>
          <p:nvPr/>
        </p:nvPicPr>
        <p:blipFill>
          <a:blip r:embed="rId2"/>
          <a:stretch/>
        </p:blipFill>
        <p:spPr>
          <a:xfrm>
            <a:off x="3357720" y="4929120"/>
            <a:ext cx="3071520" cy="1928880"/>
          </a:xfrm>
          <a:prstGeom prst="rect">
            <a:avLst/>
          </a:prstGeom>
          <a:ln w="0">
            <a:noFill/>
          </a:ln>
        </p:spPr>
      </p:pic>
      <p:pic>
        <p:nvPicPr>
          <p:cNvPr id="411" name="i-main-pic" descr="Картинка 199 из 23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5120" y="4500720"/>
            <a:ext cx="1928880" cy="2357280"/>
          </a:xfrm>
          <a:prstGeom prst="rect">
            <a:avLst/>
          </a:prstGeom>
          <a:ln w="0">
            <a:noFill/>
          </a:ln>
        </p:spPr>
      </p:pic>
      <p:pic>
        <p:nvPicPr>
          <p:cNvPr id="412" name="i-main-pic" descr="Картинка 192 из 2311">
            <a:hlinkClick r:id="rId5"/>
          </p:cNvPr>
          <p:cNvPicPr/>
          <p:nvPr/>
        </p:nvPicPr>
        <p:blipFill>
          <a:blip r:embed="rId6"/>
          <a:stretch/>
        </p:blipFill>
        <p:spPr>
          <a:xfrm rot="21055800">
            <a:off x="425520" y="4876920"/>
            <a:ext cx="14396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35" descr="Линии для макаронных издели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3500280"/>
            <a:ext cx="7715160" cy="30909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6"/>
          <p:cNvSpPr/>
          <p:nvPr/>
        </p:nvSpPr>
        <p:spPr>
          <a:xfrm>
            <a:off x="500040" y="428760"/>
            <a:ext cx="8072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ство макаронных изделий при помощи промышленного автоматического оборудования можно разделить на две фаз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с - прессовани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3"/>
          <p:cNvSpPr/>
          <p:nvPr/>
        </p:nvSpPr>
        <p:spPr>
          <a:xfrm>
            <a:off x="1368360" y="21420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793440" y="10004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0" descr="MI_klasification"/>
          <p:cNvPicPr/>
          <p:nvPr/>
        </p:nvPicPr>
        <p:blipFill>
          <a:blip r:embed="rId1"/>
          <a:stretch/>
        </p:blipFill>
        <p:spPr>
          <a:xfrm>
            <a:off x="428760" y="785880"/>
            <a:ext cx="8358120" cy="58579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9"/>
          <p:cNvSpPr/>
          <p:nvPr/>
        </p:nvSpPr>
        <p:spPr>
          <a:xfrm>
            <a:off x="428760" y="28584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сортимент макаронных изде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i-main-pic" descr="Картинка 4 из 6619"/>
          <p:cNvPicPr/>
          <p:nvPr/>
        </p:nvPicPr>
        <p:blipFill>
          <a:blip r:embed="rId1"/>
          <a:stretch/>
        </p:blipFill>
        <p:spPr>
          <a:xfrm>
            <a:off x="0" y="0"/>
            <a:ext cx="4761000" cy="38131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13"/>
          <p:cNvSpPr/>
          <p:nvPr/>
        </p:nvSpPr>
        <p:spPr>
          <a:xfrm>
            <a:off x="5000760" y="21420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чество макаронных  изделий определяют п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4"/>
          <p:cNvSpPr/>
          <p:nvPr/>
        </p:nvSpPr>
        <p:spPr>
          <a:xfrm>
            <a:off x="5072040" y="1928880"/>
            <a:ext cx="385776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му виду (наличие примес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у (соответствует натуральном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5"/>
          <p:cNvSpPr/>
          <p:nvPr/>
        </p:nvSpPr>
        <p:spPr>
          <a:xfrm>
            <a:off x="214200" y="4143240"/>
            <a:ext cx="79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усу (отсутствует горечь, кисл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аху (отсутствует затхлый зап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стности (изделия  не раздробле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i-main-pic" descr="Картинка 26 из 23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00880" y="4357800"/>
            <a:ext cx="26431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"/>
          <p:cNvSpPr/>
          <p:nvPr/>
        </p:nvSpPr>
        <p:spPr>
          <a:xfrm>
            <a:off x="7920" y="108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-163440" y="64296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6"/>
          <p:cNvSpPr/>
          <p:nvPr/>
        </p:nvSpPr>
        <p:spPr>
          <a:xfrm>
            <a:off x="285840" y="785880"/>
            <a:ext cx="471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анение макаронных изде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8"/>
          <p:cNvSpPr/>
          <p:nvPr/>
        </p:nvSpPr>
        <p:spPr>
          <a:xfrm>
            <a:off x="428760" y="3071880"/>
            <a:ext cx="84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ухом прохладном мес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мном месте (куда не проникают солнечные лучи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лщевых мешочках или емкостях для сыпучих продук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али от продуктов с резким специфическим запах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i-main-pic" descr="Картинка 20 из 6619"/>
          <p:cNvPicPr/>
          <p:nvPr/>
        </p:nvPicPr>
        <p:blipFill>
          <a:blip r:embed="rId1"/>
          <a:stretch/>
        </p:blipFill>
        <p:spPr>
          <a:xfrm>
            <a:off x="5072040" y="214200"/>
            <a:ext cx="38577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i-main-pic" descr="Картинка 39 из 6619"/>
          <p:cNvPicPr/>
          <p:nvPr/>
        </p:nvPicPr>
        <p:blipFill>
          <a:blip r:embed="rId1"/>
          <a:stretch/>
        </p:blipFill>
        <p:spPr>
          <a:xfrm>
            <a:off x="214200" y="357120"/>
            <a:ext cx="4429080" cy="628668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572000" y="357120"/>
            <a:ext cx="44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ование в кулин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6"/>
          <p:cNvSpPr/>
          <p:nvPr/>
        </p:nvSpPr>
        <p:spPr>
          <a:xfrm>
            <a:off x="5072040" y="1571760"/>
            <a:ext cx="3571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иготовления блюд из макаронных изделий можно применять следующие виды тепловой обрабо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ек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9:00:15Z</dcterms:created>
  <dc:creator>Видеозал</dc:creator>
  <dc:description/>
  <dc:language>en-US</dc:language>
  <cp:lastModifiedBy>Алексеева Екатерина</cp:lastModifiedBy>
  <cp:lastPrinted>2017-03-30T09:37:49Z</cp:lastPrinted>
  <dcterms:modified xsi:type="dcterms:W3CDTF">2022-04-14T06:31:21Z</dcterms:modified>
  <cp:revision>49</cp:revision>
  <dc:subject/>
  <dc:title>Слайд 1</dc:title>
</cp:coreProperties>
</file>