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4.wmf" ContentType="image/x-wmf"/>
  <Override PartName="/ppt/media/image9.wmf" ContentType="image/x-wmf"/>
  <Override PartName="/ppt/media/image11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0.gif" ContentType="image/gif"/>
  <Override PartName="/ppt/media/image13.png" ContentType="image/png"/>
  <Override PartName="/ppt/media/image15.gif" ContentType="image/gif"/>
  <Override PartName="/ppt/media/image7.jpeg" ContentType="image/jpeg"/>
  <Override PartName="/ppt/media/image5.png" ContentType="image/png"/>
  <Override PartName="/ppt/media/image8.jpeg" ContentType="image/jpeg"/>
  <Override PartName="/ppt/embeddings/oleObject1.doc" ContentType="application/msword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355E0C5-7EF3-48AA-9113-9D2B3CBC9E28}" type="doc">
      <dgm:prSet loTypeId="urn:microsoft.com/office/officeart/2005/8/layout/radial1" loCatId="relationship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903DED3F-90D1-44C6-8701-1E9542961F9B}">
      <dgm:prSet/>
      <dgm:spPr/>
      <dgm:t>
        <a:bodyPr/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b="1" i="0" u="none" strike="noStrike" cap="none" normalizeH="0" baseline="0" dirty="0" smtClean="0">
              <a:ln>
                <a:noFill/>
              </a:ln>
              <a:solidFill>
                <a:srgbClr val="FF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</a:t>
          </a:r>
        </a:p>
      </dgm:t>
    </dgm:pt>
    <dgm:pt modelId="{180661DE-5AEC-4688-A233-4836D60FF4A5}" type="parTrans" cxnId="{57E8C172-02FF-4D01-A012-8EAA81C823A9}">
      <dgm:prSet/>
      <dgm:spPr/>
      <dgm:t>
        <a:bodyPr/>
        <a:lstStyle/>
        <a:p>
          <a:endParaRPr lang="ru-RU"/>
        </a:p>
      </dgm:t>
    </dgm:pt>
    <dgm:pt modelId="{C6A768FD-FE31-4A9E-94CD-D7BCC8AB0271}" type="sibTrans" cxnId="{57E8C172-02FF-4D01-A012-8EAA81C823A9}">
      <dgm:prSet/>
      <dgm:spPr/>
      <dgm:t>
        <a:bodyPr/>
        <a:lstStyle/>
        <a:p>
          <a:endParaRPr lang="ru-RU"/>
        </a:p>
      </dgm:t>
    </dgm:pt>
    <dgm:pt modelId="{8EC0C68A-31AC-40AF-93AE-D1E4E76290C6}">
      <dgm:prSet custT="1"/>
      <dgm:spPr/>
      <dgm:t>
        <a:bodyPr/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1800" b="1" i="0" u="none" strike="noStrike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- </a:t>
          </a:r>
          <a:r>
            <a:rPr kumimoji="0" lang="ru-RU" sz="1800" b="1" i="0" u="none" strike="noStrike" cap="none" normalizeH="0" baseline="0" dirty="0" err="1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брейн</a:t>
          </a:r>
          <a:r>
            <a:rPr kumimoji="0" lang="ru-RU" sz="1800" b="1" i="0" u="none" strike="noStrike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- ринг </a:t>
          </a:r>
        </a:p>
      </dgm:t>
    </dgm:pt>
    <dgm:pt modelId="{81D074A7-8F84-4ABB-83C9-D666C64E49A6}" type="parTrans" cxnId="{A66F64E8-DEAA-446E-94AD-A7D94070BBAF}">
      <dgm:prSet/>
      <dgm:spPr/>
      <dgm:t>
        <a:bodyPr/>
        <a:lstStyle/>
        <a:p>
          <a:endParaRPr lang="ru-RU"/>
        </a:p>
      </dgm:t>
    </dgm:pt>
    <dgm:pt modelId="{5BBF7B33-0D8B-45AA-8A78-83E3A6F5F01B}" type="sibTrans" cxnId="{A66F64E8-DEAA-446E-94AD-A7D94070BBAF}">
      <dgm:prSet/>
      <dgm:spPr/>
      <dgm:t>
        <a:bodyPr/>
        <a:lstStyle/>
        <a:p>
          <a:endParaRPr lang="ru-RU"/>
        </a:p>
      </dgm:t>
    </dgm:pt>
    <dgm:pt modelId="{8C83769E-48D9-49CA-B90A-A613B998C429}">
      <dgm:prSet custT="1"/>
      <dgm:spPr/>
      <dgm:t>
        <a:bodyPr/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1800" b="1" i="0" u="none" strike="noStrike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 -экскурсия</a:t>
          </a:r>
        </a:p>
      </dgm:t>
    </dgm:pt>
    <dgm:pt modelId="{19115F5E-7D79-4D08-BB8F-50119688DDCC}" type="parTrans" cxnId="{88320062-D535-4767-B5E7-4D18A6F852E7}">
      <dgm:prSet/>
      <dgm:spPr/>
      <dgm:t>
        <a:bodyPr/>
        <a:lstStyle/>
        <a:p>
          <a:endParaRPr lang="ru-RU"/>
        </a:p>
      </dgm:t>
    </dgm:pt>
    <dgm:pt modelId="{219D8295-8B9D-4111-81F4-06813C9B3DB8}" type="sibTrans" cxnId="{88320062-D535-4767-B5E7-4D18A6F852E7}">
      <dgm:prSet/>
      <dgm:spPr/>
      <dgm:t>
        <a:bodyPr/>
        <a:lstStyle/>
        <a:p>
          <a:endParaRPr lang="ru-RU"/>
        </a:p>
      </dgm:t>
    </dgm:pt>
    <dgm:pt modelId="{9A340BA3-5B55-4119-826D-B27877773063}">
      <dgm:prSet custT="1"/>
      <dgm:spPr/>
      <dgm:t>
        <a:bodyPr/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1800" b="1" i="0" u="none" strike="noStrike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-зачёт</a:t>
          </a:r>
        </a:p>
      </dgm:t>
    </dgm:pt>
    <dgm:pt modelId="{AE9EB8C3-D52E-4867-939B-B3BE62FEDE93}" type="parTrans" cxnId="{72F4D451-CB6D-4ADC-9D32-A9CAAE7518EA}">
      <dgm:prSet/>
      <dgm:spPr/>
      <dgm:t>
        <a:bodyPr/>
        <a:lstStyle/>
        <a:p>
          <a:endParaRPr lang="ru-RU"/>
        </a:p>
      </dgm:t>
    </dgm:pt>
    <dgm:pt modelId="{65EAF0C9-61DA-4829-A9C7-377BA406BB6E}" type="sibTrans" cxnId="{72F4D451-CB6D-4ADC-9D32-A9CAAE7518EA}">
      <dgm:prSet/>
      <dgm:spPr/>
      <dgm:t>
        <a:bodyPr/>
        <a:lstStyle/>
        <a:p>
          <a:endParaRPr lang="ru-RU"/>
        </a:p>
      </dgm:t>
    </dgm:pt>
    <dgm:pt modelId="{BF8881A4-17C8-4CA3-B79B-90E5BC0FF14B}">
      <dgm:prSet custT="1"/>
      <dgm:spPr/>
      <dgm:t>
        <a:bodyPr/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1800" b="1" i="0" u="none" strike="noStrike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-КВН</a:t>
          </a:r>
        </a:p>
      </dgm:t>
    </dgm:pt>
    <dgm:pt modelId="{B2F75A54-1204-4F4B-819A-14B28D66C2AF}" type="parTrans" cxnId="{EA9030EF-0D37-44F8-86B4-F4844635F824}">
      <dgm:prSet/>
      <dgm:spPr/>
      <dgm:t>
        <a:bodyPr/>
        <a:lstStyle/>
        <a:p>
          <a:endParaRPr lang="ru-RU"/>
        </a:p>
      </dgm:t>
    </dgm:pt>
    <dgm:pt modelId="{DF52BFE5-6C3F-4A56-AA17-956CEA4453FF}" type="sibTrans" cxnId="{EA9030EF-0D37-44F8-86B4-F4844635F824}">
      <dgm:prSet/>
      <dgm:spPr/>
      <dgm:t>
        <a:bodyPr/>
        <a:lstStyle/>
        <a:p>
          <a:endParaRPr lang="ru-RU"/>
        </a:p>
      </dgm:t>
    </dgm:pt>
    <dgm:pt modelId="{27DA1EE5-754E-499E-AB21-ABD168AED32F}">
      <dgm:prSet custT="1"/>
      <dgm:spPr/>
      <dgm:t>
        <a:bodyPr/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1800" b="1" i="0" u="none" strike="noStrike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-пресс-конференция</a:t>
          </a:r>
        </a:p>
      </dgm:t>
    </dgm:pt>
    <dgm:pt modelId="{55DB5D7D-DF50-4A00-9E2D-F19E5D85DED5}" type="parTrans" cxnId="{FD2C1710-26E6-4B50-B2C0-1741811272EC}">
      <dgm:prSet/>
      <dgm:spPr/>
      <dgm:t>
        <a:bodyPr/>
        <a:lstStyle/>
        <a:p>
          <a:endParaRPr lang="ru-RU"/>
        </a:p>
      </dgm:t>
    </dgm:pt>
    <dgm:pt modelId="{0F843D75-9E64-4881-8701-A6AF7E2F936C}" type="sibTrans" cxnId="{FD2C1710-26E6-4B50-B2C0-1741811272EC}">
      <dgm:prSet/>
      <dgm:spPr/>
      <dgm:t>
        <a:bodyPr/>
        <a:lstStyle/>
        <a:p>
          <a:endParaRPr lang="ru-RU"/>
        </a:p>
      </dgm:t>
    </dgm:pt>
    <dgm:pt modelId="{14912F0D-41CF-4631-A2BF-CC93F125E81A}">
      <dgm:prSet custT="1"/>
      <dgm:spPr/>
      <dgm:t>
        <a:bodyPr/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900" b="1" i="0" u="none" strike="noStrike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 </a:t>
          </a:r>
          <a:r>
            <a:rPr kumimoji="0" lang="ru-RU" sz="1800" b="1" i="0" u="none" strike="noStrike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-лекция </a:t>
          </a:r>
        </a:p>
      </dgm:t>
    </dgm:pt>
    <dgm:pt modelId="{8C14CDC6-8DDD-48D8-AF75-36C31205CE65}" type="parTrans" cxnId="{F48EAC98-EAA3-4001-A820-D2FAFF6015A6}">
      <dgm:prSet/>
      <dgm:spPr/>
      <dgm:t>
        <a:bodyPr/>
        <a:lstStyle/>
        <a:p>
          <a:endParaRPr lang="ru-RU"/>
        </a:p>
      </dgm:t>
    </dgm:pt>
    <dgm:pt modelId="{37C08FC5-1852-46AA-B165-E0C149F7049F}" type="sibTrans" cxnId="{F48EAC98-EAA3-4001-A820-D2FAFF6015A6}">
      <dgm:prSet/>
      <dgm:spPr/>
      <dgm:t>
        <a:bodyPr/>
        <a:lstStyle/>
        <a:p>
          <a:endParaRPr lang="ru-RU"/>
        </a:p>
      </dgm:t>
    </dgm:pt>
    <dgm:pt modelId="{CA2392C8-E103-4F5E-BD3B-06D71DBA6E70}">
      <dgm:prSet custT="1"/>
      <dgm:spPr/>
      <dgm:t>
        <a:bodyPr/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2000" b="1" i="0" u="none" strike="noStrike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 </a:t>
          </a:r>
          <a:r>
            <a:rPr kumimoji="0" lang="ru-RU" sz="1800" b="1" i="0" u="none" strike="noStrike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 - игра </a:t>
          </a:r>
          <a:endParaRPr kumimoji="0" lang="ru-RU" sz="1800" b="0" i="0" u="none" strike="noStrike" cap="none" normalizeH="0" baseline="0" dirty="0" smtClean="0">
            <a:ln>
              <a:noFill/>
            </a:ln>
            <a:solidFill>
              <a:schemeClr val="tx1"/>
            </a:solidFill>
            <a:effectLst/>
            <a:latin typeface="Arial" charset="0"/>
          </a:endParaRPr>
        </a:p>
      </dgm:t>
    </dgm:pt>
    <dgm:pt modelId="{3711CEC3-FC39-4F50-BDC2-322664C21EF8}" type="parTrans" cxnId="{9CA35F7C-3BDE-4D00-B4F4-57DCADDD1539}">
      <dgm:prSet/>
      <dgm:spPr/>
      <dgm:t>
        <a:bodyPr/>
        <a:lstStyle/>
        <a:p>
          <a:endParaRPr lang="ru-RU"/>
        </a:p>
      </dgm:t>
    </dgm:pt>
    <dgm:pt modelId="{478D8085-C766-4820-8836-D32DF1726A47}" type="sibTrans" cxnId="{9CA35F7C-3BDE-4D00-B4F4-57DCADDD1539}">
      <dgm:prSet/>
      <dgm:spPr/>
      <dgm:t>
        <a:bodyPr/>
        <a:lstStyle/>
        <a:p>
          <a:endParaRPr lang="ru-RU"/>
        </a:p>
      </dgm:t>
    </dgm:pt>
    <dgm:pt modelId="{8079D9F9-A2A3-49EC-A964-522E666645BD}">
      <dgm:prSet custT="1"/>
      <dgm:spPr/>
      <dgm:t>
        <a:bodyPr/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1800" b="1" i="0" u="none" strike="noStrike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-викторина</a:t>
          </a:r>
          <a:r>
            <a:rPr kumimoji="0" lang="ru-RU" sz="2000" b="1" i="0" u="none" strike="noStrike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 </a:t>
          </a:r>
        </a:p>
      </dgm:t>
    </dgm:pt>
    <dgm:pt modelId="{F014BE34-6C18-47B6-9C87-FBE819E18BF5}" type="parTrans" cxnId="{700B3811-B598-4669-B9C4-DC5F93AE8E69}">
      <dgm:prSet/>
      <dgm:spPr/>
      <dgm:t>
        <a:bodyPr/>
        <a:lstStyle/>
        <a:p>
          <a:endParaRPr lang="ru-RU"/>
        </a:p>
      </dgm:t>
    </dgm:pt>
    <dgm:pt modelId="{B85CDCD1-CFF7-43A8-B7A1-560763A02154}" type="sibTrans" cxnId="{700B3811-B598-4669-B9C4-DC5F93AE8E69}">
      <dgm:prSet/>
      <dgm:spPr/>
      <dgm:t>
        <a:bodyPr/>
        <a:lstStyle/>
        <a:p>
          <a:endParaRPr lang="ru-RU"/>
        </a:p>
      </dgm:t>
    </dgm:pt>
    <dgm:pt modelId="{46E2E5E4-AF29-4B68-96E2-CEE75ED0C29C}">
      <dgm:prSet custT="1"/>
      <dgm:spPr/>
      <dgm:t>
        <a:bodyPr/>
        <a:lstStyle/>
        <a:p>
          <a:r>
            <a:rPr kumimoji="0" lang="ru-RU" sz="1800" b="1" i="0" u="none" strike="noStrike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-защита проекта </a:t>
          </a:r>
        </a:p>
      </dgm:t>
    </dgm:pt>
    <dgm:pt modelId="{E0D039DE-FA82-46A0-8D18-8089C2D4357A}" type="parTrans" cxnId="{05BC7BB1-4079-448C-A0D2-2DF142330249}">
      <dgm:prSet/>
      <dgm:spPr/>
      <dgm:t>
        <a:bodyPr/>
        <a:lstStyle/>
        <a:p>
          <a:endParaRPr lang="ru-RU"/>
        </a:p>
      </dgm:t>
    </dgm:pt>
    <dgm:pt modelId="{9B7A6875-422E-427F-B4F0-4DFD5C62D33B}" type="sibTrans" cxnId="{05BC7BB1-4079-448C-A0D2-2DF142330249}">
      <dgm:prSet/>
      <dgm:spPr/>
      <dgm:t>
        <a:bodyPr/>
        <a:lstStyle/>
        <a:p>
          <a:endParaRPr lang="ru-RU"/>
        </a:p>
      </dgm:t>
    </dgm:pt>
    <dgm:pt modelId="{08AB0BCA-E450-407A-AAD9-3A53ED3B3AC3}">
      <dgm:prSet custT="1"/>
      <dgm:spPr/>
      <dgm:t>
        <a:bodyPr/>
        <a:lstStyle/>
        <a:p>
          <a:r>
            <a:rPr kumimoji="0" lang="ru-RU" sz="1800" b="1" i="0" u="none" strike="noStrike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 -</a:t>
          </a:r>
          <a:r>
            <a:rPr kumimoji="0" lang="ru-RU" sz="1800" b="1" i="0" u="none" strike="noStrike" cap="none" normalizeH="0" baseline="0" dirty="0" err="1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путешест-вие</a:t>
          </a:r>
          <a:endParaRPr kumimoji="0" lang="ru-RU" sz="1800" b="1" i="0" u="none" strike="noStrike" cap="none" normalizeH="0" baseline="0" dirty="0" smtClean="0">
            <a:ln>
              <a:noFill/>
            </a:ln>
            <a:solidFill>
              <a:srgbClr val="CC0000"/>
            </a:solidFill>
            <a:effectLst>
              <a:outerShdw blurRad="38100" dist="38100" dir="2700000" algn="tl">
                <a:srgbClr val="000000"/>
              </a:outerShdw>
            </a:effectLst>
            <a:latin typeface="Arial" charset="0"/>
          </a:endParaRPr>
        </a:p>
      </dgm:t>
    </dgm:pt>
    <dgm:pt modelId="{2D85C1C1-5B2B-49D3-B1B2-9360247B09ED}" type="parTrans" cxnId="{A1F74332-6A92-48DA-ACEF-46924ADFF353}">
      <dgm:prSet/>
      <dgm:spPr/>
      <dgm:t>
        <a:bodyPr/>
        <a:lstStyle/>
        <a:p>
          <a:endParaRPr lang="ru-RU"/>
        </a:p>
      </dgm:t>
    </dgm:pt>
    <dgm:pt modelId="{31C83851-1DE7-493F-AEFB-3267D205D107}" type="sibTrans" cxnId="{A1F74332-6A92-48DA-ACEF-46924ADFF353}">
      <dgm:prSet/>
      <dgm:spPr/>
      <dgm:t>
        <a:bodyPr/>
        <a:lstStyle/>
        <a:p>
          <a:endParaRPr lang="ru-RU"/>
        </a:p>
      </dgm:t>
    </dgm:pt>
    <dgm:pt modelId="{B6B5F314-EA90-4F12-B945-8C1304A79231}">
      <dgm:prSet custT="1"/>
      <dgm:spPr/>
      <dgm:t>
        <a:bodyPr/>
        <a:lstStyle/>
        <a:p>
          <a:r>
            <a:rPr kumimoji="0" lang="ru-RU" sz="1800" b="1" i="0" u="none" strike="noStrike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видео-урок</a:t>
          </a:r>
          <a:endParaRPr lang="ru-RU" sz="1800" dirty="0"/>
        </a:p>
      </dgm:t>
    </dgm:pt>
    <dgm:pt modelId="{190B85F4-00AF-4B7A-AF64-5B8055392DEB}" type="parTrans" cxnId="{5D366856-C7B8-451A-B04F-FE5BE32D7E90}">
      <dgm:prSet/>
      <dgm:spPr/>
      <dgm:t>
        <a:bodyPr/>
        <a:lstStyle/>
        <a:p>
          <a:endParaRPr lang="ru-RU"/>
        </a:p>
      </dgm:t>
    </dgm:pt>
    <dgm:pt modelId="{3C321E21-35AB-45C2-8746-A7ED32542600}" type="sibTrans" cxnId="{5D366856-C7B8-451A-B04F-FE5BE32D7E90}">
      <dgm:prSet/>
      <dgm:spPr/>
      <dgm:t>
        <a:bodyPr/>
        <a:lstStyle/>
        <a:p>
          <a:endParaRPr lang="ru-RU"/>
        </a:p>
      </dgm:t>
    </dgm:pt>
    <dgm:pt modelId="{65315C14-325C-48BF-852D-B4579ECAEF52}" type="pres">
      <dgm:prSet presAssocID="{8355E0C5-7EF3-48AA-9113-9D2B3CBC9E28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EF346625-E481-46BC-85EC-0F1EB36A503F}" type="pres">
      <dgm:prSet presAssocID="{903DED3F-90D1-44C6-8701-1E9542961F9B}" presName="centerShape" presStyleLbl="node0" presStyleIdx="0" presStyleCnt="1" custScaleX="176572"/>
      <dgm:spPr/>
      <dgm:t>
        <a:bodyPr/>
        <a:lstStyle/>
        <a:p>
          <a:endParaRPr lang="ru-RU"/>
        </a:p>
      </dgm:t>
    </dgm:pt>
    <dgm:pt modelId="{78B68AB8-4403-486D-A1EA-32242E886A92}" type="pres">
      <dgm:prSet presAssocID="{81D074A7-8F84-4ABB-83C9-D666C64E49A6}" presName="Name9" presStyleLbl="parChTrans1D2" presStyleIdx="0" presStyleCnt="11"/>
      <dgm:spPr/>
      <dgm:t>
        <a:bodyPr/>
        <a:lstStyle/>
        <a:p>
          <a:endParaRPr lang="ru-RU"/>
        </a:p>
      </dgm:t>
    </dgm:pt>
    <dgm:pt modelId="{3BD46593-27BA-43EB-8FB0-4042E5E06FBB}" type="pres">
      <dgm:prSet presAssocID="{81D074A7-8F84-4ABB-83C9-D666C64E49A6}" presName="connTx" presStyleLbl="parChTrans1D2" presStyleIdx="0" presStyleCnt="11"/>
      <dgm:spPr/>
      <dgm:t>
        <a:bodyPr/>
        <a:lstStyle/>
        <a:p>
          <a:endParaRPr lang="ru-RU"/>
        </a:p>
      </dgm:t>
    </dgm:pt>
    <dgm:pt modelId="{0BED90B2-2701-45F2-B1A2-602153824095}" type="pres">
      <dgm:prSet presAssocID="{8EC0C68A-31AC-40AF-93AE-D1E4E76290C6}" presName="node" presStyleLbl="node1" presStyleIdx="0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E8CD887-246D-4C6C-94E1-B6591D68DFAB}" type="pres">
      <dgm:prSet presAssocID="{19115F5E-7D79-4D08-BB8F-50119688DDCC}" presName="Name9" presStyleLbl="parChTrans1D2" presStyleIdx="1" presStyleCnt="11"/>
      <dgm:spPr/>
      <dgm:t>
        <a:bodyPr/>
        <a:lstStyle/>
        <a:p>
          <a:endParaRPr lang="ru-RU"/>
        </a:p>
      </dgm:t>
    </dgm:pt>
    <dgm:pt modelId="{FFB63DFE-A2F7-4536-8D19-BF673D61FA7C}" type="pres">
      <dgm:prSet presAssocID="{19115F5E-7D79-4D08-BB8F-50119688DDCC}" presName="connTx" presStyleLbl="parChTrans1D2" presStyleIdx="1" presStyleCnt="11"/>
      <dgm:spPr/>
      <dgm:t>
        <a:bodyPr/>
        <a:lstStyle/>
        <a:p>
          <a:endParaRPr lang="ru-RU"/>
        </a:p>
      </dgm:t>
    </dgm:pt>
    <dgm:pt modelId="{DC8BCEF0-786A-44AB-87F9-48B266C8BDB3}" type="pres">
      <dgm:prSet presAssocID="{8C83769E-48D9-49CA-B90A-A613B998C429}" presName="node" presStyleLbl="node1" presStyleIdx="1" presStyleCnt="11" custScaleX="170082" custRadScaleRad="103379" custRadScaleInc="2003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D12B747-EFA1-4921-BB9B-18CE26EA6091}" type="pres">
      <dgm:prSet presAssocID="{AE9EB8C3-D52E-4867-939B-B3BE62FEDE93}" presName="Name9" presStyleLbl="parChTrans1D2" presStyleIdx="2" presStyleCnt="11"/>
      <dgm:spPr/>
      <dgm:t>
        <a:bodyPr/>
        <a:lstStyle/>
        <a:p>
          <a:endParaRPr lang="ru-RU"/>
        </a:p>
      </dgm:t>
    </dgm:pt>
    <dgm:pt modelId="{8F571AB3-92E1-4B44-A8D9-4E022B773444}" type="pres">
      <dgm:prSet presAssocID="{AE9EB8C3-D52E-4867-939B-B3BE62FEDE93}" presName="connTx" presStyleLbl="parChTrans1D2" presStyleIdx="2" presStyleCnt="11"/>
      <dgm:spPr/>
      <dgm:t>
        <a:bodyPr/>
        <a:lstStyle/>
        <a:p>
          <a:endParaRPr lang="ru-RU"/>
        </a:p>
      </dgm:t>
    </dgm:pt>
    <dgm:pt modelId="{F155574E-49E3-4DB4-A5C5-B732A2F0725D}" type="pres">
      <dgm:prSet presAssocID="{9A340BA3-5B55-4119-826D-B27877773063}" presName="node" presStyleLbl="node1" presStyleIdx="2" presStyleCnt="11" custScaleX="13394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01F5957-200F-4BF0-AC4C-1DD31B9F9C2F}" type="pres">
      <dgm:prSet presAssocID="{B2F75A54-1204-4F4B-819A-14B28D66C2AF}" presName="Name9" presStyleLbl="parChTrans1D2" presStyleIdx="3" presStyleCnt="11"/>
      <dgm:spPr/>
      <dgm:t>
        <a:bodyPr/>
        <a:lstStyle/>
        <a:p>
          <a:endParaRPr lang="ru-RU"/>
        </a:p>
      </dgm:t>
    </dgm:pt>
    <dgm:pt modelId="{2B1570A1-0825-4768-9F1D-845845BA7F6B}" type="pres">
      <dgm:prSet presAssocID="{B2F75A54-1204-4F4B-819A-14B28D66C2AF}" presName="connTx" presStyleLbl="parChTrans1D2" presStyleIdx="3" presStyleCnt="11"/>
      <dgm:spPr/>
      <dgm:t>
        <a:bodyPr/>
        <a:lstStyle/>
        <a:p>
          <a:endParaRPr lang="ru-RU"/>
        </a:p>
      </dgm:t>
    </dgm:pt>
    <dgm:pt modelId="{7EFD30BC-7955-488D-A4B5-BEC30450B91A}" type="pres">
      <dgm:prSet presAssocID="{BF8881A4-17C8-4CA3-B79B-90E5BC0FF14B}" presName="node" presStyleLbl="node1" presStyleIdx="3" presStyleCnt="11" custScaleX="13376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8F9343B-CA25-40ED-9216-00F1DD022D7C}" type="pres">
      <dgm:prSet presAssocID="{55DB5D7D-DF50-4A00-9E2D-F19E5D85DED5}" presName="Name9" presStyleLbl="parChTrans1D2" presStyleIdx="4" presStyleCnt="11"/>
      <dgm:spPr/>
      <dgm:t>
        <a:bodyPr/>
        <a:lstStyle/>
        <a:p>
          <a:endParaRPr lang="ru-RU"/>
        </a:p>
      </dgm:t>
    </dgm:pt>
    <dgm:pt modelId="{11486BD1-3A74-4AD1-BD6E-CF01C691B357}" type="pres">
      <dgm:prSet presAssocID="{55DB5D7D-DF50-4A00-9E2D-F19E5D85DED5}" presName="connTx" presStyleLbl="parChTrans1D2" presStyleIdx="4" presStyleCnt="11"/>
      <dgm:spPr/>
      <dgm:t>
        <a:bodyPr/>
        <a:lstStyle/>
        <a:p>
          <a:endParaRPr lang="ru-RU"/>
        </a:p>
      </dgm:t>
    </dgm:pt>
    <dgm:pt modelId="{EB4FBB67-D3D6-4897-A703-8B79B791BBCC}" type="pres">
      <dgm:prSet presAssocID="{27DA1EE5-754E-499E-AB21-ABD168AED32F}" presName="node" presStyleLbl="node1" presStyleIdx="4" presStyleCnt="11" custScaleX="154410" custRadScaleRad="99354" custRadScaleInc="-1504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27F4DB7-9111-402E-B045-2786A1EA882B}" type="pres">
      <dgm:prSet presAssocID="{8C14CDC6-8DDD-48D8-AF75-36C31205CE65}" presName="Name9" presStyleLbl="parChTrans1D2" presStyleIdx="5" presStyleCnt="11"/>
      <dgm:spPr/>
      <dgm:t>
        <a:bodyPr/>
        <a:lstStyle/>
        <a:p>
          <a:endParaRPr lang="ru-RU"/>
        </a:p>
      </dgm:t>
    </dgm:pt>
    <dgm:pt modelId="{6F49EE6B-D973-480C-910B-EA638C1681E2}" type="pres">
      <dgm:prSet presAssocID="{8C14CDC6-8DDD-48D8-AF75-36C31205CE65}" presName="connTx" presStyleLbl="parChTrans1D2" presStyleIdx="5" presStyleCnt="11"/>
      <dgm:spPr/>
      <dgm:t>
        <a:bodyPr/>
        <a:lstStyle/>
        <a:p>
          <a:endParaRPr lang="ru-RU"/>
        </a:p>
      </dgm:t>
    </dgm:pt>
    <dgm:pt modelId="{85317E11-8349-4133-A01F-D25589EA422D}" type="pres">
      <dgm:prSet presAssocID="{14912F0D-41CF-4631-A2BF-CC93F125E81A}" presName="node" presStyleLbl="node1" presStyleIdx="5" presStyleCnt="11" custScaleX="131893" custRadScaleRad="102120" custRadScaleInc="-1484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C492CD4-8627-4603-BDD7-8CA33D1C34BC}" type="pres">
      <dgm:prSet presAssocID="{190B85F4-00AF-4B7A-AF64-5B8055392DEB}" presName="Name9" presStyleLbl="parChTrans1D2" presStyleIdx="6" presStyleCnt="11"/>
      <dgm:spPr/>
      <dgm:t>
        <a:bodyPr/>
        <a:lstStyle/>
        <a:p>
          <a:endParaRPr lang="ru-RU"/>
        </a:p>
      </dgm:t>
    </dgm:pt>
    <dgm:pt modelId="{12EA7A77-DE09-4087-8164-47F7C0A3C782}" type="pres">
      <dgm:prSet presAssocID="{190B85F4-00AF-4B7A-AF64-5B8055392DEB}" presName="connTx" presStyleLbl="parChTrans1D2" presStyleIdx="6" presStyleCnt="11"/>
      <dgm:spPr/>
      <dgm:t>
        <a:bodyPr/>
        <a:lstStyle/>
        <a:p>
          <a:endParaRPr lang="ru-RU"/>
        </a:p>
      </dgm:t>
    </dgm:pt>
    <dgm:pt modelId="{78D358A4-AFBC-4227-BF52-4031F45BC7AA}" type="pres">
      <dgm:prSet presAssocID="{B6B5F314-EA90-4F12-B945-8C1304A79231}" presName="node" presStyleLbl="node1" presStyleIdx="6" presStyleCnt="11" custScaleX="13533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E2E81A4-83CB-4AE8-BFAF-2E7ED657426E}" type="pres">
      <dgm:prSet presAssocID="{2D85C1C1-5B2B-49D3-B1B2-9360247B09ED}" presName="Name9" presStyleLbl="parChTrans1D2" presStyleIdx="7" presStyleCnt="11"/>
      <dgm:spPr/>
      <dgm:t>
        <a:bodyPr/>
        <a:lstStyle/>
        <a:p>
          <a:endParaRPr lang="ru-RU"/>
        </a:p>
      </dgm:t>
    </dgm:pt>
    <dgm:pt modelId="{330951ED-386C-4F60-A25A-66929F3B8594}" type="pres">
      <dgm:prSet presAssocID="{2D85C1C1-5B2B-49D3-B1B2-9360247B09ED}" presName="connTx" presStyleLbl="parChTrans1D2" presStyleIdx="7" presStyleCnt="11"/>
      <dgm:spPr/>
      <dgm:t>
        <a:bodyPr/>
        <a:lstStyle/>
        <a:p>
          <a:endParaRPr lang="ru-RU"/>
        </a:p>
      </dgm:t>
    </dgm:pt>
    <dgm:pt modelId="{48B97261-51DF-475C-9DB0-9BAF80AC26B8}" type="pres">
      <dgm:prSet presAssocID="{08AB0BCA-E450-407A-AAD9-3A53ED3B3AC3}" presName="node" presStyleLbl="node1" presStyleIdx="7" presStyleCnt="11" custScaleX="153765" custRadScaleRad="100635" custRadScaleInc="1856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FDE9A01-EDBD-499D-B704-8A37E8DFB138}" type="pres">
      <dgm:prSet presAssocID="{E0D039DE-FA82-46A0-8D18-8089C2D4357A}" presName="Name9" presStyleLbl="parChTrans1D2" presStyleIdx="8" presStyleCnt="11"/>
      <dgm:spPr/>
      <dgm:t>
        <a:bodyPr/>
        <a:lstStyle/>
        <a:p>
          <a:endParaRPr lang="ru-RU"/>
        </a:p>
      </dgm:t>
    </dgm:pt>
    <dgm:pt modelId="{35450DE9-E2C8-49DD-BF64-BFE54A84A7C1}" type="pres">
      <dgm:prSet presAssocID="{E0D039DE-FA82-46A0-8D18-8089C2D4357A}" presName="connTx" presStyleLbl="parChTrans1D2" presStyleIdx="8" presStyleCnt="11"/>
      <dgm:spPr/>
      <dgm:t>
        <a:bodyPr/>
        <a:lstStyle/>
        <a:p>
          <a:endParaRPr lang="ru-RU"/>
        </a:p>
      </dgm:t>
    </dgm:pt>
    <dgm:pt modelId="{D8EE1455-C6E2-4376-96BF-46B9F82C7A09}" type="pres">
      <dgm:prSet presAssocID="{46E2E5E4-AF29-4B68-96E2-CEE75ED0C29C}" presName="node" presStyleLbl="node1" presStyleIdx="8" presStyleCnt="11" custScaleX="14065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0502CEC-F057-451A-8026-4BA8B0BD3CE2}" type="pres">
      <dgm:prSet presAssocID="{3711CEC3-FC39-4F50-BDC2-322664C21EF8}" presName="Name9" presStyleLbl="parChTrans1D2" presStyleIdx="9" presStyleCnt="11"/>
      <dgm:spPr/>
      <dgm:t>
        <a:bodyPr/>
        <a:lstStyle/>
        <a:p>
          <a:endParaRPr lang="ru-RU"/>
        </a:p>
      </dgm:t>
    </dgm:pt>
    <dgm:pt modelId="{5AA2359E-6F9A-4629-AC34-9814A5EA03AD}" type="pres">
      <dgm:prSet presAssocID="{3711CEC3-FC39-4F50-BDC2-322664C21EF8}" presName="connTx" presStyleLbl="parChTrans1D2" presStyleIdx="9" presStyleCnt="11"/>
      <dgm:spPr/>
      <dgm:t>
        <a:bodyPr/>
        <a:lstStyle/>
        <a:p>
          <a:endParaRPr lang="ru-RU"/>
        </a:p>
      </dgm:t>
    </dgm:pt>
    <dgm:pt modelId="{5C7CD5A9-8820-4F43-B8AA-A19DBD29B5E1}" type="pres">
      <dgm:prSet presAssocID="{CA2392C8-E103-4F5E-BD3B-06D71DBA6E70}" presName="node" presStyleLbl="node1" presStyleIdx="9" presStyleCnt="11" custScaleX="12739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5AB1874-3FA8-4C3F-81C2-27586BACF4CB}" type="pres">
      <dgm:prSet presAssocID="{F014BE34-6C18-47B6-9C87-FBE819E18BF5}" presName="Name9" presStyleLbl="parChTrans1D2" presStyleIdx="10" presStyleCnt="11"/>
      <dgm:spPr/>
      <dgm:t>
        <a:bodyPr/>
        <a:lstStyle/>
        <a:p>
          <a:endParaRPr lang="ru-RU"/>
        </a:p>
      </dgm:t>
    </dgm:pt>
    <dgm:pt modelId="{56841A2B-9CC1-4522-A9DE-F00A3147F6DF}" type="pres">
      <dgm:prSet presAssocID="{F014BE34-6C18-47B6-9C87-FBE819E18BF5}" presName="connTx" presStyleLbl="parChTrans1D2" presStyleIdx="10" presStyleCnt="11"/>
      <dgm:spPr/>
      <dgm:t>
        <a:bodyPr/>
        <a:lstStyle/>
        <a:p>
          <a:endParaRPr lang="ru-RU"/>
        </a:p>
      </dgm:t>
    </dgm:pt>
    <dgm:pt modelId="{F811E1AA-A889-4AB6-918A-0F2C0E6BA1CC}" type="pres">
      <dgm:prSet presAssocID="{8079D9F9-A2A3-49EC-A964-522E666645BD}" presName="node" presStyleLbl="node1" presStyleIdx="10" presStyleCnt="11" custScaleX="163525" custRadScaleRad="104576" custRadScaleInc="-2549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05BC7BB1-4079-448C-A0D2-2DF142330249}" srcId="{903DED3F-90D1-44C6-8701-1E9542961F9B}" destId="{46E2E5E4-AF29-4B68-96E2-CEE75ED0C29C}" srcOrd="8" destOrd="0" parTransId="{E0D039DE-FA82-46A0-8D18-8089C2D4357A}" sibTransId="{9B7A6875-422E-427F-B4F0-4DFD5C62D33B}"/>
    <dgm:cxn modelId="{19C1445D-B351-4ABE-9F5A-73C921AE5A5B}" type="presOf" srcId="{81D074A7-8F84-4ABB-83C9-D666C64E49A6}" destId="{78B68AB8-4403-486D-A1EA-32242E886A92}" srcOrd="0" destOrd="0" presId="urn:microsoft.com/office/officeart/2005/8/layout/radial1"/>
    <dgm:cxn modelId="{C867FC5F-177C-4D16-A691-AEB2B7A3AAF6}" type="presOf" srcId="{B2F75A54-1204-4F4B-819A-14B28D66C2AF}" destId="{2B1570A1-0825-4768-9F1D-845845BA7F6B}" srcOrd="1" destOrd="0" presId="urn:microsoft.com/office/officeart/2005/8/layout/radial1"/>
    <dgm:cxn modelId="{6252D39F-B8E5-4238-A5F5-67A1BE7BA86B}" type="presOf" srcId="{AE9EB8C3-D52E-4867-939B-B3BE62FEDE93}" destId="{8F571AB3-92E1-4B44-A8D9-4E022B773444}" srcOrd="1" destOrd="0" presId="urn:microsoft.com/office/officeart/2005/8/layout/radial1"/>
    <dgm:cxn modelId="{700B3811-B598-4669-B9C4-DC5F93AE8E69}" srcId="{903DED3F-90D1-44C6-8701-1E9542961F9B}" destId="{8079D9F9-A2A3-49EC-A964-522E666645BD}" srcOrd="10" destOrd="0" parTransId="{F014BE34-6C18-47B6-9C87-FBE819E18BF5}" sibTransId="{B85CDCD1-CFF7-43A8-B7A1-560763A02154}"/>
    <dgm:cxn modelId="{37A5C750-06BA-45E1-9053-CBA2E43F1308}" type="presOf" srcId="{8EC0C68A-31AC-40AF-93AE-D1E4E76290C6}" destId="{0BED90B2-2701-45F2-B1A2-602153824095}" srcOrd="0" destOrd="0" presId="urn:microsoft.com/office/officeart/2005/8/layout/radial1"/>
    <dgm:cxn modelId="{EA9030EF-0D37-44F8-86B4-F4844635F824}" srcId="{903DED3F-90D1-44C6-8701-1E9542961F9B}" destId="{BF8881A4-17C8-4CA3-B79B-90E5BC0FF14B}" srcOrd="3" destOrd="0" parTransId="{B2F75A54-1204-4F4B-819A-14B28D66C2AF}" sibTransId="{DF52BFE5-6C3F-4A56-AA17-956CEA4453FF}"/>
    <dgm:cxn modelId="{C8B21563-7F1A-4E6B-9CF8-CEB3999C5B49}" type="presOf" srcId="{55DB5D7D-DF50-4A00-9E2D-F19E5D85DED5}" destId="{11486BD1-3A74-4AD1-BD6E-CF01C691B357}" srcOrd="1" destOrd="0" presId="urn:microsoft.com/office/officeart/2005/8/layout/radial1"/>
    <dgm:cxn modelId="{FB3BFCC8-902A-48E8-9E9C-2BF75F2316E8}" type="presOf" srcId="{B2F75A54-1204-4F4B-819A-14B28D66C2AF}" destId="{101F5957-200F-4BF0-AC4C-1DD31B9F9C2F}" srcOrd="0" destOrd="0" presId="urn:microsoft.com/office/officeart/2005/8/layout/radial1"/>
    <dgm:cxn modelId="{2A37B22E-8C62-4133-A1B7-5E7E877725D3}" type="presOf" srcId="{27DA1EE5-754E-499E-AB21-ABD168AED32F}" destId="{EB4FBB67-D3D6-4897-A703-8B79B791BBCC}" srcOrd="0" destOrd="0" presId="urn:microsoft.com/office/officeart/2005/8/layout/radial1"/>
    <dgm:cxn modelId="{0C9F7D40-1678-4DA5-817B-07AA6E481A96}" type="presOf" srcId="{E0D039DE-FA82-46A0-8D18-8089C2D4357A}" destId="{35450DE9-E2C8-49DD-BF64-BFE54A84A7C1}" srcOrd="1" destOrd="0" presId="urn:microsoft.com/office/officeart/2005/8/layout/radial1"/>
    <dgm:cxn modelId="{9FE3AE1B-3049-4B4C-BA91-0DD9BA1E8288}" type="presOf" srcId="{19115F5E-7D79-4D08-BB8F-50119688DDCC}" destId="{FFB63DFE-A2F7-4536-8D19-BF673D61FA7C}" srcOrd="1" destOrd="0" presId="urn:microsoft.com/office/officeart/2005/8/layout/radial1"/>
    <dgm:cxn modelId="{6520FDAA-E5A2-441F-8B10-A65AF37C5F30}" type="presOf" srcId="{3711CEC3-FC39-4F50-BDC2-322664C21EF8}" destId="{40502CEC-F057-451A-8026-4BA8B0BD3CE2}" srcOrd="0" destOrd="0" presId="urn:microsoft.com/office/officeart/2005/8/layout/radial1"/>
    <dgm:cxn modelId="{DDC82626-358F-4917-975A-4568457457F6}" type="presOf" srcId="{19115F5E-7D79-4D08-BB8F-50119688DDCC}" destId="{0E8CD887-246D-4C6C-94E1-B6591D68DFAB}" srcOrd="0" destOrd="0" presId="urn:microsoft.com/office/officeart/2005/8/layout/radial1"/>
    <dgm:cxn modelId="{5D366856-C7B8-451A-B04F-FE5BE32D7E90}" srcId="{903DED3F-90D1-44C6-8701-1E9542961F9B}" destId="{B6B5F314-EA90-4F12-B945-8C1304A79231}" srcOrd="6" destOrd="0" parTransId="{190B85F4-00AF-4B7A-AF64-5B8055392DEB}" sibTransId="{3C321E21-35AB-45C2-8746-A7ED32542600}"/>
    <dgm:cxn modelId="{723B9381-B594-48BC-AF7F-8A7E7D3184B5}" type="presOf" srcId="{8C14CDC6-8DDD-48D8-AF75-36C31205CE65}" destId="{127F4DB7-9111-402E-B045-2786A1EA882B}" srcOrd="0" destOrd="0" presId="urn:microsoft.com/office/officeart/2005/8/layout/radial1"/>
    <dgm:cxn modelId="{3DA11CDA-5807-47E8-847C-A643182185F4}" type="presOf" srcId="{81D074A7-8F84-4ABB-83C9-D666C64E49A6}" destId="{3BD46593-27BA-43EB-8FB0-4042E5E06FBB}" srcOrd="1" destOrd="0" presId="urn:microsoft.com/office/officeart/2005/8/layout/radial1"/>
    <dgm:cxn modelId="{532596E9-1AE8-49D6-921F-3CB85FF60EA8}" type="presOf" srcId="{2D85C1C1-5B2B-49D3-B1B2-9360247B09ED}" destId="{330951ED-386C-4F60-A25A-66929F3B8594}" srcOrd="1" destOrd="0" presId="urn:microsoft.com/office/officeart/2005/8/layout/radial1"/>
    <dgm:cxn modelId="{E1F0FB60-D089-497D-BA5F-59C36B6A6D47}" type="presOf" srcId="{55DB5D7D-DF50-4A00-9E2D-F19E5D85DED5}" destId="{58F9343B-CA25-40ED-9216-00F1DD022D7C}" srcOrd="0" destOrd="0" presId="urn:microsoft.com/office/officeart/2005/8/layout/radial1"/>
    <dgm:cxn modelId="{46E0B84D-859E-49B0-BE77-ED3120890020}" type="presOf" srcId="{B6B5F314-EA90-4F12-B945-8C1304A79231}" destId="{78D358A4-AFBC-4227-BF52-4031F45BC7AA}" srcOrd="0" destOrd="0" presId="urn:microsoft.com/office/officeart/2005/8/layout/radial1"/>
    <dgm:cxn modelId="{302A474A-3A8C-4722-8C88-1A27555869AC}" type="presOf" srcId="{3711CEC3-FC39-4F50-BDC2-322664C21EF8}" destId="{5AA2359E-6F9A-4629-AC34-9814A5EA03AD}" srcOrd="1" destOrd="0" presId="urn:microsoft.com/office/officeart/2005/8/layout/radial1"/>
    <dgm:cxn modelId="{87D37D59-2A81-4B9D-A286-F8D8EEBF210D}" type="presOf" srcId="{E0D039DE-FA82-46A0-8D18-8089C2D4357A}" destId="{0FDE9A01-EDBD-499D-B704-8A37E8DFB138}" srcOrd="0" destOrd="0" presId="urn:microsoft.com/office/officeart/2005/8/layout/radial1"/>
    <dgm:cxn modelId="{2824BFF9-FFCE-4BCB-9F2E-00FACDE47DC8}" type="presOf" srcId="{BF8881A4-17C8-4CA3-B79B-90E5BC0FF14B}" destId="{7EFD30BC-7955-488D-A4B5-BEC30450B91A}" srcOrd="0" destOrd="0" presId="urn:microsoft.com/office/officeart/2005/8/layout/radial1"/>
    <dgm:cxn modelId="{6EBE5793-B0D8-43FD-B1B8-8F38763BDC8D}" type="presOf" srcId="{903DED3F-90D1-44C6-8701-1E9542961F9B}" destId="{EF346625-E481-46BC-85EC-0F1EB36A503F}" srcOrd="0" destOrd="0" presId="urn:microsoft.com/office/officeart/2005/8/layout/radial1"/>
    <dgm:cxn modelId="{9967D366-A5C9-4417-AF0D-122816430D58}" type="presOf" srcId="{08AB0BCA-E450-407A-AAD9-3A53ED3B3AC3}" destId="{48B97261-51DF-475C-9DB0-9BAF80AC26B8}" srcOrd="0" destOrd="0" presId="urn:microsoft.com/office/officeart/2005/8/layout/radial1"/>
    <dgm:cxn modelId="{57E8C172-02FF-4D01-A012-8EAA81C823A9}" srcId="{8355E0C5-7EF3-48AA-9113-9D2B3CBC9E28}" destId="{903DED3F-90D1-44C6-8701-1E9542961F9B}" srcOrd="0" destOrd="0" parTransId="{180661DE-5AEC-4688-A233-4836D60FF4A5}" sibTransId="{C6A768FD-FE31-4A9E-94CD-D7BCC8AB0271}"/>
    <dgm:cxn modelId="{88320062-D535-4767-B5E7-4D18A6F852E7}" srcId="{903DED3F-90D1-44C6-8701-1E9542961F9B}" destId="{8C83769E-48D9-49CA-B90A-A613B998C429}" srcOrd="1" destOrd="0" parTransId="{19115F5E-7D79-4D08-BB8F-50119688DDCC}" sibTransId="{219D8295-8B9D-4111-81F4-06813C9B3DB8}"/>
    <dgm:cxn modelId="{9CA35F7C-3BDE-4D00-B4F4-57DCADDD1539}" srcId="{903DED3F-90D1-44C6-8701-1E9542961F9B}" destId="{CA2392C8-E103-4F5E-BD3B-06D71DBA6E70}" srcOrd="9" destOrd="0" parTransId="{3711CEC3-FC39-4F50-BDC2-322664C21EF8}" sibTransId="{478D8085-C766-4820-8836-D32DF1726A47}"/>
    <dgm:cxn modelId="{18BF168F-3157-4674-8AC9-7008D56D8FF0}" type="presOf" srcId="{8079D9F9-A2A3-49EC-A964-522E666645BD}" destId="{F811E1AA-A889-4AB6-918A-0F2C0E6BA1CC}" srcOrd="0" destOrd="0" presId="urn:microsoft.com/office/officeart/2005/8/layout/radial1"/>
    <dgm:cxn modelId="{4FEBDE1F-1339-4CA5-AB7E-3C7C85C2707A}" type="presOf" srcId="{14912F0D-41CF-4631-A2BF-CC93F125E81A}" destId="{85317E11-8349-4133-A01F-D25589EA422D}" srcOrd="0" destOrd="0" presId="urn:microsoft.com/office/officeart/2005/8/layout/radial1"/>
    <dgm:cxn modelId="{C40033F7-D49F-482E-A180-4C7EDF5A99C7}" type="presOf" srcId="{190B85F4-00AF-4B7A-AF64-5B8055392DEB}" destId="{CC492CD4-8627-4603-BDD7-8CA33D1C34BC}" srcOrd="0" destOrd="0" presId="urn:microsoft.com/office/officeart/2005/8/layout/radial1"/>
    <dgm:cxn modelId="{58518D11-0912-475B-B1B1-CEB500AF99CA}" type="presOf" srcId="{F014BE34-6C18-47B6-9C87-FBE819E18BF5}" destId="{85AB1874-3FA8-4C3F-81C2-27586BACF4CB}" srcOrd="0" destOrd="0" presId="urn:microsoft.com/office/officeart/2005/8/layout/radial1"/>
    <dgm:cxn modelId="{6280A701-7EE4-4080-9917-BD43DBFF59D4}" type="presOf" srcId="{F014BE34-6C18-47B6-9C87-FBE819E18BF5}" destId="{56841A2B-9CC1-4522-A9DE-F00A3147F6DF}" srcOrd="1" destOrd="0" presId="urn:microsoft.com/office/officeart/2005/8/layout/radial1"/>
    <dgm:cxn modelId="{8EDEECD4-7DCB-4BC8-A18A-49AB42514415}" type="presOf" srcId="{190B85F4-00AF-4B7A-AF64-5B8055392DEB}" destId="{12EA7A77-DE09-4087-8164-47F7C0A3C782}" srcOrd="1" destOrd="0" presId="urn:microsoft.com/office/officeart/2005/8/layout/radial1"/>
    <dgm:cxn modelId="{9C608310-94A3-495B-A925-AD4AE8C75E67}" type="presOf" srcId="{AE9EB8C3-D52E-4867-939B-B3BE62FEDE93}" destId="{ED12B747-EFA1-4921-BB9B-18CE26EA6091}" srcOrd="0" destOrd="0" presId="urn:microsoft.com/office/officeart/2005/8/layout/radial1"/>
    <dgm:cxn modelId="{72F4D451-CB6D-4ADC-9D32-A9CAAE7518EA}" srcId="{903DED3F-90D1-44C6-8701-1E9542961F9B}" destId="{9A340BA3-5B55-4119-826D-B27877773063}" srcOrd="2" destOrd="0" parTransId="{AE9EB8C3-D52E-4867-939B-B3BE62FEDE93}" sibTransId="{65EAF0C9-61DA-4829-A9C7-377BA406BB6E}"/>
    <dgm:cxn modelId="{A66F64E8-DEAA-446E-94AD-A7D94070BBAF}" srcId="{903DED3F-90D1-44C6-8701-1E9542961F9B}" destId="{8EC0C68A-31AC-40AF-93AE-D1E4E76290C6}" srcOrd="0" destOrd="0" parTransId="{81D074A7-8F84-4ABB-83C9-D666C64E49A6}" sibTransId="{5BBF7B33-0D8B-45AA-8A78-83E3A6F5F01B}"/>
    <dgm:cxn modelId="{B9EB5AF4-2E9F-422C-8968-D64346D25F04}" type="presOf" srcId="{8C83769E-48D9-49CA-B90A-A613B998C429}" destId="{DC8BCEF0-786A-44AB-87F9-48B266C8BDB3}" srcOrd="0" destOrd="0" presId="urn:microsoft.com/office/officeart/2005/8/layout/radial1"/>
    <dgm:cxn modelId="{7FB05A70-C373-4A84-A469-F5D0AF878F53}" type="presOf" srcId="{8C14CDC6-8DDD-48D8-AF75-36C31205CE65}" destId="{6F49EE6B-D973-480C-910B-EA638C1681E2}" srcOrd="1" destOrd="0" presId="urn:microsoft.com/office/officeart/2005/8/layout/radial1"/>
    <dgm:cxn modelId="{F5E818B8-B109-4E13-9469-8671AD5472DA}" type="presOf" srcId="{8355E0C5-7EF3-48AA-9113-9D2B3CBC9E28}" destId="{65315C14-325C-48BF-852D-B4579ECAEF52}" srcOrd="0" destOrd="0" presId="urn:microsoft.com/office/officeart/2005/8/layout/radial1"/>
    <dgm:cxn modelId="{CF418C91-996D-4D04-A642-83D2A8B9360A}" type="presOf" srcId="{9A340BA3-5B55-4119-826D-B27877773063}" destId="{F155574E-49E3-4DB4-A5C5-B732A2F0725D}" srcOrd="0" destOrd="0" presId="urn:microsoft.com/office/officeart/2005/8/layout/radial1"/>
    <dgm:cxn modelId="{02B49A84-98E2-45C2-884E-D976FB45C899}" type="presOf" srcId="{CA2392C8-E103-4F5E-BD3B-06D71DBA6E70}" destId="{5C7CD5A9-8820-4F43-B8AA-A19DBD29B5E1}" srcOrd="0" destOrd="0" presId="urn:microsoft.com/office/officeart/2005/8/layout/radial1"/>
    <dgm:cxn modelId="{A1F74332-6A92-48DA-ACEF-46924ADFF353}" srcId="{903DED3F-90D1-44C6-8701-1E9542961F9B}" destId="{08AB0BCA-E450-407A-AAD9-3A53ED3B3AC3}" srcOrd="7" destOrd="0" parTransId="{2D85C1C1-5B2B-49D3-B1B2-9360247B09ED}" sibTransId="{31C83851-1DE7-493F-AEFB-3267D205D107}"/>
    <dgm:cxn modelId="{AF5C87A3-A5CE-4684-947C-B13C02F5D1A5}" type="presOf" srcId="{2D85C1C1-5B2B-49D3-B1B2-9360247B09ED}" destId="{EE2E81A4-83CB-4AE8-BFAF-2E7ED657426E}" srcOrd="0" destOrd="0" presId="urn:microsoft.com/office/officeart/2005/8/layout/radial1"/>
    <dgm:cxn modelId="{E1AD1C78-B898-486A-BDB7-45207D87BC9D}" type="presOf" srcId="{46E2E5E4-AF29-4B68-96E2-CEE75ED0C29C}" destId="{D8EE1455-C6E2-4376-96BF-46B9F82C7A09}" srcOrd="0" destOrd="0" presId="urn:microsoft.com/office/officeart/2005/8/layout/radial1"/>
    <dgm:cxn modelId="{F48EAC98-EAA3-4001-A820-D2FAFF6015A6}" srcId="{903DED3F-90D1-44C6-8701-1E9542961F9B}" destId="{14912F0D-41CF-4631-A2BF-CC93F125E81A}" srcOrd="5" destOrd="0" parTransId="{8C14CDC6-8DDD-48D8-AF75-36C31205CE65}" sibTransId="{37C08FC5-1852-46AA-B165-E0C149F7049F}"/>
    <dgm:cxn modelId="{FD2C1710-26E6-4B50-B2C0-1741811272EC}" srcId="{903DED3F-90D1-44C6-8701-1E9542961F9B}" destId="{27DA1EE5-754E-499E-AB21-ABD168AED32F}" srcOrd="4" destOrd="0" parTransId="{55DB5D7D-DF50-4A00-9E2D-F19E5D85DED5}" sibTransId="{0F843D75-9E64-4881-8701-A6AF7E2F936C}"/>
    <dgm:cxn modelId="{F9A9B678-E251-4B85-88E2-9CDFEA5496BF}" type="presParOf" srcId="{65315C14-325C-48BF-852D-B4579ECAEF52}" destId="{EF346625-E481-46BC-85EC-0F1EB36A503F}" srcOrd="0" destOrd="0" presId="urn:microsoft.com/office/officeart/2005/8/layout/radial1"/>
    <dgm:cxn modelId="{01F8441B-3311-4E1C-AEFB-7243D48524C7}" type="presParOf" srcId="{65315C14-325C-48BF-852D-B4579ECAEF52}" destId="{78B68AB8-4403-486D-A1EA-32242E886A92}" srcOrd="1" destOrd="0" presId="urn:microsoft.com/office/officeart/2005/8/layout/radial1"/>
    <dgm:cxn modelId="{A4017D4F-027C-498F-B6E6-1A7CF90783EF}" type="presParOf" srcId="{78B68AB8-4403-486D-A1EA-32242E886A92}" destId="{3BD46593-27BA-43EB-8FB0-4042E5E06FBB}" srcOrd="0" destOrd="0" presId="urn:microsoft.com/office/officeart/2005/8/layout/radial1"/>
    <dgm:cxn modelId="{8429EC9B-19C4-4E92-8766-6EDA1FECA495}" type="presParOf" srcId="{65315C14-325C-48BF-852D-B4579ECAEF52}" destId="{0BED90B2-2701-45F2-B1A2-602153824095}" srcOrd="2" destOrd="0" presId="urn:microsoft.com/office/officeart/2005/8/layout/radial1"/>
    <dgm:cxn modelId="{7542D835-5D46-4D3A-A867-1CFB6A85B1FF}" type="presParOf" srcId="{65315C14-325C-48BF-852D-B4579ECAEF52}" destId="{0E8CD887-246D-4C6C-94E1-B6591D68DFAB}" srcOrd="3" destOrd="0" presId="urn:microsoft.com/office/officeart/2005/8/layout/radial1"/>
    <dgm:cxn modelId="{4194141B-14CD-4893-82D0-944929E4587E}" type="presParOf" srcId="{0E8CD887-246D-4C6C-94E1-B6591D68DFAB}" destId="{FFB63DFE-A2F7-4536-8D19-BF673D61FA7C}" srcOrd="0" destOrd="0" presId="urn:microsoft.com/office/officeart/2005/8/layout/radial1"/>
    <dgm:cxn modelId="{440214B7-989C-4C86-946D-C851A4918A25}" type="presParOf" srcId="{65315C14-325C-48BF-852D-B4579ECAEF52}" destId="{DC8BCEF0-786A-44AB-87F9-48B266C8BDB3}" srcOrd="4" destOrd="0" presId="urn:microsoft.com/office/officeart/2005/8/layout/radial1"/>
    <dgm:cxn modelId="{DEA27BB9-9B42-4971-89C3-48AE78A40B4D}" type="presParOf" srcId="{65315C14-325C-48BF-852D-B4579ECAEF52}" destId="{ED12B747-EFA1-4921-BB9B-18CE26EA6091}" srcOrd="5" destOrd="0" presId="urn:microsoft.com/office/officeart/2005/8/layout/radial1"/>
    <dgm:cxn modelId="{7255BC4C-4795-41D5-9748-12433B1FBF38}" type="presParOf" srcId="{ED12B747-EFA1-4921-BB9B-18CE26EA6091}" destId="{8F571AB3-92E1-4B44-A8D9-4E022B773444}" srcOrd="0" destOrd="0" presId="urn:microsoft.com/office/officeart/2005/8/layout/radial1"/>
    <dgm:cxn modelId="{820B5B0A-2945-476A-AD93-4DBFFED25E2B}" type="presParOf" srcId="{65315C14-325C-48BF-852D-B4579ECAEF52}" destId="{F155574E-49E3-4DB4-A5C5-B732A2F0725D}" srcOrd="6" destOrd="0" presId="urn:microsoft.com/office/officeart/2005/8/layout/radial1"/>
    <dgm:cxn modelId="{5108E61F-2F17-4129-B37C-0A3AB1B36267}" type="presParOf" srcId="{65315C14-325C-48BF-852D-B4579ECAEF52}" destId="{101F5957-200F-4BF0-AC4C-1DD31B9F9C2F}" srcOrd="7" destOrd="0" presId="urn:microsoft.com/office/officeart/2005/8/layout/radial1"/>
    <dgm:cxn modelId="{1DC9B396-82B9-4618-B404-9CF645788767}" type="presParOf" srcId="{101F5957-200F-4BF0-AC4C-1DD31B9F9C2F}" destId="{2B1570A1-0825-4768-9F1D-845845BA7F6B}" srcOrd="0" destOrd="0" presId="urn:microsoft.com/office/officeart/2005/8/layout/radial1"/>
    <dgm:cxn modelId="{BF1F9D4F-958C-4CFE-B29F-1A420BDFB886}" type="presParOf" srcId="{65315C14-325C-48BF-852D-B4579ECAEF52}" destId="{7EFD30BC-7955-488D-A4B5-BEC30450B91A}" srcOrd="8" destOrd="0" presId="urn:microsoft.com/office/officeart/2005/8/layout/radial1"/>
    <dgm:cxn modelId="{F95B5B4F-2E64-41B3-976A-E3A03734EBF9}" type="presParOf" srcId="{65315C14-325C-48BF-852D-B4579ECAEF52}" destId="{58F9343B-CA25-40ED-9216-00F1DD022D7C}" srcOrd="9" destOrd="0" presId="urn:microsoft.com/office/officeart/2005/8/layout/radial1"/>
    <dgm:cxn modelId="{AC497F20-67E4-4F1A-837B-8516A3D8A082}" type="presParOf" srcId="{58F9343B-CA25-40ED-9216-00F1DD022D7C}" destId="{11486BD1-3A74-4AD1-BD6E-CF01C691B357}" srcOrd="0" destOrd="0" presId="urn:microsoft.com/office/officeart/2005/8/layout/radial1"/>
    <dgm:cxn modelId="{EE3E3812-0F18-4E2D-B450-92E526497A8E}" type="presParOf" srcId="{65315C14-325C-48BF-852D-B4579ECAEF52}" destId="{EB4FBB67-D3D6-4897-A703-8B79B791BBCC}" srcOrd="10" destOrd="0" presId="urn:microsoft.com/office/officeart/2005/8/layout/radial1"/>
    <dgm:cxn modelId="{49AA871C-8FCA-43D5-A0FE-C4E49B799D43}" type="presParOf" srcId="{65315C14-325C-48BF-852D-B4579ECAEF52}" destId="{127F4DB7-9111-402E-B045-2786A1EA882B}" srcOrd="11" destOrd="0" presId="urn:microsoft.com/office/officeart/2005/8/layout/radial1"/>
    <dgm:cxn modelId="{65F84CA5-830E-41C1-B0B1-373B7EC75F47}" type="presParOf" srcId="{127F4DB7-9111-402E-B045-2786A1EA882B}" destId="{6F49EE6B-D973-480C-910B-EA638C1681E2}" srcOrd="0" destOrd="0" presId="urn:microsoft.com/office/officeart/2005/8/layout/radial1"/>
    <dgm:cxn modelId="{62EAE29A-FFDF-483E-B9CD-319CDAD930D2}" type="presParOf" srcId="{65315C14-325C-48BF-852D-B4579ECAEF52}" destId="{85317E11-8349-4133-A01F-D25589EA422D}" srcOrd="12" destOrd="0" presId="urn:microsoft.com/office/officeart/2005/8/layout/radial1"/>
    <dgm:cxn modelId="{55097600-FA3F-4063-9B89-04C5DE4B18F5}" type="presParOf" srcId="{65315C14-325C-48BF-852D-B4579ECAEF52}" destId="{CC492CD4-8627-4603-BDD7-8CA33D1C34BC}" srcOrd="13" destOrd="0" presId="urn:microsoft.com/office/officeart/2005/8/layout/radial1"/>
    <dgm:cxn modelId="{4532604E-1191-4226-9D10-EFB7BB533831}" type="presParOf" srcId="{CC492CD4-8627-4603-BDD7-8CA33D1C34BC}" destId="{12EA7A77-DE09-4087-8164-47F7C0A3C782}" srcOrd="0" destOrd="0" presId="urn:microsoft.com/office/officeart/2005/8/layout/radial1"/>
    <dgm:cxn modelId="{884F39BC-11A6-4498-93DD-219FDB8D08E1}" type="presParOf" srcId="{65315C14-325C-48BF-852D-B4579ECAEF52}" destId="{78D358A4-AFBC-4227-BF52-4031F45BC7AA}" srcOrd="14" destOrd="0" presId="urn:microsoft.com/office/officeart/2005/8/layout/radial1"/>
    <dgm:cxn modelId="{9E4F8662-3452-4B99-911F-6EF77273D810}" type="presParOf" srcId="{65315C14-325C-48BF-852D-B4579ECAEF52}" destId="{EE2E81A4-83CB-4AE8-BFAF-2E7ED657426E}" srcOrd="15" destOrd="0" presId="urn:microsoft.com/office/officeart/2005/8/layout/radial1"/>
    <dgm:cxn modelId="{5E2513D0-EF27-4C29-B7E3-43E99C5B43D0}" type="presParOf" srcId="{EE2E81A4-83CB-4AE8-BFAF-2E7ED657426E}" destId="{330951ED-386C-4F60-A25A-66929F3B8594}" srcOrd="0" destOrd="0" presId="urn:microsoft.com/office/officeart/2005/8/layout/radial1"/>
    <dgm:cxn modelId="{AF69DC5A-9030-4C38-8737-BF5D3CFFBEC3}" type="presParOf" srcId="{65315C14-325C-48BF-852D-B4579ECAEF52}" destId="{48B97261-51DF-475C-9DB0-9BAF80AC26B8}" srcOrd="16" destOrd="0" presId="urn:microsoft.com/office/officeart/2005/8/layout/radial1"/>
    <dgm:cxn modelId="{B4FA7040-A4AB-45B6-9B82-4D940D8CE757}" type="presParOf" srcId="{65315C14-325C-48BF-852D-B4579ECAEF52}" destId="{0FDE9A01-EDBD-499D-B704-8A37E8DFB138}" srcOrd="17" destOrd="0" presId="urn:microsoft.com/office/officeart/2005/8/layout/radial1"/>
    <dgm:cxn modelId="{B837F7E8-D300-4946-8B9D-1FE39DB023D0}" type="presParOf" srcId="{0FDE9A01-EDBD-499D-B704-8A37E8DFB138}" destId="{35450DE9-E2C8-49DD-BF64-BFE54A84A7C1}" srcOrd="0" destOrd="0" presId="urn:microsoft.com/office/officeart/2005/8/layout/radial1"/>
    <dgm:cxn modelId="{AC85D16E-C272-483E-9A34-B8F96E72E42C}" type="presParOf" srcId="{65315C14-325C-48BF-852D-B4579ECAEF52}" destId="{D8EE1455-C6E2-4376-96BF-46B9F82C7A09}" srcOrd="18" destOrd="0" presId="urn:microsoft.com/office/officeart/2005/8/layout/radial1"/>
    <dgm:cxn modelId="{B0BED289-A8D5-4BA6-B3FF-063A8AC0FE06}" type="presParOf" srcId="{65315C14-325C-48BF-852D-B4579ECAEF52}" destId="{40502CEC-F057-451A-8026-4BA8B0BD3CE2}" srcOrd="19" destOrd="0" presId="urn:microsoft.com/office/officeart/2005/8/layout/radial1"/>
    <dgm:cxn modelId="{1214B77B-0EBD-41E7-AE81-9AE5BE04599A}" type="presParOf" srcId="{40502CEC-F057-451A-8026-4BA8B0BD3CE2}" destId="{5AA2359E-6F9A-4629-AC34-9814A5EA03AD}" srcOrd="0" destOrd="0" presId="urn:microsoft.com/office/officeart/2005/8/layout/radial1"/>
    <dgm:cxn modelId="{CF0BC827-ECD0-49D8-A399-58208C6BDF71}" type="presParOf" srcId="{65315C14-325C-48BF-852D-B4579ECAEF52}" destId="{5C7CD5A9-8820-4F43-B8AA-A19DBD29B5E1}" srcOrd="20" destOrd="0" presId="urn:microsoft.com/office/officeart/2005/8/layout/radial1"/>
    <dgm:cxn modelId="{AF9A6FE9-5216-4C6D-817D-C2C1AAE59FAA}" type="presParOf" srcId="{65315C14-325C-48BF-852D-B4579ECAEF52}" destId="{85AB1874-3FA8-4C3F-81C2-27586BACF4CB}" srcOrd="21" destOrd="0" presId="urn:microsoft.com/office/officeart/2005/8/layout/radial1"/>
    <dgm:cxn modelId="{7C038E5A-F19B-4266-9EAF-F48AB8335679}" type="presParOf" srcId="{85AB1874-3FA8-4C3F-81C2-27586BACF4CB}" destId="{56841A2B-9CC1-4522-A9DE-F00A3147F6DF}" srcOrd="0" destOrd="0" presId="urn:microsoft.com/office/officeart/2005/8/layout/radial1"/>
    <dgm:cxn modelId="{BF7FAC6C-D1A0-43D5-99E6-DC63D347DA91}" type="presParOf" srcId="{65315C14-325C-48BF-852D-B4579ECAEF52}" destId="{F811E1AA-A889-4AB6-918A-0F2C0E6BA1CC}" srcOrd="22" destOrd="0" presId="urn:microsoft.com/office/officeart/2005/8/layout/radial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F346625-E481-46BC-85EC-0F1EB36A503F}">
      <dsp:nvSpPr>
        <dsp:cNvPr id="0" name=""/>
        <dsp:cNvSpPr/>
      </dsp:nvSpPr>
      <dsp:spPr>
        <a:xfrm>
          <a:off x="3258990" y="2482959"/>
          <a:ext cx="1876852" cy="1062938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6670" tIns="26670" rIns="26670" bIns="26670" numCol="1" spcCol="1270" anchor="ctr" anchorCtr="0">
          <a:noAutofit/>
        </a:bodyPr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4200" b="1" i="0" u="none" strike="noStrike" kern="1200" cap="none" normalizeH="0" baseline="0" dirty="0" smtClean="0">
              <a:ln>
                <a:noFill/>
              </a:ln>
              <a:solidFill>
                <a:srgbClr val="FF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</a:t>
          </a:r>
        </a:p>
      </dsp:txBody>
      <dsp:txXfrm>
        <a:off x="3258990" y="2482959"/>
        <a:ext cx="1876852" cy="1062938"/>
      </dsp:txXfrm>
    </dsp:sp>
    <dsp:sp modelId="{78B68AB8-4403-486D-A1EA-32242E886A92}">
      <dsp:nvSpPr>
        <dsp:cNvPr id="0" name=""/>
        <dsp:cNvSpPr/>
      </dsp:nvSpPr>
      <dsp:spPr>
        <a:xfrm rot="16200000">
          <a:off x="3500646" y="1774744"/>
          <a:ext cx="1393538" cy="22891"/>
        </a:xfrm>
        <a:custGeom>
          <a:avLst/>
          <a:gdLst/>
          <a:ahLst/>
          <a:cxnLst/>
          <a:rect l="0" t="0" r="0" b="0"/>
          <a:pathLst>
            <a:path>
              <a:moveTo>
                <a:pt x="0" y="11445"/>
              </a:moveTo>
              <a:lnTo>
                <a:pt x="1393538" y="11445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 rot="16200000">
        <a:off x="4162577" y="1751351"/>
        <a:ext cx="69676" cy="69676"/>
      </dsp:txXfrm>
    </dsp:sp>
    <dsp:sp modelId="{0BED90B2-2701-45F2-B1A2-602153824095}">
      <dsp:nvSpPr>
        <dsp:cNvPr id="0" name=""/>
        <dsp:cNvSpPr/>
      </dsp:nvSpPr>
      <dsp:spPr>
        <a:xfrm>
          <a:off x="3665946" y="26482"/>
          <a:ext cx="1062938" cy="1062938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1800" b="1" i="0" u="none" strike="noStrike" kern="1200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- </a:t>
          </a:r>
          <a:r>
            <a:rPr kumimoji="0" lang="ru-RU" sz="1800" b="1" i="0" u="none" strike="noStrike" kern="1200" cap="none" normalizeH="0" baseline="0" dirty="0" err="1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брейн</a:t>
          </a:r>
          <a:r>
            <a:rPr kumimoji="0" lang="ru-RU" sz="1800" b="1" i="0" u="none" strike="noStrike" kern="1200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- ринг </a:t>
          </a:r>
        </a:p>
      </dsp:txBody>
      <dsp:txXfrm>
        <a:off x="3665946" y="26482"/>
        <a:ext cx="1062938" cy="1062938"/>
      </dsp:txXfrm>
    </dsp:sp>
    <dsp:sp modelId="{0E8CD887-246D-4C6C-94E1-B6591D68DFAB}">
      <dsp:nvSpPr>
        <dsp:cNvPr id="0" name=""/>
        <dsp:cNvSpPr/>
      </dsp:nvSpPr>
      <dsp:spPr>
        <a:xfrm rot="18360334">
          <a:off x="4280949" y="1974441"/>
          <a:ext cx="1327798" cy="22891"/>
        </a:xfrm>
        <a:custGeom>
          <a:avLst/>
          <a:gdLst/>
          <a:ahLst/>
          <a:cxnLst/>
          <a:rect l="0" t="0" r="0" b="0"/>
          <a:pathLst>
            <a:path>
              <a:moveTo>
                <a:pt x="0" y="11445"/>
              </a:moveTo>
              <a:lnTo>
                <a:pt x="1327798" y="11445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 rot="18360334">
        <a:off x="4911653" y="1952692"/>
        <a:ext cx="66389" cy="66389"/>
      </dsp:txXfrm>
    </dsp:sp>
    <dsp:sp modelId="{DC8BCEF0-786A-44AB-87F9-48B266C8BDB3}">
      <dsp:nvSpPr>
        <dsp:cNvPr id="0" name=""/>
        <dsp:cNvSpPr/>
      </dsp:nvSpPr>
      <dsp:spPr>
        <a:xfrm>
          <a:off x="4786352" y="428620"/>
          <a:ext cx="1807867" cy="1062938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1800" b="1" i="0" u="none" strike="noStrike" kern="1200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 -экскурсия</a:t>
          </a:r>
        </a:p>
      </dsp:txBody>
      <dsp:txXfrm>
        <a:off x="4786352" y="428620"/>
        <a:ext cx="1807867" cy="1062938"/>
      </dsp:txXfrm>
    </dsp:sp>
    <dsp:sp modelId="{ED12B747-EFA1-4921-BB9B-18CE26EA6091}">
      <dsp:nvSpPr>
        <dsp:cNvPr id="0" name=""/>
        <dsp:cNvSpPr/>
      </dsp:nvSpPr>
      <dsp:spPr>
        <a:xfrm rot="20127273">
          <a:off x="4883384" y="2464616"/>
          <a:ext cx="985783" cy="22891"/>
        </a:xfrm>
        <a:custGeom>
          <a:avLst/>
          <a:gdLst/>
          <a:ahLst/>
          <a:cxnLst/>
          <a:rect l="0" t="0" r="0" b="0"/>
          <a:pathLst>
            <a:path>
              <a:moveTo>
                <a:pt x="0" y="11445"/>
              </a:moveTo>
              <a:lnTo>
                <a:pt x="985783" y="11445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 rot="20127273">
        <a:off x="5351631" y="2451417"/>
        <a:ext cx="49289" cy="49289"/>
      </dsp:txXfrm>
    </dsp:sp>
    <dsp:sp modelId="{F155574E-49E3-4DB4-A5C5-B732A2F0725D}">
      <dsp:nvSpPr>
        <dsp:cNvPr id="0" name=""/>
        <dsp:cNvSpPr/>
      </dsp:nvSpPr>
      <dsp:spPr>
        <a:xfrm>
          <a:off x="5720014" y="1462502"/>
          <a:ext cx="1423785" cy="1062938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1800" b="1" i="0" u="none" strike="noStrike" kern="1200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-зачёт</a:t>
          </a:r>
        </a:p>
      </dsp:txBody>
      <dsp:txXfrm>
        <a:off x="5720014" y="1462502"/>
        <a:ext cx="1423785" cy="1062938"/>
      </dsp:txXfrm>
    </dsp:sp>
    <dsp:sp modelId="{101F5957-200F-4BF0-AC4C-1DD31B9F9C2F}">
      <dsp:nvSpPr>
        <dsp:cNvPr id="0" name=""/>
        <dsp:cNvSpPr/>
      </dsp:nvSpPr>
      <dsp:spPr>
        <a:xfrm rot="490909">
          <a:off x="5102753" y="3192980"/>
          <a:ext cx="832237" cy="22891"/>
        </a:xfrm>
        <a:custGeom>
          <a:avLst/>
          <a:gdLst/>
          <a:ahLst/>
          <a:cxnLst/>
          <a:rect l="0" t="0" r="0" b="0"/>
          <a:pathLst>
            <a:path>
              <a:moveTo>
                <a:pt x="0" y="11445"/>
              </a:moveTo>
              <a:lnTo>
                <a:pt x="832237" y="11445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 rot="490909">
        <a:off x="5498065" y="3183619"/>
        <a:ext cx="41611" cy="41611"/>
      </dsp:txXfrm>
    </dsp:sp>
    <dsp:sp modelId="{7EFD30BC-7955-488D-A4B5-BEC30450B91A}">
      <dsp:nvSpPr>
        <dsp:cNvPr id="0" name=""/>
        <dsp:cNvSpPr/>
      </dsp:nvSpPr>
      <dsp:spPr>
        <a:xfrm>
          <a:off x="5917959" y="2832553"/>
          <a:ext cx="1421861" cy="1062938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1800" b="1" i="0" u="none" strike="noStrike" kern="1200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-КВН</a:t>
          </a:r>
        </a:p>
      </dsp:txBody>
      <dsp:txXfrm>
        <a:off x="5917959" y="2832553"/>
        <a:ext cx="1421861" cy="1062938"/>
      </dsp:txXfrm>
    </dsp:sp>
    <dsp:sp modelId="{58F9343B-CA25-40ED-9216-00F1DD022D7C}">
      <dsp:nvSpPr>
        <dsp:cNvPr id="0" name=""/>
        <dsp:cNvSpPr/>
      </dsp:nvSpPr>
      <dsp:spPr>
        <a:xfrm rot="2306851">
          <a:off x="4625032" y="3772184"/>
          <a:ext cx="1082444" cy="22891"/>
        </a:xfrm>
        <a:custGeom>
          <a:avLst/>
          <a:gdLst/>
          <a:ahLst/>
          <a:cxnLst/>
          <a:rect l="0" t="0" r="0" b="0"/>
          <a:pathLst>
            <a:path>
              <a:moveTo>
                <a:pt x="0" y="11445"/>
              </a:moveTo>
              <a:lnTo>
                <a:pt x="1082444" y="11445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 rot="2306851">
        <a:off x="5139193" y="3756568"/>
        <a:ext cx="54122" cy="54122"/>
      </dsp:txXfrm>
    </dsp:sp>
    <dsp:sp modelId="{EB4FBB67-D3D6-4897-A703-8B79B791BBCC}">
      <dsp:nvSpPr>
        <dsp:cNvPr id="0" name=""/>
        <dsp:cNvSpPr/>
      </dsp:nvSpPr>
      <dsp:spPr>
        <a:xfrm>
          <a:off x="5288205" y="4000524"/>
          <a:ext cx="1641283" cy="1062938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1800" b="1" i="0" u="none" strike="noStrike" kern="1200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-пресс-конференция</a:t>
          </a:r>
        </a:p>
      </dsp:txBody>
      <dsp:txXfrm>
        <a:off x="5288205" y="4000524"/>
        <a:ext cx="1641283" cy="1062938"/>
      </dsp:txXfrm>
    </dsp:sp>
    <dsp:sp modelId="{127F4DB7-9111-402E-B045-2786A1EA882B}">
      <dsp:nvSpPr>
        <dsp:cNvPr id="0" name=""/>
        <dsp:cNvSpPr/>
      </dsp:nvSpPr>
      <dsp:spPr>
        <a:xfrm rot="4272421">
          <a:off x="3895862" y="4194018"/>
          <a:ext cx="1413703" cy="22891"/>
        </a:xfrm>
        <a:custGeom>
          <a:avLst/>
          <a:gdLst/>
          <a:ahLst/>
          <a:cxnLst/>
          <a:rect l="0" t="0" r="0" b="0"/>
          <a:pathLst>
            <a:path>
              <a:moveTo>
                <a:pt x="0" y="11445"/>
              </a:moveTo>
              <a:lnTo>
                <a:pt x="1413703" y="11445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 rot="4272421">
        <a:off x="4567372" y="4170121"/>
        <a:ext cx="70685" cy="70685"/>
      </dsp:txXfrm>
    </dsp:sp>
    <dsp:sp modelId="{85317E11-8349-4133-A01F-D25589EA422D}">
      <dsp:nvSpPr>
        <dsp:cNvPr id="0" name=""/>
        <dsp:cNvSpPr/>
      </dsp:nvSpPr>
      <dsp:spPr>
        <a:xfrm>
          <a:off x="4304575" y="4857780"/>
          <a:ext cx="1401941" cy="1062938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715" tIns="5715" rIns="5715" bIns="5715" numCol="1" spcCol="1270" anchor="ctr" anchorCtr="0">
          <a:noAutofit/>
        </a:bodyPr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900" b="1" i="0" u="none" strike="noStrike" kern="1200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 </a:t>
          </a:r>
          <a:r>
            <a:rPr kumimoji="0" lang="ru-RU" sz="1800" b="1" i="0" u="none" strike="noStrike" kern="1200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-лекция </a:t>
          </a:r>
        </a:p>
      </dsp:txBody>
      <dsp:txXfrm>
        <a:off x="4304575" y="4857780"/>
        <a:ext cx="1401941" cy="1062938"/>
      </dsp:txXfrm>
    </dsp:sp>
    <dsp:sp modelId="{CC492CD4-8627-4603-BDD7-8CA33D1C34BC}">
      <dsp:nvSpPr>
        <dsp:cNvPr id="0" name=""/>
        <dsp:cNvSpPr/>
      </dsp:nvSpPr>
      <dsp:spPr>
        <a:xfrm rot="6381818">
          <a:off x="3166283" y="4183912"/>
          <a:ext cx="1368762" cy="22891"/>
        </a:xfrm>
        <a:custGeom>
          <a:avLst/>
          <a:gdLst/>
          <a:ahLst/>
          <a:cxnLst/>
          <a:rect l="0" t="0" r="0" b="0"/>
          <a:pathLst>
            <a:path>
              <a:moveTo>
                <a:pt x="0" y="11445"/>
              </a:moveTo>
              <a:lnTo>
                <a:pt x="1368762" y="11445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 rot="6381818">
        <a:off x="3816445" y="4161139"/>
        <a:ext cx="68438" cy="68438"/>
      </dsp:txXfrm>
    </dsp:sp>
    <dsp:sp modelId="{78D358A4-AFBC-4227-BF52-4031F45BC7AA}">
      <dsp:nvSpPr>
        <dsp:cNvPr id="0" name=""/>
        <dsp:cNvSpPr/>
      </dsp:nvSpPr>
      <dsp:spPr>
        <a:xfrm>
          <a:off x="2786082" y="4839933"/>
          <a:ext cx="1438528" cy="1062938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kumimoji="0" lang="ru-RU" sz="1800" b="1" i="0" u="none" strike="noStrike" kern="1200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видео-урок</a:t>
          </a:r>
          <a:endParaRPr lang="ru-RU" sz="1800" kern="1200" dirty="0"/>
        </a:p>
      </dsp:txBody>
      <dsp:txXfrm>
        <a:off x="2786082" y="4839933"/>
        <a:ext cx="1438528" cy="1062938"/>
      </dsp:txXfrm>
    </dsp:sp>
    <dsp:sp modelId="{EE2E81A4-83CB-4AE8-BFAF-2E7ED657426E}">
      <dsp:nvSpPr>
        <dsp:cNvPr id="0" name=""/>
        <dsp:cNvSpPr/>
      </dsp:nvSpPr>
      <dsp:spPr>
        <a:xfrm rot="8527739">
          <a:off x="2653539" y="3772731"/>
          <a:ext cx="1108121" cy="22891"/>
        </a:xfrm>
        <a:custGeom>
          <a:avLst/>
          <a:gdLst/>
          <a:ahLst/>
          <a:cxnLst/>
          <a:rect l="0" t="0" r="0" b="0"/>
          <a:pathLst>
            <a:path>
              <a:moveTo>
                <a:pt x="0" y="11445"/>
              </a:moveTo>
              <a:lnTo>
                <a:pt x="1108121" y="11445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 rot="8527739">
        <a:off x="3179896" y="3756473"/>
        <a:ext cx="55406" cy="55406"/>
      </dsp:txXfrm>
    </dsp:sp>
    <dsp:sp modelId="{48B97261-51DF-475C-9DB0-9BAF80AC26B8}">
      <dsp:nvSpPr>
        <dsp:cNvPr id="0" name=""/>
        <dsp:cNvSpPr/>
      </dsp:nvSpPr>
      <dsp:spPr>
        <a:xfrm>
          <a:off x="1428758" y="4000532"/>
          <a:ext cx="1634427" cy="1062938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kumimoji="0" lang="ru-RU" sz="1800" b="1" i="0" u="none" strike="noStrike" kern="1200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 -</a:t>
          </a:r>
          <a:r>
            <a:rPr kumimoji="0" lang="ru-RU" sz="1800" b="1" i="0" u="none" strike="noStrike" kern="1200" cap="none" normalizeH="0" baseline="0" dirty="0" err="1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путешест-вие</a:t>
          </a:r>
          <a:endParaRPr kumimoji="0" lang="ru-RU" sz="1800" b="1" i="0" u="none" strike="noStrike" kern="1200" cap="none" normalizeH="0" baseline="0" dirty="0" smtClean="0">
            <a:ln>
              <a:noFill/>
            </a:ln>
            <a:solidFill>
              <a:srgbClr val="CC0000"/>
            </a:solidFill>
            <a:effectLst>
              <a:outerShdw blurRad="38100" dist="38100" dir="2700000" algn="tl">
                <a:srgbClr val="000000"/>
              </a:outerShdw>
            </a:effectLst>
            <a:latin typeface="Arial" charset="0"/>
          </a:endParaRPr>
        </a:p>
      </dsp:txBody>
      <dsp:txXfrm>
        <a:off x="1428758" y="4000532"/>
        <a:ext cx="1634427" cy="1062938"/>
      </dsp:txXfrm>
    </dsp:sp>
    <dsp:sp modelId="{0FDE9A01-EDBD-499D-B704-8A37E8DFB138}">
      <dsp:nvSpPr>
        <dsp:cNvPr id="0" name=""/>
        <dsp:cNvSpPr/>
      </dsp:nvSpPr>
      <dsp:spPr>
        <a:xfrm rot="10309091">
          <a:off x="2494569" y="3190496"/>
          <a:ext cx="797332" cy="22891"/>
        </a:xfrm>
        <a:custGeom>
          <a:avLst/>
          <a:gdLst/>
          <a:ahLst/>
          <a:cxnLst/>
          <a:rect l="0" t="0" r="0" b="0"/>
          <a:pathLst>
            <a:path>
              <a:moveTo>
                <a:pt x="0" y="11445"/>
              </a:moveTo>
              <a:lnTo>
                <a:pt x="797332" y="11445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 rot="10309091">
        <a:off x="2873302" y="3182008"/>
        <a:ext cx="39866" cy="39866"/>
      </dsp:txXfrm>
    </dsp:sp>
    <dsp:sp modelId="{D8EE1455-C6E2-4376-96BF-46B9F82C7A09}">
      <dsp:nvSpPr>
        <dsp:cNvPr id="0" name=""/>
        <dsp:cNvSpPr/>
      </dsp:nvSpPr>
      <dsp:spPr>
        <a:xfrm>
          <a:off x="1018424" y="2832553"/>
          <a:ext cx="1495034" cy="1062938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kumimoji="0" lang="ru-RU" sz="1800" b="1" i="0" u="none" strike="noStrike" kern="1200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-защита проекта </a:t>
          </a:r>
        </a:p>
      </dsp:txBody>
      <dsp:txXfrm>
        <a:off x="1018424" y="2832553"/>
        <a:ext cx="1495034" cy="1062938"/>
      </dsp:txXfrm>
    </dsp:sp>
    <dsp:sp modelId="{40502CEC-F057-451A-8026-4BA8B0BD3CE2}">
      <dsp:nvSpPr>
        <dsp:cNvPr id="0" name=""/>
        <dsp:cNvSpPr/>
      </dsp:nvSpPr>
      <dsp:spPr>
        <a:xfrm rot="12272727">
          <a:off x="2502496" y="2459576"/>
          <a:ext cx="1010047" cy="22891"/>
        </a:xfrm>
        <a:custGeom>
          <a:avLst/>
          <a:gdLst/>
          <a:ahLst/>
          <a:cxnLst/>
          <a:rect l="0" t="0" r="0" b="0"/>
          <a:pathLst>
            <a:path>
              <a:moveTo>
                <a:pt x="0" y="11445"/>
              </a:moveTo>
              <a:lnTo>
                <a:pt x="1010047" y="11445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 rot="12272727">
        <a:off x="2982269" y="2445771"/>
        <a:ext cx="50502" cy="50502"/>
      </dsp:txXfrm>
    </dsp:sp>
    <dsp:sp modelId="{5C7CD5A9-8820-4F43-B8AA-A19DBD29B5E1}">
      <dsp:nvSpPr>
        <dsp:cNvPr id="0" name=""/>
        <dsp:cNvSpPr/>
      </dsp:nvSpPr>
      <dsp:spPr>
        <a:xfrm>
          <a:off x="1285886" y="1462502"/>
          <a:ext cx="1354077" cy="1062938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2000" b="1" i="0" u="none" strike="noStrike" kern="1200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 </a:t>
          </a:r>
          <a:r>
            <a:rPr kumimoji="0" lang="ru-RU" sz="1800" b="1" i="0" u="none" strike="noStrike" kern="1200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 - игра </a:t>
          </a:r>
          <a:endParaRPr kumimoji="0" lang="ru-RU" sz="1800" b="0" i="0" u="none" strike="noStrike" kern="1200" cap="none" normalizeH="0" baseline="0" dirty="0" smtClean="0">
            <a:ln>
              <a:noFill/>
            </a:ln>
            <a:solidFill>
              <a:schemeClr val="tx1"/>
            </a:solidFill>
            <a:effectLst/>
            <a:latin typeface="Arial" charset="0"/>
          </a:endParaRPr>
        </a:p>
      </dsp:txBody>
      <dsp:txXfrm>
        <a:off x="1285886" y="1462502"/>
        <a:ext cx="1354077" cy="1062938"/>
      </dsp:txXfrm>
    </dsp:sp>
    <dsp:sp modelId="{85AB1874-3FA8-4C3F-81C2-27586BACF4CB}">
      <dsp:nvSpPr>
        <dsp:cNvPr id="0" name=""/>
        <dsp:cNvSpPr/>
      </dsp:nvSpPr>
      <dsp:spPr>
        <a:xfrm rot="13986049">
          <a:off x="2747279" y="1972774"/>
          <a:ext cx="1353314" cy="22891"/>
        </a:xfrm>
        <a:custGeom>
          <a:avLst/>
          <a:gdLst/>
          <a:ahLst/>
          <a:cxnLst/>
          <a:rect l="0" t="0" r="0" b="0"/>
          <a:pathLst>
            <a:path>
              <a:moveTo>
                <a:pt x="0" y="11445"/>
              </a:moveTo>
              <a:lnTo>
                <a:pt x="1353314" y="11445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 rot="13986049">
        <a:off x="3390103" y="1950387"/>
        <a:ext cx="67665" cy="67665"/>
      </dsp:txXfrm>
    </dsp:sp>
    <dsp:sp modelId="{F811E1AA-A889-4AB6-918A-0F2C0E6BA1CC}">
      <dsp:nvSpPr>
        <dsp:cNvPr id="0" name=""/>
        <dsp:cNvSpPr/>
      </dsp:nvSpPr>
      <dsp:spPr>
        <a:xfrm>
          <a:off x="1785948" y="428639"/>
          <a:ext cx="1738170" cy="1062938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marL="0" marR="0" lvl="0" indent="0" algn="ctr" defTabSz="914400" rtl="0" eaLnBrk="1" fontAlgn="base" latinLnBrk="0" hangingPunct="1">
            <a:lnSpc>
              <a:spcPct val="100000"/>
            </a:lnSpc>
            <a:spcBef>
              <a:spcPct val="0"/>
            </a:spcBef>
            <a:spcAft>
              <a:spcPct val="0"/>
            </a:spcAft>
            <a:buClrTx/>
            <a:buSzTx/>
            <a:buFontTx/>
            <a:buNone/>
            <a:tabLst/>
          </a:pPr>
          <a:r>
            <a:rPr kumimoji="0" lang="ru-RU" sz="1800" b="1" i="0" u="none" strike="noStrike" kern="1200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урок-викторина</a:t>
          </a:r>
          <a:r>
            <a:rPr kumimoji="0" lang="ru-RU" sz="2000" b="1" i="0" u="none" strike="noStrike" kern="1200" cap="none" normalizeH="0" baseline="0" dirty="0" smtClean="0">
              <a:ln>
                <a:noFill/>
              </a:ln>
              <a:solidFill>
                <a:srgbClr val="CC0000"/>
              </a:solidFill>
              <a:effectLst>
                <a:outerShdw blurRad="38100" dist="38100" dir="2700000" algn="tl">
                  <a:srgbClr val="000000"/>
                </a:outerShdw>
              </a:effectLst>
              <a:latin typeface="Arial" charset="0"/>
            </a:rPr>
            <a:t> </a:t>
          </a:r>
        </a:p>
      </dsp:txBody>
      <dsp:txXfrm>
        <a:off x="1785948" y="428639"/>
        <a:ext cx="1738170" cy="106293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radial1">
  <dgm:title val=""/>
  <dgm:desc val=""/>
  <dgm:catLst>
    <dgm:cat type="relationship" pri="22000"/>
    <dgm:cat type="cycle" pri="1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90"/>
              <dgm:param type="spanAng" val="360"/>
              <dgm:param type="ctrShpMap" val="fNode"/>
            </dgm:alg>
          </dgm:if>
          <dgm:else name="Name4">
            <dgm:alg type="cycle">
              <dgm:param type="stAng" val="0"/>
              <dgm:param type="spanAng" val="360"/>
              <dgm:param type="ctrShpMap" val="fNode"/>
            </dgm:alg>
          </dgm:else>
        </dgm:choose>
      </dgm:if>
      <dgm:else name="Name5">
        <dgm:alg type="cycle">
          <dgm:param type="stAng" val="0"/>
          <dgm:param type="spanAng" val="-360"/>
          <dgm:param type="ctrShpMap" val="fNode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op="equ"/>
      <dgm:constr type="sp" refType="w" refFor="ch" refForName="node" fact="0.3"/>
      <dgm:constr type="sibSp" refType="w" refFor="ch" refForName="node" fact="0.3"/>
      <dgm:constr type="primFontSz" for="ch" forName="centerShape" val="65"/>
      <dgm:constr type="primFontSz" for="des" forName="node" op="equ" val="65"/>
      <dgm:constr type="primFontSz" for="des" forName="connTx" val="55"/>
      <dgm:constr type="primFontSz" for="des" forName="connTx" refType="primFontSz" refFor="ch" refForName="centerShape" op="lte" fact="0.8"/>
    </dgm:constrLst>
    <dgm:ruleLst/>
    <dgm:forEach name="Name6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h" refType="w"/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</dgm:constrLst>
        <dgm:ruleLst>
          <dgm:rule type="primFontSz" val="5" fact="NaN" max="NaN"/>
        </dgm:ruleLst>
      </dgm:layoutNode>
      <dgm:forEach name="Name7" axis="ch">
        <dgm:forEach name="Name8" axis="self" ptType="parTrans">
          <dgm:layoutNode name="Name9">
            <dgm:alg type="conn">
              <dgm:param type="dim" val="1D"/>
              <dgm:param type="begPts" val="auto"/>
              <dgm:param type="endPts" val="auto"/>
              <dgm:param type="begSty" val="noArr"/>
              <dgm:param type="endSty" val="no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connDist"/>
              <dgm:constr type="userA" for="ch" refType="connDist"/>
              <dgm:constr type="w" val="1"/>
              <dgm:constr type="h" val="5"/>
              <dgm:constr type="begPad"/>
              <dgm:constr type="endPad"/>
            </dgm:constrLst>
            <dgm:ruleLst/>
            <dgm:layoutNode name="connTx">
              <dgm:alg type="tx">
                <dgm:param type="autoTxRot" val="grav"/>
              </dgm:alg>
              <dgm:shape xmlns:r="http://schemas.openxmlformats.org/officeDocument/2006/relationships" type="rect" r:blip="" hideGeom="1">
                <dgm:adjLst/>
              </dgm:shape>
              <dgm:presOf axis="self"/>
              <dgm:constrLst>
                <dgm:constr type="userA"/>
                <dgm:constr type="w" refType="userA" fact="0.05"/>
                <dgm:constr type="h" refType="userA" fact="0.05"/>
                <dgm:constr type="lMarg" val="1"/>
                <dgm:constr type="rMarg" val="1"/>
                <dgm:constr type="tMarg"/>
                <dgm:constr type="bMarg"/>
              </dgm:constrLst>
              <dgm:ruleLst>
                <dgm:rule type="w" val="NaN" fact="0.8" max="NaN"/>
                <dgm:rule type="h" val="NaN" fact="1" max="NaN"/>
                <dgm:rule type="primFontSz" val="5" fact="NaN" max="NaN"/>
              </dgm:ruleLst>
            </dgm:layoutNode>
          </dgm:layoutNode>
        </dgm:forEach>
        <dgm:forEach name="Name10" axis="self" ptType="node">
          <dgm:layoutNode name="node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presOf axis="desOrSelf" ptType="node"/>
            <dgm:constrLst>
              <dgm:constr type="h" refType="w"/>
              <dgm:constr type="tMarg" refType="primFontSz" fact="0.05"/>
              <dgm:constr type="bMarg" refType="primFontSz" fact="0.05"/>
              <dgm:constr type="lMarg" refType="primFontSz" fact="0.05"/>
              <dgm:constr type="rMarg" refType="primFontSz" fact="0.0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A13559-F1D2-4B72-AC40-FECC3FDE2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AB0AF3-7037-4118-B894-D536AA6FF8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6B1-7ABC-451F-BF21-F814BCEF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8694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9B5-8A3B-4FD0-B6F9-C661D6F0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756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1DA-3F72-417D-9CCA-1CBCE392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40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924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40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924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DB7-BB66-47A6-8CFF-EE2D681B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CF03-DAE0-4B89-93A7-9ABC7B72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4DEB-23E4-4A89-90B5-89E3AD9A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BE82-3648-43C3-826D-C8363856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5AC0-F8E1-46C8-BC16-F2E9537D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B87C-B712-490E-ABE9-C9DB6490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FD1D-D1DF-416F-9276-969883B5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B501-D63E-43BA-AA43-E62D01F9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97F-502D-4DCF-99C3-B1736865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756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BDCF-0C98-4E22-8EAD-440255F8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25A5-80E0-4886-A55E-59B42FAF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18694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5F83-8B18-4A46-A8BD-73000A19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756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1261-D845-496A-89C8-20B9AE6B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340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924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340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924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F8EE-68AF-4E7B-99E5-869ACB22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1C628-E592-49DF-B90B-279BA275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39F40-2593-4460-916F-1134CCD2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93422-E688-4973-AC5F-B46DCF61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E91DA-B9D9-483A-BFA4-61397990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5ED8E-1F1A-4542-9436-F1B141BD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44F-2990-4F90-917B-A2FACD53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B781B-1A8B-424D-A4E6-802ED5FE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26B30-0642-4E1E-B7E9-DBCE45AD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2756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C413-74F2-4945-8EEC-A206CADF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0D8CF-9C54-4D5A-8333-685846CB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18694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6944-AF9B-4C12-9825-505A8936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52756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FD6F5-288E-4F7E-8056-64602BD2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340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924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82340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18924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08926-0111-4DD6-B7EE-5B9315BD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C3A62-DE5B-406B-BC6B-D29E2013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C455B-948C-4E84-897A-83D89601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74D14-4073-410F-B1C2-A55A7F91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143-3359-4E7D-8B97-595D96EB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ECC01-9C0C-42A6-BB0D-02A0C7D9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D29D-0F43-4F77-9392-75AF2A13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A9E27-E084-4FA4-8C6F-0A934C01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7EBCF-3F65-4BE9-8B4A-3CCB6F4B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2756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A75FE-A81E-4C72-9E37-BB42588C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A58ED-242A-44CF-95CF-BD65AFEA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18694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9294-684C-4BE1-8575-BFD6999D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52756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44F70-48C2-465B-8943-11AFC2A0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82340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18924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82340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318924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48884-AD5F-4041-AC8F-547DFCB8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228E1-E826-4BDF-B729-A258671E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4BA-5E5F-4011-8280-A9DED11F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1E783-8C20-4681-A139-088CE0F9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322C2-48F7-4278-9FB0-77E2E520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6585D-679A-46E5-BC32-FA496D0D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E94D9-939A-4854-94BB-7B2B77A3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090B4-BD43-4961-90C0-AACD1D0D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00B69-F9B2-420C-BF3E-373B4791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52756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12118-7EB5-4F6D-BF65-D1DF4E21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EAA7E-A9C8-4A6F-9D66-229FA097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18694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B43AE-0CCF-4ED9-8CF7-C6C3B367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252756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5FC4F-84C9-4572-9CBF-D9A591DA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C53-8333-4A5B-AE77-F88FBE1C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82340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18924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182340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318924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44A0A-A848-46C9-B4A4-4848EB7F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D2E-D81D-46E7-A459-D7975EBB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756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30D-37ED-4DB0-9B74-E3E36DBF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4A3-F439-4784-97C3-3545578F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4467A0-01B6-46A8-B719-25FD28E3B1FE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65E211-8275-4F33-9467-EDFE3D293588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A95DE4-B575-4C5E-9D4C-871DECE06B71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8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316A09-1F18-46BC-9C0F-448F04665197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2A7572-6649-4E57-8DD1-EBA93D6A3819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14.wmf"/><Relationship Id="rId3" Type="http://schemas.openxmlformats.org/officeDocument/2006/relationships/image" Target="../media/image2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0072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  <a:ea typeface="Verdana"/>
              </a:rPr>
              <a:t>ФГОС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Verdana"/>
              </a:rPr>
              <a:t> -  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28800" y="2643120"/>
            <a:ext cx="80006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7720" indent="0" algn="ctr">
              <a:lnSpc>
                <a:spcPct val="90000"/>
              </a:lnSpc>
              <a:spcBef>
                <a:spcPts val="819"/>
              </a:spcBef>
              <a:buNone/>
              <a:tabLst>
                <a:tab algn="l" pos="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  <a:ea typeface="Verdana"/>
              </a:rPr>
              <a:t>Образовательные стандарты базового и среднего образования, требования к качеству преподавания иностранного языка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2571840" y="428760"/>
            <a:ext cx="6571800" cy="1856880"/>
          </a:xfrm>
          <a:prstGeom prst="rect">
            <a:avLst/>
          </a:prstGeom>
          <a:ln w="9525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0" y="5505480"/>
            <a:ext cx="9143640" cy="1352160"/>
          </a:xfrm>
          <a:prstGeom prst="rect">
            <a:avLst/>
          </a:prstGeom>
          <a:ln w="9525">
            <a:noFill/>
          </a:ln>
        </p:spPr>
      </p:pic>
      <p:pic>
        <p:nvPicPr>
          <p:cNvPr id="219" name="Picture 2" descr="C:\Documents and Settings\Sveta\Мои документы\22.png"/>
          <p:cNvPicPr/>
          <p:nvPr/>
        </p:nvPicPr>
        <p:blipFill>
          <a:blip r:embed="rId3"/>
          <a:stretch/>
        </p:blipFill>
        <p:spPr>
          <a:xfrm>
            <a:off x="285840" y="214200"/>
            <a:ext cx="1928520" cy="2538000"/>
          </a:xfrm>
          <a:prstGeom prst="rect">
            <a:avLst/>
          </a:prstGeom>
          <a:ln w="9525">
            <a:noFill/>
          </a:ln>
        </p:spPr>
      </p:pic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Горизонтальный свиток 1"/>
          <p:cNvSpPr/>
          <p:nvPr/>
        </p:nvSpPr>
        <p:spPr>
          <a:xfrm>
            <a:off x="2786040" y="357120"/>
            <a:ext cx="4214520" cy="151092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40005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Речевая компет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2"/>
          <p:cNvSpPr/>
          <p:nvPr/>
        </p:nvSpPr>
        <p:spPr>
          <a:xfrm>
            <a:off x="1071720" y="2357280"/>
            <a:ext cx="1999800" cy="999720"/>
          </a:xfrm>
          <a:prstGeom prst="roundRect">
            <a:avLst>
              <a:gd name="adj" fmla="val 16667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Го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3"/>
          <p:cNvSpPr/>
          <p:nvPr/>
        </p:nvSpPr>
        <p:spPr>
          <a:xfrm>
            <a:off x="2071800" y="4000680"/>
            <a:ext cx="2428560" cy="928440"/>
          </a:xfrm>
          <a:prstGeom prst="roundRect">
            <a:avLst>
              <a:gd name="adj" fmla="val 16667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Ауд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4"/>
          <p:cNvSpPr/>
          <p:nvPr/>
        </p:nvSpPr>
        <p:spPr>
          <a:xfrm>
            <a:off x="6572160" y="2286000"/>
            <a:ext cx="1785600" cy="1213920"/>
          </a:xfrm>
          <a:prstGeom prst="roundRect">
            <a:avLst>
              <a:gd name="adj" fmla="val 16667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ись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5"/>
          <p:cNvSpPr/>
          <p:nvPr/>
        </p:nvSpPr>
        <p:spPr>
          <a:xfrm>
            <a:off x="5143680" y="4000680"/>
            <a:ext cx="2071440" cy="856800"/>
          </a:xfrm>
          <a:prstGeom prst="roundRect">
            <a:avLst>
              <a:gd name="adj" fmla="val 16667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трелка вниз 8"/>
          <p:cNvSpPr/>
          <p:nvPr/>
        </p:nvSpPr>
        <p:spPr>
          <a:xfrm>
            <a:off x="4786200" y="2000160"/>
            <a:ext cx="285480" cy="108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cd2b2"/>
          </a:solidFill>
          <a:ln>
            <a:solidFill>
              <a:srgbClr val="ae42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Стрелка вниз 8"/>
          <p:cNvSpPr/>
          <p:nvPr/>
        </p:nvSpPr>
        <p:spPr>
          <a:xfrm rot="2003400">
            <a:off x="3632040" y="1846080"/>
            <a:ext cx="285480" cy="108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cd2b2"/>
          </a:solidFill>
          <a:ln>
            <a:solidFill>
              <a:srgbClr val="ae42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Стрелка вниз 8"/>
          <p:cNvSpPr/>
          <p:nvPr/>
        </p:nvSpPr>
        <p:spPr>
          <a:xfrm rot="19742400">
            <a:off x="5798880" y="1863720"/>
            <a:ext cx="285480" cy="108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cd2b2"/>
          </a:solidFill>
          <a:ln>
            <a:solidFill>
              <a:srgbClr val="ae42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3640" cy="1352160"/>
          </a:xfrm>
          <a:prstGeom prst="rect">
            <a:avLst/>
          </a:prstGeom>
          <a:ln w="9525">
            <a:noFill/>
          </a:ln>
        </p:spPr>
      </p:pic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Group 29"/>
          <p:cNvGraphicFramePr/>
          <p:nvPr/>
        </p:nvGraphicFramePr>
        <p:xfrm>
          <a:off x="428760" y="214200"/>
          <a:ext cx="8572320" cy="5821560"/>
        </p:xfrm>
        <a:graphic>
          <a:graphicData uri="http://schemas.openxmlformats.org/drawingml/2006/table">
            <a:tbl>
              <a:tblPr/>
              <a:tblGrid>
                <a:gridCol w="1371600"/>
                <a:gridCol w="3154320"/>
                <a:gridCol w="4046400"/>
              </a:tblGrid>
              <a:tr h="255240"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речев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920" marR="25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ускник научит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ния (компетентности учащихс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920" marR="25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ускник получит возможность научи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920" marR="25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d2b2"/>
                    </a:solidFill>
                  </a:tcPr>
                </a:tc>
              </a:tr>
              <a:tr h="1106280">
                <a:tc>
                  <a:txBody>
                    <a:bodyPr lIns="25920" rIns="25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во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920" marR="25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нологическая реч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Делать сообщения по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Кратко передавать содержание полученной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Рассуждать о фактах /событиях, приводя аргументы, делая вывод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логическая реч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Осуществлять запрос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Выражать свое мнение по обсуждаемой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920" marR="25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ать сообщение на заданную тему на основе прочитанног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нтировать факты из прочитанного/прослушанного текста, аргументировать своё отношение к прочитанному/прослушанном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ко высказываться без предварительной подготовки на заданную тему в соответствии с предложенной ситуацией общ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ко излагать результаты выполненной рабо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920" marR="25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d2b2"/>
                    </a:solidFill>
                  </a:tcPr>
                </a:tc>
              </a:tr>
              <a:tr h="1190520">
                <a:tc>
                  <a:txBody>
                    <a:bodyPr lIns="25920" rIns="25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920" marR="25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понимать основное содержания текстов по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выборочно понимать необходимую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920" marR="25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делять основную мысль в воспринимаемом на слух текст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ять в тексте, воспринимаемом на слух, главные факты от второстепенных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ть контекстуальную или языковую догадку при восприятии на слух текстов, содержащих незнакомые сло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920" marR="25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d2b2"/>
                    </a:solidFill>
                  </a:tcPr>
                </a:tc>
              </a:tr>
              <a:tr h="1360440">
                <a:tc>
                  <a:txBody>
                    <a:bodyPr lIns="25920" rIns="25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920" marR="25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понимать основное содержания текстов по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выборочно понимать необходимую информации* понять текст полност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920" marR="25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тать и полностью понимать несложные аутентичные тексты, построенные в основном на изученном языковом материал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гадываться о значении незнакомых слов по сходству с русским/родным языком, по словообразовательным элементам, по контекст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зоваться сносками и лингвострановедческим справочник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920" marR="25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d2b2"/>
                    </a:solidFill>
                  </a:tcPr>
                </a:tc>
              </a:tr>
              <a:tr h="1020600">
                <a:tc>
                  <a:txBody>
                    <a:bodyPr lIns="25920" rIns="25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920" marR="25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делать выписки из тек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писать корот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д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заполнять формуля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писать личное пись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920" marR="25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ать краткие выписки из текста с целью их использования в собственных устных высказываниях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ять план/тезисы устного или письменного сообщ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ко излагать в письменном виде результаты своей проектной деятельност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ать небольшие письменные высказывания с опорой на образец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920" marR="25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d2b2"/>
                    </a:solidFill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Группа 11"/>
          <p:cNvGrpSpPr/>
          <p:nvPr/>
        </p:nvGrpSpPr>
        <p:grpSpPr>
          <a:xfrm>
            <a:off x="214200" y="357120"/>
            <a:ext cx="8643600" cy="4428720"/>
            <a:chOff x="214200" y="357120"/>
            <a:chExt cx="8643600" cy="4428720"/>
          </a:xfrm>
        </p:grpSpPr>
        <p:sp>
          <p:nvSpPr>
            <p:cNvPr id="265" name="Text Box 3"/>
            <p:cNvSpPr/>
            <p:nvPr/>
          </p:nvSpPr>
          <p:spPr>
            <a:xfrm>
              <a:off x="2220840" y="357120"/>
              <a:ext cx="4633560" cy="95688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561"/>
                </a:spcBef>
                <a:buClr>
                  <a:srgbClr val="ff0000"/>
                </a:buClr>
                <a:buFont typeface="Arial"/>
                <a:buChar char="•"/>
              </a:pPr>
              <a:r>
                <a:rPr b="1" lang="ru-RU" sz="2800" spc="-1" strike="noStrike">
                  <a:solidFill>
                    <a:srgbClr val="ff0000"/>
                  </a:solidFill>
                  <a:latin typeface="Monotype Corsiva"/>
                </a:rPr>
                <a:t>Организация самостоятельно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561"/>
                </a:spcBef>
                <a:buClr>
                  <a:srgbClr val="ff0000"/>
                </a:buClr>
                <a:buFont typeface="Arial"/>
                <a:buChar char="•"/>
              </a:pPr>
              <a:r>
                <a:rPr b="1" lang="ru-RU" sz="2800" spc="-1" strike="noStrike">
                  <a:solidFill>
                    <a:srgbClr val="ff0000"/>
                  </a:solidFill>
                  <a:latin typeface="Monotype Corsiva"/>
                </a:rPr>
                <a:t>деятельности обучающих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6715080" y="2857320"/>
              <a:ext cx="2142720" cy="19285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spcAft>
                  <a:spcPts val="1001"/>
                </a:spcAft>
                <a:buClr>
                  <a:srgbClr val="002060"/>
                </a:buClr>
                <a:buFont typeface="Arial"/>
                <a:buChar char="•"/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</a:rPr>
                <a:t>4.Развитие коммуникативной компетенции через метод проект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5"/>
            <p:cNvSpPr/>
            <p:nvPr/>
          </p:nvSpPr>
          <p:spPr>
            <a:xfrm>
              <a:off x="214200" y="2857320"/>
              <a:ext cx="1785600" cy="185688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spcAft>
                  <a:spcPts val="1001"/>
                </a:spcAft>
                <a:buClr>
                  <a:srgbClr val="002060"/>
                </a:buClr>
                <a:buFont typeface="Arial"/>
                <a:buChar char="•"/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</a:rPr>
                <a:t>1. Технология критического мышления (ТРКМ) на урока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6"/>
            <p:cNvSpPr/>
            <p:nvPr/>
          </p:nvSpPr>
          <p:spPr>
            <a:xfrm>
              <a:off x="2143080" y="2857320"/>
              <a:ext cx="2142720" cy="19285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spcAft>
                  <a:spcPts val="1001"/>
                </a:spcAft>
                <a:buClr>
                  <a:srgbClr val="002060"/>
                </a:buClr>
                <a:buFont typeface="Arial"/>
                <a:buChar char="•"/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</a:rPr>
                <a:t>2.Проблемное обучение как способ развития коммуникативной компетен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"/>
            <p:cNvSpPr/>
            <p:nvPr/>
          </p:nvSpPr>
          <p:spPr>
            <a:xfrm>
              <a:off x="4429080" y="2857320"/>
              <a:ext cx="2152080" cy="19285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spcAft>
                  <a:spcPts val="1001"/>
                </a:spcAft>
                <a:buClr>
                  <a:srgbClr val="002060"/>
                </a:buClr>
                <a:buFont typeface="Arial"/>
                <a:buChar char="•"/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</a:rPr>
                <a:t>3.Дифференцированное обучение как способ развития коммуникативной компетен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0" name="AutoShape 8"/>
            <p:cNvCxnSpPr/>
            <p:nvPr/>
          </p:nvCxnSpPr>
          <p:spPr>
            <a:xfrm flipH="1">
              <a:off x="1654920" y="1313280"/>
              <a:ext cx="1112400" cy="149868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271" name="AutoShape 9"/>
            <p:cNvCxnSpPr/>
            <p:nvPr/>
          </p:nvCxnSpPr>
          <p:spPr>
            <a:xfrm flipH="1">
              <a:off x="3115440" y="1313280"/>
              <a:ext cx="584280" cy="137088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272" name="AutoShape 10"/>
            <p:cNvCxnSpPr/>
            <p:nvPr/>
          </p:nvCxnSpPr>
          <p:spPr>
            <a:xfrm>
              <a:off x="4811760" y="1314000"/>
              <a:ext cx="357840" cy="137124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273" name="AutoShape 11"/>
            <p:cNvCxnSpPr/>
            <p:nvPr/>
          </p:nvCxnSpPr>
          <p:spPr>
            <a:xfrm>
              <a:off x="5716440" y="1314000"/>
              <a:ext cx="1354320" cy="137124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</p:grp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3640" cy="1352160"/>
          </a:xfrm>
          <a:prstGeom prst="rect">
            <a:avLst/>
          </a:prstGeom>
          <a:ln w="9525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7072200" y="714240"/>
            <a:ext cx="1714320" cy="1714320"/>
          </a:xfrm>
          <a:prstGeom prst="rect">
            <a:avLst/>
          </a:prstGeom>
          <a:ln w="9525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229072410"/>
              </p:ext>
            </p:extLst>
          </p:nvPr>
        </p:nvGraphicFramePr>
        <p:xfrm>
          <a:off x="500040" y="571320"/>
          <a:ext cx="8357760" cy="5928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Diagram 23"/>
          <p:cNvGrpSpPr/>
          <p:nvPr/>
        </p:nvGrpSpPr>
        <p:grpSpPr>
          <a:xfrm>
            <a:off x="1143000" y="428760"/>
            <a:ext cx="7611840" cy="6214680"/>
            <a:chOff x="1143000" y="428760"/>
            <a:chExt cx="7611840" cy="6214680"/>
          </a:xfrm>
        </p:grpSpPr>
        <p:sp>
          <p:nvSpPr>
            <p:cNvPr id="277" name="AutoShape 24"/>
            <p:cNvSpPr/>
            <p:nvPr/>
          </p:nvSpPr>
          <p:spPr>
            <a:xfrm>
              <a:off x="1143000" y="428760"/>
              <a:ext cx="7611840" cy="6214680"/>
            </a:xfrm>
            <a:prstGeom prst="rect">
              <a:avLst/>
            </a:prstGeom>
            <a:noFill/>
            <a:ln w="9525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37913"/>
            <p:cNvSpPr/>
            <p:nvPr/>
          </p:nvSpPr>
          <p:spPr>
            <a:xfrm flipH="1" flipV="1">
              <a:off x="3673080" y="2292120"/>
              <a:ext cx="753840" cy="7329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37914"/>
            <p:cNvSpPr/>
            <p:nvPr/>
          </p:nvSpPr>
          <p:spPr>
            <a:xfrm>
              <a:off x="2338920" y="1115640"/>
              <a:ext cx="1632240" cy="1332720"/>
            </a:xfrm>
            <a:prstGeom prst="ellipse">
              <a:avLst/>
            </a:prstGeom>
            <a:solidFill>
              <a:srgbClr val="ffcc99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Твор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мастер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37915"/>
            <p:cNvSpPr/>
            <p:nvPr/>
          </p:nvSpPr>
          <p:spPr>
            <a:xfrm flipH="1" flipV="1">
              <a:off x="2993760" y="3253320"/>
              <a:ext cx="1155960" cy="16524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37916"/>
            <p:cNvSpPr/>
            <p:nvPr/>
          </p:nvSpPr>
          <p:spPr>
            <a:xfrm>
              <a:off x="1379880" y="2468520"/>
              <a:ext cx="1906560" cy="1332720"/>
            </a:xfrm>
            <a:prstGeom prst="ellipse">
              <a:avLst/>
            </a:prstGeom>
            <a:solidFill>
              <a:srgbClr val="ffcc99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ae4278"/>
                  </a:solidFill>
                  <a:latin typeface="Arial"/>
                </a:rPr>
                <a:t>Клуб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ae4278"/>
                  </a:solidFill>
                  <a:latin typeface="Arial"/>
                </a:rPr>
                <a:t>интернациона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ae4278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ae4278"/>
                  </a:solidFill>
                  <a:latin typeface="Arial"/>
                </a:rPr>
                <a:t>дружб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37917"/>
            <p:cNvSpPr/>
            <p:nvPr/>
          </p:nvSpPr>
          <p:spPr>
            <a:xfrm flipH="1">
              <a:off x="3231000" y="3866400"/>
              <a:ext cx="1014840" cy="47844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37918"/>
            <p:cNvSpPr/>
            <p:nvPr/>
          </p:nvSpPr>
          <p:spPr>
            <a:xfrm>
              <a:off x="1710360" y="4007880"/>
              <a:ext cx="1789560" cy="1330560"/>
            </a:xfrm>
            <a:prstGeom prst="ellipse">
              <a:avLst/>
            </a:prstGeom>
            <a:solidFill>
              <a:srgbClr val="ffcc99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Драмат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Театра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постанов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37919"/>
            <p:cNvSpPr/>
            <p:nvPr/>
          </p:nvSpPr>
          <p:spPr>
            <a:xfrm flipH="1">
              <a:off x="4272480" y="4158000"/>
              <a:ext cx="399240" cy="900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37920"/>
            <p:cNvSpPr/>
            <p:nvPr/>
          </p:nvSpPr>
          <p:spPr>
            <a:xfrm>
              <a:off x="3175200" y="5014800"/>
              <a:ext cx="1632240" cy="1332720"/>
            </a:xfrm>
            <a:prstGeom prst="ellipse">
              <a:avLst/>
            </a:prstGeom>
            <a:solidFill>
              <a:srgbClr val="ffcc99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Предметн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неделя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дека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37921"/>
            <p:cNvSpPr/>
            <p:nvPr/>
          </p:nvSpPr>
          <p:spPr>
            <a:xfrm>
              <a:off x="5228640" y="4158000"/>
              <a:ext cx="402120" cy="89820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37922"/>
            <p:cNvSpPr/>
            <p:nvPr/>
          </p:nvSpPr>
          <p:spPr>
            <a:xfrm>
              <a:off x="5090040" y="5016960"/>
              <a:ext cx="1632240" cy="1332720"/>
            </a:xfrm>
            <a:prstGeom prst="ellipse">
              <a:avLst/>
            </a:prstGeom>
            <a:solidFill>
              <a:srgbClr val="ffcc99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Конкур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КВ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37923"/>
            <p:cNvSpPr/>
            <p:nvPr/>
          </p:nvSpPr>
          <p:spPr>
            <a:xfrm>
              <a:off x="5654520" y="3864240"/>
              <a:ext cx="1014840" cy="47844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37924"/>
            <p:cNvSpPr/>
            <p:nvPr/>
          </p:nvSpPr>
          <p:spPr>
            <a:xfrm>
              <a:off x="6557760" y="4012560"/>
              <a:ext cx="1632240" cy="1332720"/>
            </a:xfrm>
            <a:prstGeom prst="ellipse">
              <a:avLst/>
            </a:prstGeom>
            <a:solidFill>
              <a:srgbClr val="ffcc99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Круж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Сек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37925"/>
            <p:cNvSpPr/>
            <p:nvPr/>
          </p:nvSpPr>
          <p:spPr>
            <a:xfrm flipV="1">
              <a:off x="5750640" y="3251160"/>
              <a:ext cx="1153080" cy="16524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37926"/>
            <p:cNvSpPr/>
            <p:nvPr/>
          </p:nvSpPr>
          <p:spPr>
            <a:xfrm>
              <a:off x="6890760" y="2472840"/>
              <a:ext cx="1632240" cy="1330560"/>
            </a:xfrm>
            <a:prstGeom prst="ellipse">
              <a:avLst/>
            </a:prstGeom>
            <a:solidFill>
              <a:srgbClr val="ffcc99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Праздн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Фестива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37927"/>
            <p:cNvSpPr/>
            <p:nvPr/>
          </p:nvSpPr>
          <p:spPr>
            <a:xfrm flipV="1">
              <a:off x="5470920" y="2292120"/>
              <a:ext cx="753840" cy="7329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37928"/>
            <p:cNvSpPr/>
            <p:nvPr/>
          </p:nvSpPr>
          <p:spPr>
            <a:xfrm>
              <a:off x="5934600" y="1117800"/>
              <a:ext cx="1632240" cy="1332720"/>
            </a:xfrm>
            <a:prstGeom prst="ellipse">
              <a:avLst/>
            </a:prstGeom>
            <a:solidFill>
              <a:srgbClr val="ffcc99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Клуб знатоко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англ. язы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37929"/>
            <p:cNvSpPr/>
            <p:nvPr/>
          </p:nvSpPr>
          <p:spPr>
            <a:xfrm flipV="1">
              <a:off x="4948920" y="1913760"/>
              <a:ext cx="360" cy="95688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37930"/>
            <p:cNvSpPr/>
            <p:nvPr/>
          </p:nvSpPr>
          <p:spPr>
            <a:xfrm>
              <a:off x="4133880" y="583200"/>
              <a:ext cx="1632240" cy="1332720"/>
            </a:xfrm>
            <a:prstGeom prst="ellipse">
              <a:avLst/>
            </a:prstGeom>
            <a:solidFill>
              <a:srgbClr val="ffcc99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Литературны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веч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37931"/>
            <p:cNvSpPr/>
            <p:nvPr/>
          </p:nvSpPr>
          <p:spPr>
            <a:xfrm>
              <a:off x="4133880" y="2870640"/>
              <a:ext cx="1794960" cy="1332720"/>
            </a:xfrm>
            <a:prstGeom prst="ellipse">
              <a:avLst/>
            </a:prstGeom>
            <a:solidFill>
              <a:srgbClr val="92d05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1700" spc="-1" strike="noStrike">
                <a:solidFill>
                  <a:srgbClr val="cc0099"/>
                </a:solidFill>
                <a:latin typeface="Arial"/>
              </a:endParaRPr>
            </a:p>
          </p:txBody>
        </p:sp>
      </p:grpSp>
      <p:sp>
        <p:nvSpPr>
          <p:cNvPr id="297" name="Прямоугольник 26"/>
          <p:cNvSpPr/>
          <p:nvPr/>
        </p:nvSpPr>
        <p:spPr>
          <a:xfrm>
            <a:off x="4122360" y="3143160"/>
            <a:ext cx="182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неучеб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Содержимое 6"/>
          <p:cNvGraphicFramePr/>
          <p:nvPr/>
        </p:nvGraphicFramePr>
        <p:xfrm>
          <a:off x="928800" y="714240"/>
          <a:ext cx="8015040" cy="5013360"/>
        </p:xfrm>
        <a:graphic>
          <a:graphicData uri="http://schemas.openxmlformats.org/drawingml/2006/table">
            <a:tbl>
              <a:tblPr/>
              <a:tblGrid>
                <a:gridCol w="1942920"/>
                <a:gridCol w="2273040"/>
                <a:gridCol w="3798720"/>
              </a:tblGrid>
              <a:tr h="64008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Учеб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неучеб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рочные 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неурочные 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632523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Диску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632523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Ролевая и учебная иг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632523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Решение проблемных задач и обсуждение проблемных ситу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632523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Мини-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632523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Мозговой штурм, «Дерево предложен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32523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Скетч(короткая пьес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32523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Инсерт, карта памя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bbb59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chemeClr val="accent3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accent3"/>
                          </a:solidFill>
                          <a:latin typeface="Calibri"/>
                        </a:rPr>
                        <a:t>Виктор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9bbb59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chemeClr val="accent3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accent3"/>
                          </a:solidFill>
                          <a:latin typeface="Calibri"/>
                        </a:rPr>
                        <a:t>Олимпиа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9bbb59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chemeClr val="accent3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accent3"/>
                          </a:solidFill>
                          <a:latin typeface="Calibri"/>
                        </a:rPr>
                        <a:t>Конкурсы, КВ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9bbb59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chemeClr val="accent3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accent3"/>
                          </a:solidFill>
                          <a:latin typeface="Calibri"/>
                        </a:rPr>
                        <a:t>Предметная неделя, дек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9bbb59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chemeClr val="accent3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accent3"/>
                          </a:solidFill>
                          <a:latin typeface="Calibri"/>
                        </a:rPr>
                        <a:t>Научно-исследовательск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9bbb59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chemeClr val="accent3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accent3"/>
                          </a:solidFill>
                          <a:latin typeface="Calibri"/>
                        </a:rPr>
                        <a:t>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9bbb59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chemeClr val="accent3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accent3"/>
                          </a:solidFill>
                          <a:latin typeface="Calibri"/>
                        </a:rPr>
                        <a:t>Круглый ст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9bbb59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chemeClr val="accent3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accent3"/>
                          </a:solidFill>
                          <a:latin typeface="Calibri"/>
                        </a:rPr>
                        <a:t>Интерв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d2b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 algn="ctr">
                        <a:lnSpc>
                          <a:spcPct val="100000"/>
                        </a:lnSpc>
                        <a:buClr>
                          <a:srgbClr val="4a452a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Драмат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a452a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Театральные постано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a452a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Клуб интернациональной друж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a452a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Праздники, Фести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a452a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Клуб знатоков англ. я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a452a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Кружок, се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a452a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Консультации с обучающимися высоких и низких учебных возмож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a452a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Творческая мастер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a452a"/>
                        </a:buClr>
                        <a:buFont typeface="Arial"/>
                        <a:buChar char="•"/>
                      </a:pP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Литературный веч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99" name="Заголовок 1"/>
          <p:cNvSpPr/>
          <p:nvPr/>
        </p:nvSpPr>
        <p:spPr>
          <a:xfrm>
            <a:off x="857160" y="-357120"/>
            <a:ext cx="77720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методы, формы и приёмы организации учеб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и внеучебной деятельности по английскому язы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Рисунок 5" descr="Bears_1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4880" y="5000760"/>
            <a:ext cx="1463400" cy="1622160"/>
          </a:xfrm>
          <a:prstGeom prst="rect">
            <a:avLst/>
          </a:prstGeom>
          <a:ln w="9525">
            <a:noFill/>
          </a:ln>
        </p:spPr>
      </p:pic>
      <p:pic>
        <p:nvPicPr>
          <p:cNvPr id="301" name="Рисунок 3" descr="015.gif"/>
          <p:cNvPicPr/>
          <p:nvPr/>
        </p:nvPicPr>
        <p:blipFill>
          <a:blip r:embed="rId3"/>
          <a:stretch/>
        </p:blipFill>
        <p:spPr>
          <a:xfrm>
            <a:off x="0" y="142920"/>
            <a:ext cx="1142640" cy="1999800"/>
          </a:xfrm>
          <a:prstGeom prst="rect">
            <a:avLst/>
          </a:prstGeom>
          <a:ln w="9525">
            <a:noFill/>
          </a:ln>
        </p:spPr>
      </p:pic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3693960" y="469800"/>
            <a:ext cx="185400" cy="36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4"/>
          <p:cNvSpPr/>
          <p:nvPr/>
        </p:nvSpPr>
        <p:spPr>
          <a:xfrm>
            <a:off x="1500120" y="1643040"/>
            <a:ext cx="6928920" cy="338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езаконченное предложение (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Я понимаю, что такое…, Я могу объяснить, зачем, почему, как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ези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ла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дбор афоризма или выбор из списка предлож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ценка «приращения» знаний и достижения целей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(Я не знал… - Теперь я знаю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анализ субъективного опыта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(Я могу объяснить, применить, организовать…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тихотворение (синквей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аймонд, хайку), которое помогает выяснить отношение к изучаемой проблеме, соединить старое знание и осмысленное н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3640" cy="1352160"/>
          </a:xfrm>
          <a:prstGeom prst="rect">
            <a:avLst/>
          </a:prstGeom>
          <a:ln w="9525">
            <a:noFill/>
          </a:ln>
        </p:spPr>
      </p:pic>
      <p:sp>
        <p:nvSpPr>
          <p:cNvPr id="305" name="AutoShape 5"/>
          <p:cNvSpPr/>
          <p:nvPr/>
        </p:nvSpPr>
        <p:spPr>
          <a:xfrm>
            <a:off x="1285920" y="0"/>
            <a:ext cx="7127640" cy="1553760"/>
          </a:xfrm>
          <a:prstGeom prst="ellipseRibbon">
            <a:avLst>
              <a:gd name="adj1" fmla="val 25000"/>
              <a:gd name="adj2" fmla="val 50000"/>
              <a:gd name="adj3" fmla="val 12500"/>
            </a:avLst>
          </a:prstGeom>
          <a:solidFill>
            <a:schemeClr val="accent1">
              <a:lumMod val="40000"/>
              <a:lumOff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Adobe Gothic Std B"/>
                <a:ea typeface="Adobe Gothic Std B"/>
              </a:rPr>
              <a:t>Эффективные прием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Adobe Gothic Std B"/>
                <a:ea typeface="Adobe Gothic Std B"/>
              </a:rPr>
              <a:t>формы рефлек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42920"/>
            <a:ext cx="8152920" cy="29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Языковой портфель учени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6"/>
          <p:cNvSpPr/>
          <p:nvPr/>
        </p:nvSpPr>
        <p:spPr>
          <a:xfrm>
            <a:off x="1285920" y="1214280"/>
            <a:ext cx="6000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642960" y="1714680"/>
            <a:ext cx="7571880" cy="338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Это дневник или пап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расочно и ярко оформл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держит красочно выполненные работы и прое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держит перечень оценочных листов, согласно которым ребята должны оценить свой уровень умений( для 5-8 классов на русском языке, для 9-11 классов - на иностранном язы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3640" cy="1352160"/>
          </a:xfrm>
          <a:prstGeom prst="rect">
            <a:avLst/>
          </a:prstGeom>
          <a:ln w="9525">
            <a:noFill/>
          </a:ln>
        </p:spPr>
      </p:pic>
      <p:pic>
        <p:nvPicPr>
          <p:cNvPr id="311" name="Picture 6" descr="C:\Users\Public\Pictures\Sample Pictures\0015-017-Portfel-chto.png"/>
          <p:cNvPicPr/>
          <p:nvPr/>
        </p:nvPicPr>
        <p:blipFill>
          <a:blip r:embed="rId2"/>
          <a:stretch/>
        </p:blipFill>
        <p:spPr>
          <a:xfrm>
            <a:off x="6643800" y="214200"/>
            <a:ext cx="2253960" cy="2071440"/>
          </a:xfrm>
          <a:prstGeom prst="rect">
            <a:avLst/>
          </a:prstGeom>
          <a:ln w="9525">
            <a:noFill/>
          </a:ln>
        </p:spPr>
      </p:pic>
    </p:spTree>
  </p:cSld>
  <p:transition spd="slow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3640" cy="1352160"/>
          </a:xfrm>
          <a:prstGeom prst="rect">
            <a:avLst/>
          </a:prstGeom>
          <a:ln w="9525">
            <a:noFill/>
          </a:ln>
        </p:spPr>
      </p:pic>
      <p:sp>
        <p:nvSpPr>
          <p:cNvPr id="313" name="Rectangle 5"/>
          <p:cNvSpPr/>
          <p:nvPr/>
        </p:nvSpPr>
        <p:spPr>
          <a:xfrm>
            <a:off x="1474200" y="765000"/>
            <a:ext cx="6106320" cy="475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. I get better marks at school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. I can pass an examination in English.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I can travel to other countries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. I can speak to foreign people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5. I can get a better job when I leave school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6. I can learn about Britain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7. I can learn about the USA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8. I can understand pop songs in English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9. I can read English books in original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0. I can understand technical instructions in English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1. I can work on computer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2. I can play computer games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3. because my parents want me to learn English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4. because I enjoy learning English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5. because I want to be an English teacher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6. because English is an important world language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7. because I want to understand English fil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539640" y="333360"/>
            <a:ext cx="86040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Why do I learn English?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 Почему я изучаю английский яз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071800" y="12859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33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y language passpor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ой паспор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143080" y="1785960"/>
            <a:ext cx="45003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name__________________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name ___________________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e of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rth________________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of birth________________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chool  _________________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metown_______________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country_________________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began to learn English________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3640" cy="1352160"/>
          </a:xfrm>
          <a:prstGeom prst="rect">
            <a:avLst/>
          </a:prstGeom>
          <a:ln w="9525">
            <a:noFill/>
          </a:ln>
        </p:spPr>
      </p:pic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3" descr="08.jpg"/>
          <p:cNvPicPr/>
          <p:nvPr/>
        </p:nvPicPr>
        <p:blipFill>
          <a:blip r:embed="rId1"/>
          <a:stretch/>
        </p:blipFill>
        <p:spPr>
          <a:xfrm>
            <a:off x="3357720" y="642960"/>
            <a:ext cx="2023560" cy="4672080"/>
          </a:xfrm>
          <a:prstGeom prst="rect">
            <a:avLst/>
          </a:prstGeom>
          <a:ln w="0">
            <a:noFill/>
          </a:ln>
          <a:effectLst>
            <a:glow rad="228600">
              <a:srgbClr val="1dc7f4">
                <a:alpha val="40000"/>
              </a:srgbClr>
            </a:glow>
          </a:effectLst>
        </p:spPr>
      </p:pic>
      <p:sp>
        <p:nvSpPr>
          <p:cNvPr id="221" name="Прямоугольник 4"/>
          <p:cNvSpPr/>
          <p:nvPr/>
        </p:nvSpPr>
        <p:spPr>
          <a:xfrm>
            <a:off x="5929200" y="857160"/>
            <a:ext cx="2999880" cy="52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нания только тогда  знания, когда они приобретаются усилиями своей мысли, а не памя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Л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ff"/>
                </a:solidFill>
                <a:latin typeface="Verdana"/>
              </a:rPr>
              <a:t>        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285840" y="857160"/>
            <a:ext cx="2642760" cy="374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и пути ведут к знанию: путь размышления –  это путь самый благородный; путь подражания – это путь самый легкий; путь опыта – это путь самый горь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фу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500040" y="5500800"/>
            <a:ext cx="8357760" cy="1186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Teachers open the door but you must enter by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hinese prove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714760" y="12859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гда я слушаю,…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21" descr="Копия 47-3"/>
          <p:cNvPicPr/>
          <p:nvPr/>
        </p:nvPicPr>
        <p:blipFill>
          <a:blip r:embed="rId1"/>
          <a:stretch/>
        </p:blipFill>
        <p:spPr>
          <a:xfrm>
            <a:off x="2643120" y="1857240"/>
            <a:ext cx="3357360" cy="4512240"/>
          </a:xfrm>
          <a:prstGeom prst="rect">
            <a:avLst/>
          </a:prstGeom>
          <a:ln w="9525">
            <a:noFill/>
          </a:ln>
        </p:spPr>
      </p:pic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Group 101"/>
          <p:cNvGraphicFramePr/>
          <p:nvPr/>
        </p:nvGraphicFramePr>
        <p:xfrm>
          <a:off x="500040" y="1785960"/>
          <a:ext cx="8229240" cy="568188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4480"/>
                <a:gridCol w="1645920"/>
                <a:gridCol w="1645920"/>
              </a:tblGrid>
              <a:tr h="122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поздороваться и попрощать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называть некоторые имена людей, предметы и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представиться, назвать своё имя, узнать имя своего собесе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называть цвета, животных, продукты п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Corbel"/>
                        </a:rPr>
                        <a:t>Я умею отвечать на вопросы собеседника о том, где я живу и что мне нрав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157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поблагодарить своего собесе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задавать прост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попросить своего собеседника дать мне тот или иной предмет, понять, что просят у 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односложно отвечать на прост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считать до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133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рассказывать о том, что мне нравиться и не нрави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рассказать стихотвор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chemeClr val="accent4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рассказать о том, что я дела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общаться в магазине, делать покуп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chemeClr val="accent3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321" name="Текст 2"/>
          <p:cNvSpPr/>
          <p:nvPr/>
        </p:nvSpPr>
        <p:spPr>
          <a:xfrm>
            <a:off x="2286000" y="285840"/>
            <a:ext cx="4714560" cy="639360"/>
          </a:xfrm>
          <a:prstGeom prst="rect">
            <a:avLst/>
          </a:prstGeom>
          <a:solidFill>
            <a:schemeClr val="bg1"/>
          </a:solidFill>
          <a:ln w="1079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63360" algn="ctr">
              <a:lnSpc>
                <a:spcPct val="100000"/>
              </a:lnSpc>
              <a:spcBef>
                <a:spcPts val="99"/>
              </a:spcBef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Когда я разговариваю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1"/>
          <p:cNvSpPr/>
          <p:nvPr/>
        </p:nvSpPr>
        <p:spPr>
          <a:xfrm>
            <a:off x="4286160" y="1071360"/>
            <a:ext cx="4246560" cy="647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40"/>
          <p:cNvSpPr/>
          <p:nvPr/>
        </p:nvSpPr>
        <p:spPr>
          <a:xfrm flipH="1">
            <a:off x="571320" y="1071360"/>
            <a:ext cx="3714840" cy="647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47"/>
          <p:cNvSpPr/>
          <p:nvPr/>
        </p:nvSpPr>
        <p:spPr>
          <a:xfrm flipV="1">
            <a:off x="6858000" y="1071360"/>
            <a:ext cx="360" cy="358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1"/>
          <p:cNvSpPr/>
          <p:nvPr/>
        </p:nvSpPr>
        <p:spPr>
          <a:xfrm>
            <a:off x="6858000" y="1071360"/>
            <a:ext cx="3585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48"/>
          <p:cNvSpPr/>
          <p:nvPr/>
        </p:nvSpPr>
        <p:spPr>
          <a:xfrm flipV="1">
            <a:off x="7215120" y="1071360"/>
            <a:ext cx="360" cy="4320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52"/>
          <p:cNvSpPr/>
          <p:nvPr/>
        </p:nvSpPr>
        <p:spPr>
          <a:xfrm>
            <a:off x="7164360" y="333360"/>
            <a:ext cx="1588680" cy="669600"/>
          </a:xfrm>
          <a:custGeom>
            <a:avLst/>
            <a:gdLst>
              <a:gd name="textAreaLeft" fmla="*/ 0 w 1588680"/>
              <a:gd name="textAreaRight" fmla="*/ 1589040 w 1588680"/>
              <a:gd name="textAreaTop" fmla="*/ 0 h 669600"/>
              <a:gd name="textAreaBottom" fmla="*/ 669960 h 669600"/>
            </a:gdLst>
            <a:ahLst/>
            <a:rect l="textAreaLeft" t="textAreaTop" r="textAreaRight" b="textAreaBottom"/>
            <a:pathLst>
              <a:path w="1001" h="422">
                <a:moveTo>
                  <a:pt x="0" y="422"/>
                </a:moveTo>
                <a:cubicBezTo>
                  <a:pt x="16" y="398"/>
                  <a:pt x="23" y="368"/>
                  <a:pt x="45" y="349"/>
                </a:cubicBezTo>
                <a:cubicBezTo>
                  <a:pt x="66" y="331"/>
                  <a:pt x="100" y="336"/>
                  <a:pt x="128" y="331"/>
                </a:cubicBezTo>
                <a:cubicBezTo>
                  <a:pt x="186" y="303"/>
                  <a:pt x="229" y="292"/>
                  <a:pt x="292" y="276"/>
                </a:cubicBezTo>
                <a:cubicBezTo>
                  <a:pt x="313" y="285"/>
                  <a:pt x="345" y="283"/>
                  <a:pt x="356" y="304"/>
                </a:cubicBezTo>
                <a:cubicBezTo>
                  <a:pt x="367" y="325"/>
                  <a:pt x="287" y="339"/>
                  <a:pt x="283" y="340"/>
                </a:cubicBezTo>
                <a:cubicBezTo>
                  <a:pt x="259" y="337"/>
                  <a:pt x="233" y="339"/>
                  <a:pt x="210" y="331"/>
                </a:cubicBezTo>
                <a:cubicBezTo>
                  <a:pt x="170" y="317"/>
                  <a:pt x="181" y="291"/>
                  <a:pt x="201" y="267"/>
                </a:cubicBezTo>
                <a:cubicBezTo>
                  <a:pt x="222" y="241"/>
                  <a:pt x="272" y="236"/>
                  <a:pt x="301" y="230"/>
                </a:cubicBezTo>
                <a:cubicBezTo>
                  <a:pt x="313" y="233"/>
                  <a:pt x="335" y="228"/>
                  <a:pt x="338" y="240"/>
                </a:cubicBezTo>
                <a:cubicBezTo>
                  <a:pt x="343" y="257"/>
                  <a:pt x="278" y="283"/>
                  <a:pt x="274" y="285"/>
                </a:cubicBezTo>
                <a:cubicBezTo>
                  <a:pt x="252" y="252"/>
                  <a:pt x="238" y="222"/>
                  <a:pt x="210" y="194"/>
                </a:cubicBezTo>
                <a:cubicBezTo>
                  <a:pt x="204" y="182"/>
                  <a:pt x="197" y="170"/>
                  <a:pt x="192" y="157"/>
                </a:cubicBezTo>
                <a:cubicBezTo>
                  <a:pt x="185" y="139"/>
                  <a:pt x="173" y="102"/>
                  <a:pt x="173" y="102"/>
                </a:cubicBezTo>
                <a:cubicBezTo>
                  <a:pt x="203" y="46"/>
                  <a:pt x="224" y="51"/>
                  <a:pt x="283" y="38"/>
                </a:cubicBezTo>
                <a:cubicBezTo>
                  <a:pt x="329" y="41"/>
                  <a:pt x="376" y="37"/>
                  <a:pt x="420" y="48"/>
                </a:cubicBezTo>
                <a:cubicBezTo>
                  <a:pt x="431" y="51"/>
                  <a:pt x="434" y="102"/>
                  <a:pt x="420" y="121"/>
                </a:cubicBezTo>
                <a:cubicBezTo>
                  <a:pt x="408" y="139"/>
                  <a:pt x="353" y="145"/>
                  <a:pt x="338" y="148"/>
                </a:cubicBezTo>
                <a:cubicBezTo>
                  <a:pt x="312" y="69"/>
                  <a:pt x="398" y="54"/>
                  <a:pt x="457" y="38"/>
                </a:cubicBezTo>
                <a:cubicBezTo>
                  <a:pt x="665" y="47"/>
                  <a:pt x="765" y="8"/>
                  <a:pt x="640" y="102"/>
                </a:cubicBezTo>
                <a:cubicBezTo>
                  <a:pt x="612" y="99"/>
                  <a:pt x="581" y="107"/>
                  <a:pt x="557" y="93"/>
                </a:cubicBezTo>
                <a:cubicBezTo>
                  <a:pt x="547" y="88"/>
                  <a:pt x="568" y="74"/>
                  <a:pt x="576" y="66"/>
                </a:cubicBezTo>
                <a:cubicBezTo>
                  <a:pt x="587" y="55"/>
                  <a:pt x="600" y="47"/>
                  <a:pt x="612" y="38"/>
                </a:cubicBezTo>
                <a:cubicBezTo>
                  <a:pt x="676" y="41"/>
                  <a:pt x="743" y="28"/>
                  <a:pt x="804" y="48"/>
                </a:cubicBezTo>
                <a:cubicBezTo>
                  <a:pt x="825" y="55"/>
                  <a:pt x="749" y="84"/>
                  <a:pt x="749" y="84"/>
                </a:cubicBezTo>
                <a:cubicBezTo>
                  <a:pt x="793" y="0"/>
                  <a:pt x="873" y="42"/>
                  <a:pt x="969" y="48"/>
                </a:cubicBezTo>
                <a:cubicBezTo>
                  <a:pt x="995" y="87"/>
                  <a:pt x="1001" y="104"/>
                  <a:pt x="951" y="121"/>
                </a:cubicBezTo>
                <a:cubicBezTo>
                  <a:pt x="953" y="123"/>
                  <a:pt x="1000" y="166"/>
                  <a:pt x="996" y="176"/>
                </a:cubicBezTo>
                <a:cubicBezTo>
                  <a:pt x="991" y="188"/>
                  <a:pt x="972" y="188"/>
                  <a:pt x="960" y="194"/>
                </a:cubicBezTo>
                <a:cubicBezTo>
                  <a:pt x="917" y="191"/>
                  <a:pt x="874" y="190"/>
                  <a:pt x="832" y="185"/>
                </a:cubicBezTo>
                <a:cubicBezTo>
                  <a:pt x="822" y="184"/>
                  <a:pt x="812" y="181"/>
                  <a:pt x="804" y="176"/>
                </a:cubicBezTo>
                <a:cubicBezTo>
                  <a:pt x="797" y="171"/>
                  <a:pt x="777" y="158"/>
                  <a:pt x="786" y="157"/>
                </a:cubicBezTo>
                <a:cubicBezTo>
                  <a:pt x="820" y="153"/>
                  <a:pt x="853" y="163"/>
                  <a:pt x="887" y="166"/>
                </a:cubicBezTo>
                <a:cubicBezTo>
                  <a:pt x="920" y="189"/>
                  <a:pt x="937" y="211"/>
                  <a:pt x="951" y="249"/>
                </a:cubicBezTo>
                <a:cubicBezTo>
                  <a:pt x="842" y="319"/>
                  <a:pt x="705" y="227"/>
                  <a:pt x="585" y="267"/>
                </a:cubicBezTo>
                <a:cubicBezTo>
                  <a:pt x="576" y="261"/>
                  <a:pt x="568" y="251"/>
                  <a:pt x="557" y="249"/>
                </a:cubicBezTo>
                <a:cubicBezTo>
                  <a:pt x="548" y="247"/>
                  <a:pt x="539" y="258"/>
                  <a:pt x="530" y="258"/>
                </a:cubicBezTo>
                <a:cubicBezTo>
                  <a:pt x="493" y="258"/>
                  <a:pt x="457" y="252"/>
                  <a:pt x="420" y="249"/>
                </a:cubicBezTo>
                <a:cubicBezTo>
                  <a:pt x="446" y="223"/>
                  <a:pt x="442" y="224"/>
                  <a:pt x="484" y="203"/>
                </a:cubicBezTo>
                <a:cubicBezTo>
                  <a:pt x="497" y="197"/>
                  <a:pt x="557" y="183"/>
                  <a:pt x="475" y="203"/>
                </a:cubicBezTo>
                <a:cubicBezTo>
                  <a:pt x="452" y="273"/>
                  <a:pt x="476" y="254"/>
                  <a:pt x="411" y="267"/>
                </a:cubicBezTo>
                <a:cubicBezTo>
                  <a:pt x="362" y="264"/>
                  <a:pt x="312" y="270"/>
                  <a:pt x="265" y="258"/>
                </a:cubicBezTo>
                <a:cubicBezTo>
                  <a:pt x="252" y="255"/>
                  <a:pt x="288" y="244"/>
                  <a:pt x="301" y="240"/>
                </a:cubicBezTo>
                <a:cubicBezTo>
                  <a:pt x="322" y="234"/>
                  <a:pt x="387" y="230"/>
                  <a:pt x="365" y="230"/>
                </a:cubicBezTo>
                <a:cubicBezTo>
                  <a:pt x="340" y="230"/>
                  <a:pt x="316" y="238"/>
                  <a:pt x="292" y="240"/>
                </a:cubicBezTo>
                <a:cubicBezTo>
                  <a:pt x="280" y="241"/>
                  <a:pt x="268" y="240"/>
                  <a:pt x="256" y="240"/>
                </a:cubicBezTo>
              </a:path>
            </a:pathLst>
          </a:cu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286000" y="357120"/>
            <a:ext cx="402228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336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Я умею писать…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1571760" y="1500120"/>
          <a:ext cx="5865480" cy="401616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1500120"/>
                    <a:ext cx="5865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1" name="Picture 3" descr=""/>
          <p:cNvPicPr/>
          <p:nvPr/>
        </p:nvPicPr>
        <p:blipFill>
          <a:blip r:embed="rId3"/>
          <a:stretch/>
        </p:blipFill>
        <p:spPr>
          <a:xfrm>
            <a:off x="0" y="5505480"/>
            <a:ext cx="9143640" cy="1352160"/>
          </a:xfrm>
          <a:prstGeom prst="rect">
            <a:avLst/>
          </a:prstGeom>
          <a:ln w="9525">
            <a:noFill/>
          </a:ln>
        </p:spPr>
      </p:pic>
      <p:pic>
        <p:nvPicPr>
          <p:cNvPr id="332" name="Рисунок 6" descr="h41"/>
          <p:cNvPicPr/>
          <p:nvPr/>
        </p:nvPicPr>
        <p:blipFill>
          <a:blip r:embed="rId4"/>
          <a:stretch/>
        </p:blipFill>
        <p:spPr>
          <a:xfrm>
            <a:off x="6858000" y="0"/>
            <a:ext cx="2071440" cy="2014200"/>
          </a:xfrm>
          <a:prstGeom prst="rect">
            <a:avLst/>
          </a:prstGeom>
          <a:ln w="9525">
            <a:noFill/>
          </a:ln>
        </p:spPr>
      </p:pic>
    </p:spTree>
  </p:cSld>
  <p:transition spd="slow"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3640" cy="1352160"/>
          </a:xfrm>
          <a:prstGeom prst="rect">
            <a:avLst/>
          </a:prstGeom>
          <a:ln w="9525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332000" y="1557360"/>
            <a:ext cx="6695640" cy="321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</a:pPr>
            <a:r>
              <a:rPr b="1" lang="ru-RU" sz="6000" spc="-1" strike="noStrike">
                <a:solidFill>
                  <a:srgbClr val="cc0000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</a:pPr>
            <a:r>
              <a:rPr b="1" lang="en-US" sz="6000" spc="-1" strike="noStrike">
                <a:solidFill>
                  <a:srgbClr val="cc0000"/>
                </a:solidFill>
                <a:latin typeface="Monotype Corsiva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35080" y="90360"/>
            <a:ext cx="3908160" cy="6156000"/>
          </a:xfrm>
          <a:prstGeom prst="rect">
            <a:avLst/>
          </a:prstGeom>
          <a:ln w="9525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4857840" y="571680"/>
            <a:ext cx="3142800" cy="856800"/>
          </a:xfrm>
          <a:prstGeom prst="rect">
            <a:avLst/>
          </a:prstGeom>
          <a:ln w="9525">
            <a:noFill/>
          </a:ln>
        </p:spPr>
      </p:pic>
      <p:sp>
        <p:nvSpPr>
          <p:cNvPr id="226" name="Прямоугольник 6"/>
          <p:cNvSpPr/>
          <p:nvPr/>
        </p:nvSpPr>
        <p:spPr>
          <a:xfrm>
            <a:off x="4071960" y="2286000"/>
            <a:ext cx="5071680" cy="301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С 1 сентября 2011 г. введение ФГОС НОО обязательно во всех образовательных учреждениях РФ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25c6ff"/>
                </a:solidFill>
                <a:latin typeface="Calibri"/>
              </a:rPr>
              <a:t>Основные учебные действ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едметные                                  Личностн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етопредметные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Прямая со стрелкой 5"/>
          <p:cNvCxnSpPr/>
          <p:nvPr/>
        </p:nvCxnSpPr>
        <p:spPr>
          <a:xfrm flipH="1">
            <a:off x="1785600" y="2071440"/>
            <a:ext cx="857880" cy="12862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229" name="Прямая со стрелкой 7"/>
          <p:cNvCxnSpPr/>
          <p:nvPr/>
        </p:nvCxnSpPr>
        <p:spPr>
          <a:xfrm>
            <a:off x="4357440" y="2071440"/>
            <a:ext cx="72000" cy="20005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230" name="Прямая со стрелкой 9"/>
          <p:cNvCxnSpPr/>
          <p:nvPr/>
        </p:nvCxnSpPr>
        <p:spPr>
          <a:xfrm>
            <a:off x="6286320" y="2071440"/>
            <a:ext cx="857520" cy="13579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928800" y="1857240"/>
            <a:ext cx="79293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1. Начальные    навыки    общения (устная    и письменная  форм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2. Правила речевого   и неречевого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3. Дружелюбное  отношение  и  толерант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4. Использование иностранного языка  для получе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2873520" y="1071720"/>
            <a:ext cx="33616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Предме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3" descr="O5MCEO0-e1567150203730.jpg"/>
          <p:cNvPicPr/>
          <p:nvPr/>
        </p:nvPicPr>
        <p:blipFill>
          <a:blip r:embed="rId1"/>
          <a:stretch/>
        </p:blipFill>
        <p:spPr>
          <a:xfrm>
            <a:off x="214200" y="357120"/>
            <a:ext cx="2499840" cy="1668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428760" y="1928880"/>
            <a:ext cx="83577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1. Гражданская   иденти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. Гуманистически ценностные ориен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3. Уважительное   отношение к истории и культу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других нар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4. Начальные    навыки    адапт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5. Самостоятельность  и  личная  ответств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6. Сотрудничество с взрослыми и сверстн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2302560" y="928800"/>
            <a:ext cx="3366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Личнос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3" descr="учитель-студентов-7140541.jpg"/>
          <p:cNvPicPr/>
          <p:nvPr/>
        </p:nvPicPr>
        <p:blipFill>
          <a:blip r:embed="rId1"/>
          <a:stretch/>
        </p:blipFill>
        <p:spPr>
          <a:xfrm>
            <a:off x="6072120" y="357120"/>
            <a:ext cx="2437920" cy="2117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14200" y="714240"/>
            <a:ext cx="863964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1. Принятие  и  сохранение  целей  и  зада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. Решение  проблем  творческого  и  поискового характ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3. Освоение  познавательной    и   личностной  Рефлекс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4. Использование      речевых      средств      и      средств ИК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5. Использование    различных    способов    поиска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6. Овладение    логическими    действиями    сравнения,    анализа, синтеза,    обоб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7. Готовность  конструктивно  разрешать  конфли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2163600" y="0"/>
            <a:ext cx="4573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Метапредме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2143080" y="737640"/>
            <a:ext cx="5714640" cy="405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chemeClr val="accent3">
                    <a:lumMod val="75000"/>
                  </a:schemeClr>
                </a:solidFill>
                <a:latin typeface="Times New Roman"/>
              </a:rPr>
              <a:t>Основное назначение иностранного язы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3">
                    <a:lumMod val="75000"/>
                  </a:schemeClr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3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chemeClr val="accent3">
                    <a:lumMod val="75000"/>
                  </a:schemeClr>
                </a:solidFill>
                <a:latin typeface="Times New Roman"/>
              </a:rPr>
              <a:t>формирование </a:t>
            </a:r>
            <a:r>
              <a:rPr b="1" i="1" lang="ru-RU" sz="2800" spc="-1" strike="noStrike">
                <a:solidFill>
                  <a:schemeClr val="accent3">
                    <a:lumMod val="75000"/>
                  </a:schemeClr>
                </a:solidFill>
                <a:latin typeface="Times New Roman"/>
              </a:rPr>
              <a:t>коммуникативной компетентности</a:t>
            </a:r>
            <a:r>
              <a:rPr b="1" lang="ru-RU" sz="2800" spc="-1" strike="noStrike">
                <a:solidFill>
                  <a:schemeClr val="accent3">
                    <a:lumMod val="75000"/>
                  </a:schemeClr>
                </a:solidFill>
                <a:latin typeface="Times New Roman"/>
              </a:rPr>
              <a:t>, т.е. способности и готовности осуществлять иноязычное межличностное и межкультурное общение с носителями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3640" cy="135216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8" descr="3"/>
          <p:cNvPicPr/>
          <p:nvPr/>
        </p:nvPicPr>
        <p:blipFill>
          <a:blip r:embed="rId2"/>
          <a:stretch/>
        </p:blipFill>
        <p:spPr>
          <a:xfrm>
            <a:off x="214200" y="500040"/>
            <a:ext cx="1510920" cy="1244160"/>
          </a:xfrm>
          <a:prstGeom prst="rect">
            <a:avLst/>
          </a:prstGeom>
          <a:ln w="50800">
            <a:solidFill>
              <a:srgbClr val="3366ff"/>
            </a:solidFill>
            <a:miter/>
          </a:ln>
        </p:spPr>
      </p:pic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4"/>
          <p:cNvSpPr/>
          <p:nvPr/>
        </p:nvSpPr>
        <p:spPr>
          <a:xfrm>
            <a:off x="2786040" y="642960"/>
            <a:ext cx="4571640" cy="36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"/>
          <p:cNvSpPr/>
          <p:nvPr/>
        </p:nvSpPr>
        <p:spPr>
          <a:xfrm>
            <a:off x="1143000" y="0"/>
            <a:ext cx="70005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spcBef>
                <a:spcPts val="1800"/>
              </a:spcBef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Коммуникативная компетен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Горизонтальный свиток 6"/>
          <p:cNvSpPr/>
          <p:nvPr/>
        </p:nvSpPr>
        <p:spPr>
          <a:xfrm>
            <a:off x="928800" y="2000160"/>
            <a:ext cx="2518920" cy="151092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40005">
            <a:solidFill>
              <a:srgbClr val="ae42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Речевая компет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Горизонтальный свиток 4"/>
          <p:cNvSpPr/>
          <p:nvPr/>
        </p:nvSpPr>
        <p:spPr>
          <a:xfrm>
            <a:off x="3571920" y="3214800"/>
            <a:ext cx="2160360" cy="151092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40005">
            <a:solidFill>
              <a:srgbClr val="ae42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Языковая компет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Горизонтальный свиток 4"/>
          <p:cNvSpPr/>
          <p:nvPr/>
        </p:nvSpPr>
        <p:spPr>
          <a:xfrm>
            <a:off x="826920" y="4940280"/>
            <a:ext cx="2736360" cy="151092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40005">
            <a:solidFill>
              <a:srgbClr val="ae42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Компенсаторная компет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Горизонтальный свиток 4"/>
          <p:cNvSpPr/>
          <p:nvPr/>
        </p:nvSpPr>
        <p:spPr>
          <a:xfrm>
            <a:off x="6215040" y="1857240"/>
            <a:ext cx="2677680" cy="151092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40005">
            <a:solidFill>
              <a:srgbClr val="ae42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Учебно-познавательная компет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Горизонтальный свиток 4"/>
          <p:cNvSpPr/>
          <p:nvPr/>
        </p:nvSpPr>
        <p:spPr>
          <a:xfrm>
            <a:off x="5796000" y="4869000"/>
            <a:ext cx="2879280" cy="151092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40005">
            <a:solidFill>
              <a:srgbClr val="ae42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Социокультурная компет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8"/>
          <p:cNvSpPr/>
          <p:nvPr/>
        </p:nvSpPr>
        <p:spPr>
          <a:xfrm>
            <a:off x="4427640" y="1916280"/>
            <a:ext cx="285480" cy="108072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2">
              <a:lumMod val="7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0" name="Стрелка вниз 12"/>
          <p:cNvSpPr/>
          <p:nvPr/>
        </p:nvSpPr>
        <p:spPr>
          <a:xfrm rot="2203800">
            <a:off x="2341440" y="1006560"/>
            <a:ext cx="358560" cy="1022040"/>
          </a:xfrm>
          <a:prstGeom prst="downArrow">
            <a:avLst>
              <a:gd name="adj1" fmla="val 50000"/>
              <a:gd name="adj2" fmla="val 47493"/>
            </a:avLst>
          </a:prstGeom>
          <a:solidFill>
            <a:schemeClr val="bg2">
              <a:lumMod val="75000"/>
            </a:schemeClr>
          </a:solidFill>
          <a:ln w="40005">
            <a:solidFill>
              <a:srgbClr val="4f81bd">
                <a:lumMod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Стрелка вниз 8"/>
          <p:cNvSpPr/>
          <p:nvPr/>
        </p:nvSpPr>
        <p:spPr>
          <a:xfrm rot="19044600">
            <a:off x="6656040" y="987480"/>
            <a:ext cx="358560" cy="1022040"/>
          </a:xfrm>
          <a:prstGeom prst="downArrow">
            <a:avLst>
              <a:gd name="adj1" fmla="val 50000"/>
              <a:gd name="adj2" fmla="val 47493"/>
            </a:avLst>
          </a:prstGeom>
          <a:solidFill>
            <a:schemeClr val="bg2">
              <a:lumMod val="75000"/>
            </a:schemeClr>
          </a:solidFill>
          <a:ln w="40005">
            <a:solidFill>
              <a:srgbClr val="4f81bd">
                <a:lumMod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Стрелка вниз 8"/>
          <p:cNvSpPr/>
          <p:nvPr/>
        </p:nvSpPr>
        <p:spPr>
          <a:xfrm rot="2203800">
            <a:off x="2627280" y="3716280"/>
            <a:ext cx="358560" cy="1022040"/>
          </a:xfrm>
          <a:prstGeom prst="downArrow">
            <a:avLst>
              <a:gd name="adj1" fmla="val 50000"/>
              <a:gd name="adj2" fmla="val 47493"/>
            </a:avLst>
          </a:prstGeom>
          <a:solidFill>
            <a:schemeClr val="bg2">
              <a:lumMod val="75000"/>
            </a:schemeClr>
          </a:solidFill>
          <a:ln w="40005">
            <a:solidFill>
              <a:srgbClr val="4f81bd">
                <a:lumMod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Стрелка вниз 8"/>
          <p:cNvSpPr/>
          <p:nvPr/>
        </p:nvSpPr>
        <p:spPr>
          <a:xfrm rot="19151400">
            <a:off x="6156000" y="3716280"/>
            <a:ext cx="358560" cy="1022040"/>
          </a:xfrm>
          <a:prstGeom prst="downArrow">
            <a:avLst>
              <a:gd name="adj1" fmla="val 50000"/>
              <a:gd name="adj2" fmla="val 47493"/>
            </a:avLst>
          </a:prstGeom>
          <a:solidFill>
            <a:schemeClr val="bg2">
              <a:lumMod val="75000"/>
            </a:schemeClr>
          </a:solidFill>
          <a:ln w="40005">
            <a:solidFill>
              <a:srgbClr val="4f81bd">
                <a:lumMod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  <Words>940</Words>
  <Paragraphs>2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23:36:02Z</dcterms:created>
  <dc:creator>1</dc:creator>
  <dc:description/>
  <dc:language>en-US</dc:language>
  <cp:lastModifiedBy>User</cp:lastModifiedBy>
  <dcterms:modified xsi:type="dcterms:W3CDTF">2022-04-14T00:52:05Z</dcterms:modified>
  <cp:revision>2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3</vt:r8>
  </property>
</Properties>
</file>