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D35-5AD4-40FA-A033-7B7545BC6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1286-97BE-4651-BF9B-3C0D3A503532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B6A-58A6-4025-80FE-9AEBB44086E6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65D-1506-41DA-8978-0434D56FCC30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CC4-1E00-44F2-A1A9-50CBB5217B93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8C6B-A395-49F5-B35B-3A9655FF64C7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ED4-6472-4651-A636-83218D1D8BA7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91A-BE06-4305-9563-C1F3A2F88F01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4B0-1FD8-4576-917B-DCC43816756C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5C0-630F-4A18-A1A7-449EC90C4991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0ED-9004-48FE-BAFF-43A1ECA2A363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713-990F-4F9D-9B20-FF807E6C303C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DF7-685E-47F5-8ED2-AC0C7335705A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165-6AD1-4D7E-A1D5-E8F2BCD9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6CF-38FB-46EB-AFFA-D00D347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3EF-684F-4A11-B17D-2632C037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165-F212-4E9B-91A3-791B047F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B3B-A726-40BD-B0DC-9A3853C8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973-DA21-4C76-B64E-D5CF9C8A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56F-63FB-4FA9-A9FA-430E1385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FD69-46DD-49E0-BCA0-258F91D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15F-0BE9-43C6-80D5-576AFAF3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132B-756C-4E6B-86F5-24CFC1A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351-FBE2-4A2A-B2D8-157964C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1F3-AD10-4E56-8B7D-1B03BFE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4A8A-0862-4197-B4E8-C3D9FD9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C1BA-C74B-4653-98D0-F6FF10B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166-7B88-478C-AFEF-036C86DB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EDD0-9684-48A5-A8D6-74530684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9F8-E4E4-4175-A4FB-A62F33C3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F9B-AF05-4D56-93C2-10529FC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407-9017-4901-868C-0217431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BE2-2001-420E-A598-A2989D8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955-554B-473A-A6BA-3418DC6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70C-AC0F-48C2-B8CB-7A721F1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E07-5960-4723-B5CC-7D41F48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10D-E5E0-4497-AAA6-C0320B44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eagulls"/>
          <p:cNvPicPr/>
          <p:nvPr/>
        </p:nvPicPr>
        <p:blipFill>
          <a:blip r:embed="rId2"/>
          <a:srcRect l="1433" t="0" r="0" b="0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4000"/>
          </a:bodyPr>
          <a:p>
            <a:pPr marL="298440" indent="-29844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1" marL="646560" indent="-24768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2" marL="995760" indent="-19836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3" marL="1394640" indent="-19836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4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5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6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DB4E-F62E-484B-BA84-95E45121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eagulls"/>
          <p:cNvPicPr/>
          <p:nvPr/>
        </p:nvPicPr>
        <p:blipFill>
          <a:blip r:embed="rId2"/>
          <a:srcRect l="1433" t="0" r="0" b="0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4000"/>
          </a:bodyPr>
          <a:p>
            <a:pPr marL="298440" indent="-29844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1" marL="646560" indent="-24768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2" marL="995760" indent="-19836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3" marL="1394640" indent="-19836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4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5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6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E38-26A7-40FA-A28D-2EE716238AA5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4080"/>
                </a:solidFill>
                <a:latin typeface="Arial"/>
              </a:rPr>
              <a:t>Птицы- синоптики</a:t>
            </a:r>
            <a:br>
              <a:rPr sz="7400"/>
            </a:br>
            <a:endParaRPr b="0" lang="en-US" sz="7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70360" y="1719360"/>
            <a:ext cx="191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116000" y="2612880"/>
            <a:ext cx="734220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060"/>
                </a:solidFill>
                <a:latin typeface="Calibri"/>
              </a:rPr>
              <a:t>Выполнила: </a:t>
            </a: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воспитатель высшей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квалификационной категории 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Зыкова О.Н.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Чайк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9640" y="1600200"/>
            <a:ext cx="414000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Чайки</a:t>
            </a:r>
            <a:r>
              <a:rPr b="0" lang="ru-RU" sz="1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, сидящие на воде, предсказывают хорошую погоду на мор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333333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omic Sans MS"/>
              </a:rPr>
              <a:t>Предчувствуя приближение бури, чайки не летят в море за добычей, не качаются на синей глади морских волн. Они остаются на берегу, с писком странствуют между прибрежными скалами или песчаными мелями, отыскивают мизерную поживу и ждут бурю. 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446040" y="1844640"/>
            <a:ext cx="3805200" cy="28526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Гуси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92360" y="1628280"/>
            <a:ext cx="4211640" cy="5224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Если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гуси</a:t>
            </a: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 не спешат к отлету, стужа наступит не скоро и зима будет мягкой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ь лапу поднимает - к стуж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и и утки под крыло носы прячут - к холоду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и высоко летят - воды будет много, низко - к малой весенней вод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Если дикие утки прилетели жирные - весна будет холодная, долгая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000000"/>
              </a:buClr>
              <a:buSzPct val="7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сли птица стоит над лужей, поджимая одну ногу, значит, будет мороз, если полощется в воде — будет тепло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1"/>
          <a:stretch/>
        </p:blipFill>
        <p:spPr>
          <a:xfrm>
            <a:off x="457200" y="1808280"/>
            <a:ext cx="3478320" cy="260820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Домашние птицы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9640" y="1600200"/>
            <a:ext cx="414000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етухи</a:t>
            </a:r>
            <a:r>
              <a:rPr b="0" lang="ru-RU" sz="1400" spc="-1" strike="noStrike">
                <a:solidFill>
                  <a:srgbClr val="2c2d2e"/>
                </a:solidFill>
                <a:latin typeface="Comic Sans MS"/>
              </a:rPr>
              <a:t> начинают петь тотчас после захода солнца — погода переменится. Если же кочету захотелось петь после 10 часов вечера, ночь будет тихая и хорошая. Когда петух поет ранее 9 часов вечера, это признак того, что погода переменится и скоро будет дождь. Зимой пение в это время обозначает наступление скорой оттепели.</a:t>
            </a:r>
            <a:br>
              <a:rPr sz="1400"/>
            </a:br>
            <a:r>
              <a:rPr b="0" lang="ru-RU" sz="1400" spc="-1" strike="noStrike">
                <a:solidFill>
                  <a:srgbClr val="2c2d2e"/>
                </a:solidFill>
                <a:latin typeface="Comic Sans MS"/>
              </a:rPr>
              <a:t>и еще вот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Куры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ходят рано весною с насеста в ожидании плохого лета, тогда как поздний сход предвещает лето вполне прилично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720960" cy="248112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Наблюдайте за птицами-это интересно и полезно!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Источники:</a:t>
            </a:r>
            <a:br>
              <a:rPr sz="4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https://www.astromeridian.ru/magic/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s://litresp.ru/chitat/ru/%D0%A1/sergeev-a-n/zhivie-barometri-ryadom-s-nami/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ttps://pogoda78.ru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ttps://enciklopediya-tehniki.ru/zhivotnye-i-pticy-predskazateli-pogody.html</a:t>
            </a:r>
            <a:endParaRPr b="0" lang="en-US" sz="16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Птицы и приметы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36640"/>
            <a:ext cx="8147160" cy="471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lnSpc>
                <a:spcPct val="107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На протяжении многих веков, наблюдая за поведением, пением, криками, ежегодными сроками прилета и отлета птиц, люди научились предсказывать погоду благодаря хвостатым синоптикам. 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7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Поэтому не удивительно, что многие народные приметы погоды связаны с наблюдениями за птицами и их поведением.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Чувствительность птиц к изменениям атмосферного давления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1"/>
          <a:stretch/>
        </p:blipFill>
        <p:spPr>
          <a:xfrm>
            <a:off x="990720" y="2565360"/>
            <a:ext cx="7162560" cy="37641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Воробей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84720" y="1268280"/>
            <a:ext cx="5148000" cy="5329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Пожалуй, самая распространенная птица на земле -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оробей.</a:t>
            </a: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Впечатление такое, что воробьи живут повсюду: в сельской местности и в городах, в лесах и на полях. 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Летом воробьи в пыли купаются - к дождю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притихли и жмутся друг к другу, приближается прохладная погода и возможен дождь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под вечер целыми стаями собираются в листве на деревьях - на следующий день будет хорошая, солнечная погода. 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стали оживленными и зачирикали во время продолжительного ненастья, можно ждать ясной погоды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зимой воробьи сидят на деревьях или зданиях тихо — будет снег без ветра. А дружно чирикают — к потеплению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бьи залезают в тайники, под крыши или груды хвороста — к морозу или перед пургой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бьи, зимующие под крышами домов, в разных щелях, уже за два-три дня ощущают приближение морозов. Зима, холод, снег — а воробьи собирают пух и перо возле курятников — это перед усилением морозов они утепляют свои зимние квартиры</a:t>
            </a: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95280" y="2424240"/>
            <a:ext cx="2844720" cy="20145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Серая ворон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66560" y="1417320"/>
            <a:ext cx="5365800" cy="518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7000"/>
          </a:bodyPr>
          <a:p>
            <a:pPr marL="344880" indent="-3448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3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ороны</a:t>
            </a: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весной в воде луж полощут крылья – тепло уже близко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ны раскаркались зимой – идут сильные морозы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Интересная примета по подсчету «карканья»: эта птица каркает четное количество раз, а вы точно успели это подсчитать – остается ждать теплую и ясную погоду. И наоборот, если нечетное – ожидается довольно влажная погода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ны к вечеру собираются ближе к реке и каркают на нее – следует ждать дождя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Солнечный день ожидается, если вороны с самого утра смотрят в сторону солнца и каркают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Когда ворона решает прихорошиться и заняться чисткой перьев – непременно будет дождь, а зимой-к снегу. Вороны вообще любят ходить перед дождем с открытым клювом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Calibri"/>
              </a:rPr>
              <a:t>Если вороны к вечеру стайкой под тучи вздымаются и кружатся в воздухе, то опускаясь, то подымаясь, как бы не находят себе места для ночлега, то в эту же ночь будет буря, а зимой метель. Вообще вороны зимой вьются в воздухе перед снегом; если затем спустятся и сядут на землю – будет оттепель, а если рассядутся на хаты или верхушки деревьев, то будет мороз; сядут на нижние ветви деревьев – будет ветер. Ворона – птица «погодливая», и наблюдение за ее поведением и образом жизни дает внимательному наблюдателю немало погодных примет и зимой и летом. 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Зимой, если ворона прячется в ветвях деревьев, наутро будет холодный, морозный день с пургой и метелью. А вот если птица решила расположиться на ночь на верхушке дерева – утром должно быть ясно и тепло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60440" y="2766960"/>
            <a:ext cx="2635200" cy="21830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Пестрый дятел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5329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471600" y="1996920"/>
            <a:ext cx="2469960" cy="36831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  <p:sp>
        <p:nvSpPr>
          <p:cNvPr id="107" name="Прямоугольник 2"/>
          <p:cNvSpPr/>
          <p:nvPr/>
        </p:nvSpPr>
        <p:spPr>
          <a:xfrm>
            <a:off x="3240000" y="1417680"/>
            <a:ext cx="5446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О предстоящей погоде можно узнать, прислушиваясь к звонким ударам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ятла.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Дятел как бы барабанит по стволу, подавая знак о приближающейся непогоде. Приметы утверждают, что после барабанного боя дятла начинается дождь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Когда дятел барабанит весной — это обычно связано с весенним возбуждением птицы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Дятел стучит клювом по суку в хороший летний день — значит, быть дождю. И этому есть объяснение: когда стоит сухая погода, различные жучки и личинки не прячутся под корой и дятлу добывать пропитание труднее. А когда приближается ненастье, разные жучки и другие насекомые, предчувствуя непогоду, забираются в укрытия под кору, и дятел там их легче находит. Вот он и возвещает своим стуком-дробью предстоящую перемену погоды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 зимнее время большой пестрый дятел частыми ударами клюва о сухой сук приветствует предстоящее потепление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Жаворонок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0920" y="1600200"/>
            <a:ext cx="460836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сеобщей любовью пользуется обыкновенный полевой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жаворонок.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Он привлекает к себе внимание не скромным одеянием, а удивительно красивым голосом.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Жаворонок - желанный вестник весны. Когда откуда-то сверху неожиданно раздается звонкий голос жаворонка, становится очень приятно и весело. Это голос пробуждающейся от долгой зимней спячки природы.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У сельских жителей есть одно стойкое поверье: если в пасмурную погоду жаворонок взлетает ввысь и поет, то это верный признак того, что небо скоро прояснится и вновь засверкает солнце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057480" cy="285732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Ласточк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9280" y="1417320"/>
            <a:ext cx="4500360" cy="518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лет деревенских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ласточек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вязывают с наступлением весны, отлет примерно в сентябре - с наступлением осени. Если холода продолжаются и снег лежит дольше обычного, ласточки прилетают в мае. По народным приметам их раннее возвращение в родные края свидетельствует о предстоящем долгом и теплом лете, а слишком ранний отлет - признак затяжной и холодной зимы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вно замечено, что высота полета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ласточек и стрижей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детельствует о предстоящих изменениях погоды. Широко распространено в народе такое поверье: если ласточки летают низко - будет дождь. Это объясняется довольно просто. В преддождевую погоду мелкие насекомые, за которыми охотятся ласточки, летают низко над землей, из-за них ласточки и стрижи снижают высоту своего полета. Наблюдая за полетом ласточек, надо помнить, что на высоту их полета влияет не только погода, но и время суток. К концу дня насекомые, ведущие строго дневной образ жизни, ищут место для ночлега и снижают высоту своего полета. Чтобы поднять насекомых с насиженных мест, ласточки стремятся растревожить их взмахами крыльев. Поэтому и при ясной погоде вечером ласточки летают, почти касаясь земли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324000" y="2097000"/>
            <a:ext cx="3809880" cy="29433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Синиц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9280" y="1341000"/>
            <a:ext cx="4367160" cy="525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ервая примета, являющаяся, наверное, самой известной и распространённой - появление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иничек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значает приход весны и тепла. 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синицы долго не улетают от человеческих жилищ, как бы «обосновываясь» возле них, то это означает, что весна будет мерзлой и холодной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птица очень часто прилетает и садится к окну, то зима будет морозной и холодной. Это тоже можно объяснить тем, что птицы чувствуют погодные изменения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раннего утра на окне слышно синиц? Значит следующая ночь предвещает похолодание и мороз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ели ранней весной — пришла пора прощаться с зимней порой, ведь впереди будет оттепель, цветение и оживание природы. Тревожатся и поют осенью — наоборот, близятся холода и к порогу подступает зима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птичка поёт - сегодняшний день будет безоблачным и ясным. Такое суеверие можно объяснить, потому что птицы чувствительны к изменениям погодных условий, и в преддверии дождя и её ухудшения будут прятаться и молчать, а не петь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460440" y="2744640"/>
            <a:ext cx="3660840" cy="21020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Helper</dc:creator>
  <dc:description/>
  <dc:language>en-US</dc:language>
  <cp:lastModifiedBy>Mom</cp:lastModifiedBy>
  <dcterms:modified xsi:type="dcterms:W3CDTF">2022-02-20T17:34:46Z</dcterms:modified>
  <cp:revision>48</cp:revision>
  <dc:subject/>
  <dc:title>Sea Gulls</dc:title>
</cp:coreProperties>
</file>