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12.jpeg" ContentType="image/jpeg"/>
  <Override PartName="/ppt/media/image6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38B6-7729-4BF6-887C-158ADEE6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083-5DC8-486F-ABE1-7855AB79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31B93-87F3-499F-AB24-0B808AB9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2C64C-38DD-47FA-8526-7051CAA2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0A000-59EF-4BE2-8B8A-C3502883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2BC80-21A7-41B2-828B-3FA47A55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B069E-B22E-4B42-9ECC-992127F4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DB050-F33A-4328-BFC3-C23DF88A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1C6A7-03A8-49FF-B866-4FCDA685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C2E92-3339-4042-9ABA-08971A2A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47E0B-55E0-4244-A7CD-2598B820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71F-7544-4B34-A200-3B2D48B0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0B4-7CE7-4EB9-8619-8A9D6E6D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4267-9630-4CBF-833F-5B1A1648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8C54-D3B8-4574-93AB-52E91809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7DBE-008B-407F-B59F-1A1658E9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814B-C952-493A-858F-EB11DA6B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417B-5FC3-4442-BBBF-BCA4E043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0340-2F5B-4D5F-9AEC-201BD40D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CD04-4C4D-4A8C-A6A1-1E7650B5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689-BCCF-40B5-A421-A806CB71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D8D6-993D-46F3-A624-65D81A68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5103-CAE0-4C3A-A2FF-EFA217AD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C313-65F4-4591-BF59-AA39411D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0ACE-1065-4E70-8E63-C2EFCA32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0F0C-A987-4F4E-99E1-6CC556DA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E140F-9A44-4EBC-852A-974C7AB7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AF708-5AFD-41A7-8AC4-737CADAF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1D058-6768-4A30-AA7F-2600EF00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DFC8F-8B11-4CF0-A471-3E98E881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E2E49-B801-4434-8080-B67A66E1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5DF5-968A-4C54-88D9-C3434CBF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39001-5BAC-47F8-8432-EB4E91F9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8C212-71A6-473B-8F38-95BA3F5C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571BB-280D-45C4-9454-8BC0C043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5053E-4187-4038-8F3D-6E2381F6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2A15F-2147-4D39-9BE6-4FD6C16E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304EC-5E43-48EA-9222-A5B8AFD1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84412-516B-4D3A-B6F8-196FF6C7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3AF20-B257-418A-BB31-02EC868F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76DA8-AF0E-46F0-8539-24BCE7CF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209DD-4A8D-4770-80C3-E21EAC19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CC8A-E79B-42F9-A78B-D6FE8ECC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B1239-3D80-48E5-8E66-5F98570C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91C34-8D10-4AF0-8EB7-AE3DE526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E1896-5C3B-4B0F-ABBA-02ADAD18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A007B-CC71-48C5-98E3-1AF53F57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97201-83AA-4C24-A08A-4AE84286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9DDD4-A55F-4826-B042-7E195CD5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4ADD4-061B-428E-B7E2-DCDBC83D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A1604-BEEB-4C1A-A2CC-8D9FEC72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ECC43-B3D6-4AC7-8849-F392E8DA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92716-36F9-4E14-972A-AB8B6B45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462A-9CAF-4264-956D-3B23973B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E782F-2465-4785-85E8-1C200620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27E41-13B8-49A7-AB56-5B5EAAF0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2929D-64C3-4558-8D55-15D21394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3778B-3D3F-4E36-9883-914C0D1A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7037E-27FE-410A-8F53-A2BFEC37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F8A6F-6439-4902-95C6-51897513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7EE70-7459-4587-AC98-7B06A30C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AB9C6-6292-4754-9E9E-45A8EC2E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FBD44-52C9-4D2D-AC21-E8C81B15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DB61A-F81D-447C-89C4-17B4AB2C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9151-FDBB-4E12-A8B4-50472AEE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8F2DA-D269-4B3D-94E1-6F518082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8D1F1-5763-4EB9-9120-2C1716C9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52E55-9068-4935-93CD-00942AF0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38278-10E6-4A1F-9012-7088A07D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D6874-609D-4E64-9D08-FE7A4F3D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81B6A-92DD-4CE8-B250-EFF70E0E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9F8A8-E966-40E5-84A3-FB3EF490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0BBD5-6174-462F-9EEA-A1122642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B6F20-2938-4CE2-B142-0D4B77DD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E7643-7DA0-4F48-BEA7-9253F03E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3B6-CD7A-45ED-9BF5-8BA7078A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5559E-E010-4A37-9CEF-0A026612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93319-2F22-4C22-AD69-C5A8B49F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8AEE3-9DD8-4C28-93DB-2D05E240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42A8D-E96B-4C86-B114-6D160699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609EE-C397-45D1-999D-16B2B2F9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6F06C-79F4-4FFD-9E0D-8D515CE2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D87A5-DC5B-4420-B98A-1DDEB525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3B627-FEE8-4AB4-A728-38D96572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13F4B-090F-4D23-B0F6-B1D00626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3FB8F-DE6A-40BB-BFD7-D1F39127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6A8B-D5A9-4FB3-A74C-2C16A77F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61856-F9E6-43D6-BAB3-191234FF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C1D78-BAB1-4218-A38D-E08E076A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6B4BB-8BF9-4F92-A6BE-4135DC19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45FC4-AF64-47AB-B9E4-710B0C4A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8CF23-D512-41C6-A413-5DFBD9CA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4B81C-0876-4DD5-B904-8ACF6F8B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27352-03E0-4DC3-9272-A3FF28A7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9C0D6-DCF2-4196-B065-65450DFF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AAE67-F218-4CCA-834D-EE97ED02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D3488-3B61-4123-A574-B6BEF8D7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9B1-D9DB-4524-9C16-1F862960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63152-F682-4187-AE53-50C57325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DAFB2-CD48-46AA-8177-7B5BB52F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E8353-78E5-40FB-912D-EA0E79F5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8A9EB-8B51-49CB-93E0-454E0EF4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091BD-C492-44A1-81F8-8E5DBBE3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A9B78-12E5-499F-8082-C081DD31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E8740-B401-4AF1-A848-F9A8DC2A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7EB83-EA10-4B1D-993F-84246083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72D92-6706-434D-AB30-19C7AAC1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FCA12-BB8E-4EAB-9F7F-D5C912D0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03F6-2345-4499-AD3B-A094B86C02DA}" type="slidenum">
              <a:rPr b="0" lang="ru-RU" sz="1200" spc="-1" strike="noStrike">
                <a:solidFill>
                  <a:srgbClr val="d38e2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8892-6BB1-4B5E-B813-99BDF693880D}" type="slidenum">
              <a:rPr b="0" lang="ru-RU" sz="1200" spc="-1" strike="noStrike">
                <a:solidFill>
                  <a:srgbClr val="d38e2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0B6A-DD0B-4FDC-9CBD-4C12F1D030F1}" type="slidenum">
              <a:rPr b="0" lang="ru-RU" sz="1200" spc="-1" strike="noStrike">
                <a:solidFill>
                  <a:srgbClr val="d38e2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BB89-68DE-4A18-BAEF-B30EADCAC14C}" type="slidenum">
              <a:rPr b="0" lang="ru-RU" sz="1200" spc="-1" strike="noStrike">
                <a:solidFill>
                  <a:srgbClr val="d38e2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8904-2C4B-4E47-8A7F-8D961BA526D9}" type="slidenum">
              <a:rPr b="0" lang="ru-RU" sz="1200" spc="-1" strike="noStrike">
                <a:solidFill>
                  <a:srgbClr val="d38e2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63EC-CBC3-45B9-9378-C48A6BA99665}" type="slidenum">
              <a:rPr b="0" lang="ru-RU" sz="1200" spc="-1" strike="noStrike">
                <a:solidFill>
                  <a:srgbClr val="d38e2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2FE6-4E0A-472A-9634-B58220FA004A}" type="slidenum">
              <a:rPr b="0" lang="ru-RU" sz="1200" spc="-1" strike="noStrike">
                <a:solidFill>
                  <a:srgbClr val="d38e2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9B19-9723-4823-9989-EF3DE1FAB3B6}" type="slidenum">
              <a:rPr b="0" lang="ru-RU" sz="1200" spc="-1" strike="noStrike">
                <a:solidFill>
                  <a:srgbClr val="d38e2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9335-3865-4BB6-87BA-B82CEFBA3028}" type="slidenum">
              <a:rPr b="0" lang="ru-RU" sz="1200" spc="-1" strike="noStrike">
                <a:solidFill>
                  <a:srgbClr val="d38e2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44;&#1086;&#1079;&#1099;%20&#1080;&#1079;&#1083;&#1091;&#1095;&#1077;&#1085;&#1080;&#1103;.mp4" TargetMode="External"/><Relationship Id="rId2" Type="http://schemas.openxmlformats.org/officeDocument/2006/relationships/hyperlink" Target="file:///&#1044;&#1086;&#1079;&#1099;%20&#1080;&#1079;&#1083;&#1091;&#1095;&#1077;&#1085;&#1080;&#1103;.mp4" TargetMode="External"/><Relationship Id="rId3" Type="http://schemas.openxmlformats.org/officeDocument/2006/relationships/hyperlink" Target="file:///&#1044;&#1086;&#1079;&#1099;%20&#1080;&#1079;&#1083;&#1091;&#1095;&#1077;&#1085;&#1080;&#1103;.mp4" TargetMode="External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http://pcdesign.ru/images/photo/okno/exlusive/ra-10-green.jpg"/>
          <p:cNvPicPr/>
          <p:nvPr/>
        </p:nvPicPr>
        <p:blipFill>
          <a:blip r:embed="rId1"/>
          <a:stretch/>
        </p:blipFill>
        <p:spPr>
          <a:xfrm>
            <a:off x="2192400" y="2205000"/>
            <a:ext cx="6951600" cy="4653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01" name="Прямоугольник 4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00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Bookman Old Style"/>
              </a:rPr>
              <a:t>Радиация как природное я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5"/>
          <p:cNvSpPr/>
          <p:nvPr/>
        </p:nvSpPr>
        <p:spPr>
          <a:xfrm>
            <a:off x="0" y="1916280"/>
            <a:ext cx="3132000" cy="4941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Мир сложен –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Он полон событий, сомнений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И тайн бесконечных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И смелых догадок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Как чудо природы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Является гений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И в хаосе этом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Находит поря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Georgia"/>
              </a:rPr>
              <a:t>ВИДЫ РАДИОАКТИВНЫХ ИЗЛУЧЕНИЙ</a:t>
            </a:r>
            <a:endParaRPr b="0" lang="en-US" sz="28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50920" y="119700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324000" y="12682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Альфа-изл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http://rudocs.exdat.com/pars_docs/tw_refs/24/23937/23937_html_m7024ddb2.png"/>
          <p:cNvPicPr/>
          <p:nvPr/>
        </p:nvPicPr>
        <p:blipFill>
          <a:blip r:embed="rId1"/>
          <a:stretch/>
        </p:blipFill>
        <p:spPr>
          <a:xfrm>
            <a:off x="179280" y="1700280"/>
            <a:ext cx="4073760" cy="37447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http://f5.ru/files/images/compiled/068/068ed7a9ee964f9d919257639dfaa663.jpeg"/>
          <p:cNvPicPr/>
          <p:nvPr/>
        </p:nvPicPr>
        <p:blipFill>
          <a:blip r:embed="rId2"/>
          <a:stretch/>
        </p:blipFill>
        <p:spPr>
          <a:xfrm>
            <a:off x="4857840" y="1484280"/>
            <a:ext cx="4286160" cy="337176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3"/>
          <p:cNvSpPr/>
          <p:nvPr/>
        </p:nvSpPr>
        <p:spPr>
          <a:xfrm>
            <a:off x="-8222400" y="5667480"/>
            <a:ext cx="3545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ок альфа-частиц, распространяющихся с начальной скоростью около 20 тыс. км/с. Их ионизирующая способность огромна, а так как на каждый акт ионизации тратится определенная энергия, то их проникающая способность незначительна: длина пробега в воздухе составляет 3—11 см, а в жидких и твердых средах — сотые доли миллиметра. Лист плотной бумаги полностью задерживает их. Надежной защитой от альфа-частиц является также одежда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кольку альфа-излучение имеет наибольшую ионизирующую, но наименьшую проникающую способность, внешнее облучение альфа-частицами практически безвредно, но попадание их внутрь организма весьма опас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Georgia"/>
              </a:rPr>
              <a:t>ВИДЫ РАДИОАКТИВНЫХ ИЗЛУЧЕНИЙ</a:t>
            </a:r>
            <a:endParaRPr b="0" lang="en-US" sz="28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50920" y="119700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55" name="TextBox 5"/>
          <p:cNvSpPr/>
          <p:nvPr/>
        </p:nvSpPr>
        <p:spPr>
          <a:xfrm>
            <a:off x="324000" y="12682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Альфа-изл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324000" y="1800000"/>
            <a:ext cx="576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ок альфа-частиц, распространяющихся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чальной скоростью около 20 тыс. км/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х ионизирующая способность огромна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как на каждый акт ионизации трат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ная энергия, то их проник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ь незначительна: длина пробе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оздухе составляет 3—11 см, а в жидки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вердых средах — сотые доли миллиме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ист плотной бумаги полностью задерживает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дежной защитой от альфа-частиц яв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же одежда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кольку альфа-излучение имеет наибольш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онизирующую, но наименьшую проникающ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ь, внешнее облучение альфа-частицами практически безвредно, но попадание их внутрь  организма весьма опас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" descr="http://upload.wikimedia.org/wikipedia/commons/thumb/d/d6/Alfa_beta_gamma_radiation.svg/280px-Alfa_beta_gamma_radiation.svg.png"/>
          <p:cNvPicPr/>
          <p:nvPr/>
        </p:nvPicPr>
        <p:blipFill>
          <a:blip r:embed="rId1"/>
          <a:stretch/>
        </p:blipFill>
        <p:spPr>
          <a:xfrm>
            <a:off x="6300720" y="1700280"/>
            <a:ext cx="26672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Georgia"/>
              </a:rPr>
              <a:t>ВИДЫ РАДИОАКТИВНЫХ ИЗЛУЧЕНИЙ</a:t>
            </a:r>
            <a:endParaRPr b="0" lang="en-US" sz="28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50920" y="119700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60" name="TextBox 5"/>
          <p:cNvSpPr/>
          <p:nvPr/>
        </p:nvSpPr>
        <p:spPr>
          <a:xfrm>
            <a:off x="324000" y="12682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Бетта-изл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http://rudocs.exdat.com/pars_docs/tw_refs/24/23937/23937_html_145076db.png"/>
          <p:cNvPicPr/>
          <p:nvPr/>
        </p:nvPicPr>
        <p:blipFill>
          <a:blip r:embed="rId1"/>
          <a:stretch/>
        </p:blipFill>
        <p:spPr>
          <a:xfrm>
            <a:off x="179280" y="1773360"/>
            <a:ext cx="4281480" cy="410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http://ru.convdocs.org/pars_docs/refs/177/176746/176746_html_m54764cad.jpg"/>
          <p:cNvPicPr/>
          <p:nvPr/>
        </p:nvPicPr>
        <p:blipFill>
          <a:blip r:embed="rId2"/>
          <a:stretch/>
        </p:blipFill>
        <p:spPr>
          <a:xfrm>
            <a:off x="4807080" y="3933720"/>
            <a:ext cx="41004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Georgia"/>
              </a:rPr>
              <a:t>ВИДЫ РАДИОАКТИВНЫХ ИЗЛУЧЕНИЙ</a:t>
            </a:r>
            <a:endParaRPr b="0" lang="en-US" sz="28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50920" y="119700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65" name="TextBox 5"/>
          <p:cNvSpPr/>
          <p:nvPr/>
        </p:nvSpPr>
        <p:spPr>
          <a:xfrm>
            <a:off x="324000" y="12682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Бетта-изл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"/>
          <p:cNvSpPr/>
          <p:nvPr/>
        </p:nvSpPr>
        <p:spPr>
          <a:xfrm>
            <a:off x="179280" y="1793880"/>
            <a:ext cx="89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ок бета-частиц, которые могут распространя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 скоростью, близкой к скорости света (300 тыс. км/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ряд бета-частиц меньше, а скорость больш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у альфа-частиц, поэтому они имеют меньш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онизирующую, но большую проникающую способ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ина пробега бета-частиц с высокой энергией составл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оздухе до 20 м, воде и живых тканях — до 3 с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алле — до 1 см. На практике бета-час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ти полностью поглощают оконные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мобильные стекла и металлические эк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лщиной в несколько милли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дежда поглощает до 50 % бета-час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ри внешнем облучении организма на глубину около 1 мм проникает 20—25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бета-частиц. Поэтому внешнее бета-облучение представляет серьезную опасность лишь при попадании радиоактивных веществ непосредственно на кожу  (особенно на глаза) или же внутрь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4" descr="http://upload.wikimedia.org/wikipedia/commons/thumb/d/d6/Alfa_beta_gamma_radiation.svg/280px-Alfa_beta_gamma_radiation.svg.png"/>
          <p:cNvPicPr/>
          <p:nvPr/>
        </p:nvPicPr>
        <p:blipFill>
          <a:blip r:embed="rId1"/>
          <a:stretch/>
        </p:blipFill>
        <p:spPr>
          <a:xfrm>
            <a:off x="6750000" y="1197000"/>
            <a:ext cx="23940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250920" y="1197000"/>
            <a:ext cx="8686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Georgia"/>
              </a:rPr>
              <a:t>ВИДЫ РАДИОАКТИВНЫХ ИЗЛУЧЕНИЙ</a:t>
            </a:r>
            <a:endParaRPr b="0" lang="en-US" sz="28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70" name="TextBox 3"/>
          <p:cNvSpPr/>
          <p:nvPr/>
        </p:nvSpPr>
        <p:spPr>
          <a:xfrm rot="16200000">
            <a:off x="-1792080" y="3384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Нейтронное изл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2" descr="http://images.myshared.ru/355954/slide_17.jpg"/>
          <p:cNvPicPr/>
          <p:nvPr/>
        </p:nvPicPr>
        <p:blipFill>
          <a:blip r:embed="rId1"/>
          <a:stretch/>
        </p:blipFill>
        <p:spPr>
          <a:xfrm>
            <a:off x="125892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250920" y="1197000"/>
            <a:ext cx="8686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Georgia"/>
              </a:rPr>
              <a:t>ВИДЫ РАДИОАКТИВНЫХ ИЗЛУЧЕНИЙ</a:t>
            </a:r>
            <a:endParaRPr b="0" lang="en-US" sz="28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74" name="TextBox 3"/>
          <p:cNvSpPr/>
          <p:nvPr/>
        </p:nvSpPr>
        <p:spPr>
          <a:xfrm>
            <a:off x="324000" y="126828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Нейтронное изл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"/>
          <p:cNvSpPr/>
          <p:nvPr/>
        </p:nvSpPr>
        <p:spPr>
          <a:xfrm>
            <a:off x="250920" y="1788840"/>
            <a:ext cx="8281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ляет собой поток нейтронов, скорость распространения которых достигает 20 тыс. км/с. Так как нейтроны не име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ического заряда, они легко проник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ядра атомов и захватываются ими. При  ядерном взрыве большая часть нейтронов  выделяется за короткий промежуток времени. Они легко проникают в живую ткань и захватываются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ядрами ее атомов. Поэтому нейтронное изл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казывает сильное поражающее действие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шнем облучении. Лучшими; защит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риалами от них являются; лег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ородсодержащие материал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иэтилен, парафин, вод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3" descr="https://encrypted-tbn0.gstatic.com/images?q=tbn:ANd9GcSnK_OYT7xu42Lrh7Qx9nEQ5vxOJRYBKYXP43gq-F3me74Ts-Syvw"/>
          <p:cNvPicPr/>
          <p:nvPr/>
        </p:nvPicPr>
        <p:blipFill>
          <a:blip r:embed="rId1"/>
          <a:stretch/>
        </p:blipFill>
        <p:spPr>
          <a:xfrm>
            <a:off x="5003640" y="4581360"/>
            <a:ext cx="3672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Georgia"/>
              </a:rPr>
              <a:t>ВИДЫ РАДИОАКТИВНЫХ ИЗЛУЧЕНИЙ</a:t>
            </a:r>
            <a:endParaRPr b="0" lang="en-US" sz="28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250920" y="119700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79" name="TextBox 5"/>
          <p:cNvSpPr/>
          <p:nvPr/>
        </p:nvSpPr>
        <p:spPr>
          <a:xfrm>
            <a:off x="324000" y="12682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Гамма-изл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4" descr="{}^{113}_{48}\textrm{Cd} + n \rightarrow {}^{114}_{48}\textrm{Cd} + \gamma"/>
          <p:cNvPicPr/>
          <p:nvPr/>
        </p:nvPicPr>
        <p:blipFill>
          <a:blip r:embed="rId1"/>
          <a:stretch/>
        </p:blipFill>
        <p:spPr>
          <a:xfrm>
            <a:off x="4319640" y="1844640"/>
            <a:ext cx="4645080" cy="693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http://n-t.ru/nj/nz/1986/0903_p2.gif"/>
          <p:cNvPicPr/>
          <p:nvPr/>
        </p:nvPicPr>
        <p:blipFill>
          <a:blip r:embed="rId2"/>
          <a:stretch/>
        </p:blipFill>
        <p:spPr>
          <a:xfrm>
            <a:off x="324000" y="1773360"/>
            <a:ext cx="3905280" cy="453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" descr="http://upload.wikimedia.org/wikipedia/commons/thumb/f/fc/Gammadecay-1.jpg/220px-Gammadecay-1.jpg"/>
          <p:cNvPicPr/>
          <p:nvPr/>
        </p:nvPicPr>
        <p:blipFill>
          <a:blip r:embed="rId3"/>
          <a:stretch/>
        </p:blipFill>
        <p:spPr>
          <a:xfrm>
            <a:off x="324000" y="1700280"/>
            <a:ext cx="3887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Georgia"/>
              </a:rPr>
              <a:t>ВИДЫ РАДИОАКТИВНЫХ ИЗЛУЧЕНИЙ</a:t>
            </a:r>
            <a:endParaRPr b="0" lang="en-US" sz="28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50920" y="119700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85" name="TextBox 5"/>
          <p:cNvSpPr/>
          <p:nvPr/>
        </p:nvSpPr>
        <p:spPr>
          <a:xfrm>
            <a:off x="324000" y="12682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Гамма-изл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"/>
          <p:cNvSpPr/>
          <p:nvPr/>
        </p:nvSpPr>
        <p:spPr>
          <a:xfrm>
            <a:off x="3059280" y="1721160"/>
            <a:ext cx="586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своей природе гамма-излучение представляет собой электромагнитное поле с длиной волны 10~8—10~и см. Оно испускается отдельными порциями (квантами) и распространяется со скоростью света. Ионизирующая способность его значительно меньше, чем у бета-частиц и тем более у альфа-час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Зато гамма-излучение имеет наибольшую проникающую способность и в воздухе может распространяться на сотни метров. Для ослабления его энергии в два раза необходим слой вещества (слой половинного ослабления) толщиной: воды — 23 см, стали — около 3, бетона — 10, дерева — 30 с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4" descr="http://upload.wikimedia.org/wikipedia/commons/thumb/d/d6/Alfa_beta_gamma_radiation.svg/280px-Alfa_beta_gamma_radiation.svg.png"/>
          <p:cNvPicPr/>
          <p:nvPr/>
        </p:nvPicPr>
        <p:blipFill>
          <a:blip r:embed="rId1"/>
          <a:stretch/>
        </p:blipFill>
        <p:spPr>
          <a:xfrm>
            <a:off x="539640" y="2133720"/>
            <a:ext cx="239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250920" y="1197000"/>
            <a:ext cx="8686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Georgia"/>
              </a:rPr>
              <a:t>ВИДЫ РАДИОАКТИВНЫХ ИЗЛУЧЕНИЙ</a:t>
            </a:r>
            <a:endParaRPr b="0" lang="en-US" sz="2800" spc="-1" strike="noStrike">
              <a:solidFill>
                <a:srgbClr val="4e3b30"/>
              </a:solidFill>
              <a:latin typeface="Georgia"/>
            </a:endParaRPr>
          </a:p>
        </p:txBody>
      </p:sp>
      <p:pic>
        <p:nvPicPr>
          <p:cNvPr id="490" name="Picture 5" descr="http://www.cnea.gov.ar/xxi/divulgacion/seresvivos/ficha2_dib3.gif"/>
          <p:cNvPicPr/>
          <p:nvPr/>
        </p:nvPicPr>
        <p:blipFill>
          <a:blip r:embed="rId1"/>
          <a:stretch/>
        </p:blipFill>
        <p:spPr>
          <a:xfrm>
            <a:off x="684360" y="1844640"/>
            <a:ext cx="7775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Georgia"/>
              </a:rPr>
              <a:t>РАБОТА ПРОДОЛЖАЕТСЯ….</a:t>
            </a:r>
            <a:endParaRPr b="0" lang="en-US" sz="28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2916360" y="1196640"/>
            <a:ext cx="6021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34 году 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Ирен и Фредерик Жолио-Кюри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рывают явление </a:t>
            </a:r>
            <a:endParaRPr b="0" lang="en-US" sz="3000" spc="-1" strike="noStrike">
              <a:solidFill>
                <a:srgbClr val="4e3b3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03b14"/>
                </a:solidFill>
                <a:latin typeface="Calibri"/>
                <a:ea typeface="Times New Roman"/>
              </a:rPr>
              <a:t>искусственной радиоактивности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енные вещества, например,</a:t>
            </a:r>
            <a:endParaRPr b="0" lang="en-US" sz="3000" spc="-1" strike="noStrike">
              <a:solidFill>
                <a:srgbClr val="4e3b3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юминий, подвергнутые облучению  альфа-частицами, превращаются в новые, неизвестные </a:t>
            </a:r>
            <a:endParaRPr b="0" lang="en-US" sz="3000" spc="-1" strike="noStrike">
              <a:solidFill>
                <a:srgbClr val="4e3b3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природе радиоактивные изотопы, которые сами становятся источниками излучения.</a:t>
            </a:r>
            <a:endParaRPr b="0" lang="en-US" sz="3000" spc="-1" strike="noStrike">
              <a:solidFill>
                <a:srgbClr val="4e3b3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Georgia"/>
            </a:endParaRPr>
          </a:p>
        </p:txBody>
      </p:sp>
      <p:pic>
        <p:nvPicPr>
          <p:cNvPr id="493" name="Рисунок 14" descr="http://www.ecoatominf.ru/publishs/Radiation/clip_image0017.gif"/>
          <p:cNvPicPr/>
          <p:nvPr/>
        </p:nvPicPr>
        <p:blipFill>
          <a:blip r:embed="rId1"/>
          <a:stretch/>
        </p:blipFill>
        <p:spPr>
          <a:xfrm>
            <a:off x="179280" y="1557360"/>
            <a:ext cx="2629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Georgia"/>
              </a:rPr>
              <a:t>ИСТОРИЯ ОТКРЫТИЯ РАДИОАКТИВНОСТИ</a:t>
            </a:r>
            <a:endParaRPr b="0" lang="en-US" sz="25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920" y="1553760"/>
            <a:ext cx="808344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Georgia"/>
              </a:rPr>
              <a:t>Радиоактивность</a:t>
            </a:r>
            <a:r>
              <a:rPr b="0" lang="ru-RU" sz="3000" spc="-1" strike="noStrike">
                <a:solidFill>
                  <a:srgbClr val="4e3b30"/>
                </a:solidFill>
                <a:latin typeface="Georgia"/>
              </a:rPr>
              <a:t> — это процесс самопроизвольного выделения энергии с постоянной скоростью, присущей данному виду ядер (радионуклидов, т.е. ядер, способных к радиоактивному распаду). </a:t>
            </a:r>
            <a:endParaRPr b="0" lang="en-US" sz="3000" spc="-1" strike="noStrike">
              <a:solidFill>
                <a:srgbClr val="4e3b30"/>
              </a:solidFill>
              <a:latin typeface="Georgia"/>
            </a:endParaRPr>
          </a:p>
        </p:txBody>
      </p:sp>
      <p:pic>
        <p:nvPicPr>
          <p:cNvPr id="405" name="Picture 4" descr="http://nuclearno.ru/2003%5Costor_rad_02.jpg"/>
          <p:cNvPicPr/>
          <p:nvPr/>
        </p:nvPicPr>
        <p:blipFill>
          <a:blip r:embed="rId1"/>
          <a:stretch/>
        </p:blipFill>
        <p:spPr>
          <a:xfrm>
            <a:off x="3995640" y="3429000"/>
            <a:ext cx="4716720" cy="32860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http://content.foto.mail.ru/mail/valitova_irina/_blogs/i-3013.jpg"/>
          <p:cNvPicPr/>
          <p:nvPr/>
        </p:nvPicPr>
        <p:blipFill>
          <a:blip r:embed="rId2"/>
          <a:stretch/>
        </p:blipFill>
        <p:spPr>
          <a:xfrm>
            <a:off x="1187280" y="3789360"/>
            <a:ext cx="25210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250920" y="1197000"/>
            <a:ext cx="8686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Georgia"/>
              </a:rPr>
              <a:t>ДОЗА ИЗЛУЧЕНИЯ</a:t>
            </a: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179280" y="1286280"/>
            <a:ext cx="8713800" cy="38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  <a:ea typeface="Times New Roman"/>
              </a:rPr>
              <a:t>Доза излучени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поглощённая доза) – энергия ионизирующего излучения, поглощённая облучаемым объектом и рассчитанная на единицу массы этого объ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за - основная величина, определяющая радиационное воздействие излучения на объект. Величина дозы зависит от вида излучения, его интенсивности, энергии его частиц, времени облучения, элементного состава объекта. В процессе облучения доза со временем накапливается. Поглощенная доза в единицу времени называется мощностью доз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250920" y="1413000"/>
            <a:ext cx="8686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Georg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глощённая доза в системе СИ измеряется в </a:t>
            </a:r>
            <a:r>
              <a:rPr b="0" lang="ru-RU" sz="2500" spc="-1" strike="noStrike">
                <a:solidFill>
                  <a:srgbClr val="c00000"/>
                </a:solidFill>
                <a:latin typeface="Calibri"/>
                <a:ea typeface="Times New Roman"/>
              </a:rPr>
              <a:t>греях (Гр). </a:t>
            </a:r>
            <a:endParaRPr b="0" lang="en-US" sz="25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1 Гр равен энергии в 1 Дж, поглощённой массой в 1 кг. Распространена внесистемная единица дозы – рад. 1 рад = 10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-2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 Дж/кг = 10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-2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 Гр.</a:t>
            </a:r>
            <a:endParaRPr b="0" lang="en-US" sz="25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 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зу электромагнитного (рентгеновского и гамма-) излучения определяют в </a:t>
            </a:r>
            <a:r>
              <a:rPr b="0" lang="ru-RU" sz="2500" spc="-1" strike="noStrike">
                <a:solidFill>
                  <a:srgbClr val="c00000"/>
                </a:solidFill>
                <a:latin typeface="Calibri"/>
                <a:ea typeface="Times New Roman"/>
              </a:rPr>
              <a:t>рентгенах (Р).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5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1 Р это такая доза электромагнитного облучения, которая в 1 грамме сухого воздуха при нормальных условиях (0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о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 С и 760 мм ртутного столба) производит 1.6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10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12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 пар ионов. 1Р = 0.88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10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-2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 Гр = 0.88 рад.</a:t>
            </a:r>
            <a:endParaRPr b="0" lang="en-US" sz="25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ким образом, 0.88 рад – энергетический эквивалент рентгена.</a:t>
            </a:r>
            <a:endParaRPr b="0" lang="en-US" sz="25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ad1f1f"/>
                </a:solidFill>
                <a:uFillTx/>
                <a:latin typeface="Calibri"/>
                <a:ea typeface="Times New Roman"/>
                <a:hlinkClick r:id="rId1"/>
              </a:rPr>
              <a:t> </a:t>
            </a:r>
            <a:r>
              <a:rPr b="0" lang="ru-RU" sz="2500" spc="-1" strike="noStrike" u="sng">
                <a:solidFill>
                  <a:srgbClr val="ad1f1f"/>
                </a:solidFill>
                <a:uFillTx/>
                <a:latin typeface="Calibri"/>
                <a:ea typeface="Times New Roman"/>
                <a:hlinkClick r:id="rId2"/>
              </a:rPr>
              <a:t>Дозы излучения.</a:t>
            </a:r>
            <a:r>
              <a:rPr b="0" lang="en-US" sz="2500" spc="-1" strike="noStrike" u="sng">
                <a:solidFill>
                  <a:srgbClr val="ad1f1f"/>
                </a:solidFill>
                <a:uFillTx/>
                <a:latin typeface="Calibri"/>
                <a:ea typeface="Times New Roman"/>
                <a:hlinkClick r:id="rId3"/>
              </a:rPr>
              <a:t>mp4</a:t>
            </a:r>
            <a:endParaRPr b="0" lang="en-US" sz="25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Georgia"/>
              </a:rPr>
              <a:t>ДОЗА ИЗЛУЧЕНИЯ</a:t>
            </a: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179280" y="2749320"/>
            <a:ext cx="8713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Georgia"/>
              </a:rPr>
              <a:t>ДОЗА ИЗЛУЧЕНИЯ</a:t>
            </a: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179280" y="2749320"/>
            <a:ext cx="8713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Georgia"/>
              </a:rPr>
              <a:t>Для того чтобы учесть биологическую опасность излучения и неодинаковую чувствительность органов и тканей, поглощенную дозу (грей) умножают на соответствующие коэффициенты и получают эффективную дозу - в зивертах (Зв). Единица названа в честь шведского физика Рольфа Зиверта.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c00000"/>
                </a:solidFill>
                <a:latin typeface="Georgia"/>
              </a:rPr>
              <a:t>Мощностью дозы </a:t>
            </a:r>
            <a:r>
              <a:rPr b="0" lang="ru-RU" sz="2500" spc="-1" strike="noStrike">
                <a:solidFill>
                  <a:srgbClr val="4e3b30"/>
                </a:solidFill>
                <a:latin typeface="Georgia"/>
              </a:rPr>
              <a:t>принято называть дозу, получаемую за единицу времени. Чтобы перевести мкЗв/ч в мЗв/год необходимо просто умножить число на 8,76. </a:t>
            </a:r>
            <a:endParaRPr b="0" lang="en-US" sz="25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4e3b3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Georgia"/>
              </a:rPr>
              <a:t>ДОЗА ИЗЛУЧЕНИЯ</a:t>
            </a: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179280" y="2749320"/>
            <a:ext cx="8713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07640" y="1628280"/>
            <a:ext cx="83516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- среднее значение эффективной дозы, получаемой жителем нашей планеты за год, составляет 2,4 миллизиверта (мЗв);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- доза, получаемая при</a:t>
            </a:r>
            <a:endParaRPr b="0" lang="en-US" sz="24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ежегодном флюорографическом</a:t>
            </a:r>
            <a:endParaRPr b="0" lang="en-US" sz="24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обследовании грудной клетки,</a:t>
            </a:r>
            <a:endParaRPr b="0" lang="en-US" sz="24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составляет 0,1-0,9 мЗв (в зависимости </a:t>
            </a:r>
            <a:endParaRPr b="0" lang="en-US" sz="24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от того, какой флюорограф </a:t>
            </a:r>
            <a:endParaRPr b="0" lang="en-US" sz="24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используется – цифровой</a:t>
            </a:r>
            <a:endParaRPr b="0" lang="en-US" sz="24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или устаревший пленочный); </a:t>
            </a:r>
            <a:br>
              <a:rPr sz="2400"/>
            </a:br>
            <a:br>
              <a:rPr sz="1500"/>
            </a:br>
            <a:endParaRPr b="0" lang="en-US" sz="24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10" name="TextBox 9"/>
          <p:cNvSpPr/>
          <p:nvPr/>
        </p:nvSpPr>
        <p:spPr>
          <a:xfrm>
            <a:off x="207360" y="1197000"/>
            <a:ext cx="52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Georgia"/>
                <a:ea typeface="Arial"/>
              </a:rPr>
              <a:t>Некоторые справочные да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" descr="http://upload.wikimedia.org/wikipedia/commons/8/8d/Normal_AP.JPG"/>
          <p:cNvPicPr/>
          <p:nvPr/>
        </p:nvPicPr>
        <p:blipFill>
          <a:blip r:embed="rId1"/>
          <a:stretch/>
        </p:blipFill>
        <p:spPr>
          <a:xfrm>
            <a:off x="5952960" y="2708280"/>
            <a:ext cx="319104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Georgia"/>
              </a:rPr>
              <a:t>ДОЗА ИЗЛУЧЕНИЯ</a:t>
            </a:r>
            <a:endParaRPr b="0" lang="en-US" sz="3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179280" y="2749320"/>
            <a:ext cx="8713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08000" y="1628280"/>
            <a:ext cx="8712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Georgia"/>
              </a:rPr>
              <a:t>- одна томография - это гарантированные 3-5 мЗв, полная томография - 15-20 мЗв (в частности, в США, начиная с 2000 года, облучаемость населения выросла с 3 мЗв до 6 мЗв в год именно за счет медицинских исследований)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e3b30"/>
                </a:solidFill>
                <a:latin typeface="Georgia"/>
              </a:rPr>
              <a:t>- допустимая доза, которую человек может получить от техногенных источников радиации, составляет 1 мЗв/год (отметим, что сюда не включена доза, получаемая в результате медицинских обследований);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e3b30"/>
                </a:solidFill>
                <a:latin typeface="Georgia"/>
              </a:rPr>
              <a:t>- предельно допустимая аварийная доза облучения для профессионалов-атомщиков - 250 мЗв в год. </a:t>
            </a:r>
            <a:endParaRPr b="0" lang="en-US" sz="1800" spc="-1" strike="noStrike">
              <a:solidFill>
                <a:srgbClr val="4e3b30"/>
              </a:solidFill>
              <a:latin typeface="Georgi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16" name="TextBox 9"/>
          <p:cNvSpPr/>
          <p:nvPr/>
        </p:nvSpPr>
        <p:spPr>
          <a:xfrm>
            <a:off x="207360" y="1197000"/>
            <a:ext cx="52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Georgia"/>
                <a:ea typeface="Arial"/>
              </a:rPr>
              <a:t>Некоторые справочные да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2" descr="http://trade-medical.ru/docs/image/tm16-3.jpg"/>
          <p:cNvPicPr/>
          <p:nvPr/>
        </p:nvPicPr>
        <p:blipFill>
          <a:blip r:embed="rId1"/>
          <a:stretch/>
        </p:blipFill>
        <p:spPr>
          <a:xfrm>
            <a:off x="108000" y="4149720"/>
            <a:ext cx="2838240" cy="22701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" descr="http://www.moskvia.ru/assets/templates/moskvia/images/research77_a.jpg"/>
          <p:cNvPicPr/>
          <p:nvPr/>
        </p:nvPicPr>
        <p:blipFill>
          <a:blip r:embed="rId2"/>
          <a:stretch/>
        </p:blipFill>
        <p:spPr>
          <a:xfrm>
            <a:off x="6516720" y="4149720"/>
            <a:ext cx="2292480" cy="2506680"/>
          </a:xfrm>
          <a:prstGeom prst="rect">
            <a:avLst/>
          </a:prstGeom>
          <a:ln w="0">
            <a:noFill/>
          </a:ln>
        </p:spPr>
      </p:pic>
      <p:sp>
        <p:nvSpPr>
          <p:cNvPr id="51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4" descr="http://www.spbpmc.ru/files/visual/KT/cab_ct2.jpg"/>
          <p:cNvPicPr/>
          <p:nvPr/>
        </p:nvPicPr>
        <p:blipFill>
          <a:blip r:embed="rId3"/>
          <a:stretch/>
        </p:blipFill>
        <p:spPr>
          <a:xfrm>
            <a:off x="3059280" y="4221000"/>
            <a:ext cx="316836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250920" y="1484280"/>
            <a:ext cx="8686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 </a:t>
            </a:r>
            <a:r>
              <a:rPr b="0" i="1" lang="ru-RU" sz="3200" spc="-1" strike="noStrike">
                <a:solidFill>
                  <a:srgbClr val="4e3b30"/>
                </a:solidFill>
                <a:latin typeface="Georgia"/>
              </a:rPr>
              <a:t>урановая промышленность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Georgia"/>
              </a:rPr>
              <a:t>радиохимическая промышленность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Georgia"/>
              </a:rPr>
              <a:t>места переработки и захоронения радиоактивных отходов</a:t>
            </a: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Georgia"/>
              </a:rPr>
              <a:t>использование радионуклидов в народном хозяйстве</a:t>
            </a: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Georgia"/>
              </a:rPr>
              <a:t>ядерные взрывы</a:t>
            </a: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Georgia"/>
              </a:rPr>
              <a:t>ИСТОЧНИКИ РАДИОАКТИВНОГО ЗАГРЯЗНЕНИЯ</a:t>
            </a:r>
            <a:endParaRPr b="0" lang="en-US" sz="2500" spc="-1" strike="noStrike">
              <a:solidFill>
                <a:srgbClr val="4e3b3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Georgia"/>
              </a:rPr>
              <a:t>ВОЗДЕЙСТВИЕ РАДИАЦИИ НА ТКАНИ ЧЕЛОВЕКА</a:t>
            </a:r>
            <a:endParaRPr b="0" lang="en-US" sz="2500" spc="-1" strike="noStrike">
              <a:solidFill>
                <a:srgbClr val="4e3b30"/>
              </a:solidFill>
              <a:latin typeface="Georgia"/>
            </a:endParaRPr>
          </a:p>
        </p:txBody>
      </p:sp>
      <p:pic>
        <p:nvPicPr>
          <p:cNvPr id="526" name="Рисунок 5" descr="Воздействие радиации на ткани человека"/>
          <p:cNvPicPr/>
          <p:nvPr/>
        </p:nvPicPr>
        <p:blipFill>
          <a:blip r:embed="rId1"/>
          <a:stretch/>
        </p:blipFill>
        <p:spPr>
          <a:xfrm>
            <a:off x="2987640" y="981000"/>
            <a:ext cx="47912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Georgia"/>
              </a:rPr>
              <a:t>ИСТОРИЯ ОТКРЫТИЯ РАДИОАКТИВНОСТИ</a:t>
            </a:r>
            <a:endParaRPr b="0" lang="en-US" sz="25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240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Открытие рентгеновских лучей произошло 8 ноября</a:t>
            </a:r>
            <a:endParaRPr b="0" lang="en-US" sz="2400" spc="-1" strike="noStrike">
              <a:solidFill>
                <a:srgbClr val="4e3b3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1895 г. Сообщение об открытии датировано 28 декабря. Более полутора месяцев ученый тщательно исследовал неведомые лучи. В понедельник 20 января 1896 г. Анри Пуанкаре на заседании Парижской </a:t>
            </a:r>
            <a:endParaRPr b="0" lang="en-US" sz="2400" spc="-1" strike="noStrike">
              <a:solidFill>
                <a:srgbClr val="4e3b3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Академии рассказал об открытии </a:t>
            </a:r>
            <a:endParaRPr b="0" lang="en-US" sz="2400" spc="-1" strike="noStrike">
              <a:solidFill>
                <a:srgbClr val="4e3b3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новых лучей, демонстрировал</a:t>
            </a:r>
            <a:endParaRPr b="0" lang="en-US" sz="2400" spc="-1" strike="noStrike">
              <a:solidFill>
                <a:srgbClr val="4e3b3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рентгеновские снимки и высказал </a:t>
            </a:r>
            <a:endParaRPr b="0" lang="en-US" sz="2400" spc="-1" strike="noStrike">
              <a:solidFill>
                <a:srgbClr val="4e3b3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предположение, что рентгеновское</a:t>
            </a:r>
            <a:endParaRPr b="0" lang="en-US" sz="2400" spc="-1" strike="noStrike">
              <a:solidFill>
                <a:srgbClr val="4e3b3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излучение связано с флюоресценцией </a:t>
            </a:r>
            <a:endParaRPr b="0" lang="en-US" sz="2400" spc="-1" strike="noStrike">
              <a:solidFill>
                <a:srgbClr val="4e3b3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и, возможно, возникает всегда в </a:t>
            </a:r>
            <a:endParaRPr b="0" lang="en-US" sz="2400" spc="-1" strike="noStrike">
              <a:solidFill>
                <a:srgbClr val="4e3b3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люминесцирующих веществах и </a:t>
            </a:r>
            <a:endParaRPr b="0" lang="en-US" sz="2400" spc="-1" strike="noStrike">
              <a:solidFill>
                <a:srgbClr val="4e3b3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никакой катодной трубки для </a:t>
            </a:r>
            <a:endParaRPr b="0" lang="en-US" sz="2400" spc="-1" strike="noStrike">
              <a:solidFill>
                <a:srgbClr val="4e3b3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получения Х-лучей не надо. </a:t>
            </a:r>
            <a:endParaRPr b="0" lang="en-US" sz="2400" spc="-1" strike="noStrike">
              <a:solidFill>
                <a:srgbClr val="4e3b30"/>
              </a:solidFill>
              <a:latin typeface="Georgia"/>
            </a:endParaRPr>
          </a:p>
        </p:txBody>
      </p:sp>
      <p:pic>
        <p:nvPicPr>
          <p:cNvPr id="409" name="Picture 2" descr="http://www.nanonewsnet.ru/files/users/u3/persone-puankare.jpg"/>
          <p:cNvPicPr/>
          <p:nvPr/>
        </p:nvPicPr>
        <p:blipFill>
          <a:blip r:embed="rId1"/>
          <a:stretch/>
        </p:blipFill>
        <p:spPr>
          <a:xfrm>
            <a:off x="6300720" y="2924280"/>
            <a:ext cx="2519280" cy="3384360"/>
          </a:xfrm>
          <a:prstGeom prst="rect">
            <a:avLst/>
          </a:prstGeom>
          <a:ln w="0">
            <a:noFill/>
          </a:ln>
        </p:spPr>
      </p:pic>
      <p:sp>
        <p:nvSpPr>
          <p:cNvPr id="410" name="TextBox 6"/>
          <p:cNvSpPr/>
          <p:nvPr/>
        </p:nvSpPr>
        <p:spPr>
          <a:xfrm>
            <a:off x="6744600" y="630864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Анри Пуанка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Georgia"/>
              </a:rPr>
              <a:t>ИСТОРИЯ ОТКРЫТИЯ РАДИОАКТИВНОСТИ</a:t>
            </a:r>
            <a:endParaRPr b="0" lang="en-US" sz="25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554120"/>
            <a:ext cx="8686800" cy="20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Georgia"/>
              </a:rPr>
              <a:t>В феврале 1896 г. А. Беккерель демонстрировал действие флюоресцирующего сернистого цинка на фотопластинку, завернутую в черную бумагу. Беккерель решил использовать соли урана. 24 февраля 1896 г. он доложил             академии о результатах опытов.</a:t>
            </a:r>
            <a:endParaRPr b="0" lang="en-US" sz="2400" spc="-1" strike="noStrike">
              <a:solidFill>
                <a:srgbClr val="4e3b30"/>
              </a:solidFill>
              <a:latin typeface="Georgia"/>
            </a:endParaRPr>
          </a:p>
        </p:txBody>
      </p:sp>
      <p:pic>
        <p:nvPicPr>
          <p:cNvPr id="413" name="Picture 4" descr="http://upload.wikimedia.org/wikipedia/commons/thumb/a/a3/Henri_Becquerel.jpg/200px-Henri_Becquerel.jpg"/>
          <p:cNvPicPr/>
          <p:nvPr/>
        </p:nvPicPr>
        <p:blipFill>
          <a:blip r:embed="rId1"/>
          <a:stretch/>
        </p:blipFill>
        <p:spPr>
          <a:xfrm>
            <a:off x="6300720" y="3500280"/>
            <a:ext cx="2232000" cy="2533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http://upload.wikimedia.org/wikipedia/commons/thumb/1/1e/Becquerel_plate.jpg/170px-Becquerel_plate.jpg"/>
          <p:cNvPicPr/>
          <p:nvPr/>
        </p:nvPicPr>
        <p:blipFill>
          <a:blip r:embed="rId2"/>
          <a:stretch/>
        </p:blipFill>
        <p:spPr>
          <a:xfrm>
            <a:off x="468360" y="3500280"/>
            <a:ext cx="2808360" cy="295308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7"/>
          <p:cNvSpPr/>
          <p:nvPr/>
        </p:nvSpPr>
        <p:spPr>
          <a:xfrm>
            <a:off x="3276720" y="4149720"/>
            <a:ext cx="2644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  <a:ea typeface="Arial"/>
              </a:rPr>
              <a:t>Изображение фотопластинки Беккереля, которая была засвечена излучением солей урана. Ясно видна тень металлического мальтийского креста, помещённого между пластинкой и солью ур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8"/>
          <p:cNvSpPr/>
          <p:nvPr/>
        </p:nvSpPr>
        <p:spPr>
          <a:xfrm>
            <a:off x="6443640" y="6093000"/>
            <a:ext cx="20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Arial"/>
              </a:rPr>
              <a:t>Антуан Беккер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Georgia"/>
              </a:rPr>
              <a:t>ИСТОРИЯ ОТКРЫТИЯ РАДИОАКТИВНОСТИ</a:t>
            </a:r>
            <a:endParaRPr b="0" lang="en-US" sz="25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50920" y="1196640"/>
            <a:ext cx="8686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С 24 февраля по 1 марта Беккерель установил, чтo соли урана сами по себе без всякого внешнего воздействия испускают </a:t>
            </a:r>
            <a:endParaRPr b="0" lang="en-US" sz="28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невидимые лучи, засвечивающие</a:t>
            </a:r>
            <a:endParaRPr b="0" lang="en-US" sz="28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фотопластинку и проходящие</a:t>
            </a:r>
            <a:endParaRPr b="0" lang="en-US" sz="28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ерез непрозрачные слои. </a:t>
            </a:r>
            <a:endParaRPr b="0" lang="en-US" sz="28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2 марта  Беккерель сообщил о</a:t>
            </a:r>
            <a:endParaRPr b="0" lang="en-US" sz="28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своем открытии.</a:t>
            </a:r>
            <a:endParaRPr b="0" lang="en-US" sz="28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</p:txBody>
      </p:sp>
      <p:pic>
        <p:nvPicPr>
          <p:cNvPr id="419" name="Picture 2" descr="Рис. 56. Опыт Беккереля"/>
          <p:cNvPicPr/>
          <p:nvPr/>
        </p:nvPicPr>
        <p:blipFill>
          <a:blip r:embed="rId1"/>
          <a:stretch/>
        </p:blipFill>
        <p:spPr>
          <a:xfrm>
            <a:off x="6084720" y="2276640"/>
            <a:ext cx="285768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Georgia"/>
              </a:rPr>
              <a:t>ИСТОРИЯ ОТКРЫТИЯ РАДИОАКТИВНОСТИ</a:t>
            </a:r>
            <a:endParaRPr b="0" lang="en-US" sz="25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250920" y="11966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22" name="Прямоугольник 5"/>
          <p:cNvSpPr/>
          <p:nvPr/>
        </p:nvSpPr>
        <p:spPr>
          <a:xfrm>
            <a:off x="179280" y="1197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В конце 1897 г в работу включаются Мария Склодовская и ее муж Пьер Кю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http://upload.wikimedia.org/wikipedia/commons/f/fb/Curie-nobel-portrait-2-600.jpg"/>
          <p:cNvPicPr/>
          <p:nvPr/>
        </p:nvPicPr>
        <p:blipFill>
          <a:blip r:embed="rId1"/>
          <a:stretch/>
        </p:blipFill>
        <p:spPr>
          <a:xfrm>
            <a:off x="179280" y="1557360"/>
            <a:ext cx="2016360" cy="26208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http://www.peoples.ru/science/physics/curie/curie_3.jpg"/>
          <p:cNvPicPr/>
          <p:nvPr/>
        </p:nvPicPr>
        <p:blipFill>
          <a:blip r:embed="rId2"/>
          <a:stretch/>
        </p:blipFill>
        <p:spPr>
          <a:xfrm>
            <a:off x="7020000" y="1484280"/>
            <a:ext cx="1738080" cy="237636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7"/>
          <p:cNvSpPr/>
          <p:nvPr/>
        </p:nvSpPr>
        <p:spPr>
          <a:xfrm>
            <a:off x="2556000" y="1628640"/>
            <a:ext cx="4103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Опыты Марии Склодовской-Кюри по изучению руд показали, что некоторые урановые и ториевые руды обладают «аномальной» радиоактивн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Пьер Кюри забрасывает изучение кристаллов и присоединяется к исследованиям ж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509400" y="4160880"/>
            <a:ext cx="835236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18 июля 1898 года Пьер и Мария Кюри на заседании Париж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кадемии наук выступили с сообщение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 но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радиоактивном веществе, содержащемся в смоляной обманк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Ученые заявили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Вещество, которое мы извлекли из смоля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бманки, содержит металл, еще не описанный и являющий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седом висмута по своим аналитическим свойствам. Е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существование нового металла подтвердится, мы предлага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звать его полонием, по имени родины одного из нас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Georgia"/>
              </a:rPr>
              <a:t>ИСТОРИЯ ОТКРЫТИЯ РАДИОАКТИВНОСТИ</a:t>
            </a:r>
            <a:endParaRPr b="0" lang="en-US" sz="25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50920" y="11966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29" name="TextBox 8"/>
          <p:cNvSpPr/>
          <p:nvPr/>
        </p:nvSpPr>
        <p:spPr>
          <a:xfrm>
            <a:off x="250920" y="10526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Спустя некоторое время Кюри открыли рад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"/>
          <p:cNvSpPr/>
          <p:nvPr/>
        </p:nvSpPr>
        <p:spPr>
          <a:xfrm>
            <a:off x="179280" y="1576080"/>
            <a:ext cx="8964720" cy="43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В том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же году А. Дебьерн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проверяя гипотезу Марии Кюри о наличии в урановой смолке других радиоактивных элем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кроме радия и полония, сделал очередное открытие: из смолки можно выделить высокорадиоактивное вещество, отделяющее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и фракционировании с редкоземельными элементами и титаном. Химические свойства нов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вещества отличались от свойств  радия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лония, а его активность в 100 000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вышала активность урана. В 1900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. Дебьерн сообщил о выделении эт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ового радиоактивного элемента, названного актинием. Таким образом, к началу XX века было извес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ять радиоактивных веществ: уран, тор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лоний, радий, акти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7" descr="http://img13.imageshost.ru/img/2012/12/26/image_50da72945a4dc.jpg"/>
          <p:cNvPicPr/>
          <p:nvPr/>
        </p:nvPicPr>
        <p:blipFill>
          <a:blip r:embed="rId1"/>
          <a:stretch/>
        </p:blipFill>
        <p:spPr>
          <a:xfrm>
            <a:off x="6443640" y="3164040"/>
            <a:ext cx="24811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Georgia"/>
              </a:rPr>
              <a:t>ИСТОРИЯ ОТКРЫТИЯ РАДИОАКТИВНОСТИ</a:t>
            </a:r>
            <a:endParaRPr b="0" lang="en-US" sz="25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35" name="AutoShap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"/>
          <p:cNvSpPr/>
          <p:nvPr/>
        </p:nvSpPr>
        <p:spPr>
          <a:xfrm>
            <a:off x="281520" y="1363320"/>
            <a:ext cx="9010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03 году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олтер Рамзай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редерик Содди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наруживаю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радий непрерывно выделяет также небольшое 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аза гелия. Так был обнаружен первый пример ядер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вращения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днее, уже работая в Англии, Резерфорд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дди, опираясь на гипотезу, высказанную Марией Кюр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бликуют «Теорию радиоактив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вращений», в ко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тверждают, что радиоа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элементы, даже когда кажу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изменными, находятся в состоя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мопроизвольного  распа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м быстрее процесс их превращ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м больше их актив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3" descr="http://nplit.ru/books/item/f00/s00/z0000004/pic/st001_39.jpg"/>
          <p:cNvPicPr/>
          <p:nvPr/>
        </p:nvPicPr>
        <p:blipFill>
          <a:blip r:embed="rId1"/>
          <a:stretch/>
        </p:blipFill>
        <p:spPr>
          <a:xfrm>
            <a:off x="179280" y="3429000"/>
            <a:ext cx="3810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Georgia"/>
              </a:rPr>
              <a:t>ИСТОРИЯ ОТКРЫТИЯ РАДИОАКТИВНОСТИ</a:t>
            </a:r>
            <a:endParaRPr b="0" lang="en-US" sz="25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50920" y="119700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41" name="Прямоугольник 5"/>
          <p:cNvSpPr/>
          <p:nvPr/>
        </p:nvSpPr>
        <p:spPr>
          <a:xfrm>
            <a:off x="468360" y="105264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Позднее было установлено, что все химические элементы, начиная с порядкового номера 83, являются радиоактивны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1899г. - Английский физик Э.Резерфорд в результате проведенных опытов открыл неоднородность радиоактивного изл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http://upload.wikimedia.org/wikipedia/commons/thumb/6/6a/Ernest_Rutherford.jpg/200px-Ernest_Rutherford.jpg"/>
          <p:cNvPicPr/>
          <p:nvPr/>
        </p:nvPicPr>
        <p:blipFill>
          <a:blip r:embed="rId1"/>
          <a:stretch/>
        </p:blipFill>
        <p:spPr>
          <a:xfrm>
            <a:off x="6732720" y="2060640"/>
            <a:ext cx="1904760" cy="2781360"/>
          </a:xfrm>
          <a:prstGeom prst="rect">
            <a:avLst/>
          </a:prstGeom>
          <a:ln w="0">
            <a:noFill/>
          </a:ln>
        </p:spPr>
      </p:pic>
      <p:sp>
        <p:nvSpPr>
          <p:cNvPr id="443" name="TextBox 6"/>
          <p:cNvSpPr/>
          <p:nvPr/>
        </p:nvSpPr>
        <p:spPr>
          <a:xfrm>
            <a:off x="6691680" y="4941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Эрнест Резерф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4" descr="http://class-fizika.narod.ru/9_class/35/001.jpg"/>
          <p:cNvPicPr/>
          <p:nvPr/>
        </p:nvPicPr>
        <p:blipFill>
          <a:blip r:embed="rId2"/>
          <a:stretch/>
        </p:blipFill>
        <p:spPr>
          <a:xfrm>
            <a:off x="755640" y="2276640"/>
            <a:ext cx="2382840" cy="182700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5"/>
          <p:cNvSpPr/>
          <p:nvPr/>
        </p:nvSpPr>
        <p:spPr>
          <a:xfrm>
            <a:off x="473040" y="4045680"/>
            <a:ext cx="573876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1c01"/>
                </a:solidFill>
                <a:latin typeface="Verdana"/>
                <a:ea typeface="Arial"/>
              </a:rPr>
              <a:t>В магнитном поле поток радиоактив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1c01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301c01"/>
                </a:solidFill>
                <a:latin typeface="Verdana"/>
                <a:ea typeface="Arial"/>
              </a:rPr>
              <a:t>излучения распадается</a:t>
            </a:r>
            <a:r>
              <a:rPr b="0" lang="ru-RU" sz="2000" spc="-1" strike="noStrike">
                <a:solidFill>
                  <a:srgbClr val="0066ff"/>
                </a:solidFill>
                <a:latin typeface="Verdana"/>
                <a:ea typeface="Arial"/>
              </a:rPr>
              <a:t> на 3 составляющ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1c01"/>
                </a:solidFill>
                <a:latin typeface="Verdana"/>
                <a:ea typeface="Arial"/>
              </a:rPr>
              <a:t> </a:t>
            </a:r>
            <a:r>
              <a:rPr b="0" lang="ru-RU" sz="2000" spc="-1" strike="noStrike">
                <a:solidFill>
                  <a:srgbClr val="301c01"/>
                </a:solidFill>
                <a:latin typeface="Verdana"/>
                <a:ea typeface="Arial"/>
              </a:rPr>
              <a:t>альфа- лучи, бета-лучи и гамма-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3300"/>
                </a:solidFill>
                <a:latin typeface="Verdana"/>
                <a:ea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6" descr="http://class-fizika.narod.ru/9_class/35/002.jpg"/>
          <p:cNvPicPr/>
          <p:nvPr/>
        </p:nvPicPr>
        <p:blipFill>
          <a:blip r:embed="rId3"/>
          <a:stretch/>
        </p:blipFill>
        <p:spPr>
          <a:xfrm>
            <a:off x="468360" y="5084640"/>
            <a:ext cx="44100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05:50:40Z</dcterms:created>
  <dc:creator>Папа</dc:creator>
  <dc:description/>
  <dc:language>en-US</dc:language>
  <cp:lastModifiedBy>Александра Овсянникова</cp:lastModifiedBy>
  <dcterms:modified xsi:type="dcterms:W3CDTF">2022-04-14T13:08:40Z</dcterms:modified>
  <cp:revision>76</cp:revision>
  <dc:subject/>
  <dc:title>Слайд 1</dc:title>
</cp:coreProperties>
</file>