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6FD2-0E7D-4F01-B90A-B8F4AB6B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1C2-CD86-4F1A-88F7-CF6C500B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B94-561F-40DD-B8B9-DFF36051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536-5A8C-4696-ABB5-564622CB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6CC9-901B-4B52-827E-FC9D0C3E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0FF-40DB-4F12-AA5F-CF3E68AE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7D5-E47F-4CFF-B442-152B6FCC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D00-6947-46D5-BF03-B65F5B91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1DA-192A-4B66-9E09-8192290C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DE6-2CE3-4AB9-BE34-04DEB8DA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F06-19E5-4679-B979-0365AB84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E17-0BC0-4F63-986E-B9DC699C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83c2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AEEA-8A73-4C68-A4E1-D9B4AC364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5.jpeg"/><Relationship Id="rId4" Type="http://schemas.openxmlformats.org/officeDocument/2006/relationships/image" Target="../media/image14.jpeg"/><Relationship Id="rId5" Type="http://schemas.openxmlformats.org/officeDocument/2006/relationships/image" Target="../media/image3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2.jpeg"/><Relationship Id="rId5" Type="http://schemas.openxmlformats.org/officeDocument/2006/relationships/image" Target="../media/image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9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image" Target="../media/image13.jpeg"/><Relationship Id="rId5" Type="http://schemas.openxmlformats.org/officeDocument/2006/relationships/image" Target="../media/image12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92000" y="333360"/>
            <a:ext cx="7848720" cy="30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2e7422"/>
                    </a:gs>
                    <a:gs pos="50000">
                      <a:srgbClr val="33cc33"/>
                    </a:gs>
                    <a:gs pos="100000">
                      <a:srgbClr val="2e7422"/>
                    </a:gs>
                  </a:gsLst>
                  <a:lin ang="18900000"/>
                </a:gradFill>
                <a:latin typeface="Arial"/>
              </a:rPr>
              <a:t>Атоматизация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2e7422"/>
                  </a:gs>
                  <a:gs pos="50000">
                    <a:srgbClr val="33cc33"/>
                  </a:gs>
                  <a:gs pos="100000">
                    <a:srgbClr val="2e7422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2e7422"/>
                    </a:gs>
                    <a:gs pos="50000">
                      <a:srgbClr val="33cc33"/>
                    </a:gs>
                    <a:gs pos="100000">
                      <a:srgbClr val="2e7422"/>
                    </a:gs>
                  </a:gsLst>
                  <a:lin ang="18900000"/>
                </a:gradFill>
                <a:latin typeface="Arial"/>
              </a:rPr>
              <a:t>звука [Р] в конце слов 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2e7422"/>
                  </a:gs>
                  <a:gs pos="50000">
                    <a:srgbClr val="33cc33"/>
                  </a:gs>
                  <a:gs pos="100000">
                    <a:srgbClr val="2e7422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166920" y="5013360"/>
            <a:ext cx="55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Презентация учителя-логоп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ГДОУ «Кудесница» Халько И.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395280" y="112536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311640" y="1089000"/>
            <a:ext cx="2519280" cy="25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6227640" y="1125360"/>
            <a:ext cx="251964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192720" y="400536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31164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58920" y="4005360"/>
            <a:ext cx="251928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1042920" y="3573360"/>
            <a:ext cx="140508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БО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0"/>
          <p:cNvSpPr txBox="1"/>
          <p:nvPr/>
        </p:nvSpPr>
        <p:spPr>
          <a:xfrm>
            <a:off x="3816360" y="3537000"/>
            <a:ext cx="129528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ТЕ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11"/>
          <p:cNvSpPr txBox="1"/>
          <p:nvPr/>
        </p:nvSpPr>
        <p:spPr>
          <a:xfrm>
            <a:off x="6840360" y="3608280"/>
            <a:ext cx="1440000" cy="3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МА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2"/>
          <p:cNvSpPr txBox="1"/>
          <p:nvPr/>
        </p:nvSpPr>
        <p:spPr>
          <a:xfrm>
            <a:off x="971640" y="6397560"/>
            <a:ext cx="12240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ЕФИ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13"/>
          <p:cNvSpPr txBox="1"/>
          <p:nvPr/>
        </p:nvSpPr>
        <p:spPr>
          <a:xfrm>
            <a:off x="3816360" y="6416640"/>
            <a:ext cx="12240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ОПО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WordArt 14"/>
          <p:cNvSpPr txBox="1"/>
          <p:nvPr/>
        </p:nvSpPr>
        <p:spPr>
          <a:xfrm>
            <a:off x="6730920" y="6453360"/>
            <a:ext cx="1225800" cy="33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ЕФИ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WordArt 15"/>
          <p:cNvSpPr txBox="1"/>
          <p:nvPr/>
        </p:nvSpPr>
        <p:spPr>
          <a:xfrm>
            <a:off x="179280" y="0"/>
            <a:ext cx="86407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зови только те картинки, названия </a:t>
            </a:r>
            <a:endParaRPr b="1" lang="en-US" sz="1800" spc="1" strike="noStrike">
              <a:ln w="3168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торых состоят из двух частей (слогов)</a:t>
            </a:r>
            <a:endParaRPr b="1" lang="en-US" sz="1800" spc="1" strike="noStrike">
              <a:ln w="3168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395280" y="112536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348000" y="1125360"/>
            <a:ext cx="2519280" cy="251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227640" y="1125360"/>
            <a:ext cx="251964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227640" y="400536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334800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95280" y="4005360"/>
            <a:ext cx="251928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9"/>
          <p:cNvSpPr txBox="1"/>
          <p:nvPr/>
        </p:nvSpPr>
        <p:spPr>
          <a:xfrm>
            <a:off x="3780000" y="3573360"/>
            <a:ext cx="16920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-БА-ЖУ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5" name="WordArt 10"/>
          <p:cNvSpPr txBox="1"/>
          <p:nvPr/>
        </p:nvSpPr>
        <p:spPr>
          <a:xfrm>
            <a:off x="6586560" y="3537000"/>
            <a:ext cx="198108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-ХО-МО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WordArt 13"/>
          <p:cNvSpPr txBox="1"/>
          <p:nvPr/>
        </p:nvSpPr>
        <p:spPr>
          <a:xfrm>
            <a:off x="6696000" y="6489720"/>
            <a:ext cx="190836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А-МО-ВА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WordArt 14"/>
          <p:cNvSpPr txBox="1"/>
          <p:nvPr/>
        </p:nvSpPr>
        <p:spPr>
          <a:xfrm>
            <a:off x="179280" y="0"/>
            <a:ext cx="86407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зови только те картинки, названия </a:t>
            </a:r>
            <a:endParaRPr b="1" lang="en-US" sz="1800" spc="1" strike="noStrike">
              <a:ln w="3168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торых состоят из трёх частей (слогов)</a:t>
            </a:r>
            <a:endParaRPr b="1" lang="en-US" sz="1800" spc="1" strike="noStrike">
              <a:ln w="3168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WordArt 15"/>
          <p:cNvSpPr txBox="1"/>
          <p:nvPr/>
        </p:nvSpPr>
        <p:spPr>
          <a:xfrm>
            <a:off x="6588000" y="3537000"/>
            <a:ext cx="198144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-ХО-МО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WordArt 17"/>
          <p:cNvSpPr txBox="1"/>
          <p:nvPr/>
        </p:nvSpPr>
        <p:spPr>
          <a:xfrm>
            <a:off x="3708360" y="6453360"/>
            <a:ext cx="198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-МИ-ДО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95280" y="112536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311640" y="1089000"/>
            <a:ext cx="2519280" cy="25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227640" y="1125360"/>
            <a:ext cx="251964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6192720" y="400536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31164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58920" y="4005360"/>
            <a:ext cx="251928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9"/>
          <p:cNvSpPr txBox="1"/>
          <p:nvPr/>
        </p:nvSpPr>
        <p:spPr>
          <a:xfrm>
            <a:off x="1042920" y="3573360"/>
            <a:ext cx="122544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АРЫ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WordArt 10"/>
          <p:cNvSpPr txBox="1"/>
          <p:nvPr/>
        </p:nvSpPr>
        <p:spPr>
          <a:xfrm>
            <a:off x="3384720" y="3537000"/>
            <a:ext cx="216036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ХОМОРЫ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WordArt 11"/>
          <p:cNvSpPr txBox="1"/>
          <p:nvPr/>
        </p:nvSpPr>
        <p:spPr>
          <a:xfrm>
            <a:off x="6443640" y="3537000"/>
            <a:ext cx="2124000" cy="4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МИДОРЫ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WordArt 12"/>
          <p:cNvSpPr txBox="1"/>
          <p:nvPr/>
        </p:nvSpPr>
        <p:spPr>
          <a:xfrm>
            <a:off x="1116000" y="6453360"/>
            <a:ext cx="90000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А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WordArt 13"/>
          <p:cNvSpPr txBox="1"/>
          <p:nvPr/>
        </p:nvSpPr>
        <p:spPr>
          <a:xfrm>
            <a:off x="3600360" y="6381720"/>
            <a:ext cx="1692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ХОМО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WordArt 14"/>
          <p:cNvSpPr txBox="1"/>
          <p:nvPr/>
        </p:nvSpPr>
        <p:spPr>
          <a:xfrm>
            <a:off x="6696000" y="6416640"/>
            <a:ext cx="1690920" cy="4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МИДО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WordArt 15"/>
          <p:cNvSpPr txBox="1"/>
          <p:nvPr/>
        </p:nvSpPr>
        <p:spPr>
          <a:xfrm>
            <a:off x="1224000" y="189000"/>
            <a:ext cx="66610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Много-один"</a:t>
            </a:r>
            <a:endParaRPr b="1" lang="en-US" sz="1800" spc="1" strike="noStrike">
              <a:ln w="4140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395280" y="112536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311640" y="1089000"/>
            <a:ext cx="2519280" cy="25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227640" y="1125360"/>
            <a:ext cx="251964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6192720" y="400536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31164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58920" y="4005360"/>
            <a:ext cx="251928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8"/>
          <p:cNvSpPr txBox="1"/>
          <p:nvPr/>
        </p:nvSpPr>
        <p:spPr>
          <a:xfrm>
            <a:off x="719280" y="3465360"/>
            <a:ext cx="190800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БАЖУРЫ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WordArt 9"/>
          <p:cNvSpPr txBox="1"/>
          <p:nvPr/>
        </p:nvSpPr>
        <p:spPr>
          <a:xfrm>
            <a:off x="3925800" y="3500280"/>
            <a:ext cx="158292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ОПОРЫ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WordArt 10"/>
          <p:cNvSpPr txBox="1"/>
          <p:nvPr/>
        </p:nvSpPr>
        <p:spPr>
          <a:xfrm>
            <a:off x="6838920" y="3537000"/>
            <a:ext cx="16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МАРЫ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WordArt 11"/>
          <p:cNvSpPr txBox="1"/>
          <p:nvPr/>
        </p:nvSpPr>
        <p:spPr>
          <a:xfrm>
            <a:off x="863640" y="6453360"/>
            <a:ext cx="172728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БАЖУ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WordArt 12"/>
          <p:cNvSpPr txBox="1"/>
          <p:nvPr/>
        </p:nvSpPr>
        <p:spPr>
          <a:xfrm>
            <a:off x="3887640" y="6416640"/>
            <a:ext cx="13320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ОПО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WordArt 13"/>
          <p:cNvSpPr txBox="1"/>
          <p:nvPr/>
        </p:nvSpPr>
        <p:spPr>
          <a:xfrm>
            <a:off x="6875640" y="6381720"/>
            <a:ext cx="126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МА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5" name="WordArt 14"/>
          <p:cNvSpPr txBox="1"/>
          <p:nvPr/>
        </p:nvSpPr>
        <p:spPr>
          <a:xfrm>
            <a:off x="1224000" y="189000"/>
            <a:ext cx="66610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Много-один"</a:t>
            </a:r>
            <a:endParaRPr b="1" lang="en-US" sz="1800" spc="1" strike="noStrike">
              <a:ln w="4140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16000" y="441360"/>
            <a:ext cx="8856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cc33"/>
                </a:solidFill>
                <a:uFillTx/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автоматизировать звук Р в конце с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расширять лексический зап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закреплять умение классифицировать </a:t>
            </a:r>
            <a:br>
              <a:rPr sz="3200"/>
            </a:b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предм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упражнять образовании формы единственного и множественного числа имен существительных в именительном падеж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упражнять в слоговом и фонематическом</a:t>
            </a:r>
            <a:br>
              <a:rPr sz="3200"/>
            </a:b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анализе с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развивать внимание и пам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395280" y="112536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311640" y="1089000"/>
            <a:ext cx="2519280" cy="25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227640" y="1125360"/>
            <a:ext cx="251964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192720" y="400536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31164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358920" y="4005360"/>
            <a:ext cx="251928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5"/>
          <p:cNvSpPr txBox="1"/>
          <p:nvPr/>
        </p:nvSpPr>
        <p:spPr>
          <a:xfrm>
            <a:off x="1763640" y="0"/>
            <a:ext cx="554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зови картинки</a:t>
            </a:r>
            <a:endParaRPr b="1" lang="en-US" sz="1800" spc="1" strike="noStrike">
              <a:ln w="4140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WordArt 20"/>
          <p:cNvSpPr txBox="1"/>
          <p:nvPr/>
        </p:nvSpPr>
        <p:spPr>
          <a:xfrm>
            <a:off x="1042920" y="3573360"/>
            <a:ext cx="900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А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WordArt 21"/>
          <p:cNvSpPr txBox="1"/>
          <p:nvPr/>
        </p:nvSpPr>
        <p:spPr>
          <a:xfrm>
            <a:off x="3781440" y="3573360"/>
            <a:ext cx="129528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ОПО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WordArt 22"/>
          <p:cNvSpPr txBox="1"/>
          <p:nvPr/>
        </p:nvSpPr>
        <p:spPr>
          <a:xfrm>
            <a:off x="6588000" y="3552840"/>
            <a:ext cx="1798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МИДО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WordArt 23"/>
          <p:cNvSpPr txBox="1"/>
          <p:nvPr/>
        </p:nvSpPr>
        <p:spPr>
          <a:xfrm>
            <a:off x="971640" y="6397560"/>
            <a:ext cx="12240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ЕФИ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" name="WordArt 25"/>
          <p:cNvSpPr txBox="1"/>
          <p:nvPr/>
        </p:nvSpPr>
        <p:spPr>
          <a:xfrm>
            <a:off x="3600360" y="6324480"/>
            <a:ext cx="1692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ХОМО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WordArt 26"/>
          <p:cNvSpPr txBox="1"/>
          <p:nvPr/>
        </p:nvSpPr>
        <p:spPr>
          <a:xfrm>
            <a:off x="6659640" y="6416640"/>
            <a:ext cx="12970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ЕФИ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95280" y="112536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311640" y="1089000"/>
            <a:ext cx="2519280" cy="25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227640" y="1125360"/>
            <a:ext cx="251964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192720" y="400536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31164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58920" y="4005360"/>
            <a:ext cx="251928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11"/>
          <p:cNvSpPr txBox="1"/>
          <p:nvPr/>
        </p:nvSpPr>
        <p:spPr>
          <a:xfrm>
            <a:off x="6624720" y="3500280"/>
            <a:ext cx="17622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МИДО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WordArt 12"/>
          <p:cNvSpPr txBox="1"/>
          <p:nvPr/>
        </p:nvSpPr>
        <p:spPr>
          <a:xfrm>
            <a:off x="971640" y="6416640"/>
            <a:ext cx="1332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ЕФИ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WordArt 14"/>
          <p:cNvSpPr txBox="1"/>
          <p:nvPr/>
        </p:nvSpPr>
        <p:spPr>
          <a:xfrm>
            <a:off x="6912000" y="6381720"/>
            <a:ext cx="1152360" cy="3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ЕФИ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6" name="WordArt 15"/>
          <p:cNvSpPr txBox="1"/>
          <p:nvPr/>
        </p:nvSpPr>
        <p:spPr>
          <a:xfrm>
            <a:off x="179280" y="0"/>
            <a:ext cx="87487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зови только те картинки, на которых</a:t>
            </a:r>
            <a:endParaRPr b="1" lang="en-US" sz="1800" spc="1" strike="noStrike">
              <a:ln w="3492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ображены продукты питания</a:t>
            </a:r>
            <a:endParaRPr b="1" lang="en-US" sz="1800" spc="1" strike="noStrike">
              <a:ln w="3492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358920" y="112536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311640" y="1089000"/>
            <a:ext cx="2519280" cy="25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227640" y="1125360"/>
            <a:ext cx="251964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6192720" y="400536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31164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58920" y="4005360"/>
            <a:ext cx="251928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5"/>
          <p:cNvSpPr txBox="1"/>
          <p:nvPr/>
        </p:nvSpPr>
        <p:spPr>
          <a:xfrm>
            <a:off x="3995640" y="3537000"/>
            <a:ext cx="1152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ОПО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WordArt 16"/>
          <p:cNvSpPr txBox="1"/>
          <p:nvPr/>
        </p:nvSpPr>
        <p:spPr>
          <a:xfrm>
            <a:off x="179280" y="0"/>
            <a:ext cx="87487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зови только те картинки, на которых</a:t>
            </a:r>
            <a:endParaRPr b="1" lang="en-US" sz="1800" spc="1" strike="noStrike">
              <a:ln w="3492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ображены инструменты</a:t>
            </a:r>
            <a:endParaRPr b="1" lang="en-US" sz="1800" spc="1" strike="noStrike">
              <a:ln w="3492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395280" y="112536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348000" y="1125360"/>
            <a:ext cx="2519280" cy="251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227640" y="1125360"/>
            <a:ext cx="251964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6227640" y="400536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34800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95280" y="4005360"/>
            <a:ext cx="251928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8"/>
          <p:cNvSpPr txBox="1"/>
          <p:nvPr/>
        </p:nvSpPr>
        <p:spPr>
          <a:xfrm>
            <a:off x="539640" y="0"/>
            <a:ext cx="79930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зови, запомни картинки</a:t>
            </a:r>
            <a:endParaRPr b="1" lang="en-US" sz="1800" spc="1" strike="noStrike">
              <a:ln w="4140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2" name="WordArt 9"/>
          <p:cNvSpPr txBox="1"/>
          <p:nvPr/>
        </p:nvSpPr>
        <p:spPr>
          <a:xfrm>
            <a:off x="900000" y="3573360"/>
            <a:ext cx="15480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БО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3" name="WordArt 10"/>
          <p:cNvSpPr txBox="1"/>
          <p:nvPr/>
        </p:nvSpPr>
        <p:spPr>
          <a:xfrm>
            <a:off x="4140360" y="3573360"/>
            <a:ext cx="133164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ТЕ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6732720" y="3537000"/>
            <a:ext cx="154944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МА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WordArt 12"/>
          <p:cNvSpPr txBox="1"/>
          <p:nvPr/>
        </p:nvSpPr>
        <p:spPr>
          <a:xfrm>
            <a:off x="863640" y="6381720"/>
            <a:ext cx="162072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СТЁ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6" name="WordArt 15"/>
          <p:cNvSpPr txBox="1"/>
          <p:nvPr/>
        </p:nvSpPr>
        <p:spPr>
          <a:xfrm>
            <a:off x="3672000" y="6489720"/>
            <a:ext cx="20509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АМОВА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WordArt 16"/>
          <p:cNvSpPr txBox="1"/>
          <p:nvPr/>
        </p:nvSpPr>
        <p:spPr>
          <a:xfrm>
            <a:off x="6729480" y="6489720"/>
            <a:ext cx="165888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БАЖУ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31640" y="1125360"/>
            <a:ext cx="251964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348000" y="1125360"/>
            <a:ext cx="2519280" cy="251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227640" y="1125360"/>
            <a:ext cx="251964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227640" y="404172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34800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31640" y="4005360"/>
            <a:ext cx="251964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1224000" y="189000"/>
            <a:ext cx="66610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то изменилось?</a:t>
            </a:r>
            <a:endParaRPr b="1" lang="en-US" sz="1800" spc="1" strike="noStrike">
              <a:ln w="4140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863640" y="3573360"/>
            <a:ext cx="151272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БО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3924360" y="3573360"/>
            <a:ext cx="151128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ТЕ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2 0.00532 L 0.31909 2.6827E-007 E">
                                      <p:cBhvr>
                                        <p:cTn id="18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-0.31493 0.00023 E">
                                      <p:cBhvr>
                                        <p:cTn id="18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95280" y="1125360"/>
            <a:ext cx="251928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311640" y="1125360"/>
            <a:ext cx="2519280" cy="251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227640" y="1125360"/>
            <a:ext cx="251964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227640" y="400536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1164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95280" y="4005360"/>
            <a:ext cx="251928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12"/>
          <p:cNvSpPr txBox="1"/>
          <p:nvPr/>
        </p:nvSpPr>
        <p:spPr>
          <a:xfrm>
            <a:off x="826920" y="6345360"/>
            <a:ext cx="1513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СТЁ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WordArt 14"/>
          <p:cNvSpPr txBox="1"/>
          <p:nvPr/>
        </p:nvSpPr>
        <p:spPr>
          <a:xfrm>
            <a:off x="6732720" y="6381720"/>
            <a:ext cx="161928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БАЖУ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5" name="WordArt 15"/>
          <p:cNvSpPr txBox="1"/>
          <p:nvPr/>
        </p:nvSpPr>
        <p:spPr>
          <a:xfrm>
            <a:off x="1224000" y="189000"/>
            <a:ext cx="66610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то изменилось?</a:t>
            </a:r>
            <a:endParaRPr b="1" lang="en-US" sz="1800" spc="1" strike="noStrike">
              <a:ln w="4140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32 L 0.6382 0.00023 E">
                                      <p:cBhvr>
                                        <p:cTn id="21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-0.63368 0.00532 E">
                                      <p:cBhvr>
                                        <p:cTn id="21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31640" y="1125360"/>
            <a:ext cx="2519640" cy="25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348000" y="1125360"/>
            <a:ext cx="2519280" cy="251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156360" y="1125360"/>
            <a:ext cx="2519280" cy="251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6192720" y="4005360"/>
            <a:ext cx="2519640" cy="25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348000" y="4005360"/>
            <a:ext cx="2519280" cy="251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31640" y="4005360"/>
            <a:ext cx="251964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11"/>
          <p:cNvSpPr txBox="1"/>
          <p:nvPr/>
        </p:nvSpPr>
        <p:spPr>
          <a:xfrm>
            <a:off x="6659640" y="3573360"/>
            <a:ext cx="151272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МА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WordArt 13"/>
          <p:cNvSpPr txBox="1"/>
          <p:nvPr/>
        </p:nvSpPr>
        <p:spPr>
          <a:xfrm>
            <a:off x="3780000" y="6381720"/>
            <a:ext cx="18716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АМОВАР</a:t>
            </a:r>
            <a:endParaRPr b="1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WordArt 15"/>
          <p:cNvSpPr txBox="1"/>
          <p:nvPr/>
        </p:nvSpPr>
        <p:spPr>
          <a:xfrm>
            <a:off x="1224000" y="189000"/>
            <a:ext cx="66610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то изменилось?</a:t>
            </a:r>
            <a:endParaRPr b="1" lang="en-US" sz="1800" spc="1" strike="noStrike">
              <a:ln w="4140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0.10731 L 0.31111 -0.41952 E">
                                      <p:cBhvr>
                                        <p:cTn id="24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55227E-006 L -0.31493 0.42484 E">
                                      <p:cBhvr>
                                        <p:cTn id="24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6:26:22Z</dcterms:created>
  <dc:creator>Ирина</dc:creator>
  <dc:description/>
  <dc:language>en-US</dc:language>
  <cp:lastModifiedBy>Админ</cp:lastModifiedBy>
  <dcterms:modified xsi:type="dcterms:W3CDTF">2017-06-11T20:28:05Z</dcterms:modified>
  <cp:revision>17</cp:revision>
  <dc:subject/>
  <dc:title>Слайд 1</dc:title>
</cp:coreProperties>
</file>