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2.gif" ContentType="image/gif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gif" ContentType="image/gif"/>
  <Override PartName="/ppt/media/image2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2.jpeg" ContentType="image/jpeg"/>
  <Override PartName="/ppt/media/image6.png" ContentType="image/png"/>
  <Override PartName="/ppt/media/image28.jpeg" ContentType="image/jpeg"/>
  <Override PartName="/ppt/media/image27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ABD0-DBE2-4424-9AAC-B3CDDBC57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3199-B482-47E2-8512-83BEAAF02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BE76-2053-4E4E-BC95-8F7C0CA1A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4DFD-7B15-4787-8E0C-E94EC37D9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025C-2423-48A0-864A-7636FC595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3FED-1ADD-4679-BB5C-1B18B0008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C441-4462-43BA-A529-796F47479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9183-CD04-4522-A76B-5469E5619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EA80-E353-49AE-B9C5-7C774DF03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19F6-50D9-46CB-8BDE-3E6CA97A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03C2-37DE-433B-9882-BCEE29A8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BC07-0EC7-48C5-BA96-0652833F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03F03-6466-4508-B56C-62F4B47D85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133720"/>
            <a:ext cx="816768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униципальное бюджетное дошкольное образовательное учреждение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Детский сад № 93»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иасский городской округ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Организация 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мини- музея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 в ДОУ</a:t>
            </a:r>
            <a:br>
              <a:rPr sz="4000"/>
            </a:b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7c65c83565f9t"/>
          <p:cNvPicPr/>
          <p:nvPr/>
        </p:nvPicPr>
        <p:blipFill>
          <a:blip r:embed="rId2"/>
          <a:stretch/>
        </p:blipFill>
        <p:spPr>
          <a:xfrm>
            <a:off x="7157880" y="0"/>
            <a:ext cx="1986120" cy="19861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вила поведения в мини-музе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спонаты в мини-музее разрешается трогать рукам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* Экспонаты нужно возвращать на место и ставить красиво и аккуратно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* Экспонаты нельзя ломать и забирать домой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* Можно и нужно: задавать вопросы об экспонатах, составлять рассказы и сочинять истори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* Приветствуется пополнение музея новыми экспонатами и творческими работ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1000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Бабушкин сундук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928800" y="2356920"/>
            <a:ext cx="684360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ÐÐ¾ÑÐ¾Ð¶ÐµÐµ Ð¸Ð·Ð¾Ð±ÑÐ°Ð¶ÐµÐ½Ð¸Ðµ"/>
          <p:cNvPicPr/>
          <p:nvPr/>
        </p:nvPicPr>
        <p:blipFill>
          <a:blip r:embed="rId2"/>
          <a:stretch/>
        </p:blipFill>
        <p:spPr>
          <a:xfrm>
            <a:off x="179280" y="1557360"/>
            <a:ext cx="2705040" cy="2576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ÐÐ°ÑÑÐ¸Ð½ÐºÐ¸ Ð¿Ð¾ Ð·Ð°Ð¿ÑÐ¾ÑÑ Ð¿ÑÐµÐ´Ð¼ÐµÑÑ Ð½Ð°ÑÐ¾Ð´Ð½Ð¾Ð³Ð¾ Ð±ÑÑÐ° ÐºÐ°ÑÑÐ¸Ð½ÐºÐ¸"/>
          <p:cNvPicPr/>
          <p:nvPr/>
        </p:nvPicPr>
        <p:blipFill>
          <a:blip r:embed="rId3"/>
          <a:stretch/>
        </p:blipFill>
        <p:spPr>
          <a:xfrm>
            <a:off x="2771640" y="2060640"/>
            <a:ext cx="3048120" cy="43941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ÐÐ¾ÑÐ¾Ð¶ÐµÐµ Ð¸Ð·Ð¾Ð±ÑÐ°Ð¶ÐµÐ½Ð¸Ðµ"/>
          <p:cNvPicPr/>
          <p:nvPr/>
        </p:nvPicPr>
        <p:blipFill>
          <a:blip r:embed="rId4"/>
          <a:stretch/>
        </p:blipFill>
        <p:spPr>
          <a:xfrm>
            <a:off x="5940360" y="2205000"/>
            <a:ext cx="2803680" cy="2468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ÐÐ°ÑÑÐ¸Ð½ÐºÐ¸ Ð¿Ð¾ Ð·Ð°Ð¿ÑÐ¾ÑÑ ÐºÑÑÐ¶ÐµÐ²Ð½ÑÐµ ÑÐ°Ð»ÑÐµÑÐºÐ¸ ÐºÐ°ÑÑÐ¸Ð½ÐºÐ¸"/>
          <p:cNvPicPr/>
          <p:nvPr/>
        </p:nvPicPr>
        <p:blipFill>
          <a:blip r:embed="rId5"/>
          <a:stretch/>
        </p:blipFill>
        <p:spPr>
          <a:xfrm>
            <a:off x="324000" y="4149720"/>
            <a:ext cx="2384280" cy="2428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928800" y="2356920"/>
            <a:ext cx="684360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F:\мини музей\164923400387672.jpg"/>
          <p:cNvPicPr/>
          <p:nvPr/>
        </p:nvPicPr>
        <p:blipFill>
          <a:blip r:embed="rId2"/>
          <a:stretch/>
        </p:blipFill>
        <p:spPr>
          <a:xfrm>
            <a:off x="4716360" y="1557360"/>
            <a:ext cx="4041720" cy="4248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1476360" y="268200"/>
            <a:ext cx="59040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Куклы наших бабуше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F:\мини музей\164923400388324.jpg"/>
          <p:cNvPicPr/>
          <p:nvPr/>
        </p:nvPicPr>
        <p:blipFill>
          <a:blip r:embed="rId3"/>
          <a:stretch/>
        </p:blipFill>
        <p:spPr>
          <a:xfrm>
            <a:off x="900000" y="2133720"/>
            <a:ext cx="3095640" cy="41274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928800" y="2356920"/>
            <a:ext cx="684360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1187280" y="260280"/>
            <a:ext cx="5977080" cy="79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Куклы народов мир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1" descr="F:\мини музей\1649148928146023.jpg"/>
          <p:cNvPicPr/>
          <p:nvPr/>
        </p:nvPicPr>
        <p:blipFill>
          <a:blip r:embed="rId2"/>
          <a:stretch/>
        </p:blipFill>
        <p:spPr>
          <a:xfrm>
            <a:off x="755640" y="1197000"/>
            <a:ext cx="7201080" cy="5400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1000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Музей  магнитов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928800" y="2356920"/>
            <a:ext cx="684360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F:\мини музей\1649237578704411.jpg"/>
          <p:cNvPicPr/>
          <p:nvPr/>
        </p:nvPicPr>
        <p:blipFill>
          <a:blip r:embed="rId2"/>
          <a:stretch/>
        </p:blipFill>
        <p:spPr>
          <a:xfrm>
            <a:off x="1187280" y="1773360"/>
            <a:ext cx="6780240" cy="4968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1000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Музей уральских народностей и русских промысл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928800" y="2356920"/>
            <a:ext cx="684360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C:\Documents and Settings\Администратор\Рабочий стол\фото для ОЛимпа\DSCN9796.JPG"/>
          <p:cNvPicPr/>
          <p:nvPr/>
        </p:nvPicPr>
        <p:blipFill>
          <a:blip r:embed="rId2"/>
          <a:stretch/>
        </p:blipFill>
        <p:spPr>
          <a:xfrm>
            <a:off x="1214280" y="1643040"/>
            <a:ext cx="6670800" cy="5004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10000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Музей рукодели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928800" y="2356920"/>
            <a:ext cx="684360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C:\Documents and Settings\Администратор\Рабочий стол\фото для ОЛимпа\DSCN9791.JPG"/>
          <p:cNvPicPr/>
          <p:nvPr/>
        </p:nvPicPr>
        <p:blipFill>
          <a:blip r:embed="rId2"/>
          <a:stretch/>
        </p:blipFill>
        <p:spPr>
          <a:xfrm>
            <a:off x="395280" y="1628640"/>
            <a:ext cx="4589640" cy="3441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G:\SP UFD U2\фото\IMG_9704.JPG"/>
          <p:cNvPicPr/>
          <p:nvPr/>
        </p:nvPicPr>
        <p:blipFill>
          <a:blip r:embed="rId3"/>
          <a:stretch/>
        </p:blipFill>
        <p:spPr>
          <a:xfrm>
            <a:off x="5292720" y="2924280"/>
            <a:ext cx="3340080" cy="3024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10000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Музей деревянной игрушки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928800" y="2356920"/>
            <a:ext cx="684360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C:\Documents and Settings\Администратор\Рабочий стол\фото для ОЛимпа\DSCN9804.JPG"/>
          <p:cNvPicPr/>
          <p:nvPr/>
        </p:nvPicPr>
        <p:blipFill>
          <a:blip r:embed="rId2"/>
          <a:stretch/>
        </p:blipFill>
        <p:spPr>
          <a:xfrm>
            <a:off x="324000" y="1557360"/>
            <a:ext cx="4114800" cy="4214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"/>
          <p:cNvPicPr/>
          <p:nvPr/>
        </p:nvPicPr>
        <p:blipFill>
          <a:blip r:embed="rId3"/>
          <a:stretch/>
        </p:blipFill>
        <p:spPr>
          <a:xfrm>
            <a:off x="4572000" y="2637000"/>
            <a:ext cx="4330800" cy="3240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10000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Музей сказо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928800" y="2356920"/>
            <a:ext cx="684360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2"/>
          <a:stretch/>
        </p:blipFill>
        <p:spPr>
          <a:xfrm>
            <a:off x="1042920" y="1484280"/>
            <a:ext cx="6842160" cy="5130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10000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Театральная игрушка»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928800" y="2356920"/>
            <a:ext cx="684360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C:\Documents and Settings\Администратор\Рабочий стол\фото для ОЛимпа\DSCN9783.JPG"/>
          <p:cNvPicPr/>
          <p:nvPr/>
        </p:nvPicPr>
        <p:blipFill>
          <a:blip r:embed="rId2"/>
          <a:stretch/>
        </p:blipFill>
        <p:spPr>
          <a:xfrm>
            <a:off x="1928880" y="1500120"/>
            <a:ext cx="4741920" cy="5143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2"/>
          <p:cNvGrpSpPr/>
          <p:nvPr/>
        </p:nvGrpSpPr>
        <p:grpSpPr>
          <a:xfrm>
            <a:off x="0" y="1500120"/>
            <a:ext cx="8805960" cy="5357880"/>
            <a:chOff x="0" y="1500120"/>
            <a:chExt cx="8805960" cy="5357880"/>
          </a:xfrm>
        </p:grpSpPr>
        <p:pic>
          <p:nvPicPr>
            <p:cNvPr id="44" name="Picture 4" descr="d0031b4906dbc32f423b5804d4582a73"/>
            <p:cNvPicPr/>
            <p:nvPr/>
          </p:nvPicPr>
          <p:blipFill>
            <a:blip r:embed="rId1"/>
            <a:stretch/>
          </p:blipFill>
          <p:spPr>
            <a:xfrm>
              <a:off x="0" y="4214880"/>
              <a:ext cx="130500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5" descr="8cf35879c4f8bdfae7f1282b1a0f34a9"/>
            <p:cNvPicPr/>
            <p:nvPr/>
          </p:nvPicPr>
          <p:blipFill>
            <a:blip r:embed="rId2"/>
            <a:stretch/>
          </p:blipFill>
          <p:spPr>
            <a:xfrm>
              <a:off x="0" y="2786040"/>
              <a:ext cx="130500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6" descr="angel2"/>
            <p:cNvPicPr/>
            <p:nvPr/>
          </p:nvPicPr>
          <p:blipFill>
            <a:blip r:embed="rId3"/>
            <a:stretch/>
          </p:blipFill>
          <p:spPr>
            <a:xfrm>
              <a:off x="1116000" y="5638680"/>
              <a:ext cx="130500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7" descr="angel2"/>
            <p:cNvPicPr/>
            <p:nvPr/>
          </p:nvPicPr>
          <p:blipFill>
            <a:blip r:embed="rId4"/>
            <a:stretch/>
          </p:blipFill>
          <p:spPr>
            <a:xfrm>
              <a:off x="7500960" y="5638680"/>
              <a:ext cx="130500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8" descr="d0031b4906dbc32f423b5804d4582a73"/>
            <p:cNvPicPr/>
            <p:nvPr/>
          </p:nvPicPr>
          <p:blipFill>
            <a:blip r:embed="rId5"/>
            <a:stretch/>
          </p:blipFill>
          <p:spPr>
            <a:xfrm>
              <a:off x="0" y="5638680"/>
              <a:ext cx="130500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9" descr="8cf35879c4f8bdfae7f1282b1a0f34a9"/>
            <p:cNvPicPr/>
            <p:nvPr/>
          </p:nvPicPr>
          <p:blipFill>
            <a:blip r:embed="rId6"/>
            <a:stretch/>
          </p:blipFill>
          <p:spPr>
            <a:xfrm>
              <a:off x="6286680" y="5638680"/>
              <a:ext cx="13046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10" descr="8cf35879c4f8bdfae7f1282b1a0f34a9"/>
            <p:cNvPicPr/>
            <p:nvPr/>
          </p:nvPicPr>
          <p:blipFill>
            <a:blip r:embed="rId7"/>
            <a:stretch/>
          </p:blipFill>
          <p:spPr>
            <a:xfrm>
              <a:off x="0" y="1500120"/>
              <a:ext cx="130500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11" descr="d0031b4906dbc32f423b5804d4582a73"/>
            <p:cNvPicPr/>
            <p:nvPr/>
          </p:nvPicPr>
          <p:blipFill>
            <a:blip r:embed="rId8"/>
            <a:stretch/>
          </p:blipFill>
          <p:spPr>
            <a:xfrm>
              <a:off x="2286000" y="5638680"/>
              <a:ext cx="1305000" cy="121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Прямоугольник 11"/>
          <p:cNvSpPr/>
          <p:nvPr/>
        </p:nvSpPr>
        <p:spPr>
          <a:xfrm>
            <a:off x="1258920" y="404640"/>
            <a:ext cx="7561080" cy="98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Музей </a:t>
            </a:r>
            <a:r>
              <a:rPr b="1" lang="ru-RU" sz="3200" spc="-1" strike="noStrike">
                <a:solidFill>
                  <a:srgbClr val="c00000"/>
                </a:solidFill>
                <a:latin typeface="Monotype Corsiva"/>
              </a:rPr>
              <a:t>хранит историю вещ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Monotype Corsiva"/>
              </a:rPr>
              <a:t>И тех, кого уж с нами нет,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Monotype Corsiva"/>
              </a:rPr>
              <a:t>Он будет возрастать повсюду сла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Monotype Corsiva"/>
              </a:rPr>
              <a:t>Пока гордимся мы историей сво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Monotype Corsiva"/>
              </a:rPr>
              <a:t>Слово 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МУЗЕЙ</a:t>
            </a:r>
            <a:r>
              <a:rPr b="1" lang="ru-RU" sz="3200" spc="-1" strike="noStrike">
                <a:solidFill>
                  <a:srgbClr val="c00000"/>
                </a:solidFill>
                <a:latin typeface="Monotype Corsiva"/>
              </a:rPr>
              <a:t> происходит от греческого </a:t>
            </a: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museon –</a:t>
            </a:r>
            <a:r>
              <a:rPr b="1" lang="ru-RU" sz="3200" spc="-1" strike="noStrike">
                <a:solidFill>
                  <a:srgbClr val="c00000"/>
                </a:solidFill>
                <a:latin typeface="Monotype Corsiva"/>
              </a:rPr>
              <a:t>храм муз. 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Музей </a:t>
            </a:r>
            <a:r>
              <a:rPr b="1" lang="ru-RU" sz="3200" spc="-1" strike="noStrike">
                <a:solidFill>
                  <a:srgbClr val="c00000"/>
                </a:solidFill>
                <a:latin typeface="Monotype Corsiva"/>
              </a:rPr>
              <a:t>– это научно- исследовательское учреждение, предназначенное для сбора, хранения, изучения памятников истории и культу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93636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грушки-забавы  помогают детям в адаптации к условиям детского са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928800" y="2356920"/>
            <a:ext cx="684360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C:\Documents and Settings\Администратор\Рабочий стол\фото для ОЛимпа\DSCN9782.JPG"/>
          <p:cNvPicPr/>
          <p:nvPr/>
        </p:nvPicPr>
        <p:blipFill>
          <a:blip r:embed="rId2"/>
          <a:stretch/>
        </p:blipFill>
        <p:spPr>
          <a:xfrm>
            <a:off x="900000" y="4149720"/>
            <a:ext cx="3622680" cy="2384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C:\Documents and Settings\Администратор\Рабочий стол\фото для ОЛимпа\DSCN9781.JPG"/>
          <p:cNvPicPr/>
          <p:nvPr/>
        </p:nvPicPr>
        <p:blipFill>
          <a:blip r:embed="rId3"/>
          <a:stretch/>
        </p:blipFill>
        <p:spPr>
          <a:xfrm>
            <a:off x="826920" y="1197000"/>
            <a:ext cx="3673800" cy="2752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F:\мини музей\164924726654047.jpg"/>
          <p:cNvPicPr/>
          <p:nvPr/>
        </p:nvPicPr>
        <p:blipFill>
          <a:blip r:embed="rId4"/>
          <a:stretch/>
        </p:blipFill>
        <p:spPr>
          <a:xfrm>
            <a:off x="5346720" y="1773360"/>
            <a:ext cx="3294000" cy="4392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05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олов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685800" y="428760"/>
            <a:ext cx="7772400" cy="10000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ини- музей «Динопар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F:\мини музей\1649236433439702.jpg"/>
          <p:cNvPicPr/>
          <p:nvPr/>
        </p:nvPicPr>
        <p:blipFill>
          <a:blip r:embed="rId1"/>
          <a:stretch/>
        </p:blipFill>
        <p:spPr>
          <a:xfrm>
            <a:off x="324000" y="1557360"/>
            <a:ext cx="5568840" cy="4175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F:\мини музей\1649237578702941.jpg"/>
          <p:cNvPicPr/>
          <p:nvPr/>
        </p:nvPicPr>
        <p:blipFill>
          <a:blip r:embed="rId2"/>
          <a:stretch/>
        </p:blipFill>
        <p:spPr>
          <a:xfrm>
            <a:off x="6084720" y="2276640"/>
            <a:ext cx="2862360" cy="3816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волит вести разноплановую работу с деть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ять различные метод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ть материалы для всех видов зан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сить компетентность и творческий потенциал педаго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новить образовательный проце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еличить число созданных совместно с родителями мини-музе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нообразить развивающую предметно-пространственную среду в групп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узейная технолог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Arial"/>
              </a:rPr>
              <a:t>Этапы создания мини- музе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000" y="1714320"/>
            <a:ext cx="8675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готовительный (обсуждение: что такое мини-музей, задачи, темы, разработка модели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ктический  (сбор, группировка, оформление, изготовление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ключительный (открытие, презентация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dog12"/>
          <p:cNvPicPr/>
          <p:nvPr/>
        </p:nvPicPr>
        <p:blipFill>
          <a:blip r:embed="rId1"/>
          <a:stretch/>
        </p:blipFill>
        <p:spPr>
          <a:xfrm>
            <a:off x="7164360" y="4869000"/>
            <a:ext cx="1295280" cy="1512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нципы постро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000" y="1714320"/>
            <a:ext cx="8675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ятельности и интерактив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уч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нообраз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гр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гионального компон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ультуросообраз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родосообраз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уманизации и партнер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ормы рабо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57120" y="17856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следовательская дея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навательные бес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зорные и тематические экскур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я выстав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роприятия с элементами иг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уктивная дея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12"/>
          <p:cNvGrpSpPr/>
          <p:nvPr/>
        </p:nvGrpSpPr>
        <p:grpSpPr>
          <a:xfrm>
            <a:off x="0" y="5638680"/>
            <a:ext cx="9144000" cy="1219320"/>
            <a:chOff x="0" y="5638680"/>
            <a:chExt cx="9144000" cy="1219320"/>
          </a:xfrm>
        </p:grpSpPr>
        <p:pic>
          <p:nvPicPr>
            <p:cNvPr id="61" name="Picture 4" descr="d0031b4906dbc32f423b5804d4582a73"/>
            <p:cNvPicPr/>
            <p:nvPr/>
          </p:nvPicPr>
          <p:blipFill>
            <a:blip r:embed="rId1"/>
            <a:stretch/>
          </p:blipFill>
          <p:spPr>
            <a:xfrm>
              <a:off x="2195640" y="5638680"/>
              <a:ext cx="13046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5" descr="8cf35879c4f8bdfae7f1282b1a0f34a9"/>
            <p:cNvPicPr/>
            <p:nvPr/>
          </p:nvPicPr>
          <p:blipFill>
            <a:blip r:embed="rId2"/>
            <a:stretch/>
          </p:blipFill>
          <p:spPr>
            <a:xfrm>
              <a:off x="0" y="5638680"/>
              <a:ext cx="130500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6" descr="angel2"/>
            <p:cNvPicPr/>
            <p:nvPr/>
          </p:nvPicPr>
          <p:blipFill>
            <a:blip r:embed="rId3"/>
            <a:stretch/>
          </p:blipFill>
          <p:spPr>
            <a:xfrm>
              <a:off x="1116000" y="5638680"/>
              <a:ext cx="130500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7" descr="angel2"/>
            <p:cNvPicPr/>
            <p:nvPr/>
          </p:nvPicPr>
          <p:blipFill>
            <a:blip r:embed="rId4"/>
            <a:stretch/>
          </p:blipFill>
          <p:spPr>
            <a:xfrm>
              <a:off x="5508720" y="5638680"/>
              <a:ext cx="130500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8" descr="d0031b4906dbc32f423b5804d4582a73"/>
            <p:cNvPicPr/>
            <p:nvPr/>
          </p:nvPicPr>
          <p:blipFill>
            <a:blip r:embed="rId5"/>
            <a:stretch/>
          </p:blipFill>
          <p:spPr>
            <a:xfrm>
              <a:off x="4427640" y="5638680"/>
              <a:ext cx="130500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9" descr="8cf35879c4f8bdfae7f1282b1a0f34a9"/>
            <p:cNvPicPr/>
            <p:nvPr/>
          </p:nvPicPr>
          <p:blipFill>
            <a:blip r:embed="rId6"/>
            <a:stretch/>
          </p:blipFill>
          <p:spPr>
            <a:xfrm>
              <a:off x="3276720" y="5638680"/>
              <a:ext cx="13046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10" descr="8cf35879c4f8bdfae7f1282b1a0f34a9"/>
            <p:cNvPicPr/>
            <p:nvPr/>
          </p:nvPicPr>
          <p:blipFill>
            <a:blip r:embed="rId7"/>
            <a:stretch/>
          </p:blipFill>
          <p:spPr>
            <a:xfrm>
              <a:off x="6659640" y="5638680"/>
              <a:ext cx="130500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11" descr="d0031b4906dbc32f423b5804d4582a73"/>
            <p:cNvPicPr/>
            <p:nvPr/>
          </p:nvPicPr>
          <p:blipFill>
            <a:blip r:embed="rId8"/>
            <a:stretch/>
          </p:blipFill>
          <p:spPr>
            <a:xfrm>
              <a:off x="7839000" y="5638680"/>
              <a:ext cx="1305000" cy="1219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формление мини-музее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57120" y="1412640"/>
            <a:ext cx="8229600" cy="371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мещение материала на настенных полочка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ние шир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ние стенд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ние мобил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мещение мелкого материала на сухих или искусственных ветках деревь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чень удобны в использовании стен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2"/>
          <p:cNvGrpSpPr/>
          <p:nvPr/>
        </p:nvGrpSpPr>
        <p:grpSpPr>
          <a:xfrm>
            <a:off x="0" y="5638680"/>
            <a:ext cx="9144000" cy="1219320"/>
            <a:chOff x="0" y="5638680"/>
            <a:chExt cx="9144000" cy="1219320"/>
          </a:xfrm>
        </p:grpSpPr>
        <p:pic>
          <p:nvPicPr>
            <p:cNvPr id="72" name="Picture 4" descr="d0031b4906dbc32f423b5804d4582a73"/>
            <p:cNvPicPr/>
            <p:nvPr/>
          </p:nvPicPr>
          <p:blipFill>
            <a:blip r:embed="rId1"/>
            <a:stretch/>
          </p:blipFill>
          <p:spPr>
            <a:xfrm>
              <a:off x="2195640" y="5638680"/>
              <a:ext cx="13046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Picture 5" descr="8cf35879c4f8bdfae7f1282b1a0f34a9"/>
            <p:cNvPicPr/>
            <p:nvPr/>
          </p:nvPicPr>
          <p:blipFill>
            <a:blip r:embed="rId2"/>
            <a:stretch/>
          </p:blipFill>
          <p:spPr>
            <a:xfrm>
              <a:off x="0" y="5638680"/>
              <a:ext cx="130500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6" descr="angel2"/>
            <p:cNvPicPr/>
            <p:nvPr/>
          </p:nvPicPr>
          <p:blipFill>
            <a:blip r:embed="rId3"/>
            <a:stretch/>
          </p:blipFill>
          <p:spPr>
            <a:xfrm>
              <a:off x="1116000" y="5638680"/>
              <a:ext cx="130500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7" descr="angel2"/>
            <p:cNvPicPr/>
            <p:nvPr/>
          </p:nvPicPr>
          <p:blipFill>
            <a:blip r:embed="rId4"/>
            <a:stretch/>
          </p:blipFill>
          <p:spPr>
            <a:xfrm>
              <a:off x="5508720" y="5638680"/>
              <a:ext cx="130500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8" descr="d0031b4906dbc32f423b5804d4582a73"/>
            <p:cNvPicPr/>
            <p:nvPr/>
          </p:nvPicPr>
          <p:blipFill>
            <a:blip r:embed="rId5"/>
            <a:stretch/>
          </p:blipFill>
          <p:spPr>
            <a:xfrm>
              <a:off x="4427640" y="5638680"/>
              <a:ext cx="130500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9" descr="8cf35879c4f8bdfae7f1282b1a0f34a9"/>
            <p:cNvPicPr/>
            <p:nvPr/>
          </p:nvPicPr>
          <p:blipFill>
            <a:blip r:embed="rId6"/>
            <a:stretch/>
          </p:blipFill>
          <p:spPr>
            <a:xfrm>
              <a:off x="3276720" y="5638680"/>
              <a:ext cx="13046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10" descr="8cf35879c4f8bdfae7f1282b1a0f34a9"/>
            <p:cNvPicPr/>
            <p:nvPr/>
          </p:nvPicPr>
          <p:blipFill>
            <a:blip r:embed="rId7"/>
            <a:stretch/>
          </p:blipFill>
          <p:spPr>
            <a:xfrm>
              <a:off x="6659640" y="5638680"/>
              <a:ext cx="130500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11" descr="d0031b4906dbc32f423b5804d4582a73"/>
            <p:cNvPicPr/>
            <p:nvPr/>
          </p:nvPicPr>
          <p:blipFill>
            <a:blip r:embed="rId8"/>
            <a:stretch/>
          </p:blipFill>
          <p:spPr>
            <a:xfrm>
              <a:off x="7839000" y="5638680"/>
              <a:ext cx="1305000" cy="1219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чет возраст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57120" y="17856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ание, оформление и назначение мини – музея обязательно отражает специфику возраста детей данной группы. Так, например музей «Игрушки- погремушки », «Игрушки-забавы» актуален для детей раннего возраста, а  музей «Русская изба», «Чудо- роспись», «Город мастеров» организуется в старших групп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и – музеи постоянно пополняются новыми экспонатами. Здесь же размещаются детские работы, выполненные совместно со взросл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12"/>
          <p:cNvGrpSpPr/>
          <p:nvPr/>
        </p:nvGrpSpPr>
        <p:grpSpPr>
          <a:xfrm>
            <a:off x="0" y="5638680"/>
            <a:ext cx="9144000" cy="1219320"/>
            <a:chOff x="0" y="5638680"/>
            <a:chExt cx="9144000" cy="1219320"/>
          </a:xfrm>
        </p:grpSpPr>
        <p:pic>
          <p:nvPicPr>
            <p:cNvPr id="83" name="Picture 4" descr="d0031b4906dbc32f423b5804d4582a73"/>
            <p:cNvPicPr/>
            <p:nvPr/>
          </p:nvPicPr>
          <p:blipFill>
            <a:blip r:embed="rId1"/>
            <a:stretch/>
          </p:blipFill>
          <p:spPr>
            <a:xfrm>
              <a:off x="2195640" y="5638680"/>
              <a:ext cx="13046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5" descr="8cf35879c4f8bdfae7f1282b1a0f34a9"/>
            <p:cNvPicPr/>
            <p:nvPr/>
          </p:nvPicPr>
          <p:blipFill>
            <a:blip r:embed="rId2"/>
            <a:stretch/>
          </p:blipFill>
          <p:spPr>
            <a:xfrm>
              <a:off x="0" y="5638680"/>
              <a:ext cx="130500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Picture 6" descr="angel2"/>
            <p:cNvPicPr/>
            <p:nvPr/>
          </p:nvPicPr>
          <p:blipFill>
            <a:blip r:embed="rId3"/>
            <a:stretch/>
          </p:blipFill>
          <p:spPr>
            <a:xfrm>
              <a:off x="1116000" y="5638680"/>
              <a:ext cx="130500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7" descr="angel2"/>
            <p:cNvPicPr/>
            <p:nvPr/>
          </p:nvPicPr>
          <p:blipFill>
            <a:blip r:embed="rId4"/>
            <a:stretch/>
          </p:blipFill>
          <p:spPr>
            <a:xfrm>
              <a:off x="5508720" y="5638680"/>
              <a:ext cx="130500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8" descr="d0031b4906dbc32f423b5804d4582a73"/>
            <p:cNvPicPr/>
            <p:nvPr/>
          </p:nvPicPr>
          <p:blipFill>
            <a:blip r:embed="rId5"/>
            <a:stretch/>
          </p:blipFill>
          <p:spPr>
            <a:xfrm>
              <a:off x="4427640" y="5638680"/>
              <a:ext cx="130500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9" descr="8cf35879c4f8bdfae7f1282b1a0f34a9"/>
            <p:cNvPicPr/>
            <p:nvPr/>
          </p:nvPicPr>
          <p:blipFill>
            <a:blip r:embed="rId6"/>
            <a:stretch/>
          </p:blipFill>
          <p:spPr>
            <a:xfrm>
              <a:off x="3276720" y="5638680"/>
              <a:ext cx="13046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10" descr="8cf35879c4f8bdfae7f1282b1a0f34a9"/>
            <p:cNvPicPr/>
            <p:nvPr/>
          </p:nvPicPr>
          <p:blipFill>
            <a:blip r:embed="rId7"/>
            <a:stretch/>
          </p:blipFill>
          <p:spPr>
            <a:xfrm>
              <a:off x="6659640" y="5638680"/>
              <a:ext cx="130500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11" descr="d0031b4906dbc32f423b5804d4582a73"/>
            <p:cNvPicPr/>
            <p:nvPr/>
          </p:nvPicPr>
          <p:blipFill>
            <a:blip r:embed="rId8"/>
            <a:stretch/>
          </p:blipFill>
          <p:spPr>
            <a:xfrm>
              <a:off x="7839000" y="5638680"/>
              <a:ext cx="1305000" cy="1219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дачи для педагог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5280" y="157176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ь ребёнка видеть историко-культурный контекст окружающих вещей, т.е. оценивать его с точки зрения развития истории и культур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 формировать понимание взаимосвязи исторических эпох и своей причастности к иному времени, другой культуре посредством общения с памятниками истории и культур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 формировать способность к воссозданию образа соответствующей эпохи на основе общения с культурным наследием, т.е. к художественному восприятию действи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 развивать способность к эстетическому созерцанию и сопереживани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 вызывать уважение к другим культура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развивать способность и потребность самостоятельно осваивать окружающий мир путём изучения культурного наследия разных эпох и нар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зультаты относительно дет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157176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ребенка появляется шанс стать интеллигентным человеком, с детства приобщенным к культуре и к одному из ее замечательных проявлений - музе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и, полюбив и освоив музейное пространство, станут наиболее благодарными и восприимчивыми посетителями музейных выставок и культурных событий, приобретут познавательный интерес к «настоящему» музе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детей формируется ценностное отношение к истории, появляется интерес к музеям и выставкам, развивается эмоциональный откли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04:57:52Z</dcterms:created>
  <dc:creator>ДОУ 93</dc:creator>
  <dc:description/>
  <dc:language>en-US</dc:language>
  <cp:lastModifiedBy>Татьяна</cp:lastModifiedBy>
  <dcterms:modified xsi:type="dcterms:W3CDTF">2022-04-15T12:17:10Z</dcterms:modified>
  <cp:revision>69</cp:revision>
  <dc:subject/>
  <dc:title>Управление инновационной деятельностью  в ДОУ</dc:title>
</cp:coreProperties>
</file>