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1EC-7B35-47B5-A272-205D88EE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262-F0FD-492E-B8E3-7FCF6C04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AEE-1701-436B-958D-969B1FD5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45F-520E-481E-8CF2-FB096679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2FC5-A594-4720-9262-AEEFE195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819A-3A06-47C6-BCB1-B53FE18D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A152-3D67-49A2-994E-ACAA9EF2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D45F-0DFD-4780-B600-50CD2AA9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E0B3-C9BC-4E96-AE5E-F985D3B9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ED3E-1A50-47F4-9CCF-0F837E86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F8ED-89B5-4839-A127-A904C7C3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064-3279-4B4B-8310-983B4658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655F-8055-41CE-AA1F-C84AE911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9EF5-5949-4FA2-ADCC-AD4954D8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0197-DB42-4835-8423-60835787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8B01-E4E4-4F04-87B7-982FB9E2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DCE9-169D-428A-BD80-A34CA682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591-8558-43FB-B04B-86C8D0AF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508-893D-482A-9A77-16A1D4CF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03F-47CC-406E-A92D-8A9A9B54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42C-8BB7-4D96-9A9F-F6ED45FA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060-644A-49DE-A324-08636441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2AB-6F18-4F5D-B43F-DB0CF249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BF7-22F3-47E2-BB21-B439442D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9766-66A7-4B9E-8C8A-AA8E27E74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BD35-5DFE-4C52-8530-4E5327AD89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003"/>
          <p:cNvPicPr/>
          <p:nvPr/>
        </p:nvPicPr>
        <p:blipFill>
          <a:blip r:embed="rId2"/>
          <a:stretch/>
        </p:blipFill>
        <p:spPr>
          <a:xfrm>
            <a:off x="0" y="1773360"/>
            <a:ext cx="8785080" cy="460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42"/>
          <p:cNvPicPr/>
          <p:nvPr/>
        </p:nvPicPr>
        <p:blipFill>
          <a:blip r:embed="rId3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Муниципальное бюджетное общеобразовательное  учрежд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Теве-Хаинская средняя общеобразовательная школ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муниципального района Дзун-Хемчикский кожуун Республи Тыва</a:t>
            </a:r>
            <a:br>
              <a:rPr sz="1600"/>
            </a:b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45"/>
          <p:cNvPicPr/>
          <p:nvPr/>
        </p:nvPicPr>
        <p:blipFill>
          <a:blip r:embed="rId4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46"/>
          <p:cNvPicPr/>
          <p:nvPr/>
        </p:nvPicPr>
        <p:blipFill>
          <a:blip r:embed="rId5"/>
          <a:stretch/>
        </p:blipFill>
        <p:spPr>
          <a:xfrm>
            <a:off x="4500720" y="6237360"/>
            <a:ext cx="3228840" cy="48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43"/>
          <p:cNvPicPr/>
          <p:nvPr/>
        </p:nvPicPr>
        <p:blipFill>
          <a:blip r:embed="rId6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ортфол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учителя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Куулар Аясмаа Маадыр-оол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с. Теве-Хая 2021-2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тивность деятельности педагогического работни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витию обучающих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  развитие способностей  обучающихся  к научной (интеллектуальной), творческой, физкультурно-спортив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46"/>
          <p:cNvPicPr/>
          <p:nvPr/>
        </p:nvPicPr>
        <p:blipFill>
          <a:blip r:embed="rId4"/>
          <a:stretch/>
        </p:blipFill>
        <p:spPr>
          <a:xfrm>
            <a:off x="611280" y="2889360"/>
            <a:ext cx="485640" cy="3228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43"/>
          <p:cNvPicPr/>
          <p:nvPr/>
        </p:nvPicPr>
        <p:blipFill>
          <a:blip r:embed="rId5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C:\Users\Белек\Documents\Аттестация Куулар А.М\2017-10-07 Аясмаа\Аясмаа 001.jpg"/>
          <p:cNvPicPr/>
          <p:nvPr/>
        </p:nvPicPr>
        <p:blipFill>
          <a:blip r:embed="rId6"/>
          <a:stretch/>
        </p:blipFill>
        <p:spPr>
          <a:xfrm>
            <a:off x="1547640" y="2347920"/>
            <a:ext cx="5328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тивность деятельности педагогического работни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витию обучающих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4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  развитие способностей  обучающихся  к научной (интеллектуальной), творческой, физкультурно-спортив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46"/>
          <p:cNvPicPr/>
          <p:nvPr/>
        </p:nvPicPr>
        <p:blipFill>
          <a:blip r:embed="rId4"/>
          <a:stretch/>
        </p:blipFill>
        <p:spPr>
          <a:xfrm>
            <a:off x="830160" y="2690640"/>
            <a:ext cx="486000" cy="3229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43"/>
          <p:cNvPicPr/>
          <p:nvPr/>
        </p:nvPicPr>
        <p:blipFill>
          <a:blip r:embed="rId5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Белек\Documents\Аттестация Куулар А.М\2017-10-07 Аясмаа\Аясмаа 006.jpg"/>
          <p:cNvPicPr/>
          <p:nvPr/>
        </p:nvPicPr>
        <p:blipFill>
          <a:blip r:embed="rId6"/>
          <a:stretch/>
        </p:blipFill>
        <p:spPr>
          <a:xfrm>
            <a:off x="2916360" y="2324160"/>
            <a:ext cx="3039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тивность деятельности педагогического работни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витию обучающих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  развитие способностей  обучающихся  к научной (интеллектуальной), творческой, физкультурно-спортив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1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46"/>
          <p:cNvPicPr/>
          <p:nvPr/>
        </p:nvPicPr>
        <p:blipFill>
          <a:blip r:embed="rId4"/>
          <a:stretch/>
        </p:blipFill>
        <p:spPr>
          <a:xfrm>
            <a:off x="179280" y="2854440"/>
            <a:ext cx="486000" cy="322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43"/>
          <p:cNvPicPr/>
          <p:nvPr/>
        </p:nvPicPr>
        <p:blipFill>
          <a:blip r:embed="rId5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Users\Белек\Pictures\2017-04-11  Аяна\аяна 001.jpg"/>
          <p:cNvPicPr/>
          <p:nvPr/>
        </p:nvPicPr>
        <p:blipFill>
          <a:blip r:embed="rId6"/>
          <a:stretch/>
        </p:blipFill>
        <p:spPr>
          <a:xfrm>
            <a:off x="900000" y="2324160"/>
            <a:ext cx="3065400" cy="4219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Белек\Pictures\2017-04-11  Аяна\аяна 002.jpg"/>
          <p:cNvPicPr/>
          <p:nvPr/>
        </p:nvPicPr>
        <p:blipFill>
          <a:blip r:embed="rId7"/>
          <a:stretch/>
        </p:blipFill>
        <p:spPr>
          <a:xfrm>
            <a:off x="4211640" y="2324160"/>
            <a:ext cx="3009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0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тивность деятельности педагогического работни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витию обучающих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  развитие способностей  обучающихся  к научной (интеллектуальной), творческой, физкультурно-спортив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46"/>
          <p:cNvPicPr/>
          <p:nvPr/>
        </p:nvPicPr>
        <p:blipFill>
          <a:blip r:embed="rId4"/>
          <a:stretch/>
        </p:blipFill>
        <p:spPr>
          <a:xfrm>
            <a:off x="826920" y="2637000"/>
            <a:ext cx="486000" cy="3228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43"/>
          <p:cNvPicPr/>
          <p:nvPr/>
        </p:nvPicPr>
        <p:blipFill>
          <a:blip r:embed="rId5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Белек\Documents\Аттестация Куулар А.М\2017-10-07 Аясмаа\Аясмаа 015.jpg"/>
          <p:cNvPicPr/>
          <p:nvPr/>
        </p:nvPicPr>
        <p:blipFill>
          <a:blip r:embed="rId6"/>
          <a:stretch/>
        </p:blipFill>
        <p:spPr>
          <a:xfrm>
            <a:off x="2843280" y="2403360"/>
            <a:ext cx="30240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тивность деятельности педагогического работни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витию обучающих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я на научно-практических конференци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чтениях, фестивал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46"/>
          <p:cNvPicPr/>
          <p:nvPr/>
        </p:nvPicPr>
        <p:blipFill>
          <a:blip r:embed="rId4"/>
          <a:stretch/>
        </p:blipFill>
        <p:spPr>
          <a:xfrm>
            <a:off x="944640" y="2924280"/>
            <a:ext cx="485640" cy="3228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43"/>
          <p:cNvPicPr/>
          <p:nvPr/>
        </p:nvPicPr>
        <p:blipFill>
          <a:blip r:embed="rId5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C:\Users\Белек\Documents\Аттестация Куулар А.М\2017-10-07 Аясмаа\Аясмаа 002.jpg"/>
          <p:cNvPicPr/>
          <p:nvPr/>
        </p:nvPicPr>
        <p:blipFill>
          <a:blip r:embed="rId6"/>
          <a:stretch/>
        </p:blipFill>
        <p:spPr>
          <a:xfrm>
            <a:off x="2916360" y="2333520"/>
            <a:ext cx="30272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0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тивность деятельности педагогического работни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витию обучающих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я на научно-практических конференци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чтениях, фестивал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46"/>
          <p:cNvPicPr/>
          <p:nvPr/>
        </p:nvPicPr>
        <p:blipFill>
          <a:blip r:embed="rId4"/>
          <a:stretch/>
        </p:blipFill>
        <p:spPr>
          <a:xfrm>
            <a:off x="457200" y="2637000"/>
            <a:ext cx="485640" cy="3228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43"/>
          <p:cNvPicPr/>
          <p:nvPr/>
        </p:nvPicPr>
        <p:blipFill>
          <a:blip r:embed="rId5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Белек\Documents\Аттестация Куулар А.М\2017-10-07 Аясмаа\Аясмаа 004.jpg"/>
          <p:cNvPicPr/>
          <p:nvPr/>
        </p:nvPicPr>
        <p:blipFill>
          <a:blip r:embed="rId6"/>
          <a:stretch/>
        </p:blipFill>
        <p:spPr>
          <a:xfrm>
            <a:off x="4543560" y="2471760"/>
            <a:ext cx="2917800" cy="3989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Users\Белек\Documents\Аттестация Куулар А.М\2017-10-07 Аясмаа\Аясмаа 005.jpg"/>
          <p:cNvPicPr/>
          <p:nvPr/>
        </p:nvPicPr>
        <p:blipFill>
          <a:blip r:embed="rId7"/>
          <a:stretch/>
        </p:blipFill>
        <p:spPr>
          <a:xfrm>
            <a:off x="1258920" y="2436840"/>
            <a:ext cx="302580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тивность деятельности педагогического работни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витию обучающих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1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46"/>
          <p:cNvPicPr/>
          <p:nvPr/>
        </p:nvPicPr>
        <p:blipFill>
          <a:blip r:embed="rId4"/>
          <a:stretch/>
        </p:blipFill>
        <p:spPr>
          <a:xfrm>
            <a:off x="457200" y="2637000"/>
            <a:ext cx="485640" cy="3228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43"/>
          <p:cNvPicPr/>
          <p:nvPr/>
        </p:nvPicPr>
        <p:blipFill>
          <a:blip r:embed="rId5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Белек\Documents\Аттестация Куулар А.М\2017-10-07 Аясмаа\Аясмаа 009.jpg"/>
          <p:cNvPicPr/>
          <p:nvPr/>
        </p:nvPicPr>
        <p:blipFill>
          <a:blip r:embed="rId6"/>
          <a:stretch/>
        </p:blipFill>
        <p:spPr>
          <a:xfrm>
            <a:off x="1258920" y="1965240"/>
            <a:ext cx="2665440" cy="3316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Users\Белек\Documents\Аттестация Куулар А.М\2017-10-07 Аясмаа\Аясмаа 010.jpg"/>
          <p:cNvPicPr/>
          <p:nvPr/>
        </p:nvPicPr>
        <p:blipFill>
          <a:blip r:embed="rId7"/>
          <a:stretch/>
        </p:blipFill>
        <p:spPr>
          <a:xfrm>
            <a:off x="1258920" y="5281560"/>
            <a:ext cx="2665440" cy="1246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Users\Белек\Documents\Аттестация Куулар А.М\2017-10-07 Аясмаа\Аясмаа 011.jpg"/>
          <p:cNvPicPr/>
          <p:nvPr/>
        </p:nvPicPr>
        <p:blipFill>
          <a:blip r:embed="rId8"/>
          <a:stretch/>
        </p:blipFill>
        <p:spPr>
          <a:xfrm>
            <a:off x="4211640" y="2068560"/>
            <a:ext cx="32655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тивность деятельности педагогического работни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витию обучающих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46"/>
          <p:cNvPicPr/>
          <p:nvPr/>
        </p:nvPicPr>
        <p:blipFill>
          <a:blip r:embed="rId4"/>
          <a:stretch/>
        </p:blipFill>
        <p:spPr>
          <a:xfrm>
            <a:off x="457200" y="2637000"/>
            <a:ext cx="485640" cy="3228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43"/>
          <p:cNvPicPr/>
          <p:nvPr/>
        </p:nvPicPr>
        <p:blipFill>
          <a:blip r:embed="rId5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Белек\Documents\Аттестация Монгуш П.Ч\2017-10-06 Полина\Полина 001.jpg"/>
          <p:cNvPicPr/>
          <p:nvPr/>
        </p:nvPicPr>
        <p:blipFill>
          <a:blip r:embed="rId6"/>
          <a:stretch/>
        </p:blipFill>
        <p:spPr>
          <a:xfrm>
            <a:off x="874800" y="2000160"/>
            <a:ext cx="3313080" cy="4560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Белек\Documents\Аттестация Монгуш П.Ч\2017-10-06 Полина\Полина 002.jpg"/>
          <p:cNvPicPr/>
          <p:nvPr/>
        </p:nvPicPr>
        <p:blipFill>
          <a:blip r:embed="rId7"/>
          <a:stretch/>
        </p:blipFill>
        <p:spPr>
          <a:xfrm>
            <a:off x="4381560" y="2038320"/>
            <a:ext cx="314172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0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ичие государственных и отраслевых, муниципальных поощрений (наград грамот, благодарностей, звани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46"/>
          <p:cNvPicPr/>
          <p:nvPr/>
        </p:nvPicPr>
        <p:blipFill>
          <a:blip r:embed="rId4"/>
          <a:stretch/>
        </p:blipFill>
        <p:spPr>
          <a:xfrm>
            <a:off x="457200" y="2637000"/>
            <a:ext cx="485640" cy="32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43"/>
          <p:cNvPicPr/>
          <p:nvPr/>
        </p:nvPicPr>
        <p:blipFill>
          <a:blip r:embed="rId5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Белек\Documents\Аттестация Куулар А.М\2017-10-07 Аясмаа\Аясмаа 016.jpg"/>
          <p:cNvPicPr/>
          <p:nvPr/>
        </p:nvPicPr>
        <p:blipFill>
          <a:blip r:embed="rId6"/>
          <a:stretch/>
        </p:blipFill>
        <p:spPr>
          <a:xfrm>
            <a:off x="2630520" y="1844640"/>
            <a:ext cx="33480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44"/>
          <p:cNvPicPr/>
          <p:nvPr/>
        </p:nvPicPr>
        <p:blipFill>
          <a:blip r:embed="rId1"/>
          <a:stretch/>
        </p:blipFill>
        <p:spPr>
          <a:xfrm>
            <a:off x="9360" y="-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Общие сведения об уч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885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ФИО: </a:t>
            </a: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Куулар Аясмаа Маадыр-оол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бразование: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высшее, Красноярский государстве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педагогический университет, 2009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Должность: </a:t>
            </a: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бщий стаж рабо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29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Квалификационная категор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пер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46"/>
          <p:cNvPicPr/>
          <p:nvPr/>
        </p:nvPicPr>
        <p:blipFill>
          <a:blip r:embed="rId4"/>
          <a:stretch/>
        </p:blipFill>
        <p:spPr>
          <a:xfrm>
            <a:off x="2530440" y="5373720"/>
            <a:ext cx="3228840" cy="48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43"/>
          <p:cNvPicPr/>
          <p:nvPr/>
        </p:nvPicPr>
        <p:blipFill>
          <a:blip r:embed="rId5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C:\Users\Белек\Desktop\мад.jpg"/>
          <p:cNvPicPr/>
          <p:nvPr/>
        </p:nvPicPr>
        <p:blipFill>
          <a:blip r:embed="rId6"/>
          <a:stretch/>
        </p:blipFill>
        <p:spPr>
          <a:xfrm>
            <a:off x="195120" y="2004840"/>
            <a:ext cx="24814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42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овышение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45"/>
          <p:cNvPicPr/>
          <p:nvPr/>
        </p:nvPicPr>
        <p:blipFill>
          <a:blip r:embed="rId2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46"/>
          <p:cNvPicPr/>
          <p:nvPr/>
        </p:nvPicPr>
        <p:blipFill>
          <a:blip r:embed="rId3"/>
          <a:stretch/>
        </p:blipFill>
        <p:spPr>
          <a:xfrm>
            <a:off x="501480" y="2349360"/>
            <a:ext cx="511200" cy="322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43"/>
          <p:cNvPicPr/>
          <p:nvPr/>
        </p:nvPicPr>
        <p:blipFill>
          <a:blip r:embed="rId4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Белек\Documents\Аттестация Куулар А.М\2017-10-07 Аясмаа\Аясмаа 012.jpg"/>
          <p:cNvPicPr/>
          <p:nvPr/>
        </p:nvPicPr>
        <p:blipFill>
          <a:blip r:embed="rId5"/>
          <a:stretch/>
        </p:blipFill>
        <p:spPr>
          <a:xfrm>
            <a:off x="1187280" y="1736640"/>
            <a:ext cx="619308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42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овышение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45"/>
          <p:cNvPicPr/>
          <p:nvPr/>
        </p:nvPicPr>
        <p:blipFill>
          <a:blip r:embed="rId2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46"/>
          <p:cNvPicPr/>
          <p:nvPr/>
        </p:nvPicPr>
        <p:blipFill>
          <a:blip r:embed="rId3"/>
          <a:stretch/>
        </p:blipFill>
        <p:spPr>
          <a:xfrm>
            <a:off x="493560" y="2503440"/>
            <a:ext cx="486000" cy="322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43"/>
          <p:cNvPicPr/>
          <p:nvPr/>
        </p:nvPicPr>
        <p:blipFill>
          <a:blip r:embed="rId4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Белек\Documents\Аттестация Куулар А.М\2017-10-07 Аясмаа\Аясмаа 013.jpg"/>
          <p:cNvPicPr/>
          <p:nvPr/>
        </p:nvPicPr>
        <p:blipFill>
          <a:blip r:embed="rId5"/>
          <a:stretch/>
        </p:blipFill>
        <p:spPr>
          <a:xfrm>
            <a:off x="1116000" y="1844640"/>
            <a:ext cx="63356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42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овышение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45"/>
          <p:cNvPicPr/>
          <p:nvPr/>
        </p:nvPicPr>
        <p:blipFill>
          <a:blip r:embed="rId2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46"/>
          <p:cNvPicPr/>
          <p:nvPr/>
        </p:nvPicPr>
        <p:blipFill>
          <a:blip r:embed="rId3"/>
          <a:stretch/>
        </p:blipFill>
        <p:spPr>
          <a:xfrm>
            <a:off x="324000" y="2133720"/>
            <a:ext cx="485640" cy="32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43"/>
          <p:cNvPicPr/>
          <p:nvPr/>
        </p:nvPicPr>
        <p:blipFill>
          <a:blip r:embed="rId4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Белек\Documents\Аттестация Куулар А.М\2017-10-07 Аясмаа\Аясмаа 014.jpg"/>
          <p:cNvPicPr/>
          <p:nvPr/>
        </p:nvPicPr>
        <p:blipFill>
          <a:blip r:embed="rId5"/>
          <a:stretch/>
        </p:blipFill>
        <p:spPr>
          <a:xfrm>
            <a:off x="1116000" y="1916280"/>
            <a:ext cx="615636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освоения обучающимися образовательных программ, качество знаний учащихся по итогам внутришкольного контро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46"/>
          <p:cNvPicPr/>
          <p:nvPr/>
        </p:nvPicPr>
        <p:blipFill>
          <a:blip r:embed="rId4"/>
          <a:stretch/>
        </p:blipFill>
        <p:spPr>
          <a:xfrm>
            <a:off x="2627280" y="5705640"/>
            <a:ext cx="3228840" cy="48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43"/>
          <p:cNvPicPr/>
          <p:nvPr/>
        </p:nvPicPr>
        <p:blipFill>
          <a:blip r:embed="rId5"/>
          <a:stretch/>
        </p:blipFill>
        <p:spPr>
          <a:xfrm>
            <a:off x="8201160" y="5149800"/>
            <a:ext cx="684000" cy="145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179280" y="1773360"/>
          <a:ext cx="8458200" cy="3311280"/>
        </p:xfrm>
        <a:graphic>
          <a:graphicData uri="http://schemas.openxmlformats.org/drawingml/2006/table">
            <a:tbl>
              <a:tblPr/>
              <a:tblGrid>
                <a:gridCol w="1571760"/>
                <a:gridCol w="981000"/>
                <a:gridCol w="696960"/>
                <a:gridCol w="730080"/>
                <a:gridCol w="729000"/>
                <a:gridCol w="706320"/>
                <a:gridCol w="655560"/>
                <a:gridCol w="817560"/>
                <a:gridCol w="816120"/>
                <a:gridCol w="753840"/>
              </a:tblGrid>
              <a:tr h="846000"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 rowSpan="4"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бучающихся, освоивших образовательные программы по основным предме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освоения обучающимися образовательных программ по итогам мониторинга системы образов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СОКО, качество знаний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520">
              <a:lnSpc>
                <a:spcPct val="100000"/>
              </a:lnSpc>
              <a:tabLst>
                <a:tab algn="l" pos="0"/>
                <a:tab algn="l" pos="11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46"/>
          <p:cNvPicPr/>
          <p:nvPr/>
        </p:nvPicPr>
        <p:blipFill>
          <a:blip r:embed="rId4"/>
          <a:stretch/>
        </p:blipFill>
        <p:spPr>
          <a:xfrm>
            <a:off x="2484360" y="5621400"/>
            <a:ext cx="3229200" cy="48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43"/>
          <p:cNvPicPr/>
          <p:nvPr/>
        </p:nvPicPr>
        <p:blipFill>
          <a:blip r:embed="rId5"/>
          <a:stretch/>
        </p:blipFill>
        <p:spPr>
          <a:xfrm>
            <a:off x="8101080" y="5157720"/>
            <a:ext cx="663480" cy="141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79280" y="1916280"/>
          <a:ext cx="8458200" cy="3168360"/>
        </p:xfrm>
        <a:graphic>
          <a:graphicData uri="http://schemas.openxmlformats.org/drawingml/2006/table">
            <a:tbl>
              <a:tblPr/>
              <a:tblGrid>
                <a:gridCol w="1571760"/>
                <a:gridCol w="981000"/>
                <a:gridCol w="696960"/>
                <a:gridCol w="730080"/>
                <a:gridCol w="729000"/>
                <a:gridCol w="706320"/>
                <a:gridCol w="655560"/>
                <a:gridCol w="817560"/>
                <a:gridCol w="816120"/>
                <a:gridCol w="753840"/>
              </a:tblGrid>
              <a:tr h="703080"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 rowSpan="4"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бучающихся, освоивших образовательные программы по основным предме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тивность деятельности педагогического работни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витию обучающих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участия обучающихся в предметных олимпи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46"/>
          <p:cNvPicPr/>
          <p:nvPr/>
        </p:nvPicPr>
        <p:blipFill>
          <a:blip r:embed="rId4"/>
          <a:stretch/>
        </p:blipFill>
        <p:spPr>
          <a:xfrm>
            <a:off x="895320" y="2637000"/>
            <a:ext cx="485640" cy="322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43"/>
          <p:cNvPicPr/>
          <p:nvPr/>
        </p:nvPicPr>
        <p:blipFill>
          <a:blip r:embed="rId5"/>
          <a:stretch/>
        </p:blipFill>
        <p:spPr>
          <a:xfrm>
            <a:off x="7629480" y="36385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Белек\Documents\Аттестация Куулар А.М\2017-10-07 Аясмаа\Аясмаа 003.jpg"/>
          <p:cNvPicPr/>
          <p:nvPr/>
        </p:nvPicPr>
        <p:blipFill>
          <a:blip r:embed="rId6"/>
          <a:stretch/>
        </p:blipFill>
        <p:spPr>
          <a:xfrm>
            <a:off x="2627280" y="2151000"/>
            <a:ext cx="32400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42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13604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тивность деятельности педагогического работни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витию обучающих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  развитие способностей  обучающихся  к научной (интеллектуальной), творческой, физкультурно-спортив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45"/>
          <p:cNvPicPr/>
          <p:nvPr/>
        </p:nvPicPr>
        <p:blipFill>
          <a:blip r:embed="rId3"/>
          <a:stretch/>
        </p:blipFill>
        <p:spPr>
          <a:xfrm>
            <a:off x="0" y="661032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6"/>
          <p:cNvPicPr/>
          <p:nvPr/>
        </p:nvPicPr>
        <p:blipFill>
          <a:blip r:embed="rId4"/>
          <a:stretch/>
        </p:blipFill>
        <p:spPr>
          <a:xfrm>
            <a:off x="733320" y="2583000"/>
            <a:ext cx="486000" cy="3228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43"/>
          <p:cNvPicPr/>
          <p:nvPr/>
        </p:nvPicPr>
        <p:blipFill>
          <a:blip r:embed="rId5"/>
          <a:stretch/>
        </p:blipFill>
        <p:spPr>
          <a:xfrm>
            <a:off x="7629480" y="350532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C:\Users\Белек\Documents\Аттестация Куулар А.М\2017-10-07 Аясмаа\Аясмаа 007.jpg"/>
          <p:cNvPicPr/>
          <p:nvPr/>
        </p:nvPicPr>
        <p:blipFill>
          <a:blip r:embed="rId6"/>
          <a:stretch/>
        </p:blipFill>
        <p:spPr>
          <a:xfrm>
            <a:off x="2771640" y="2278080"/>
            <a:ext cx="305604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50:04Z</dcterms:created>
  <dc:creator>Юлия</dc:creator>
  <dc:description/>
  <dc:language>en-US</dc:language>
  <cp:lastModifiedBy>Пользователь</cp:lastModifiedBy>
  <cp:lastPrinted>2017-10-09T02:48:16Z</cp:lastPrinted>
  <dcterms:modified xsi:type="dcterms:W3CDTF">2022-01-31T14:04:30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10000000000010291410207f7000400038000</vt:lpwstr>
  </property>
</Properties>
</file>