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BDD-9A61-46E4-BC11-B0F4641C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C65-767A-4246-B931-AC7583D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388-A6B9-4D18-97F9-CAB7818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632-4250-4366-827F-1D3702E3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721-138F-48AD-87CD-3554D838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427-5EA6-4639-BE44-757876C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FFE8-6CD9-414E-88FA-26162EBA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7B2-BDF7-41ED-BA57-9DB8F6FC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E85-532D-418F-832A-64AEC1E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2DC1-5C18-4BD4-A4E1-201FA97D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70A6-346A-4B53-AE3E-0E036B04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006-D963-41F1-830B-412C06E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92E6-2CB8-426D-851E-953F728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EAD-834D-4974-8B1C-C93B4FA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54EC-122E-4817-A711-08C3E8C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E58A-830D-417A-BEF5-A1C954BB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E8E-053A-4933-908C-1B72B140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2AF3-3847-41B3-9CC0-BCD7F414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504A-9470-48D0-AA6E-10EEE96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BA6A-395F-4335-A83F-12C25AD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3526-EFD7-4573-9700-6C25BBF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1FEE-F640-48EE-9B90-EC04C0E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41B-EB17-48BF-B669-700461A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920D-B08B-48F2-8DEC-3134BDD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D363-BCF0-4ECB-987B-A406D62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6AB4-CA71-4F2A-8C71-A5B3161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384C-FC1A-4AA8-8121-2AF27469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0F35-27DB-4BBA-833A-0E6C9E3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EE55-76CB-4E27-A14F-D83BECF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829E-893B-4A43-AB61-D292B5A0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CC68-0B4C-4E73-BCD1-66FF3F0E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A150-D65D-4CA9-AE4C-C2FA9366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47FB-C54B-4EFB-A29B-099E757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7D3-49E7-464C-9593-D3DABCBA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FF92-34D4-4FA2-91F0-E68C6E87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0753-F088-4ACC-AD94-64CBED1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E9FA-1F19-471A-A4BC-46AA7F3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D820-755A-4D42-A700-FB63906D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B659-4D87-4149-B3A4-A12C3CE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2869-9410-4BE2-8434-5254447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2E87-0E93-4BE6-B111-CBCA37A8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93B6-8891-4091-824A-F594211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9092-4865-4C45-94D2-58768DC9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9454-D198-40BA-AD7C-D6680F0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9DB-B7A3-4733-8191-8CB08B3B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17C4-E992-4830-A6A5-FC68C27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2DF4-0326-4296-B3AF-4925BD6E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C716-01AD-4094-94A3-8DD6E7E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F143-0CBF-4895-B9A6-F61FCD5D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E2FC-929D-4DE5-AFFA-FA6A82CC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F748-0709-479B-BC72-2690E66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57A0-C472-4D79-9DB7-B7E92DB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516B-A603-4F0F-BB8A-7360068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5CA4-7B63-4E48-A300-EC07D71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B61B-0096-45C5-B411-5670C47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6B4-8B5E-4ED2-9FEE-1F34F86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00C65-432B-48F4-B954-3AFDAC2D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0C3-8FA0-418B-B4D2-F3374A0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7DB-F5FB-41D0-9A98-0DF33A6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78-3E6B-419A-ABB2-13EF15B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23232"/>
                </a:solidFill>
                <a:latin typeface="Arial Black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6DB-6A3C-40F2-A109-F2A1E1D12676}" type="slidenum">
              <a:rPr b="1" lang="ru-RU" sz="1000" spc="-1" strike="noStrike">
                <a:solidFill>
                  <a:srgbClr val="a7a399"/>
                </a:solidFill>
                <a:latin typeface="Arial Blac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23232"/>
                </a:solidFill>
                <a:latin typeface="Arial Black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D24-8972-40D7-A0B8-42C9D86B8A12}" type="slidenum">
              <a:rPr b="1" lang="ru-RU" sz="1000" spc="-1" strike="noStrike">
                <a:solidFill>
                  <a:srgbClr val="a7a399"/>
                </a:solidFill>
                <a:latin typeface="Arial Blac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323232"/>
                </a:solidFill>
                <a:latin typeface="Arial Black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2F9B-DF12-40AC-AC6B-4D0F19068D21}" type="slidenum">
              <a:rPr b="1" lang="ru-RU" sz="1000" spc="-1" strike="noStrike">
                <a:solidFill>
                  <a:srgbClr val="a7a399"/>
                </a:solidFill>
                <a:latin typeface="Arial Blac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39DA-010C-400A-806D-986C2B001422}" type="slidenum">
              <a:rPr b="1" lang="ru-RU" sz="1000" spc="-1" strike="noStrike">
                <a:solidFill>
                  <a:srgbClr val="a7a399"/>
                </a:solidFill>
                <a:latin typeface="Arial Blac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23232"/>
              </a:solidFill>
              <a:latin typeface="Arial Blac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2FCB-60F3-4472-8201-8C67981570CE}" type="slidenum">
              <a:rPr b="1" lang="ru-RU" sz="1000" spc="-1" strike="noStrike">
                <a:solidFill>
                  <a:srgbClr val="a7a399"/>
                </a:solidFill>
                <a:latin typeface="Arial Blac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бота социального педагога дошкольного учрежд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345"/>
          <p:cNvPicPr/>
          <p:nvPr/>
        </p:nvPicPr>
        <p:blipFill>
          <a:blip r:embed="rId2"/>
          <a:stretch/>
        </p:blipFill>
        <p:spPr>
          <a:xfrm>
            <a:off x="900000" y="0"/>
            <a:ext cx="73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8360" y="333000"/>
            <a:ext cx="8377200" cy="388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бота социального педагога строится по следующим направлениям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 социально-педагогическое исследование  с целью выявления социальных и личностных проблем уч-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 социально- педагогическая защита прав ребенк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социально-педагогическая профилактика, коррекция и реабилитац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социально- педагогическое консультировани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работа с семье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6. организационно-методическая деятель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0920" y="980640"/>
            <a:ext cx="8234280" cy="381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с семь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ещение проблемных семей с целью знакомства с семьей, с условиями проживания, вопросов по возвращению в школу, отслеживание отношений внутри сем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язь с родителями из неблагополучных  семей  по определению детей  в летний период в местные лагеря и санатории 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4436640"/>
            <a:ext cx="843912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Работа социального педагога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в ДОУ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ль работы – создание благоприятных условия для личностного развития ребенка (физического, социального, духовно-нравственного, интеллектуального), оказание ему комплексной социально-психологической помощи, а также защита ребенка в его жизненном простран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3640" y="259920"/>
            <a:ext cx="8521560" cy="604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циальный педаго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ществляет комплекс мероприятий по воспитанию, развитию и социальной защите ребенк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ает психолого-медико-педагогические особенности, микросреду и условия жизни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яет интересы и потребности, трудности и проблемы, конфликтные ситуации и своевременно оказывает социальную помощь и поддержк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тупает посредником между ребенком и учреждением, семьей, средой, специалистами различных социальных служб, ведомств и административных орган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яет задачи, формы, методы социально-педагогической работы, способы решения личных и социальных проблем, принимает меры по социальной защите и социальной помощи, реализации прав и свобод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ствует установлению гуманных, нравственных, здоровых отношений в социальной среде. Содействует созданию обстановки психологического комфорта и безопас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ует с педагогами, родителями или лицами их заменяющими, специалистами социальных служ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68360" y="620640"/>
            <a:ext cx="8377200" cy="511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правления деятельности социального педагога в ДО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защите прав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циальному развитию личности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ка негативных явлений и оказание помощи тем, кто находится в сложной ситу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активизации воспитательного потенциала семь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родителями, не выполняющими обязанности по отношению к дет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родителями социально опасных сем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социально незащищенными семь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ближайшим окруже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социальными институ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4360" y="549360"/>
            <a:ext cx="7200720" cy="525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рмы работы социального педагога в Д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 педагог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ульт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кетирова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дивидуальные бесе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инар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руглые столы» с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кетирова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дивидуальные бесе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ещения на дом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руглые столы»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дительские собра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дительская гостина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 деть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вьюирова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нятия по правам ребен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атрализованные постановки по защите прав ребен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рганизация экскурсий по ознакомлению с социумом (библиотека, школа, музыкальная школа, ДК и т.п.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3640" y="907920"/>
            <a:ext cx="8521560" cy="4105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заимодействие с другими социальными общественными структу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 опеки и попечительства Муниципалит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тская поликлини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тская библиоте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кол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 детского творче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сихологические цент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50920" y="188640"/>
            <a:ext cx="8594640" cy="626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ункциональные обязан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циального педагога Д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ование работы на выполнение Федерального закона РФ «Об основах системы профилактики безнадзорности и правонарушений несовершеннолетних и организация работы по реализации окружных программ «Социум», «Семья», «Образование и здоровье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бор и накопление информации о детях, нуждающихся в социальной защи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Изучение психолого-педагогических особенностей, отклонений в поведении детей, оказание своевременной помощи и под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бор информации о семьях и выявление социально опасных сем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социально опасными семь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опыта работы, связанного с охраной прав детей и воспита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с воспитателями по социальной адаптации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50920" y="188640"/>
            <a:ext cx="8594640" cy="511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ждение на педагогических советах вопросов, связанных с социальной адаптацией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дение консультаций с родителями по вопросам социальной адаптации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аимодействие со всеми муниципальными и окружными структурами,  занимающимися социальной  работой с дет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549360"/>
            <a:ext cx="8521560" cy="568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циальный паспорт включает следующие разделы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емей по количеству детей в семь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емей по уровню дохода (на основе оценки своего дохода родителями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емей по языку общения (русскоязычные, двуязычные, плохо владеющие русским языком, не владеющие русским языком (один из родителей не владеет русским языком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емей по уровню образования (среднее, среднее специальное, неполное высшее, высшее, родители имеют ученую степень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в особую группу детей, растущих с опекунами или в семьях приемных воспитателе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в особую группу детей с особенностями в развити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 детей, растущих в неполных семьях (воспитываются матерью, отцом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ы детей из семей безработн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ы детей из семей беженцев и вынужденных мигран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ы детей из семей военнослужащи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ы детей, родители которых находятся в местах заключ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ие группы детей, родители которых являются студент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0:58:46Z</dcterms:created>
  <dc:creator>Admin</dc:creator>
  <dc:description/>
  <dc:language>en-US</dc:language>
  <cp:lastModifiedBy>HP</cp:lastModifiedBy>
  <dcterms:modified xsi:type="dcterms:W3CDTF">2021-07-14T13:06:30Z</dcterms:modified>
  <cp:revision>4</cp:revision>
  <dc:subject/>
  <dc:title>Работа социального педагога в ДО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