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976-F8E5-426B-8597-31C9C41C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78A-4890-4B98-870A-B7335BE7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26A-7D7C-4E39-82F9-F8B38900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26B-0992-4271-B89C-BCF04338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9BA-360D-458B-B55B-7DB66E01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01A-4F71-4F7B-9CB9-658182C5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325-60AF-46DB-9E54-2D2FA83F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5D9-DCBA-463C-A5D1-F14F0B91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B0B-F37B-4254-876D-0BBDA4FE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30A-EA88-4247-9251-4C48973B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C16-C4A5-40CE-90A8-58CB014B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A42-96E4-4BE0-A777-A5158E8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9663-3967-4FBD-92F2-42244E87D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9.jpeg"/><Relationship Id="rId3" Type="http://schemas.openxmlformats.org/officeDocument/2006/relationships/image" Target="../media/image11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8.jpeg"/><Relationship Id="rId3" Type="http://schemas.openxmlformats.org/officeDocument/2006/relationships/image" Target="../media/image3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14.jpeg"/><Relationship Id="rId6" Type="http://schemas.openxmlformats.org/officeDocument/2006/relationships/image" Target="../media/image9.jpeg"/><Relationship Id="rId7" Type="http://schemas.openxmlformats.org/officeDocument/2006/relationships/image" Target="../media/image2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4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7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1197000"/>
            <a:ext cx="8136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ОДУКТЫ ПИТАНИЯ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БДОУ д/с "Кудесница" Халько И.А.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95280" y="90792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348000" y="90792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300720" y="907920"/>
            <a:ext cx="251928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539640" y="3357720"/>
            <a:ext cx="223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я колбас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95280" y="3860640"/>
            <a:ext cx="2519280" cy="251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348000" y="3860640"/>
            <a:ext cx="2519280" cy="2519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300720" y="3860640"/>
            <a:ext cx="2519280" cy="251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9"/>
          <p:cNvSpPr txBox="1"/>
          <p:nvPr/>
        </p:nvSpPr>
        <p:spPr>
          <a:xfrm>
            <a:off x="324000" y="0"/>
            <a:ext cx="85690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Представь, что это твои продукт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Назови каждый продукт, используя слова "мой", "моя", "моё", "мо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3" name="WordArt 10"/>
          <p:cNvSpPr txBox="1"/>
          <p:nvPr/>
        </p:nvSpPr>
        <p:spPr>
          <a:xfrm>
            <a:off x="3708360" y="3357720"/>
            <a:ext cx="15112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й кефи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4" name="WordArt 11"/>
          <p:cNvSpPr txBox="1"/>
          <p:nvPr/>
        </p:nvSpPr>
        <p:spPr>
          <a:xfrm>
            <a:off x="6588000" y="3357720"/>
            <a:ext cx="1800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ё молок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755640" y="6308640"/>
            <a:ext cx="1584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й батон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3708360" y="6408720"/>
            <a:ext cx="180036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и сухар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7" name="WordArt 14"/>
          <p:cNvSpPr txBox="1"/>
          <p:nvPr/>
        </p:nvSpPr>
        <p:spPr>
          <a:xfrm>
            <a:off x="6516720" y="6381720"/>
            <a:ext cx="2089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и сосис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95280" y="90792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48000" y="90792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300720" y="907920"/>
            <a:ext cx="251928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95280" y="3933720"/>
            <a:ext cx="2519280" cy="251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48000" y="3933720"/>
            <a:ext cx="2519280" cy="2519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300720" y="3933720"/>
            <a:ext cx="2519280" cy="251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9"/>
          <p:cNvSpPr txBox="1"/>
          <p:nvPr/>
        </p:nvSpPr>
        <p:spPr>
          <a:xfrm>
            <a:off x="539640" y="3357720"/>
            <a:ext cx="20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я булоч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WordArt 10"/>
          <p:cNvSpPr txBox="1"/>
          <p:nvPr/>
        </p:nvSpPr>
        <p:spPr>
          <a:xfrm>
            <a:off x="3635280" y="328464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й йогур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6732720" y="3357720"/>
            <a:ext cx="1584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ё масло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611280" y="6453360"/>
            <a:ext cx="20890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я сметан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8" name="WordArt 13"/>
          <p:cNvSpPr txBox="1"/>
          <p:nvPr/>
        </p:nvSpPr>
        <p:spPr>
          <a:xfrm>
            <a:off x="3995640" y="6381720"/>
            <a:ext cx="10810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й сы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9" name="WordArt 14"/>
          <p:cNvSpPr txBox="1"/>
          <p:nvPr/>
        </p:nvSpPr>
        <p:spPr>
          <a:xfrm>
            <a:off x="6443640" y="6453360"/>
            <a:ext cx="2305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и макарон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15"/>
          <p:cNvSpPr txBox="1"/>
          <p:nvPr/>
        </p:nvSpPr>
        <p:spPr>
          <a:xfrm>
            <a:off x="324000" y="0"/>
            <a:ext cx="85690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Представь, что это твои продукт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Назови каждый продукт, используя слова "мой", "моя", "моё", "мо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95280" y="836640"/>
            <a:ext cx="2519280" cy="251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348000" y="83664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00720" y="836640"/>
            <a:ext cx="2519280" cy="2519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95280" y="3860640"/>
            <a:ext cx="2519280" cy="251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348000" y="3860640"/>
            <a:ext cx="2519280" cy="2519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300720" y="3860640"/>
            <a:ext cx="2519280" cy="251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9"/>
          <p:cNvSpPr txBox="1"/>
          <p:nvPr/>
        </p:nvSpPr>
        <p:spPr>
          <a:xfrm>
            <a:off x="900000" y="3284640"/>
            <a:ext cx="1440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й хлеб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3348000" y="3284640"/>
            <a:ext cx="252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ё морожено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WordArt 11"/>
          <p:cNvSpPr txBox="1"/>
          <p:nvPr/>
        </p:nvSpPr>
        <p:spPr>
          <a:xfrm>
            <a:off x="6659640" y="328464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й творог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0" name="WordArt 12"/>
          <p:cNvSpPr txBox="1"/>
          <p:nvPr/>
        </p:nvSpPr>
        <p:spPr>
          <a:xfrm>
            <a:off x="826920" y="6308640"/>
            <a:ext cx="1729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й бублик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1" name="WordArt 13"/>
          <p:cNvSpPr txBox="1"/>
          <p:nvPr/>
        </p:nvSpPr>
        <p:spPr>
          <a:xfrm>
            <a:off x="3348000" y="6381720"/>
            <a:ext cx="2521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и сардель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2" name="WordArt 14"/>
          <p:cNvSpPr txBox="1"/>
          <p:nvPr/>
        </p:nvSpPr>
        <p:spPr>
          <a:xfrm>
            <a:off x="6877080" y="6381720"/>
            <a:ext cx="15858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и суш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3" name="WordArt 15"/>
          <p:cNvSpPr txBox="1"/>
          <p:nvPr/>
        </p:nvSpPr>
        <p:spPr>
          <a:xfrm>
            <a:off x="324000" y="0"/>
            <a:ext cx="85690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Представь, что это твои продукт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Назови каждый продукт, используя слова "мой", "моя", "моё", "мо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476360" y="981000"/>
            <a:ext cx="2519280" cy="251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1908000" y="44280"/>
            <a:ext cx="57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Что лишнее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5219640" y="393372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1476360" y="3933720"/>
            <a:ext cx="251928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5219640" y="981000"/>
            <a:ext cx="251928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9"/>
          <p:cNvSpPr txBox="1"/>
          <p:nvPr/>
        </p:nvSpPr>
        <p:spPr>
          <a:xfrm>
            <a:off x="5867280" y="6237360"/>
            <a:ext cx="1152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Нож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476360" y="981000"/>
            <a:ext cx="2519280" cy="251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1908000" y="44280"/>
            <a:ext cx="57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Что лишнее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219640" y="393372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476360" y="3933720"/>
            <a:ext cx="251928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219640" y="981000"/>
            <a:ext cx="251928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1979640" y="6237360"/>
            <a:ext cx="1584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Чашка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826920" y="333360"/>
            <a:ext cx="7632720" cy="5689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-расширить представление дете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о продуктах питания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-упражнять в согласовании притяжатель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естоимений с существительными;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-упражнять классифицировать предметы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-развивать мышл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95280" y="90792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348000" y="90792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00720" y="907920"/>
            <a:ext cx="251928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539640" y="3357720"/>
            <a:ext cx="223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Колбас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95280" y="3860640"/>
            <a:ext cx="2519280" cy="251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3348000" y="3860640"/>
            <a:ext cx="2519280" cy="2519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300720" y="3860640"/>
            <a:ext cx="2519280" cy="251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4"/>
          <p:cNvSpPr txBox="1"/>
          <p:nvPr/>
        </p:nvSpPr>
        <p:spPr>
          <a:xfrm>
            <a:off x="2268360" y="189000"/>
            <a:ext cx="482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WordArt 15"/>
          <p:cNvSpPr txBox="1"/>
          <p:nvPr/>
        </p:nvSpPr>
        <p:spPr>
          <a:xfrm>
            <a:off x="3708360" y="3357720"/>
            <a:ext cx="15112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Кефи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3" name="WordArt 16"/>
          <p:cNvSpPr txBox="1"/>
          <p:nvPr/>
        </p:nvSpPr>
        <p:spPr>
          <a:xfrm>
            <a:off x="6588000" y="3357720"/>
            <a:ext cx="1800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лок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4" name="WordArt 17"/>
          <p:cNvSpPr txBox="1"/>
          <p:nvPr/>
        </p:nvSpPr>
        <p:spPr>
          <a:xfrm>
            <a:off x="755640" y="6308640"/>
            <a:ext cx="1584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Батон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18"/>
          <p:cNvSpPr txBox="1"/>
          <p:nvPr/>
        </p:nvSpPr>
        <p:spPr>
          <a:xfrm>
            <a:off x="3708360" y="630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ухар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6" name="WordArt 19"/>
          <p:cNvSpPr txBox="1"/>
          <p:nvPr/>
        </p:nvSpPr>
        <p:spPr>
          <a:xfrm>
            <a:off x="6515280" y="6308640"/>
            <a:ext cx="2089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осис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95280" y="90792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348000" y="90792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300720" y="907920"/>
            <a:ext cx="251928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2050920" y="115920"/>
            <a:ext cx="482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95280" y="3933720"/>
            <a:ext cx="2519280" cy="251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348000" y="3933720"/>
            <a:ext cx="2519280" cy="2519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300720" y="3933720"/>
            <a:ext cx="2519280" cy="251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9"/>
          <p:cNvSpPr txBox="1"/>
          <p:nvPr/>
        </p:nvSpPr>
        <p:spPr>
          <a:xfrm>
            <a:off x="539640" y="3357720"/>
            <a:ext cx="20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Булоч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3635280" y="328464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Йогур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6" name="WordArt 11"/>
          <p:cNvSpPr txBox="1"/>
          <p:nvPr/>
        </p:nvSpPr>
        <p:spPr>
          <a:xfrm>
            <a:off x="6732720" y="3357720"/>
            <a:ext cx="1584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асло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7" name="WordArt 12"/>
          <p:cNvSpPr txBox="1"/>
          <p:nvPr/>
        </p:nvSpPr>
        <p:spPr>
          <a:xfrm>
            <a:off x="611280" y="6381720"/>
            <a:ext cx="2089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метан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8" name="WordArt 13"/>
          <p:cNvSpPr txBox="1"/>
          <p:nvPr/>
        </p:nvSpPr>
        <p:spPr>
          <a:xfrm>
            <a:off x="3851280" y="6381720"/>
            <a:ext cx="10810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ы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14"/>
          <p:cNvSpPr txBox="1"/>
          <p:nvPr/>
        </p:nvSpPr>
        <p:spPr>
          <a:xfrm>
            <a:off x="6443640" y="6354720"/>
            <a:ext cx="23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акарон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95280" y="836640"/>
            <a:ext cx="2519280" cy="251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348000" y="83664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300720" y="836640"/>
            <a:ext cx="2519280" cy="2519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0920" y="115920"/>
            <a:ext cx="482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95280" y="3860640"/>
            <a:ext cx="2519280" cy="251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348000" y="3860640"/>
            <a:ext cx="2519280" cy="2519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6300720" y="3860640"/>
            <a:ext cx="2519280" cy="251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9"/>
          <p:cNvSpPr txBox="1"/>
          <p:nvPr/>
        </p:nvSpPr>
        <p:spPr>
          <a:xfrm>
            <a:off x="900000" y="3284640"/>
            <a:ext cx="1440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Хлеб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WordArt 10"/>
          <p:cNvSpPr txBox="1"/>
          <p:nvPr/>
        </p:nvSpPr>
        <p:spPr>
          <a:xfrm>
            <a:off x="3346560" y="3284640"/>
            <a:ext cx="252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рожено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9" name="WordArt 11"/>
          <p:cNvSpPr txBox="1"/>
          <p:nvPr/>
        </p:nvSpPr>
        <p:spPr>
          <a:xfrm>
            <a:off x="6659640" y="328464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Творог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826920" y="6308640"/>
            <a:ext cx="1729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Бублик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1" name="WordArt 13"/>
          <p:cNvSpPr txBox="1"/>
          <p:nvPr/>
        </p:nvSpPr>
        <p:spPr>
          <a:xfrm>
            <a:off x="3348000" y="6308640"/>
            <a:ext cx="252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ардель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2" name="WordArt 14"/>
          <p:cNvSpPr txBox="1"/>
          <p:nvPr/>
        </p:nvSpPr>
        <p:spPr>
          <a:xfrm>
            <a:off x="6877080" y="6308640"/>
            <a:ext cx="1585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уш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684360" y="1557360"/>
            <a:ext cx="8135640" cy="482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826920" y="189000"/>
            <a:ext cx="756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Что изображено на картинк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900000" y="836640"/>
            <a:ext cx="756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Продукты пит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835280" y="11736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Это молочные продук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971640" y="2637000"/>
            <a:ext cx="1800000" cy="180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2268360" y="836640"/>
            <a:ext cx="180036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692360" y="4724280"/>
            <a:ext cx="1800000" cy="180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3924360" y="1700280"/>
            <a:ext cx="2158920" cy="2952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6372360" y="4581360"/>
            <a:ext cx="1800000" cy="1800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7020000" y="2565360"/>
            <a:ext cx="1800000" cy="180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5867280" y="765000"/>
            <a:ext cx="1800360" cy="1800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4211640" y="5057640"/>
            <a:ext cx="1800360" cy="1800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3"/>
          <p:cNvSpPr txBox="1"/>
          <p:nvPr/>
        </p:nvSpPr>
        <p:spPr>
          <a:xfrm>
            <a:off x="2411280" y="2347920"/>
            <a:ext cx="144000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3935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Йогур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6" name="WordArt 16"/>
          <p:cNvSpPr txBox="1"/>
          <p:nvPr/>
        </p:nvSpPr>
        <p:spPr>
          <a:xfrm>
            <a:off x="1619280" y="4076640"/>
            <a:ext cx="72072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3935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ы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17"/>
          <p:cNvSpPr txBox="1"/>
          <p:nvPr/>
        </p:nvSpPr>
        <p:spPr>
          <a:xfrm>
            <a:off x="6084720" y="2276640"/>
            <a:ext cx="144000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3935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Кефи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8" name="WordArt 18"/>
          <p:cNvSpPr txBox="1"/>
          <p:nvPr/>
        </p:nvSpPr>
        <p:spPr>
          <a:xfrm>
            <a:off x="7164360" y="4076640"/>
            <a:ext cx="144000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3935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асло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WordArt 19"/>
          <p:cNvSpPr txBox="1"/>
          <p:nvPr/>
        </p:nvSpPr>
        <p:spPr>
          <a:xfrm>
            <a:off x="1835280" y="6237360"/>
            <a:ext cx="143964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3935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Творог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0" name="WordArt 20"/>
          <p:cNvSpPr txBox="1"/>
          <p:nvPr/>
        </p:nvSpPr>
        <p:spPr>
          <a:xfrm>
            <a:off x="4356000" y="6310440"/>
            <a:ext cx="165600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3935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метан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1" name="WordArt 21"/>
          <p:cNvSpPr txBox="1"/>
          <p:nvPr/>
        </p:nvSpPr>
        <p:spPr>
          <a:xfrm>
            <a:off x="6084720" y="5445000"/>
            <a:ext cx="23036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3935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рожено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2" name="WordArt 22"/>
          <p:cNvSpPr txBox="1"/>
          <p:nvPr/>
        </p:nvSpPr>
        <p:spPr>
          <a:xfrm>
            <a:off x="1187280" y="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Из чего сделаны эти продукт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3" name="WordArt 23"/>
          <p:cNvSpPr txBox="1"/>
          <p:nvPr/>
        </p:nvSpPr>
        <p:spPr>
          <a:xfrm>
            <a:off x="4140360" y="4365720"/>
            <a:ext cx="1800000" cy="39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олок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24"/>
          <p:cNvSpPr txBox="1"/>
          <p:nvPr/>
        </p:nvSpPr>
        <p:spPr>
          <a:xfrm>
            <a:off x="3276720" y="189000"/>
            <a:ext cx="32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Из моло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835280" y="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Это мучные продук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971640" y="2637000"/>
            <a:ext cx="1800000" cy="180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2268360" y="836640"/>
            <a:ext cx="180036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1692360" y="4724280"/>
            <a:ext cx="1800000" cy="180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3924360" y="1700280"/>
            <a:ext cx="2158920" cy="2952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"/>
          <p:cNvSpPr/>
          <p:nvPr/>
        </p:nvSpPr>
        <p:spPr>
          <a:xfrm>
            <a:off x="6372360" y="4581360"/>
            <a:ext cx="1800000" cy="1800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7020000" y="2565360"/>
            <a:ext cx="1800000" cy="180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5867280" y="765000"/>
            <a:ext cx="1800360" cy="1800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4211640" y="5057640"/>
            <a:ext cx="1800360" cy="1800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1"/>
          <p:cNvSpPr txBox="1"/>
          <p:nvPr/>
        </p:nvSpPr>
        <p:spPr>
          <a:xfrm>
            <a:off x="2411280" y="2349360"/>
            <a:ext cx="144000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9223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уш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1403280" y="4148280"/>
            <a:ext cx="8650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6338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ухар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6" name="WordArt 13"/>
          <p:cNvSpPr txBox="1"/>
          <p:nvPr/>
        </p:nvSpPr>
        <p:spPr>
          <a:xfrm>
            <a:off x="6156360" y="2349360"/>
            <a:ext cx="1152360" cy="2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058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Хлеб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7093080" y="3860640"/>
            <a:ext cx="1728720" cy="57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7935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Булочка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15"/>
          <p:cNvSpPr txBox="1"/>
          <p:nvPr/>
        </p:nvSpPr>
        <p:spPr>
          <a:xfrm>
            <a:off x="1835280" y="6237360"/>
            <a:ext cx="143964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2968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Батон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9" name="WordArt 16"/>
          <p:cNvSpPr txBox="1"/>
          <p:nvPr/>
        </p:nvSpPr>
        <p:spPr>
          <a:xfrm>
            <a:off x="4356000" y="6308640"/>
            <a:ext cx="1511280" cy="43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0598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Бублик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WordArt 17"/>
          <p:cNvSpPr txBox="1"/>
          <p:nvPr/>
        </p:nvSpPr>
        <p:spPr>
          <a:xfrm>
            <a:off x="6156360" y="5734080"/>
            <a:ext cx="2160720" cy="71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637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акарон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1" name="WordArt 18"/>
          <p:cNvSpPr txBox="1"/>
          <p:nvPr/>
        </p:nvSpPr>
        <p:spPr>
          <a:xfrm>
            <a:off x="1332000" y="44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Из чего сделаны эти продукт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2" name="WordArt 19"/>
          <p:cNvSpPr txBox="1"/>
          <p:nvPr/>
        </p:nvSpPr>
        <p:spPr>
          <a:xfrm>
            <a:off x="4140360" y="4365720"/>
            <a:ext cx="1800000" cy="39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1723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у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WordArt 20"/>
          <p:cNvSpPr txBox="1"/>
          <p:nvPr/>
        </p:nvSpPr>
        <p:spPr>
          <a:xfrm>
            <a:off x="3276720" y="189000"/>
            <a:ext cx="32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Из му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050920" y="11736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Это мясные продук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3276720" y="3213000"/>
            <a:ext cx="3024000" cy="2952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6659640" y="3500280"/>
            <a:ext cx="2158920" cy="215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3708360" y="836640"/>
            <a:ext cx="2158920" cy="2158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684360" y="3500280"/>
            <a:ext cx="2158920" cy="2159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3"/>
          <p:cNvSpPr txBox="1"/>
          <p:nvPr/>
        </p:nvSpPr>
        <p:spPr>
          <a:xfrm>
            <a:off x="1044720" y="5373720"/>
            <a:ext cx="143964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998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Колбас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0" name="WordArt 14"/>
          <p:cNvSpPr txBox="1"/>
          <p:nvPr/>
        </p:nvSpPr>
        <p:spPr>
          <a:xfrm>
            <a:off x="4140360" y="2708280"/>
            <a:ext cx="143964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3232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осис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1" name="WordArt 17"/>
          <p:cNvSpPr txBox="1"/>
          <p:nvPr/>
        </p:nvSpPr>
        <p:spPr>
          <a:xfrm>
            <a:off x="6659640" y="472608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3935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Сардель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1258920" y="44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Из чего сделаны эти продукт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3" name="WordArt 19"/>
          <p:cNvSpPr txBox="1"/>
          <p:nvPr/>
        </p:nvSpPr>
        <p:spPr>
          <a:xfrm>
            <a:off x="3924360" y="5805360"/>
            <a:ext cx="1800000" cy="400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05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Мяс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WordArt 20"/>
          <p:cNvSpPr txBox="1"/>
          <p:nvPr/>
        </p:nvSpPr>
        <p:spPr>
          <a:xfrm>
            <a:off x="3276720" y="189000"/>
            <a:ext cx="32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Из мя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6:48:29Z</dcterms:created>
  <dc:creator>Ирина</dc:creator>
  <dc:description/>
  <dc:language>en-US</dc:language>
  <cp:lastModifiedBy>Админ</cp:lastModifiedBy>
  <dcterms:modified xsi:type="dcterms:W3CDTF">2017-04-21T19:25:16Z</dcterms:modified>
  <cp:revision>13</cp:revision>
  <dc:subject/>
  <dc:title>Слайд 1</dc:title>
</cp:coreProperties>
</file>