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CC77-3B4A-4050-8F95-FD511ED777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BCD-4496-49C4-9E75-5FF90403D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543A-4103-4D8A-9382-3CB858956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0B80-4A0D-4D93-8A4D-C1F6AD1BA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3CF-B57C-43C8-8B3C-692808713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0AFC-709F-421D-94D7-4F46F8FF0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723-A092-4D38-BF5D-C9EB6074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AC2-4C26-4B60-A062-EE573DC9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0CA-5968-47AE-8937-769D5A1E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9E8-B0E4-46DA-B02C-57E1C07E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66A2-9E89-4E09-B98B-0E7084CD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01C2-CCBE-4856-B3AA-9D78691A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F74-A9C7-4296-9B13-C506B73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214-78C3-49C9-9526-112A4EDF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F946-1864-4C45-8F21-C2735CFF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77C5-8D53-4E45-BB23-C40CC21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8F9E-83DA-40FD-9971-D88FA42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6DD-B830-43B1-B245-011A8FEB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F31-7461-4EC1-B1F1-5B16D7AE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A7C9-F889-4FBE-8756-C60EF61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87D1-FF03-4D85-A758-EAAF09B1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97D1-6C9A-4664-B290-76A4A5A1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F8FD-BBAF-4FC0-9E82-068A4A23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26726-F902-4D1A-9C8F-E4F757E7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C7BD3-089C-41B8-9106-4ACF1B12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D72CA-6C50-49B5-820B-19279DDB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524B7-D9A0-4B0B-BCA8-D509E1A1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81774-E841-4B44-A6E4-BA0DCEBE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2C7-8F54-40AC-81C0-8F5430C8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1896E-6F6F-4331-80CC-A2A67307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E7755-FEB8-442F-9C06-624ADF8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3AE29-F098-49D2-BE77-B57D282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208D6-5003-4371-8CB9-5D35777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4022D-76A6-4AD0-A7A9-92939BDA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D0A77-B44B-4513-9B0D-8081A068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063F4-9DCA-4017-BCF7-3703F4E4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DFD02-497D-4A9E-ADD0-A695305C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8BC6-E7D9-4DD2-803E-FDF6E312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883D-F2FB-49EB-B791-2D624BA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32C-E87D-46F4-8F1F-651F9DE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2D01-93F9-4437-A3B7-47B780D3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0FAE-6C18-4699-86FC-D18851E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7B6E2-998F-4379-B00E-83B8285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EA3D-B2B9-4331-B36E-25455BC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130C-8CFC-4FE8-BC9E-6BE69E79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18BA-FA85-4218-84E4-E100C22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EB02-B801-43B7-8766-AEC4E3D6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8036-F60A-48C6-A1DE-3FBC1102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48AF0-4D3A-4714-9820-5D9E82FC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76C-A3D5-466D-8F03-EA7EA83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412-756C-4CB4-A367-BC6ECBA3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229-EA0A-498A-AD0B-A3AA525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8D3-03AB-4C20-B876-1936FA9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D10-A4A2-41D1-B750-16C7570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2C40-40EC-47A7-8B97-0F16092C955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38D8-7263-4C5F-9308-47DCDCBD00A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239-2904-4109-821A-556D095456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2C9-E4F2-48D9-86D8-B705F8FED1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5898960" cy="266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отов ли ваш ребенок к школ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4456"/>
                </a:solidFill>
                <a:latin typeface="Georgia"/>
              </a:rPr>
              <a:t>педагог-психолог  МБОУ СОШ №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4456"/>
                </a:solidFill>
                <a:latin typeface="Georgia"/>
              </a:rPr>
              <a:t>Суворова Екатерина Эдуардов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rcRect l="0" t="0" r="2473" b="0"/>
          <a:stretch/>
        </p:blipFill>
        <p:spPr>
          <a:xfrm>
            <a:off x="539640" y="4149720"/>
            <a:ext cx="2619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42920" y="928800"/>
            <a:ext cx="885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е торопитесь. Умение рассчитать время –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аша задача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. Если вам это плохо удаётся, вины ребёнка в этом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е прощайтесь, предупреждая и направляя: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«Смотри, не балуйся!», «Чтобы сегодн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е было замечаний!»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Пожелайте удачи, найдите несколько ласковых с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14200" y="85716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Вы видите, что ребёнок огорчён, молчит – не допытывайтесь; пусть успокоится и тогда расскажет всё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ле школы не торопитесь садиться за уроки. Ребёнку необходимо 2 часа отдыха. Занятия вечерами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есполез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заставляйте делать все упражнения сразу: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0 минут занятий – 10 минут переры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428760" y="642960"/>
            <a:ext cx="8429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 время приготовления уроков не сидите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«над душой»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бирайте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единую тактику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общения с ребёнком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сех 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зрослых в семье. Все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 разноглас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по поводу педагогической тактики решайте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ез него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удьте внимательны к жалобам ребёнка на головную боль, усталость, плохое самочувствие. Чаще всего это объективные показатели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ереутом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чтите, что даже 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«большие дети»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3"/>
          <p:cNvSpPr/>
          <p:nvPr/>
        </p:nvSpPr>
        <p:spPr>
          <a:xfrm>
            <a:off x="857160" y="571680"/>
            <a:ext cx="742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Помогайте преодолевать детям адаптационный пери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Оказывайте детям поддерж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Обеспечьте ребёнку достойные условия проживания и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http://www.sadik110.ru/ckfinder/userfiles/images/school/%D0%92%D0%BE%D1%81%D0%BF%D0%B8%D1%82%D1%8B%D0%B2%D0%B0%D0%B5%D0%BC%20%D0%B2%D0%BC%D0%B5%D1%81%D1%82%D0%B5/%D1%88%D0%BA%D0%BE%D0%BB%D0%B0-1_350x220.png"/>
          <p:cNvPicPr/>
          <p:nvPr/>
        </p:nvPicPr>
        <p:blipFill>
          <a:blip r:embed="rId1"/>
          <a:stretch/>
        </p:blipFill>
        <p:spPr>
          <a:xfrm>
            <a:off x="5857920" y="4792680"/>
            <a:ext cx="3286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42600" y="78552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удьте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частливы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будьте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ерпеливы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и уверены в том, что ваш малыш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мечательный, умный, красивый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а самое главное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любимый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!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5" descr="Адаптация первоклассников"/>
          <p:cNvPicPr/>
          <p:nvPr/>
        </p:nvPicPr>
        <p:blipFill>
          <a:blip r:embed="rId1"/>
          <a:stretch/>
        </p:blipFill>
        <p:spPr>
          <a:xfrm>
            <a:off x="2571840" y="3500280"/>
            <a:ext cx="42148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45216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24456"/>
                </a:solidFill>
                <a:latin typeface="Trebuchet MS"/>
              </a:rPr>
              <a:t>Возрастные особенности </a:t>
            </a:r>
            <a:br>
              <a:rPr sz="3400"/>
            </a:br>
            <a:r>
              <a:rPr b="1" lang="ru-RU" sz="3400" spc="-1" strike="noStrike">
                <a:solidFill>
                  <a:srgbClr val="424456"/>
                </a:solidFill>
                <a:latin typeface="Trebuchet MS"/>
              </a:rPr>
              <a:t>первоклассников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2600" y="356760"/>
            <a:ext cx="795636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Быть готовым к школе уже сегодня – не значит уметь читать, писать и счит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ыть готовым к школе – значит быть готовым всему этому научиться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(Л.А. Венгер, А.П. Венгер «Готов ли ваш ребенок к школе»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6" descr="%D1%88%D0%BA%D0%BE%D0%BB%D0%B0-2_350x184"/>
          <p:cNvPicPr/>
          <p:nvPr/>
        </p:nvPicPr>
        <p:blipFill>
          <a:blip r:embed="rId1"/>
          <a:stretch/>
        </p:blipFill>
        <p:spPr>
          <a:xfrm>
            <a:off x="2143080" y="4357800"/>
            <a:ext cx="4248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Готовность ребенка к школ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оциально-психологическа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нтеллектуальна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сихофизиологическая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Социально-психологическая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1571760"/>
            <a:ext cx="75009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личие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учебной мотива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ребенок хочет идти в школу, понимает важность и необходимость учения, проявляет выраженный интерес к получению зна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личие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оциальной позиции школьни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ребенок должен уметь взаимодействовать со сверстниками, выполнять требования учителя, контролировать свое повед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7773840" y="714240"/>
            <a:ext cx="13701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images.myshared.ru/9/934560/slide_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www.sadik110.ru/ckfinder/userfiles/images/school/%D0%92%D0%BE%D1%81%D0%BF%D0%B8%D1%82%D1%8B%D0%B2%D0%B0%D0%B5%D0%BC%20%D0%B2%D0%BC%D0%B5%D1%81%D1%82%D0%B5/%D1%88%D0%BA%D0%BE%D0%BB%D0%B0-1_350x220.png"/>
          <p:cNvPicPr/>
          <p:nvPr/>
        </p:nvPicPr>
        <p:blipFill>
          <a:blip r:embed="rId3"/>
          <a:stretch/>
        </p:blipFill>
        <p:spPr>
          <a:xfrm>
            <a:off x="6080040" y="4572000"/>
            <a:ext cx="318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548a"/>
                </a:solidFill>
                <a:latin typeface="Georgia"/>
              </a:rPr>
              <a:t>Волевая готовность</a:t>
            </a: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ключается в способности ребенка напряженно трудиться, делая то, что от него требует учеба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468360" y="3213000"/>
            <a:ext cx="7991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85840" y="3929040"/>
            <a:ext cx="839160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548a"/>
                </a:solidFill>
                <a:latin typeface="Georgia"/>
              </a:rPr>
              <a:t>Организова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ние подготовить рабочее место, своевременно начать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ние поддерживать порядок на рабоче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е в ходе учеб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отвлекаясь внимательно слушать (30-35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хранять правильную осанку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обенно в положении сид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6572160" y="4429080"/>
            <a:ext cx="2419560" cy="22845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6"/>
          <p:cNvSpPr/>
          <p:nvPr/>
        </p:nvSpPr>
        <p:spPr>
          <a:xfrm>
            <a:off x="571680" y="1285920"/>
            <a:ext cx="685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извольность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357120" y="1928880"/>
            <a:ext cx="8786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умение детей сознательно подчинить свои действия установленным правил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умение ориентироваться на заданную систему треб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умение внимательно слушать, смотреть и выполнять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429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сихофизиологическая готовность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714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нематический слух, развитие артикуляционного аппарата (речь правильная, отчетливая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мелких мышц руки: ребенок уверенно владеет ножницами и карандаш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странственная ориентация, координация движений: умение правильно определять выше-ниже, больше-меньше, вперед-назад, слева-спра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ординация в системе глаз-рука: ребенок может правильно перенести в тетрадь простейший графический образ-узор, зрительно воспринимаемый на расстоя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5840" y="714240"/>
            <a:ext cx="850104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548a"/>
                </a:solidFill>
                <a:latin typeface="Georgia"/>
              </a:rPr>
              <a:t>Физическая готовность</a:t>
            </a:r>
            <a:r>
              <a:rPr b="1" lang="ru-RU" sz="22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пределяется медицинскими работник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ледует помнить, что при отклонениях в физическом развитии – не стоит возлагать больших надежд на успешную учебу.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285840" y="3143160"/>
            <a:ext cx="557208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етите врача, проконсультируйтес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 вопросу развития ребе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ольше времени проводит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 прогулках, играйте в подвижные иг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пишите ребенка в спортивную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екцию по рекомендации педиатра.</a:t>
            </a:r>
            <a:br>
              <a:rPr sz="22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rcRect l="1833" t="258" r="11108" b="4769"/>
          <a:stretch/>
        </p:blipFill>
        <p:spPr>
          <a:xfrm>
            <a:off x="5643720" y="3071880"/>
            <a:ext cx="31780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ричинами школьной незрелости могут быть: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2876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достатки в воспитательной среде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необходимы: систематические занятия с ребенком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достатки соматического развития ребен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Болезненные дети менее устойчивы к различным нагрузкам, быстрее устают, утомляются. (Необходима: консультация с врачом и лечение ребен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вротическое развитие характер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(Необходима: консультация психолога, медицинского психолога с последующей коррекцией поведен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енатальное или раннее постнатальное повреждение центральной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(Необходима: консультация у невропатолога и лечение, а также сотрудничество с педагогом, психологом в сопровождении ребенка в 1 классе особенно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0:15:45Z</dcterms:created>
  <dc:creator>Мама</dc:creator>
  <dc:description/>
  <dc:language>en-US</dc:language>
  <cp:lastModifiedBy>UCENIK_2</cp:lastModifiedBy>
  <dcterms:modified xsi:type="dcterms:W3CDTF">2019-09-12T06:58:38Z</dcterms:modified>
  <cp:revision>105</cp:revision>
  <dc:subject/>
  <dc:title>Родительское собрание в 1 классе</dc:title>
</cp:coreProperties>
</file>