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2192000" cy="6858000"/>
  <p:notesSz cx="7104063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460-02BE-4B11-A76F-1D4980FB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640" y="409824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1174-2A89-43BB-8154-FC177BD8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0264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0264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A1D-E6D5-492C-8D2C-D48D1101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9976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5188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64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9976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5188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B7D-E12C-4C40-9BFC-F239EBE4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B1E0-73BA-4FA1-AFD2-903A7751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764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3D71-4832-4AB1-BE89-B50E57CD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0657-3E3F-4D15-8C3C-974968AE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0264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4BD6-7560-4EA4-90F1-3D57965F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C955-5D41-4142-91DD-B854C32C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7640" y="25848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9727-9E64-456E-8575-AA9F13A4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0264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5914-4AAB-4B8B-AE92-F0551C96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64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EC2-8315-48BB-A6EB-CF195CE7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0264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30264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D30B-ED29-47DD-868E-86C7F03A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264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D32A-CDC4-47A0-AA34-EBDCA735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7640" y="409824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D427-88FE-45A4-BA93-C1A5BAEA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0264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30264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7FBC-5F2A-413A-9D97-70DB7D68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39976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5188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764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39976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15188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357B-AEF7-4CAF-AF99-1AC35714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C274-4FFF-47C8-AB50-423DECCA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4764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B5962-C642-420B-9AE8-45DD5DD1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22B60-DBC2-40CE-BFBF-89F1755C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0264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DD7BC-33B6-4142-8B62-90610B1A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CF886-C59F-4815-A267-5EFCC999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67A-51EB-4FFE-A782-14D9F5B3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47640" y="25848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744BC-75D9-401E-92B8-6E3C408A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0264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24D6-FAA5-46FD-82CA-CE36FD29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0264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30264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B55CA-272E-45AF-B9A3-137ADA37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264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987B1-76AF-4A60-88B6-0C2AE129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47640" y="409824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F0F76-D2D6-409A-ACCA-F2676E83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0264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30264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36B02-993A-491A-946D-263C258A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39976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15188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4764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39976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415188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829A2-5A0A-49CD-9A34-C1D4069B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0264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046-8030-463F-A9EA-032893BF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6FC2-C31F-470E-B3A9-09977DCD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25848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468C-12E4-48F7-AE58-36886913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0264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E38-7117-47E3-891B-BB270D75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0264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0264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A46-C65A-4E72-B62A-CA440209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64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0264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640" y="409824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4386-7F88-4D43-A01A-59DB4AB6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99975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 algn="ctr">
              <a:lnSpc>
                <a:spcPct val="13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99975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99975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764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598176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126" name="Изображение 105" descr=""/>
          <p:cNvPicPr/>
          <p:nvPr/>
        </p:nvPicPr>
        <p:blipFill>
          <a:blip r:embed="rId1"/>
          <a:stretch/>
        </p:blipFill>
        <p:spPr>
          <a:xfrm>
            <a:off x="4827240" y="3146400"/>
            <a:ext cx="6605640" cy="3555000"/>
          </a:xfrm>
          <a:prstGeom prst="rect">
            <a:avLst/>
          </a:prstGeom>
          <a:ln w="9525">
            <a:noFill/>
          </a:ln>
        </p:spPr>
      </p:pic>
      <p:pic>
        <p:nvPicPr>
          <p:cNvPr id="127" name="Изображение 104" descr=""/>
          <p:cNvPicPr/>
          <p:nvPr/>
        </p:nvPicPr>
        <p:blipFill>
          <a:blip r:embed="rId2"/>
          <a:stretch/>
        </p:blipFill>
        <p:spPr>
          <a:xfrm>
            <a:off x="623520" y="210960"/>
            <a:ext cx="5875200" cy="3762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8176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154" name="Замещающее содержимое 114" descr=""/>
          <p:cNvPicPr/>
          <p:nvPr/>
        </p:nvPicPr>
        <p:blipFill>
          <a:blip r:embed="rId1"/>
          <a:stretch/>
        </p:blipFill>
        <p:spPr>
          <a:xfrm>
            <a:off x="2442240" y="558000"/>
            <a:ext cx="7308000" cy="5527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Текстовое поле 118"/>
          <p:cNvSpPr/>
          <p:nvPr/>
        </p:nvSpPr>
        <p:spPr>
          <a:xfrm>
            <a:off x="283320" y="1305720"/>
            <a:ext cx="11625840" cy="420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. Поговорите с детьми о том, что они делают в Интерне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 Установите четкие правила использования Интерне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. Объясните, что личные сведения нужно держать в секре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. Используйте программные продукты для обеспечения семейной безопас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лезные интернет - сай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13520" y="1801440"/>
            <a:ext cx="3596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1001"/>
              </a:spcBef>
              <a:buClr>
                <a:srgbClr val="40404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IQsha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  <a:p>
            <a:pPr marL="452520" indent="-452520">
              <a:lnSpc>
                <a:spcPct val="100000"/>
              </a:lnSpc>
              <a:spcBef>
                <a:spcPts val="1001"/>
              </a:spcBef>
              <a:buClr>
                <a:srgbClr val="404040"/>
              </a:buClr>
              <a:buFont typeface="Wingdings" charset="2"/>
              <a:buChar char=""/>
            </a:pPr>
            <a:r>
              <a:rPr b="0" lang="en-US" sz="4000" spc="-1" strike="noStrike">
                <a:solidFill>
                  <a:srgbClr val="404040"/>
                </a:solidFill>
                <a:latin typeface="Calibri"/>
              </a:rPr>
              <a:t>igraemsa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  <a:p>
            <a:pPr marL="452520" indent="-452520">
              <a:lnSpc>
                <a:spcPct val="100000"/>
              </a:lnSpc>
              <a:spcBef>
                <a:spcPts val="1001"/>
              </a:spcBef>
              <a:buClr>
                <a:srgbClr val="404040"/>
              </a:buClr>
              <a:buFont typeface="Wingdings" charset="2"/>
              <a:buChar char=""/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pochemu4ka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  <a:p>
            <a:pPr marL="452520" indent="-452520">
              <a:lnSpc>
                <a:spcPct val="100000"/>
              </a:lnSpc>
              <a:spcBef>
                <a:spcPts val="1001"/>
              </a:spcBef>
              <a:buClr>
                <a:srgbClr val="404040"/>
              </a:buClr>
              <a:buFont typeface="Wingdings" charset="2"/>
              <a:buChar char=""/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matific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  <a:p>
            <a:pPr marL="452520" indent="-452520">
              <a:lnSpc>
                <a:spcPct val="100000"/>
              </a:lnSpc>
              <a:spcBef>
                <a:spcPts val="1001"/>
              </a:spcBef>
              <a:buClr>
                <a:srgbClr val="404040"/>
              </a:buClr>
              <a:buFont typeface="Wingdings" charset="2"/>
              <a:buChar char=""/>
            </a:pPr>
            <a:r>
              <a:rPr b="0" lang="en-US" sz="4000" spc="-1" strike="noStrike">
                <a:solidFill>
                  <a:srgbClr val="404040"/>
                </a:solidFill>
                <a:latin typeface="Calibri"/>
              </a:rPr>
              <a:t>kids smar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  <a:p>
            <a:pPr marL="452520" indent="-452520">
              <a:lnSpc>
                <a:spcPct val="100000"/>
              </a:lnSpc>
              <a:spcBef>
                <a:spcPts val="1001"/>
              </a:spcBef>
              <a:buClr>
                <a:srgbClr val="404040"/>
              </a:buClr>
              <a:buFont typeface="Wingdings" charset="2"/>
              <a:buChar char=""/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Брифли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  <a:p>
            <a:pPr indent="0">
              <a:lnSpc>
                <a:spcPct val="150000"/>
              </a:lnSpc>
              <a:spcBef>
                <a:spcPts val="1001"/>
              </a:spcBef>
              <a:buNone/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Текстовое поле 4"/>
          <p:cNvSpPr/>
          <p:nvPr/>
        </p:nvSpPr>
        <p:spPr>
          <a:xfrm>
            <a:off x="6320160" y="1801440"/>
            <a:ext cx="484272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srei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gualeo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и - пиш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чи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л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мназ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9" name="Замещающее содержимое 106" descr=""/>
          <p:cNvPicPr/>
          <p:nvPr/>
        </p:nvPicPr>
        <p:blipFill>
          <a:blip r:embed="rId1"/>
          <a:stretch/>
        </p:blipFill>
        <p:spPr>
          <a:xfrm>
            <a:off x="1320120" y="392400"/>
            <a:ext cx="9171000" cy="6073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ебенок в интернете: как обеспечить безопасность и развит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7640" y="1584360"/>
            <a:ext cx="1091412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разобраться, как влияет интернет на ребенка, как обеспечить его безопасность и развитие в сети интернет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2" name="Замещающее содержимое 107" descr=""/>
          <p:cNvPicPr/>
          <p:nvPr/>
        </p:nvPicPr>
        <p:blipFill>
          <a:blip r:embed="rId1"/>
          <a:stretch/>
        </p:blipFill>
        <p:spPr>
          <a:xfrm>
            <a:off x="3421440" y="3341880"/>
            <a:ext cx="4968000" cy="3067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4" name="Замещающее содержимое 108" descr=""/>
          <p:cNvPicPr/>
          <p:nvPr/>
        </p:nvPicPr>
        <p:blipFill>
          <a:blip r:embed="rId1"/>
          <a:srcRect l="16526" t="0" r="4247" b="0"/>
          <a:stretch/>
        </p:blipFill>
        <p:spPr>
          <a:xfrm>
            <a:off x="420840" y="1028880"/>
            <a:ext cx="5831640" cy="4907520"/>
          </a:xfrm>
          <a:prstGeom prst="rect">
            <a:avLst/>
          </a:prstGeom>
          <a:ln w="9525">
            <a:noFill/>
          </a:ln>
        </p:spPr>
      </p:pic>
      <p:pic>
        <p:nvPicPr>
          <p:cNvPr id="135" name="Замещающее содержимое 109" descr=""/>
          <p:cNvPicPr/>
          <p:nvPr/>
        </p:nvPicPr>
        <p:blipFill>
          <a:blip r:embed="rId2"/>
          <a:srcRect l="9313" t="0" r="0" b="0"/>
          <a:stretch/>
        </p:blipFill>
        <p:spPr>
          <a:xfrm>
            <a:off x="6479640" y="998280"/>
            <a:ext cx="5136120" cy="496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мещающее содержимое 110" descr=""/>
          <p:cNvPicPr/>
          <p:nvPr/>
        </p:nvPicPr>
        <p:blipFill>
          <a:blip r:embed="rId1"/>
          <a:stretch/>
        </p:blipFill>
        <p:spPr>
          <a:xfrm>
            <a:off x="7000200" y="1125360"/>
            <a:ext cx="4675680" cy="4606560"/>
          </a:xfrm>
          <a:prstGeom prst="rect">
            <a:avLst/>
          </a:prstGeom>
          <a:ln w="9525">
            <a:noFill/>
          </a:ln>
        </p:spPr>
      </p:pic>
      <p:sp>
        <p:nvSpPr>
          <p:cNvPr id="137" name="Текстовое поле 111"/>
          <p:cNvSpPr/>
          <p:nvPr/>
        </p:nvSpPr>
        <p:spPr>
          <a:xfrm>
            <a:off x="447840" y="1998360"/>
            <a:ext cx="6350400" cy="283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мпьютерн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я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и интернет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зависимост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огда человек стремится проводить все свое свободное время в интернете, онлайн - игра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Текстовое поле 4"/>
          <p:cNvSpPr/>
          <p:nvPr/>
        </p:nvSpPr>
        <p:spPr>
          <a:xfrm>
            <a:off x="6798240" y="5869800"/>
            <a:ext cx="50796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иктор Рыбник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98680" y="1121400"/>
            <a:ext cx="5852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012 г. - год безопасного интерне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Замещающее содержимое 111" descr=""/>
          <p:cNvPicPr/>
          <p:nvPr/>
        </p:nvPicPr>
        <p:blipFill>
          <a:blip r:embed="rId1"/>
          <a:srcRect l="18255" t="0" r="9101" b="0"/>
          <a:stretch/>
        </p:blipFill>
        <p:spPr>
          <a:xfrm>
            <a:off x="6750720" y="1121400"/>
            <a:ext cx="5218560" cy="4615560"/>
          </a:xfrm>
          <a:prstGeom prst="rect">
            <a:avLst/>
          </a:prstGeom>
          <a:ln w="9525">
            <a:noFill/>
          </a:ln>
        </p:spPr>
      </p:pic>
      <p:sp>
        <p:nvSpPr>
          <p:cNvPr id="141" name="Текстовое поле 112"/>
          <p:cNvSpPr/>
          <p:nvPr/>
        </p:nvSpPr>
        <p:spPr>
          <a:xfrm>
            <a:off x="6820560" y="5885280"/>
            <a:ext cx="50796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митрий Медвед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Замещающее содержимое 4" descr=""/>
          <p:cNvPicPr/>
          <p:nvPr/>
        </p:nvPicPr>
        <p:blipFill>
          <a:blip r:embed="rId2"/>
          <a:stretch/>
        </p:blipFill>
        <p:spPr>
          <a:xfrm>
            <a:off x="1289160" y="2447280"/>
            <a:ext cx="4472640" cy="3129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8176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145" name="Замещающее содержимое 113" descr=""/>
          <p:cNvPicPr/>
          <p:nvPr/>
        </p:nvPicPr>
        <p:blipFill>
          <a:blip r:embed="rId1"/>
          <a:stretch/>
        </p:blipFill>
        <p:spPr>
          <a:xfrm>
            <a:off x="1609560" y="362520"/>
            <a:ext cx="8591040" cy="6131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8176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148" name="Замещающее содержимое 116" descr=""/>
          <p:cNvPicPr/>
          <p:nvPr/>
        </p:nvPicPr>
        <p:blipFill>
          <a:blip r:embed="rId1"/>
          <a:stretch/>
        </p:blipFill>
        <p:spPr>
          <a:xfrm>
            <a:off x="1737360" y="469800"/>
            <a:ext cx="8335440" cy="5917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8176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151" name="Замещающее содержимое 117" descr=""/>
          <p:cNvPicPr/>
          <p:nvPr/>
        </p:nvPicPr>
        <p:blipFill>
          <a:blip r:embed="rId1"/>
          <a:stretch/>
        </p:blipFill>
        <p:spPr>
          <a:xfrm>
            <a:off x="2017440" y="544320"/>
            <a:ext cx="7776000" cy="5769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730</Words>
  <Paragraphs>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4T13:14:30Z</dcterms:created>
  <dc:creator/>
  <dc:description/>
  <dc:language>en-US</dc:language>
  <cp:lastModifiedBy>Лера</cp:lastModifiedBy>
  <dcterms:modified xsi:type="dcterms:W3CDTF">2022-04-14T14:42:2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8AAE8EB7889457696A49ECFA1AAC09D</vt:lpwstr>
  </property>
  <property fmtid="{D5CDD505-2E9C-101B-9397-08002B2CF9AE}" pid="3" name="KSOProductBuildVer">
    <vt:lpwstr>1049-11.2.0.11074</vt:lpwstr>
  </property>
  <property fmtid="{D5CDD505-2E9C-101B-9397-08002B2CF9AE}" pid="4" name="PresentationFormat">
    <vt:lpwstr>宽屏</vt:lpwstr>
  </property>
  <property fmtid="{D5CDD505-2E9C-101B-9397-08002B2CF9AE}" pid="5" name="Slides">
    <vt:r8>12</vt:r8>
  </property>
</Properties>
</file>