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B85-1575-4A9B-8B9B-3302769D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813-40F1-4EE7-93E5-AFEC702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438-1257-4FBA-8D15-4FA7549E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7AA-C71D-4DDA-9585-B401F92C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C301-A739-4C6B-B62D-5F5A847D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4CA-E456-44F5-9360-23235F7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3E6-E6ED-4F45-885D-78C57BF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1F1-5DAA-4ABD-A603-B8F2FE3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F7A-AC03-4804-80D3-77AD2E02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C64E-3BD7-450F-84B0-A27801F2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6410-0E9C-4D9F-9CB4-B1F4AC4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81A-5351-4918-996C-F7E01F1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F6A4-3684-438E-B824-813D06E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1360-410E-400B-AAE6-7CBA2E1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FB8-94DD-428E-8B38-4E889C57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895D-A27A-4160-AF1E-58589BF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BCB-FFB8-408C-AC2C-04F32515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EA32-1BD7-4E28-9167-14312640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59AC-2BB3-4CB6-8BD6-E8F2D55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F4F1-085C-48BA-A4EE-40C514AD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5120-53A1-4A2F-B9B2-6E7814D8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0DA4-BEAA-4843-900B-2AA13FE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657-E090-4832-9D0B-5489CF0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E135-057A-424C-BA21-4F51D1D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0A95-9464-4CCC-913E-F0793DA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FA58-CB6C-4167-BA8A-908F7D7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7337-C21E-409D-B7FF-B5A0FE5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4290-885F-45D2-8C94-006CF6A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1216-6F28-4B4A-9B48-E843F554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C5A3-A81A-4679-82D1-D4A655B9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2C68-D4AF-4309-84D3-9D629767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FA22-1639-4D9E-9179-01E6BB7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8708-7C34-4BC9-89C3-C790CE5B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A3E-958E-4355-8985-44D92ACA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0E52-0289-4F38-B0A7-5789DDC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B049-5E93-4A47-8EAC-23DDB3E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E070-C30F-4FD0-B700-F10B0976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E48E-7EF6-4C33-A516-727FF97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AA76-80FD-4F55-99DB-3693F5F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1D75-7547-4E96-ACD5-4A30312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FFDB-0B7B-403E-A586-4B8DCC0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2A42-0CB1-42CE-A949-A9852DB4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16C2-8202-4DF8-800B-D16050A5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ABD-4A4F-4D26-AF3F-7834BD8A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7EE-B15E-4C46-B2F6-C243E7A8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C9B-A901-4E70-825C-E5AD5E0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00E-44EB-4AE3-A904-2CBAF93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8CC-2CBC-4E60-B43D-CD17930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1E4-CE5D-4DB9-A053-1B380FCCDA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B33-EE92-4375-9F07-9A16E92CFB6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205D-DB1A-494F-BEC8-C7EBFBD993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34F-B857-4D9E-BBB9-7E1C18AB55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26560" y="5767560"/>
            <a:ext cx="7488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Bookman Old Style"/>
              </a:rPr>
              <a:t>Методическая разработка для учащихся 5 – 11 класс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835200" y="195120"/>
            <a:ext cx="7772400" cy="2876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f0c849e861cb9cacb35d6e6c288d0db1"/>
          <p:cNvPicPr/>
          <p:nvPr/>
        </p:nvPicPr>
        <p:blipFill>
          <a:blip r:embed="rId2"/>
          <a:stretch/>
        </p:blipFill>
        <p:spPr>
          <a:xfrm>
            <a:off x="501480" y="2492280"/>
            <a:ext cx="2928960" cy="2266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1" descr="b4c44b8f40c4eeea5674a96909379def"/>
          <p:cNvPicPr/>
          <p:nvPr/>
        </p:nvPicPr>
        <p:blipFill>
          <a:blip r:embed="rId3"/>
          <a:stretch/>
        </p:blipFill>
        <p:spPr>
          <a:xfrm>
            <a:off x="4722840" y="2886120"/>
            <a:ext cx="302400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116000" y="-171360"/>
            <a:ext cx="7058160" cy="1555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250560" y="98064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10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Trebuchet MS"/>
              </a:rPr>
              <a:t>9-11 класс:</a:t>
            </a:r>
            <a:endParaRPr b="0" lang="en-US" sz="4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04040"/>
                </a:solidFill>
                <a:latin typeface="Trebuchet MS"/>
              </a:rPr>
              <a:t>Научить технике метания гранаты на дальность с разбега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0240" y="-152280"/>
            <a:ext cx="8858160" cy="125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50920" y="83664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В 9-11 классах рекомендуется следующая последовательность изучения техники метания гранаты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Ознакомление с технико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Держание гранаты и бросок с мес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Изучение финального усилия при бросках с места и с шага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Изучение техники бросковых шаг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Изучение техники отведения гранат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Свободный бег с гранатой в рук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Метание гранаты с разбег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В процессе изучения следует придерживаться указаний из раздела «Метание малого мяча»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09440" y="152280"/>
            <a:ext cx="8607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Object 3"/>
          <p:cNvGraphicFramePr/>
          <p:nvPr/>
        </p:nvGraphicFramePr>
        <p:xfrm>
          <a:off x="297000" y="1268280"/>
          <a:ext cx="866772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1268280"/>
                    <a:ext cx="8667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762200" y="4078440"/>
            <a:ext cx="654660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3"/>
          <p:cNvGraphicFramePr/>
          <p:nvPr/>
        </p:nvGraphicFramePr>
        <p:xfrm>
          <a:off x="71280" y="1936800"/>
          <a:ext cx="903780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1936800"/>
                    <a:ext cx="903780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255600"/>
            <a:ext cx="8682120" cy="503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0:57:25Z</dcterms:created>
  <dc:creator>User</dc:creator>
  <dc:description/>
  <dc:language>en-US</dc:language>
  <cp:lastModifiedBy>Тимур</cp:lastModifiedBy>
  <dcterms:modified xsi:type="dcterms:W3CDTF">2016-02-13T16:29:19Z</dcterms:modified>
  <cp:revision>14</cp:revision>
  <dc:subject/>
  <dc:title>Метание малого мяча</dc:title>
</cp:coreProperties>
</file>