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37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11.png" ContentType="image/png"/>
  <Override PartName="/ppt/media/image8.jpeg" ContentType="image/jpeg"/>
  <Override PartName="/ppt/media/image38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8F4-10FA-4D4D-B24C-97F027C9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110-4BB4-4A5A-B8BF-1FEFABD3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093-5D6F-4B7E-9805-C133673F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393-E010-438F-9F7E-E105E7B4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50B-E49D-43E2-BD38-B515D322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FB30-38FD-40FA-B15A-06B932E0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EF7-C0EE-4BAD-95AC-8E431CAF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19F-7513-4A24-8074-06F7D83A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38B-DF78-48E0-9774-5DF46F9A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286-11C6-4D2C-8AEA-7E5017EC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D78-DD7D-4FFC-8B37-CA8BDADB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1E1-B938-4EA4-B1BD-11F421E1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 fontScale="92000"/>
          </a:bodyPr>
          <a:p>
            <a:pPr marL="378000" indent="-37800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19360" indent="-3139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12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65440" indent="-2509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-2512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69440" indent="-2512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69440" indent="-2512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4C5E-A208-408F-A1D3-455A4337CCF7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6.gi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002-003-Nravstvenno-patrioticheskoe-vospitanie-detej-doshkolnogo-vozrasta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1"/>
          <p:cNvPicPr/>
          <p:nvPr/>
        </p:nvPicPr>
        <p:blipFill>
          <a:blip r:embed="rId2"/>
          <a:stretch/>
        </p:blipFill>
        <p:spPr>
          <a:xfrm>
            <a:off x="271440" y="3357720"/>
            <a:ext cx="3740040" cy="2906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63680" y="260280"/>
            <a:ext cx="67881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 детский сад №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тров Сокровищ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нинградская область,  Советский городской окр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6" descr=""/>
          <p:cNvPicPr/>
          <p:nvPr/>
        </p:nvPicPr>
        <p:blipFill>
          <a:blip r:embed="rId3"/>
          <a:stretch/>
        </p:blipFill>
        <p:spPr>
          <a:xfrm>
            <a:off x="1670040" y="1517760"/>
            <a:ext cx="7297920" cy="1944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5576760" y="4437000"/>
            <a:ext cx="405792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briola"/>
              </a:rPr>
              <a:t>Сапроненко  Л.Л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38987_fon-prezentacii-tetrad"/>
          <p:cNvPicPr/>
          <p:nvPr/>
        </p:nvPicPr>
        <p:blipFill>
          <a:blip r:embed="rId1"/>
          <a:srcRect l="0" t="9054" r="0" b="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299160" y="552240"/>
            <a:ext cx="6849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urier New"/>
              </a:rPr>
              <a:t>- Назовите ещё короткие слова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8089853_54118"/>
          <p:cNvPicPr/>
          <p:nvPr/>
        </p:nvPicPr>
        <p:blipFill>
          <a:blip r:embed="rId2"/>
          <a:stretch/>
        </p:blipFill>
        <p:spPr>
          <a:xfrm>
            <a:off x="428760" y="1052640"/>
            <a:ext cx="1596960" cy="158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8089853_54118"/>
          <p:cNvPicPr/>
          <p:nvPr/>
        </p:nvPicPr>
        <p:blipFill>
          <a:blip r:embed="rId3"/>
          <a:stretch/>
        </p:blipFill>
        <p:spPr>
          <a:xfrm>
            <a:off x="2535120" y="98100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13344_html_m17d8d34c"/>
          <p:cNvPicPr/>
          <p:nvPr/>
        </p:nvPicPr>
        <p:blipFill>
          <a:blip r:embed="rId4"/>
          <a:stretch/>
        </p:blipFill>
        <p:spPr>
          <a:xfrm>
            <a:off x="4448160" y="981000"/>
            <a:ext cx="1738440" cy="1511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13344_html_m7405746b"/>
          <p:cNvPicPr/>
          <p:nvPr/>
        </p:nvPicPr>
        <p:blipFill>
          <a:blip r:embed="rId5"/>
          <a:stretch/>
        </p:blipFill>
        <p:spPr>
          <a:xfrm>
            <a:off x="6980400" y="765000"/>
            <a:ext cx="1793880" cy="1603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13344_html_m1db5391"/>
          <p:cNvPicPr/>
          <p:nvPr/>
        </p:nvPicPr>
        <p:blipFill>
          <a:blip r:embed="rId6"/>
          <a:stretch/>
        </p:blipFill>
        <p:spPr>
          <a:xfrm>
            <a:off x="1521000" y="2205000"/>
            <a:ext cx="1715760" cy="1425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KZOmos7Px1c"/>
          <p:cNvPicPr/>
          <p:nvPr/>
        </p:nvPicPr>
        <p:blipFill>
          <a:blip r:embed="rId7"/>
          <a:stretch/>
        </p:blipFill>
        <p:spPr>
          <a:xfrm>
            <a:off x="5811840" y="2276640"/>
            <a:ext cx="1638360" cy="1322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9"/>
          <p:cNvSpPr/>
          <p:nvPr/>
        </p:nvSpPr>
        <p:spPr>
          <a:xfrm>
            <a:off x="351000" y="3652200"/>
            <a:ext cx="8659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urier New"/>
              </a:rPr>
              <a:t>- Какие ещё бывают слова? (длинные). Назовите длинные слова (велосипед, паровоз, экскаватор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344520" y="5732640"/>
            <a:ext cx="7958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Bodoni MT"/>
              </a:rPr>
              <a:t>Игра «Найди свой домик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810456087"/>
          <p:cNvPicPr/>
          <p:nvPr/>
        </p:nvPicPr>
        <p:blipFill>
          <a:blip r:embed="rId8"/>
          <a:stretch/>
        </p:blipFill>
        <p:spPr>
          <a:xfrm>
            <a:off x="415800" y="5805360"/>
            <a:ext cx="703440" cy="648000"/>
          </a:xfrm>
          <a:prstGeom prst="rect">
            <a:avLst/>
          </a:prstGeom>
          <a:ln w="0">
            <a:noFill/>
          </a:ln>
        </p:spPr>
      </p:pic>
      <p:pic>
        <p:nvPicPr>
          <p:cNvPr id="135" name="03235.mp3" descr=""/>
          <p:cNvPicPr/>
          <p:nvPr/>
        </p:nvPicPr>
        <p:blipFill>
          <a:blip r:embed="rId9"/>
          <a:stretch/>
        </p:blipFill>
        <p:spPr>
          <a:xfrm>
            <a:off x="63180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230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212084_rozhdestvenskii-fon-dlya-prezentacii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1"/>
          <p:cNvSpPr/>
          <p:nvPr/>
        </p:nvSpPr>
        <p:spPr>
          <a:xfrm>
            <a:off x="4788000" y="3276720"/>
            <a:ext cx="330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0" descr="19bf8152ca"/>
          <p:cNvPicPr/>
          <p:nvPr/>
        </p:nvPicPr>
        <p:blipFill>
          <a:blip r:embed="rId2"/>
          <a:stretch/>
        </p:blipFill>
        <p:spPr>
          <a:xfrm>
            <a:off x="819000" y="0"/>
            <a:ext cx="8736120" cy="663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1" descr=""/>
          <p:cNvPicPr/>
          <p:nvPr/>
        </p:nvPicPr>
        <p:blipFill>
          <a:blip r:embed="rId3"/>
          <a:stretch/>
        </p:blipFill>
        <p:spPr>
          <a:xfrm>
            <a:off x="6980400" y="3789360"/>
            <a:ext cx="1071360" cy="1330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"/>
          <p:cNvPicPr/>
          <p:nvPr/>
        </p:nvPicPr>
        <p:blipFill>
          <a:blip r:embed="rId4"/>
          <a:stretch/>
        </p:blipFill>
        <p:spPr>
          <a:xfrm>
            <a:off x="1639800" y="3789360"/>
            <a:ext cx="1050840" cy="13748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4"/>
          <p:cNvSpPr/>
          <p:nvPr/>
        </p:nvSpPr>
        <p:spPr>
          <a:xfrm>
            <a:off x="1595520" y="-66600"/>
            <a:ext cx="655488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eorgia"/>
              </a:rPr>
              <a:t>«Всему название дано –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eorgia"/>
              </a:rPr>
              <a:t>И зверю, и предмету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eorgia"/>
              </a:rPr>
              <a:t>Вещей кругом полным-полно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eorgia"/>
              </a:rPr>
              <a:t>А безымянных нету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eorgia"/>
              </a:rPr>
              <a:t>И все, что видит только глаз –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eorgia"/>
              </a:rPr>
              <a:t>Над нами и под н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eorgia"/>
              </a:rPr>
              <a:t>И все, что в памяти у нас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eorgia"/>
              </a:rPr>
              <a:t>Означено словами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4738680" y="4714920"/>
            <a:ext cx="16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ови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023920" y="5589720"/>
            <a:ext cx="6858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5"/>
          <p:cNvSpPr/>
          <p:nvPr/>
        </p:nvSpPr>
        <p:spPr>
          <a:xfrm>
            <a:off x="4788000" y="3276720"/>
            <a:ext cx="330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img12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WordArt 8"/>
          <p:cNvSpPr txBox="1"/>
          <p:nvPr/>
        </p:nvSpPr>
        <p:spPr>
          <a:xfrm>
            <a:off x="2222640" y="476280"/>
            <a:ext cx="5694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 И М А </a:t>
            </a:r>
            <a:endParaRPr b="0" lang="en-US" sz="4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301840" y="1484280"/>
            <a:ext cx="544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3705120" y="1484280"/>
            <a:ext cx="544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5264280" y="1484280"/>
            <a:ext cx="546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746760" y="1413000"/>
            <a:ext cx="544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144880" y="2708280"/>
          <a:ext cx="6994440" cy="1655640"/>
        </p:xfrm>
        <a:graphic>
          <a:graphicData uri="http://schemas.openxmlformats.org/drawingml/2006/table">
            <a:tbl>
              <a:tblPr/>
              <a:tblGrid>
                <a:gridCol w="1749240"/>
                <a:gridCol w="1749600"/>
                <a:gridCol w="1746000"/>
                <a:gridCol w="1749600"/>
              </a:tblGrid>
              <a:tr h="165564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33"/>
          <p:cNvSpPr/>
          <p:nvPr/>
        </p:nvSpPr>
        <p:spPr>
          <a:xfrm>
            <a:off x="2300400" y="2924280"/>
            <a:ext cx="1406520" cy="1224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4"/>
          <p:cNvSpPr/>
          <p:nvPr/>
        </p:nvSpPr>
        <p:spPr>
          <a:xfrm>
            <a:off x="4094280" y="2924280"/>
            <a:ext cx="140652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5"/>
          <p:cNvSpPr/>
          <p:nvPr/>
        </p:nvSpPr>
        <p:spPr>
          <a:xfrm>
            <a:off x="5811840" y="2924280"/>
            <a:ext cx="1405080" cy="122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7527960" y="2924280"/>
            <a:ext cx="140508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8" descr="9"/>
          <p:cNvPicPr/>
          <p:nvPr/>
        </p:nvPicPr>
        <p:blipFill>
          <a:blip r:embed="rId2"/>
          <a:stretch/>
        </p:blipFill>
        <p:spPr>
          <a:xfrm>
            <a:off x="6697800" y="2997360"/>
            <a:ext cx="388800" cy="431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9" descr="9"/>
          <p:cNvPicPr/>
          <p:nvPr/>
        </p:nvPicPr>
        <p:blipFill>
          <a:blip r:embed="rId3"/>
          <a:stretch/>
        </p:blipFill>
        <p:spPr>
          <a:xfrm>
            <a:off x="3236760" y="2997360"/>
            <a:ext cx="390600" cy="431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11665"/>
          <p:cNvPicPr/>
          <p:nvPr/>
        </p:nvPicPr>
        <p:blipFill>
          <a:blip r:embed="rId4"/>
          <a:stretch/>
        </p:blipFill>
        <p:spPr>
          <a:xfrm>
            <a:off x="6176880" y="4437000"/>
            <a:ext cx="3160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212084_rozhdestvenskii-fon-dlya-prezentacii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Заголовок 1"/>
          <p:cNvSpPr/>
          <p:nvPr/>
        </p:nvSpPr>
        <p:spPr>
          <a:xfrm>
            <a:off x="523800" y="260280"/>
            <a:ext cx="8067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ая гимнастика (физминутка) «Зимняя прогулка»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br>
              <a:rPr sz="2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ьчики отправились на прогулку. Предлагаю к ним присоединиться.</a:t>
            </a: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бъект 5"/>
          <p:cNvSpPr/>
          <p:nvPr/>
        </p:nvSpPr>
        <p:spPr>
          <a:xfrm>
            <a:off x="193680" y="1052640"/>
            <a:ext cx="608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, два, три, четыре, пять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гибаем пальчики по одно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о двор пришли гулять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"Идём" по столу указательным и средним пальчиками</a:t>
            </a: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у снежную лепили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"Лепим" комочек двумя ладон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чек крошками кормили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шащие движения всеми пальц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орки мы потом катались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ём указательным пальцем правой руки по ладони левой руки</a:t>
            </a: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ё в снегу валялись.</a:t>
            </a: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дём ладошки на стол то одной стороной, то другой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 снегу домой пришл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ряхиваем ладош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ели суп и спать легл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я воображаемой ложкой, руки под щё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htmlconvd-kxdAnf_html_m6a03f18d"/>
          <p:cNvPicPr/>
          <p:nvPr/>
        </p:nvPicPr>
        <p:blipFill>
          <a:blip r:embed="rId2"/>
          <a:stretch/>
        </p:blipFill>
        <p:spPr>
          <a:xfrm>
            <a:off x="5881680" y="1357200"/>
            <a:ext cx="3714840" cy="3438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%20%D0%BF%D1%80%D0%BE%D0%B3%D1%83%D0%BB%D0%BA%D0%B0"/>
          <p:cNvPicPr/>
          <p:nvPr/>
        </p:nvPicPr>
        <p:blipFill>
          <a:blip r:embed="rId3"/>
          <a:stretch/>
        </p:blipFill>
        <p:spPr>
          <a:xfrm>
            <a:off x="5654520" y="4632480"/>
            <a:ext cx="4251600" cy="2225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810456087"/>
          <p:cNvPicPr/>
          <p:nvPr/>
        </p:nvPicPr>
        <p:blipFill>
          <a:blip r:embed="rId4"/>
          <a:stretch/>
        </p:blipFill>
        <p:spPr>
          <a:xfrm>
            <a:off x="8840880" y="6043680"/>
            <a:ext cx="882720" cy="814320"/>
          </a:xfrm>
          <a:prstGeom prst="rect">
            <a:avLst/>
          </a:prstGeom>
          <a:ln w="0">
            <a:noFill/>
          </a:ln>
        </p:spPr>
      </p:pic>
      <p:pic>
        <p:nvPicPr>
          <p:cNvPr id="165" name="03235.mp3" descr=""/>
          <p:cNvPicPr/>
          <p:nvPr/>
        </p:nvPicPr>
        <p:blipFill>
          <a:blip r:embed="rId5"/>
          <a:stretch/>
        </p:blipFill>
        <p:spPr>
          <a:xfrm>
            <a:off x="912960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230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paper"/>
          <p:cNvPicPr/>
          <p:nvPr/>
        </p:nvPicPr>
        <p:blipFill>
          <a:blip r:embed="rId1"/>
          <a:stretch/>
        </p:blipFill>
        <p:spPr>
          <a:xfrm>
            <a:off x="0" y="-25560"/>
            <a:ext cx="9906120" cy="68835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1"/>
          <p:cNvSpPr/>
          <p:nvPr/>
        </p:nvSpPr>
        <p:spPr>
          <a:xfrm rot="537000">
            <a:off x="2847960" y="1793520"/>
            <a:ext cx="64911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 rot="530400">
            <a:off x="3392280" y="1905120"/>
            <a:ext cx="33541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4788000" y="3276720"/>
            <a:ext cx="330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0880" y="1447920"/>
            <a:ext cx="91760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-Ребята, я вам говорю слово, а вы мне его противоположн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Ночь-день, грязь-чистота, свет-темнота, холод-жара, мир-война, ложь-правда, добро-зло, друг-враг, радость-грусть, храбрый-трусливый, белый-черный, зима-лето, высокий-низкий, тихо-громко, грустный-весёлый, медленный-быстрый, крупный-мелкий, назад-вперед, верх-н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452520" y="404640"/>
            <a:ext cx="9144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Игровое упражнение "Скажи наоборот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810456087"/>
          <p:cNvPicPr/>
          <p:nvPr/>
        </p:nvPicPr>
        <p:blipFill>
          <a:blip r:embed="rId2"/>
          <a:stretch/>
        </p:blipFill>
        <p:spPr>
          <a:xfrm>
            <a:off x="8840880" y="5994360"/>
            <a:ext cx="936360" cy="863640"/>
          </a:xfrm>
          <a:prstGeom prst="rect">
            <a:avLst/>
          </a:prstGeom>
          <a:ln w="0">
            <a:noFill/>
          </a:ln>
        </p:spPr>
      </p:pic>
      <p:pic>
        <p:nvPicPr>
          <p:cNvPr id="173" name="03235.mp3" descr=""/>
          <p:cNvPicPr/>
          <p:nvPr/>
        </p:nvPicPr>
        <p:blipFill>
          <a:blip r:embed="rId3"/>
          <a:stretch/>
        </p:blipFill>
        <p:spPr>
          <a:xfrm>
            <a:off x="920124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2309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5"/>
          <p:cNvSpPr/>
          <p:nvPr/>
        </p:nvSpPr>
        <p:spPr>
          <a:xfrm>
            <a:off x="4788000" y="3276720"/>
            <a:ext cx="330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opened-green-envelope-cover-26237893"/>
          <p:cNvPicPr/>
          <p:nvPr/>
        </p:nvPicPr>
        <p:blipFill>
          <a:blip r:embed="rId1"/>
          <a:stretch/>
        </p:blipFill>
        <p:spPr>
          <a:xfrm>
            <a:off x="0" y="0"/>
            <a:ext cx="9906120" cy="68803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1911240" y="1136880"/>
            <a:ext cx="585000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дравствуйте, ребят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я зовут Солнечный зайчик. Я хочу рассказать о своем городе. (Под) нашем городе – новые дома. (За) улицам ходят нарядные жители. (Под) клумбах растут красивые цветы. Люди ездят (за) современных автомобилях. (На) городом раскинулась широкая река. (Под) реке водятся рыбы. Наш город самый лучший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1"/>
          <p:cNvPicPr/>
          <p:nvPr/>
        </p:nvPicPr>
        <p:blipFill>
          <a:blip r:embed="rId2"/>
          <a:stretch/>
        </p:blipFill>
        <p:spPr>
          <a:xfrm>
            <a:off x="6435720" y="3429000"/>
            <a:ext cx="3157560" cy="3168720"/>
          </a:xfrm>
          <a:prstGeom prst="rect">
            <a:avLst/>
          </a:prstGeom>
          <a:ln w="0">
            <a:noFill/>
          </a:ln>
        </p:spPr>
      </p:pic>
      <p:sp>
        <p:nvSpPr>
          <p:cNvPr id="178" name="WordArt 17"/>
          <p:cNvSpPr txBox="1"/>
          <p:nvPr/>
        </p:nvSpPr>
        <p:spPr>
          <a:xfrm>
            <a:off x="415800" y="5300640"/>
            <a:ext cx="59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 О Л О Д Ц Ы </a:t>
            </a:r>
            <a:endParaRPr b="1" lang="en-US" sz="4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art_bulletin-board--02_19-1920x1440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%D1%83%D0%BB%D1%8B%D0%B1%D0%BA%D0%B0"/>
          <p:cNvPicPr/>
          <p:nvPr/>
        </p:nvPicPr>
        <p:blipFill>
          <a:blip r:embed="rId2"/>
          <a:stretch/>
        </p:blipFill>
        <p:spPr>
          <a:xfrm>
            <a:off x="2576520" y="3789360"/>
            <a:ext cx="3740040" cy="2790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1712880" y="1122840"/>
            <a:ext cx="727380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«Придумано кем-то просто и муд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При встрече здоровать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- Доброе утр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- Доброе утро! солнцу и птиц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- Доброе утро! улыбчивым лиц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И каждый становится добрым, доверчив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Доброе утро длится до вечер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810456087"/>
          <p:cNvPicPr/>
          <p:nvPr/>
        </p:nvPicPr>
        <p:blipFill>
          <a:blip r:embed="rId3"/>
          <a:stretch/>
        </p:blipFill>
        <p:spPr>
          <a:xfrm>
            <a:off x="8769240" y="5877000"/>
            <a:ext cx="88128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03235.mp3" descr=""/>
          <p:cNvPicPr/>
          <p:nvPr/>
        </p:nvPicPr>
        <p:blipFill>
          <a:blip r:embed="rId4"/>
          <a:stretch/>
        </p:blipFill>
        <p:spPr>
          <a:xfrm>
            <a:off x="91296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30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on-dlya-prezentacii-vesna-08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blank-paper-transparent-png"/>
          <p:cNvPicPr/>
          <p:nvPr/>
        </p:nvPicPr>
        <p:blipFill>
          <a:blip r:embed="rId2"/>
          <a:stretch/>
        </p:blipFill>
        <p:spPr>
          <a:xfrm>
            <a:off x="1987560" y="0"/>
            <a:ext cx="7918560" cy="5148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236760" y="406080"/>
            <a:ext cx="5572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дравствуйте дорогие ребят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457360" y="836640"/>
            <a:ext cx="708192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кажите пожалуйста моим друзья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ротышкам, что вы изучаете на занятиях по обучению грамо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777400" y="1484280"/>
            <a:ext cx="4255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Чем отличаются звуки и букв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846520" y="1844640"/>
            <a:ext cx="4941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Какие бывают зву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505240" y="2205720"/>
            <a:ext cx="7139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На столе у вас лежат буквы, раскрасьте и  назовите 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2862000" y="2566800"/>
            <a:ext cx="4688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Какие две группы у нас получились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952880" y="4653000"/>
            <a:ext cx="4445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асибо! Ваш друг Знай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%D0%B7%D0%BD%D0%B0%D0%B9%D0%BA%D0%B0+%D0%B8+%D0%BD%D0%B5%D0%B7%D0%BD%D0%B0%D0%B9%D0%BA%D0%B0"/>
          <p:cNvPicPr/>
          <p:nvPr/>
        </p:nvPicPr>
        <p:blipFill>
          <a:blip r:embed="rId3"/>
          <a:stretch/>
        </p:blipFill>
        <p:spPr>
          <a:xfrm>
            <a:off x="193680" y="3427560"/>
            <a:ext cx="2419200" cy="3430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%D0%B7%D0%BD%D0%B0%D0%B9%D0%BA%D0%B0+%D0%B8+%D0%BD%D0%B5%D0%B7%D0%BD%D0%B0%D0%B9%D0%BA%D0%B0"/>
          <p:cNvPicPr/>
          <p:nvPr/>
        </p:nvPicPr>
        <p:blipFill>
          <a:blip r:embed="rId4"/>
          <a:stretch/>
        </p:blipFill>
        <p:spPr>
          <a:xfrm>
            <a:off x="3392640" y="3760920"/>
            <a:ext cx="1690560" cy="3097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3"/>
          <p:cNvSpPr/>
          <p:nvPr/>
        </p:nvSpPr>
        <p:spPr>
          <a:xfrm>
            <a:off x="2860560" y="2925720"/>
            <a:ext cx="4435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Как произносятся гласные звук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2940840" y="3286080"/>
            <a:ext cx="4702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Как произносятся согласные звук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89640" y="3645720"/>
            <a:ext cx="42192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Придумайте слово на свой зву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0002-003-Nravstvenno-patrioticheskoe-vospitanie-detej-doshkolnogo-vozrasta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2642760" y="1935000"/>
            <a:ext cx="72918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urier New"/>
              </a:rPr>
              <a:t>Ровно встаньте, улыбнитесь,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ourier New"/>
              </a:rPr>
              <a:t>Выше, выше, потянитесь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ourier New"/>
              </a:rPr>
              <a:t>Ну-ка, плечи распрямите,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ourier New"/>
              </a:rPr>
              <a:t>Поднимите, опустите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ourier New"/>
              </a:rPr>
              <a:t>Влево, вправо повернитесь,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ourier New"/>
              </a:rPr>
              <a:t>Руками коленей скорее коснитесь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ourier New"/>
              </a:rPr>
              <a:t>Сели-встали, сели-встали,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ourier New"/>
              </a:rPr>
              <a:t>И нам ……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4" descr=""/>
          <p:cNvPicPr/>
          <p:nvPr/>
        </p:nvPicPr>
        <p:blipFill>
          <a:blip r:embed="rId2"/>
          <a:stretch/>
        </p:blipFill>
        <p:spPr>
          <a:xfrm>
            <a:off x="811080" y="828720"/>
            <a:ext cx="4834080" cy="79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810456087"/>
          <p:cNvPicPr/>
          <p:nvPr/>
        </p:nvPicPr>
        <p:blipFill>
          <a:blip r:embed="rId3"/>
          <a:stretch/>
        </p:blipFill>
        <p:spPr>
          <a:xfrm>
            <a:off x="9056520" y="6093000"/>
            <a:ext cx="703440" cy="649080"/>
          </a:xfrm>
          <a:prstGeom prst="rect">
            <a:avLst/>
          </a:prstGeom>
          <a:ln w="0">
            <a:noFill/>
          </a:ln>
        </p:spPr>
      </p:pic>
      <p:pic>
        <p:nvPicPr>
          <p:cNvPr id="69" name="03235.mp3" descr=""/>
          <p:cNvPicPr/>
          <p:nvPr/>
        </p:nvPicPr>
        <p:blipFill>
          <a:blip r:embed="rId4"/>
          <a:stretch/>
        </p:blipFill>
        <p:spPr>
          <a:xfrm>
            <a:off x="92743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%D0%B7%D0%BD%D0%B0%D0%B9%D0%BA%D0%B0+%D0%B8+%D0%BD%D0%B5%D0%B7%D0%BD%D0%B0%D0%B9%D0%BA%D0%B0"/>
          <p:cNvPicPr/>
          <p:nvPr/>
        </p:nvPicPr>
        <p:blipFill>
          <a:blip r:embed="rId5"/>
          <a:stretch/>
        </p:blipFill>
        <p:spPr>
          <a:xfrm>
            <a:off x="415800" y="2852640"/>
            <a:ext cx="208944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309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fon-dlya-prezentacii-vesna-08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blank-paper-transparent-png"/>
          <p:cNvPicPr/>
          <p:nvPr/>
        </p:nvPicPr>
        <p:blipFill>
          <a:blip r:embed="rId2"/>
          <a:stretch/>
        </p:blipFill>
        <p:spPr>
          <a:xfrm>
            <a:off x="974880" y="0"/>
            <a:ext cx="89312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ello_html_60deb4d1"/>
          <p:cNvPicPr/>
          <p:nvPr/>
        </p:nvPicPr>
        <p:blipFill>
          <a:blip r:embed="rId3"/>
          <a:stretch/>
        </p:blipFill>
        <p:spPr>
          <a:xfrm>
            <a:off x="0" y="2752560"/>
            <a:ext cx="2357280" cy="4105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2457360" y="4865040"/>
            <a:ext cx="74487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urier New"/>
              </a:rPr>
              <a:t>Определить  место звука «Р» в слове: в начале, середине или в конце слова.</a:t>
            </a:r>
            <a:r>
              <a:rPr b="0" lang="ru-RU" sz="2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612880" y="404640"/>
            <a:ext cx="6785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99ff"/>
                </a:solidFill>
                <a:latin typeface="Courier New"/>
              </a:rPr>
              <a:t>ДОРОГИЕ РЕБЯТА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452600" y="847080"/>
            <a:ext cx="82152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Послушайте внимательно скороговорку: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1521000" y="1145520"/>
            <a:ext cx="80341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Georgia"/>
              </a:rPr>
              <a:t>«Собирала Маргарита маргаритки на траве, потеряла Маргарита маргаритки во дворе»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383737-svetik"/>
          <p:cNvPicPr/>
          <p:nvPr/>
        </p:nvPicPr>
        <p:blipFill>
          <a:blip r:embed="rId4"/>
          <a:stretch/>
        </p:blipFill>
        <p:spPr>
          <a:xfrm>
            <a:off x="5024520" y="2571840"/>
            <a:ext cx="3652920" cy="1419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5310360" y="6072120"/>
            <a:ext cx="43686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ff"/>
                </a:solidFill>
                <a:latin typeface="Georgia"/>
              </a:rPr>
              <a:t>Синеглаз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2338560" y="4077000"/>
            <a:ext cx="756756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urier New"/>
              </a:rPr>
              <a:t>- Какой звук очень часто встречается в этой скороговорке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http://steshka.ru/wp-content/uploads/2014/05/bukvar.jpg"/>
          <p:cNvPicPr/>
          <p:nvPr/>
        </p:nvPicPr>
        <p:blipFill>
          <a:blip r:embed="rId5"/>
          <a:stretch/>
        </p:blipFill>
        <p:spPr>
          <a:xfrm>
            <a:off x="2881440" y="2643120"/>
            <a:ext cx="13572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002-003-Nravstvenno-patrioticheskoe-vospitanie-detej-doshkolnogo-vozrasta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1292400" y="1917720"/>
            <a:ext cx="904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е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066760" y="1916280"/>
            <a:ext cx="1243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аба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3242520" y="1916280"/>
            <a:ext cx="985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4174560" y="1916280"/>
            <a:ext cx="10602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уг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54280" y="2565360"/>
          <a:ext cx="6603840" cy="1960560"/>
        </p:xfrm>
        <a:graphic>
          <a:graphicData uri="http://schemas.openxmlformats.org/drawingml/2006/table">
            <a:tbl>
              <a:tblPr/>
              <a:tblGrid>
                <a:gridCol w="2201760"/>
                <a:gridCol w="2200320"/>
                <a:gridCol w="2201760"/>
              </a:tblGrid>
              <a:tr h="19605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20"/>
          <p:cNvSpPr/>
          <p:nvPr/>
        </p:nvSpPr>
        <p:spPr>
          <a:xfrm>
            <a:off x="5113800" y="1916280"/>
            <a:ext cx="1116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2144880" y="2781360"/>
            <a:ext cx="1560240" cy="1439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6435720" y="2781360"/>
            <a:ext cx="1558800" cy="1439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6204960" y="1916280"/>
            <a:ext cx="753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6435720" y="2781360"/>
            <a:ext cx="1558800" cy="1439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6904440" y="1916280"/>
            <a:ext cx="951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бу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4329000" y="2781360"/>
            <a:ext cx="1559160" cy="1439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7761240" y="1916280"/>
            <a:ext cx="1206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оз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4329000" y="2781360"/>
            <a:ext cx="1559160" cy="1439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9"/>
          <p:cNvSpPr/>
          <p:nvPr/>
        </p:nvSpPr>
        <p:spPr>
          <a:xfrm>
            <a:off x="6435720" y="2781360"/>
            <a:ext cx="1558800" cy="1439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f02a2b_69507a63f8973fddef33b6ec11d40005"/>
          <p:cNvPicPr/>
          <p:nvPr/>
        </p:nvPicPr>
        <p:blipFill>
          <a:blip r:embed="rId1"/>
          <a:stretch/>
        </p:blipFill>
        <p:spPr>
          <a:xfrm>
            <a:off x="-50760" y="0"/>
            <a:ext cx="99568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819000" y="2977560"/>
            <a:ext cx="8318520" cy="34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глазки зорче бы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очках чтоб не ход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нужные движ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агаю повтор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даль посмотрим и под н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ево, вправо побыст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ивились – что т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акроем их ско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еперь вращай по круг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но стрелочка ча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вай глаза. И с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анятье. Будь здор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419720" y="333360"/>
            <a:ext cx="456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ительная гимнастик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Будь здоров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810456087"/>
          <p:cNvPicPr/>
          <p:nvPr/>
        </p:nvPicPr>
        <p:blipFill>
          <a:blip r:embed="rId2"/>
          <a:stretch/>
        </p:blipFill>
        <p:spPr>
          <a:xfrm>
            <a:off x="8985240" y="5950080"/>
            <a:ext cx="779400" cy="718920"/>
          </a:xfrm>
          <a:prstGeom prst="rect">
            <a:avLst/>
          </a:prstGeom>
          <a:ln w="0">
            <a:noFill/>
          </a:ln>
        </p:spPr>
      </p:pic>
      <p:pic>
        <p:nvPicPr>
          <p:cNvPr id="102" name="03235.mp3" descr=""/>
          <p:cNvPicPr/>
          <p:nvPr/>
        </p:nvPicPr>
        <p:blipFill>
          <a:blip r:embed="rId3"/>
          <a:stretch/>
        </p:blipFill>
        <p:spPr>
          <a:xfrm>
            <a:off x="927432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230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38987_fon-prezentacii-tetrad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17"/>
          <p:cNvSpPr txBox="1"/>
          <p:nvPr/>
        </p:nvSpPr>
        <p:spPr>
          <a:xfrm>
            <a:off x="662040" y="5516640"/>
            <a:ext cx="694368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 О Л О Д Ц Ы </a:t>
            </a:r>
            <a:endParaRPr b="1" lang="en-US" sz="4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5" name="Picture 6" descr="515967_html_mf44f128"/>
          <p:cNvPicPr/>
          <p:nvPr/>
        </p:nvPicPr>
        <p:blipFill>
          <a:blip r:embed="rId2"/>
          <a:stretch/>
        </p:blipFill>
        <p:spPr>
          <a:xfrm>
            <a:off x="200160" y="2852640"/>
            <a:ext cx="6554520" cy="2652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4ff5c8fb86434"/>
          <p:cNvPicPr/>
          <p:nvPr/>
        </p:nvPicPr>
        <p:blipFill>
          <a:blip r:embed="rId3"/>
          <a:srcRect l="28140" t="5571" r="30949" b="75549"/>
          <a:stretch/>
        </p:blipFill>
        <p:spPr>
          <a:xfrm>
            <a:off x="6969240" y="3141720"/>
            <a:ext cx="2600280" cy="1322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1496880" y="195480"/>
            <a:ext cx="70009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«Много с буквами хлоп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Уж, такой они нар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Но когда с умом толк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Их построить в четкий ря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Превратятся буквы в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И с тобой заговоря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378160" y="0"/>
            <a:ext cx="5192640" cy="6021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2535120" y="2205000"/>
            <a:ext cx="1505160" cy="176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 rot="18715800">
            <a:off x="6596640" y="3251520"/>
            <a:ext cx="1468440" cy="209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4"/>
          <a:stretch/>
        </p:blipFill>
        <p:spPr>
          <a:xfrm>
            <a:off x="4172040" y="3429000"/>
            <a:ext cx="1650960" cy="196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5"/>
          <a:stretch/>
        </p:blipFill>
        <p:spPr>
          <a:xfrm rot="18226200">
            <a:off x="5228280" y="1065960"/>
            <a:ext cx="1322640" cy="187344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1"/>
          <p:cNvSpPr txBox="1"/>
          <p:nvPr/>
        </p:nvSpPr>
        <p:spPr>
          <a:xfrm>
            <a:off x="2846520" y="2924280"/>
            <a:ext cx="8046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4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WordArt 12"/>
          <p:cNvSpPr txBox="1"/>
          <p:nvPr/>
        </p:nvSpPr>
        <p:spPr>
          <a:xfrm>
            <a:off x="5654520" y="1700280"/>
            <a:ext cx="88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0" lang="en-US" sz="4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WordArt 13"/>
          <p:cNvSpPr txBox="1"/>
          <p:nvPr/>
        </p:nvSpPr>
        <p:spPr>
          <a:xfrm>
            <a:off x="7137360" y="4076640"/>
            <a:ext cx="7002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</a:t>
            </a:r>
            <a:endParaRPr b="0" lang="en-US" sz="4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WordArt 14"/>
          <p:cNvSpPr txBox="1"/>
          <p:nvPr/>
        </p:nvSpPr>
        <p:spPr>
          <a:xfrm>
            <a:off x="4719600" y="4292640"/>
            <a:ext cx="6238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</a:t>
            </a:r>
            <a:endParaRPr b="0" lang="en-US" sz="4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584280" y="479880"/>
            <a:ext cx="265248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Georgia"/>
              </a:rPr>
              <a:t>СОН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835560" y="1413000"/>
            <a:ext cx="204156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Georgia"/>
              </a:rPr>
              <a:t>СЛОН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7575840" y="692280"/>
            <a:ext cx="129780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Georgia"/>
              </a:rPr>
              <a:t>ОН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7808400" y="1916280"/>
            <a:ext cx="137232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Georgia"/>
              </a:rPr>
              <a:t>НО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803880" y="2421000"/>
            <a:ext cx="159048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Georgia"/>
              </a:rPr>
              <a:t>НОС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166680" y="6039720"/>
            <a:ext cx="9144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Что вы можете сказать про эти слова, какие они? (короткие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Zvuk_kolokolchika_-_din-din_(iPlayer.fm).mp3" descr=""/>
          <p:cNvPicPr/>
          <p:nvPr/>
        </p:nvPicPr>
        <p:blipFill>
          <a:blip r:embed="rId6"/>
          <a:stretch/>
        </p:blipFill>
        <p:spPr>
          <a:xfrm>
            <a:off x="48006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9329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5:04:25Z</dcterms:created>
  <dc:creator>МАРИЯ</dc:creator>
  <dc:description/>
  <dc:language>en-US</dc:language>
  <cp:lastModifiedBy>User</cp:lastModifiedBy>
  <dcterms:modified xsi:type="dcterms:W3CDTF">2022-04-16T11:32:52Z</dcterms:modified>
  <cp:revision>75</cp:revision>
  <dc:subject/>
  <dc:title>Слайд 1</dc:title>
</cp:coreProperties>
</file>