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DAE-4BE5-4963-93F7-EE6CF475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7B5-CA85-4353-88FC-B1E3B9E6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9ED-81B1-429B-B991-5B7CCFFB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F1A-C4BE-46B2-BAF7-AC24D62F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A0D-ED02-47F8-91AF-F53E990E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CAB-520D-4977-A3BB-87D28968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1AC-F028-4BEB-AFA6-BDD34AED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F10-6C61-465F-BE81-940B4B0C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ABF-7080-4A06-B6E1-58C3992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A4B-7036-4A78-BEEA-BF5CEC2D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C2C-6E22-4B40-9A0D-339ADA96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F6E-0CED-4410-86A9-9033B65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6602-7D62-4225-B803-50351C1FDB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Фон финансовая грамотность для дошколь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900000" y="33336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 106 комбинированного вида Невского райо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084720" y="4292640"/>
            <a:ext cx="305928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старшей №2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ва Л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ва С.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24000" y="2060640"/>
            <a:ext cx="84978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финансовой  грамо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4832"/>
                </a:solidFill>
                <a:latin typeface="Times New Roman"/>
                <a:ea typeface="Times New Roman"/>
              </a:rPr>
              <a:t>Мы маленькие  финансис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3906000" y="580536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6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2" descr="https://avatars.mds.yandex.net/i?id=b3eeb555c7afe483d60c00b001c0016d-5669483-images-thumbs&amp;ref=rim&amp;n=33&amp;w=202&amp;h=150"/>
          <p:cNvPicPr/>
          <p:nvPr/>
        </p:nvPicPr>
        <p:blipFill>
          <a:blip r:embed="rId1"/>
          <a:stretch/>
        </p:blipFill>
        <p:spPr>
          <a:xfrm>
            <a:off x="0" y="0"/>
            <a:ext cx="92361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7228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просвещение и воспитание детей дошкольного возраста – сравнительно новое направление в дошкольной педагогике. Ведь финансовая грамотность является глобальной социальной проблемой, неотделимой от ребенка с ранних лет его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так или иначе, рано включаются экономическую жизнь семьи:  сталкиваются с деньгами, рекламой, ходят с родителями в магазин, участвуют в купле-продаже, овладевая, таким образом, первичными экономическими знаниями, пока еще на житейск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ожалению, финансовой грамотности почти не обучают в детских садах. А грамотное отношение к собственным деньгам и опыт пользования финансовыми продуктами в раннем возрасте открывает хорошие возможности и способствует финансовому благополучию детей, когда они выраст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нансовая грамот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онятие, выходящее за пределы политических, географических и социально-экономических гран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нансовая грамот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то психологическое качество человека, показывающее степень его осведомленности в финансовых вопросах, умение зарабатывать и управлять деньга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екрет, что в России очень низкий процент информированности населения какие права имеет потребитель финансовых услуг и как их защищать в случае наруш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https://ds05.infourok.ru/uploads/ex/0a0b/00115ba2-1e3ea03d/hello_html_m7303b1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501480" y="1125360"/>
            <a:ext cx="86425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блема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детям дошкольного возраста сформировать представления об экономических понятиях: экономика, потребности, нормы жизни, деньги, товар, цена в соответствии с их возрастными особен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ршей группы,  родители , воспитател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ид проект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, открытый, коллек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ип проект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практико-ориент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рок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( 1нед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s://ds05.infourok.ru/uploads/ex/0a0b/00115ba2-1e3ea03d/hello_html_m7303b1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50920" y="404640"/>
            <a:ext cx="8424720" cy="62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основы финансовой грамотности у детей старшего дошкольного возраста через игровую деятельность в соответствии с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основы финансовой грамотности у до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вать основы финансовой грамотности дошкольников посредством разнообразных видов дет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ершенствовать коммуникативные качества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ширять знания детей о потребностях, учить понимать, чем отличаются потребности от жел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действовать проявлению интереса у детей к профессиональной деятельности взросл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вать память, внимание, речь, стимулировать актив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вать умение творчески подходить к решению ситуаций финансовых отношений посредством игровых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итывать представления о сущности таких нравственных категорий, как экономность, бережливость и чес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s://ds05.infourok.ru/uploads/ex/0a0b/00115ba2-1e3ea03d/hello_html_m7303b1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324000" y="907920"/>
            <a:ext cx="842472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жидаемый результат: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иобретают первичный финансовый опыт, учатся устанавливать разумные финансовые отношения в различных сферах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одители получают дополнительные знания по воспитанию финансовой грамотност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дагоги получат систему работы по формированию финансового опыта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ttps://ds05.infourok.ru/uploads/ex/0a0b/00115ba2-1e3ea03d/hello_html_m7303b1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79280" y="189000"/>
            <a:ext cx="842508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Этапы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этап -организационн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правочной, методической, энциклопедической литературы, сбор материала необходимого для реализации цел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родителей о планировании работы с детьми по проекту «Маленький финансис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художественной литературы для детей  по выбранной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еобходимого оборудования и пособий для практического обогащения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этап-прак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ных мероприятий в форме совместной деятельности воспитателя с детьми. Это использование раздаточного материала в соответствии с темой проекта, изготовление пособий для занятий и атрибутов для игр; чтение художественной литературы, просмотр мультфильмов (Уроки тетушки совы), презентаций, беседы, экскурсии, дидактические игры, художественное творчество, решение проблемных ситуаций, сюжетно-ролевые игры, игровые ситуации, продуктивн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этап- заключительный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зентации проект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еализации проекта в форме интеллектуально-познавательной игры «Путешествие по стране Эконом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6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6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6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6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6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59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6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1640031436_2-phonoteka-org-p-fon-dlya-proekta-po-finansovoi-gramotnosti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79280" y="189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этап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тория происхождения денежных средст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формировать у детей познавательный интерес к истории происхождения денеж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NKVR6041.JPG"/>
          <p:cNvPicPr/>
          <p:nvPr/>
        </p:nvPicPr>
        <p:blipFill>
          <a:blip r:embed="rId2"/>
          <a:stretch/>
        </p:blipFill>
        <p:spPr>
          <a:xfrm>
            <a:off x="395280" y="227664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ttps://ds04.infourok.ru/uploads/ex/089c/000bef7b-6e19318a/img6.jpg"/>
          <p:cNvPicPr/>
          <p:nvPr/>
        </p:nvPicPr>
        <p:blipFill>
          <a:blip r:embed="rId3"/>
          <a:stretch/>
        </p:blipFill>
        <p:spPr>
          <a:xfrm>
            <a:off x="1835280" y="2565360"/>
            <a:ext cx="204156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1640031436_2-phonoteka-org-p-fon-dlya-proekta-po-finansovoi-gramotnosti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1063080" y="260280"/>
            <a:ext cx="670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бывают деньг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расширение знаний детей о денежных знаках Росс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ейки, рубли, юбилейные мо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NKVR6041.JPG"/>
          <p:cNvPicPr/>
          <p:nvPr/>
        </p:nvPicPr>
        <p:blipFill>
          <a:blip r:embed="rId2"/>
          <a:stretch/>
        </p:blipFill>
        <p:spPr>
          <a:xfrm>
            <a:off x="468360" y="1413000"/>
            <a:ext cx="4367160" cy="3276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IMG_4977.JPG"/>
          <p:cNvPicPr/>
          <p:nvPr/>
        </p:nvPicPr>
        <p:blipFill>
          <a:blip r:embed="rId3"/>
          <a:stretch/>
        </p:blipFill>
        <p:spPr>
          <a:xfrm>
            <a:off x="5580000" y="2565360"/>
            <a:ext cx="30034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6:51:21Z</dcterms:created>
  <dc:creator>USER</dc:creator>
  <dc:description/>
  <dc:language>en-US</dc:language>
  <cp:lastModifiedBy>hp</cp:lastModifiedBy>
  <dcterms:modified xsi:type="dcterms:W3CDTF">2022-04-16T16:05:40Z</dcterms:modified>
  <cp:revision>38</cp:revision>
  <dc:subject/>
  <dc:title>Слайд 1</dc:title>
</cp:coreProperties>
</file>