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6E2-1ED8-47D5-BB48-E48E34C3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C77-A904-4CCF-9964-14060E2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C50-785F-4694-8544-077FC892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BB4-61AF-4581-95D3-64C42277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1CC-315C-4AE3-BFA8-53B8DA6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0DD-5110-414B-B131-6420977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0D6-B069-4B1D-9A11-C0CEDE48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997-C5EB-4C23-B881-3B0454E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99F-B992-442C-B413-C86E7F21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534-160F-4073-9793-B987307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799-3580-491F-8C47-D447695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FE4-AC39-4FD6-A801-54AD3A6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6B0F-8004-489F-9778-8BFA92680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d/Traianus_Glyptothek_Munich_336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1.liveinternet.ru/images/attach/c/1/48/811/48811519_TrajanXanten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c/1/48/811/48811519_TrajanXante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e/Gaius_Cornelius_Tacitus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9/Traj_col_battle_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media.smashingmagazine.com/cdn_smash/images/city-photography/london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g-fotki.yandex.ru/get/5812/100655484.23/0_134a9c_df23f583_X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g1.liveinternet.ru/images/attach/c/1/61/199/61199375_1278361881_43837570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udaea.ru/upload/information_system_26/7/8/2/item_782/information_items_1224705215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wpclipart.com/world_history/civilizations/Roman/Roman_aqueducts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-в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5943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64008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 Расцвет империи во 2-м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ке.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3"/>
          <p:cNvPicPr/>
          <p:nvPr/>
        </p:nvPicPr>
        <p:blipFill>
          <a:blip r:embed="rId2"/>
          <a:stretch/>
        </p:blipFill>
        <p:spPr>
          <a:xfrm>
            <a:off x="152280" y="4572000"/>
            <a:ext cx="2971800" cy="19605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45" name="Picture 6" descr="4"/>
          <p:cNvPicPr/>
          <p:nvPr/>
        </p:nvPicPr>
        <p:blipFill>
          <a:blip r:embed="rId3"/>
          <a:stretch/>
        </p:blipFill>
        <p:spPr>
          <a:xfrm>
            <a:off x="152280" y="228600"/>
            <a:ext cx="2895840" cy="18018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46" name="Picture 10" descr="1"/>
          <p:cNvPicPr/>
          <p:nvPr/>
        </p:nvPicPr>
        <p:blipFill>
          <a:blip r:embed="rId4"/>
          <a:stretch/>
        </p:blipFill>
        <p:spPr>
          <a:xfrm>
            <a:off x="5791320" y="4572000"/>
            <a:ext cx="3114720" cy="190512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раян был справедлив, милостив, долготерпелив, весьма верен друзьям; так, он посвятил другу своему Суре постройк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релий Виктор пис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ян происходил из испанского  рода. В правление Нерона отец Траяна вошёл в состав сената. Карьеру он начал при Домициане, который в 96 году назначил его наместником Верхней Германии. Спустя год после солдатского мятежа преемник Домициана Нерва усыновил популярного среди армии Траяна, а после смерти Нервы в 98 году Траян стал первым римским императором из прови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ление Траяна ( 98-117 г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Картинка 1 из 1425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523880"/>
            <a:ext cx="238464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ртинка 12 из 1425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3429000"/>
            <a:ext cx="22780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2"/>
          <p:cNvSpPr/>
          <p:nvPr/>
        </p:nvSpPr>
        <p:spPr>
          <a:xfrm>
            <a:off x="0" y="6095880"/>
            <a:ext cx="4343400" cy="586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к Ульпий Нерва Тра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нём прекратились казни по ложным доносам. Он приказал схватить самых известных доносчиков Рима, посадить их на корабль и отправить в открыт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ление Трая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Картинка 7 из 3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962520"/>
            <a:ext cx="199404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"/>
          <p:cNvSpPr/>
          <p:nvPr/>
        </p:nvSpPr>
        <p:spPr>
          <a:xfrm>
            <a:off x="1066680" y="1447920"/>
            <a:ext cx="3962520" cy="2743200"/>
          </a:xfrm>
          <a:prstGeom prst="wedgeRoundRectCallout">
            <a:avLst>
              <a:gd name="adj1" fmla="val -31129"/>
              <a:gd name="adj2" fmla="val 664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Я хочу быть таким императором, какого сам бы желал себе, если бы был поддан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ление Трая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Файл:Gaius Cornelius Tacitu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920" y="1528920"/>
            <a:ext cx="3448080" cy="4414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304920" y="5715000"/>
            <a:ext cx="3733560" cy="53352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к Публий Та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572000" y="1600200"/>
            <a:ext cx="4572000" cy="3962520"/>
          </a:xfrm>
          <a:prstGeom prst="wedgeEllipseCallout">
            <a:avLst>
              <a:gd name="adj1" fmla="val -82083"/>
              <a:gd name="adj2" fmla="val 9898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...это были годы редкого счастья, когда каждый может думать, что хочет, и говорить, что дум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ян был выдающимся полководцем, при нём сделаны последние завоевания римлян, подчинил племена д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ление Трая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Файл:Traj col battle 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82880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152280" y="5791320"/>
            <a:ext cx="4724640" cy="914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с даками. Рельеф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Париж - Всемирная  выставка  1900 года,"/>
          <p:cNvPicPr/>
          <p:nvPr/>
        </p:nvPicPr>
        <p:blipFill>
          <a:blip r:embed="rId2"/>
          <a:stretch/>
        </p:blipFill>
        <p:spPr>
          <a:xfrm>
            <a:off x="457200" y="1447920"/>
            <a:ext cx="8458200" cy="54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533520" y="5943600"/>
            <a:ext cx="8381880" cy="9144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Картинка 6 из 33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1378080"/>
            <a:ext cx="7315200" cy="5479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914400" y="5943600"/>
            <a:ext cx="73152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й Лондон. 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Картинка 19 из 1654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1365120"/>
            <a:ext cx="8839080" cy="5492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609480" y="5943600"/>
            <a:ext cx="792504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ая Австрия. В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Картинка 10 из 1543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1295280"/>
            <a:ext cx="8610480" cy="55483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304920" y="5943600"/>
            <a:ext cx="5029200" cy="914400"/>
          </a:xfrm>
          <a:prstGeom prst="rect">
            <a:avLst/>
          </a:prstGeom>
          <a:solidFill>
            <a:srgbClr val="ffff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ёльн. Гер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а 2 из 12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52388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Картинка 42 из 1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14600" y="3809880"/>
            <a:ext cx="5076720" cy="28479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2971800" y="1600200"/>
            <a:ext cx="5867280" cy="2209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набжения Рим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х городов во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ли водопроводы. В го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ыскивали источники, уклад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ы, по которым телка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перевода труб через  низины и реки возводились мосты со многими полукруглыми ар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Картинка 7 из 126"/>
          <p:cNvPicPr/>
          <p:nvPr/>
        </p:nvPicPr>
        <p:blipFill>
          <a:blip r:embed="rId2"/>
          <a:stretch/>
        </p:blipFill>
        <p:spPr>
          <a:xfrm>
            <a:off x="228600" y="1803240"/>
            <a:ext cx="4343400" cy="325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304920" y="4952880"/>
            <a:ext cx="4267080" cy="144792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мский мост в Гал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нынешней Фран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Картинка 38 из 9654"/>
          <p:cNvPicPr/>
          <p:nvPr/>
        </p:nvPicPr>
        <p:blipFill>
          <a:blip r:embed="rId2"/>
          <a:stretch/>
        </p:blipFill>
        <p:spPr>
          <a:xfrm>
            <a:off x="380880" y="1523880"/>
            <a:ext cx="8534520" cy="4516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4952880"/>
            <a:ext cx="8991720" cy="1752840"/>
          </a:xfrm>
          <a:prstGeom prst="rect">
            <a:avLst/>
          </a:prstGeom>
          <a:solidFill>
            <a:srgbClr val="ff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мляне изобрели бетон. При сооружении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кладывали на небольшом расстоянии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тонкие стенки из кирпича или камня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ались смесью из мелких камешков, песка и из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Картинка 6 из 2992"/>
          <p:cNvPicPr/>
          <p:nvPr/>
        </p:nvPicPr>
        <p:blipFill>
          <a:blip r:embed="rId2"/>
          <a:stretch/>
        </p:blipFill>
        <p:spPr>
          <a:xfrm>
            <a:off x="914400" y="1371600"/>
            <a:ext cx="7772400" cy="522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457200" y="5791320"/>
            <a:ext cx="8381880" cy="914400"/>
          </a:xfrm>
          <a:prstGeom prst="rect">
            <a:avLst/>
          </a:prstGeom>
          <a:solidFill>
            <a:srgbClr val="ff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ум Траяна 300 м в длину, и 185 м  в выс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каз от использования раб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ление Траяна ( 98 – 117 г.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800280" y="1371600"/>
            <a:ext cx="7543800" cy="5292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8"/>
          <p:cNvSpPr/>
          <p:nvPr/>
        </p:nvSpPr>
        <p:spPr>
          <a:xfrm>
            <a:off x="838080" y="5715000"/>
            <a:ext cx="746784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мские термы ( бани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52440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152280" y="5105520"/>
            <a:ext cx="358164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м Пантеон в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800600" y="5791320"/>
            <a:ext cx="35812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м  Сату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6" descr="i?id=307134789-67-72"/>
          <p:cNvPicPr/>
          <p:nvPr/>
        </p:nvPicPr>
        <p:blipFill>
          <a:blip r:embed="rId3"/>
          <a:stretch/>
        </p:blipFill>
        <p:spPr>
          <a:xfrm>
            <a:off x="4572000" y="3048120"/>
            <a:ext cx="383868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ляне строили на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Картинка 14 из 6001"/>
          <p:cNvPicPr/>
          <p:nvPr/>
        </p:nvPicPr>
        <p:blipFill>
          <a:blip r:embed="rId2"/>
          <a:stretch/>
        </p:blipFill>
        <p:spPr>
          <a:xfrm>
            <a:off x="914400" y="1447920"/>
            <a:ext cx="6934320" cy="51260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9"/>
          <p:cNvSpPr/>
          <p:nvPr/>
        </p:nvSpPr>
        <p:spPr>
          <a:xfrm>
            <a:off x="914400" y="60958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371600" y="2514600"/>
            <a:ext cx="5715000" cy="2971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57, вопрос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4920" y="0"/>
            <a:ext cx="8839080" cy="1447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каз от использования раб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ельском хозяй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1"/>
          <p:cNvPicPr/>
          <p:nvPr/>
        </p:nvPicPr>
        <p:blipFill>
          <a:blip r:embed="rId2"/>
          <a:stretch/>
        </p:blipFill>
        <p:spPr>
          <a:xfrm>
            <a:off x="152280" y="1523880"/>
            <a:ext cx="4648320" cy="29718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sp>
        <p:nvSpPr>
          <p:cNvPr id="54" name="Rectangle 9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ена империи выросли размеры имений в Итал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инциях. Богачам принадлежали огромные зем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ки, в каждом из которых трудилось огро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рабов. Но за ними очень трудно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е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T0001"/>
          <p:cNvPicPr/>
          <p:nvPr/>
        </p:nvPicPr>
        <p:blipFill>
          <a:blip r:embed="rId3"/>
          <a:srcRect l="2988" t="7978" r="19420" b="18349"/>
          <a:stretch/>
        </p:blipFill>
        <p:spPr>
          <a:xfrm>
            <a:off x="5029200" y="1447920"/>
            <a:ext cx="4113360" cy="308448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304920" y="152280"/>
            <a:ext cx="8534160" cy="1447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каз от использования раб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ельском хозяй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57200" y="1752480"/>
            <a:ext cx="8305920" cy="1676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думаете, хорошо 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ли рабы? Обоснуйте сво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329000" y="3429000"/>
            <a:ext cx="700200" cy="838080"/>
          </a:xfrm>
          <a:prstGeom prst="downArrow">
            <a:avLst>
              <a:gd name="adj1" fmla="val 50000"/>
              <a:gd name="adj2" fmla="val 29923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57200" y="4343400"/>
            <a:ext cx="8229600" cy="228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ли плохо, из-под пал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едить за ними было труд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нанимать  надсмотрщиков – д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57200" y="4267080"/>
            <a:ext cx="8534520" cy="2438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рупных имениях урожай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ноградн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ливковых рощ и полей, а так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головье скота уменьш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57200" y="4267080"/>
            <a:ext cx="8534520" cy="243864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изменить полож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9880" y="160020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да наиболее дальновидные землевладельцы разделили свои имения на отдельные участки и раздали их для обработки свободным беднякам, которые должны были отдавать 1/3 урож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каз от использования раб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ельском хозяй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304920" y="2057400"/>
            <a:ext cx="3580560" cy="3961800"/>
            <a:chOff x="304920" y="2057400"/>
            <a:chExt cx="3580560" cy="3961800"/>
          </a:xfrm>
        </p:grpSpPr>
        <p:pic>
          <p:nvPicPr>
            <p:cNvPr id="68" name="Object 6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3580560" cy="39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7"/>
            <p:cNvSpPr/>
            <p:nvPr/>
          </p:nvSpPr>
          <p:spPr>
            <a:xfrm>
              <a:off x="1180080" y="3570840"/>
              <a:ext cx="102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 Cyr"/>
                </a:rPr>
                <a:t>1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 Cyr"/>
                </a:rPr>
                <a:t>/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3300"/>
                </a:solidFill>
                <a:uFillTx/>
                <a:latin typeface="Arial"/>
              </a:rPr>
              <a:t>Колон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– земледельцы, которые брали землю для обработки на несколько л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каз от использования раб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ельском хозяй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57200" y="1523880"/>
            <a:ext cx="8458200" cy="2438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умайте, почему кол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ли заинтересованы в хорош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жае, а рабы – н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086360" y="3962520"/>
            <a:ext cx="7905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04920" y="4495680"/>
            <a:ext cx="8381880" cy="20574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оны работали на себ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рабы – на хозя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Рабы с хижинам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рабы, которые получали от своего хозяина участки земли, рабочий скот, и орудия труда и отдав за это часть урож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в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304920" y="152280"/>
            <a:ext cx="86868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он Кассий пис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 Он выделялся среди всех справедливостью, храбростью и непритязательностью привычек…Он никому не завидовал и никого не убивал, но уважал и возвышал всех достойных людей без исключения, не испытывая к ним ненависти или страха…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5-16T04:15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