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27D1-7553-4057-9921-BD5FE66F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764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1650-1692-48D3-A482-DB450665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576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764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3576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D197-4D3B-43F3-ABF0-F14EA3576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300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75872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76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300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75872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A8E5-78F2-4B6F-9DAE-F3B8AB05C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547F-B97A-4390-9AAC-B369722FE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4764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CF16-1B05-44B5-8C06-74881391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ED82-7BD4-4626-A229-AE0A73C2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03576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D0F4-448E-4816-9D19-4F178363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F2A5-8168-4ABB-A206-274402EE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47640" y="25848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8433-B7E6-4DA3-9F01-E5C8DF6F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3576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764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65B6-2391-4AC6-82E9-40A17656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764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BAC3-93D0-4B41-B565-A7EAE243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03576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3576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FA4B-7745-47E0-937F-C87805F0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3576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764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290C-FED2-44C2-9774-97A276B5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764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FFAA-F794-49A0-824B-4DA6FBB2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3576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764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03576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0B25-59BF-43F9-8CD0-CE963354C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0300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75872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476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0300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75872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5525-FE73-4050-A379-0A28FAF5F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A5C9D-79E6-4E73-AC3F-856ADE9C6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4764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5B587-B7CC-4DAE-B451-9AAD4F4A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EA271-ACF6-4437-A52F-21683167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03576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47681-F743-45EE-8C49-6E7E971A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2CC76-6CE6-4A7E-9994-9E6130A9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2F26-B3AE-4F90-9EAD-4169B06B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47640" y="25848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5A77F-264D-4000-81AB-E56F4933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03576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764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34E73-535C-4D14-83A5-318E3B5B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03576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3576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FAB34-865C-41FC-847E-F4B78330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03576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4764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A38EF-0EE1-4DC2-9A48-6EAF0637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4764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EF5B4-9E84-4016-AEE5-894A654E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3576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4764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03576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8D10F-59B2-4772-B63C-3896E01C4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0300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75872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476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20300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775872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10404-07FB-4B77-864F-99FB289A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3576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0A85-5F8E-4652-89BA-D74D56B0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61C5-806B-4CE1-9605-48A77C9B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7640" y="25848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67B1-D288-4D86-8B85-08D731D6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3576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764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4E81-AFBA-4E54-99EC-4921CD4A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3576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3576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78A3-54E9-4BFB-A965-2A8CE48E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3576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764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1D42-533B-4C64-917C-575483CF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99975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323000"/>
            <a:ext cx="9143640" cy="218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8000"/>
          </a:bodyPr>
          <a:p>
            <a:pPr indent="0" algn="ctr">
              <a:lnSpc>
                <a:spcPct val="13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99975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4764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 Light"/>
              </a:rPr>
              <a:t>Second level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99975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4764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 Light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598176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 Light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39320" y="1339200"/>
            <a:ext cx="10112760" cy="218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30000"/>
              </a:lnSpc>
              <a:buNone/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Как построить совместный семейный досуг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Изображение 3" descr=""/>
          <p:cNvPicPr/>
          <p:nvPr/>
        </p:nvPicPr>
        <p:blipFill>
          <a:blip r:embed="rId1"/>
          <a:stretch/>
        </p:blipFill>
        <p:spPr>
          <a:xfrm rot="780000">
            <a:off x="9472320" y="3463560"/>
            <a:ext cx="1679040" cy="2842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170676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0000"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Принимая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звезду, вы отвечаете на вопрос: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Что было познавательным, полезным для вас на собрании?»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Отдавая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звезду, даете один совет по  организации совместного досуга с детьм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Замещающее содержимое 109" descr=""/>
          <p:cNvPicPr/>
          <p:nvPr/>
        </p:nvPicPr>
        <p:blipFill>
          <a:blip r:embed="rId1"/>
          <a:stretch/>
        </p:blipFill>
        <p:spPr>
          <a:xfrm rot="420000">
            <a:off x="8918280" y="4047120"/>
            <a:ext cx="3124440" cy="2629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7640" y="241200"/>
            <a:ext cx="10515240" cy="88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чи собр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6880" y="1253520"/>
            <a:ext cx="11178360" cy="49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-571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ать определение понятию «досуг» и «совместный досуг»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  <a:p>
            <a:pPr marL="571680" indent="-571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знать, что такое «адаптация»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  <a:p>
            <a:pPr marL="571680" indent="-571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ыяснить, какие существуют проблемы организации досуга в семье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  <a:p>
            <a:pPr marL="571680" indent="-571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ыяснить, какие проблемы могут возникнуть              у ребенка в общении со сверстниками.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  <a:p>
            <a:pPr marL="571680" indent="-571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знакомиться с видами совместного семейного досуга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Заголовок 1"/>
          <p:cNvSpPr/>
          <p:nvPr/>
        </p:nvSpPr>
        <p:spPr>
          <a:xfrm>
            <a:off x="647640" y="258480"/>
            <a:ext cx="10515240" cy="8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9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чи собр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Замещающее содержимое 2"/>
          <p:cNvSpPr/>
          <p:nvPr/>
        </p:nvSpPr>
        <p:spPr>
          <a:xfrm>
            <a:off x="506880" y="1687320"/>
            <a:ext cx="11178360" cy="34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71680" indent="-571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ать определение понятию «досуг» и «совместный досуг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ыяснить, какие существуют проблемы организации досуга в сем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знакомиться с видами совместного семейного досу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1" name="Замещающее содержимое 99" descr=""/>
          <p:cNvPicPr/>
          <p:nvPr/>
        </p:nvPicPr>
        <p:blipFill>
          <a:blip r:embed="rId1"/>
          <a:stretch/>
        </p:blipFill>
        <p:spPr>
          <a:xfrm>
            <a:off x="1510200" y="339840"/>
            <a:ext cx="9172080" cy="6177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25080" y="1253520"/>
            <a:ext cx="62863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осуг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это возможность человека заниматься в свободное время разнообразной деятельностью по своему выбору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3" name="Замещающее содержимое 100" descr=""/>
          <p:cNvPicPr/>
          <p:nvPr/>
        </p:nvPicPr>
        <p:blipFill>
          <a:blip r:embed="rId1"/>
          <a:srcRect l="9507" t="0" r="3285" b="0"/>
          <a:stretch/>
        </p:blipFill>
        <p:spPr>
          <a:xfrm>
            <a:off x="6611760" y="822240"/>
            <a:ext cx="5283360" cy="4782600"/>
          </a:xfrm>
          <a:prstGeom prst="rect">
            <a:avLst/>
          </a:prstGeom>
          <a:ln w="9525">
            <a:noFill/>
          </a:ln>
        </p:spPr>
      </p:pic>
      <p:sp>
        <p:nvSpPr>
          <p:cNvPr id="134" name="Текстовое поле 4"/>
          <p:cNvSpPr/>
          <p:nvPr/>
        </p:nvSpPr>
        <p:spPr>
          <a:xfrm>
            <a:off x="7670880" y="5799960"/>
            <a:ext cx="3165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орис Бим-Ба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15000" y="170280"/>
            <a:ext cx="116989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емейный досуг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- это часть свободного времени, которая предполагает добровольное и совместное участие членов семьи в разнообразных видах деятельности.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6" name="Замещающее содержимое 101" descr=""/>
          <p:cNvPicPr/>
          <p:nvPr/>
        </p:nvPicPr>
        <p:blipFill>
          <a:blip r:embed="rId1"/>
          <a:stretch/>
        </p:blipFill>
        <p:spPr>
          <a:xfrm>
            <a:off x="2703960" y="1998360"/>
            <a:ext cx="6783840" cy="4506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8176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139" name="Замещающее содержимое 102" descr=""/>
          <p:cNvPicPr/>
          <p:nvPr/>
        </p:nvPicPr>
        <p:blipFill>
          <a:blip r:embed="rId1"/>
          <a:stretch/>
        </p:blipFill>
        <p:spPr>
          <a:xfrm>
            <a:off x="1134000" y="563400"/>
            <a:ext cx="9542880" cy="57312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8080" y="2158200"/>
            <a:ext cx="6231600" cy="254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Если человек не знает, что ему делать в часы досуга, то тогда портится у него и голова, и сердце, и нравственность»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42" name="Замещающее содержимое 104" descr=""/>
          <p:cNvPicPr/>
          <p:nvPr/>
        </p:nvPicPr>
        <p:blipFill>
          <a:blip r:embed="rId1"/>
          <a:stretch/>
        </p:blipFill>
        <p:spPr>
          <a:xfrm>
            <a:off x="6861240" y="434520"/>
            <a:ext cx="5077800" cy="5678280"/>
          </a:xfrm>
          <a:prstGeom prst="rect">
            <a:avLst/>
          </a:prstGeom>
          <a:ln w="9525">
            <a:noFill/>
          </a:ln>
        </p:spPr>
      </p:pic>
      <p:sp>
        <p:nvSpPr>
          <p:cNvPr id="143" name="Текстовое поле 105"/>
          <p:cNvSpPr/>
          <p:nvPr/>
        </p:nvSpPr>
        <p:spPr>
          <a:xfrm>
            <a:off x="7386480" y="6113160"/>
            <a:ext cx="40273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нстантин Уш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45" name="Замещающее содержимое 105" descr=""/>
          <p:cNvPicPr/>
          <p:nvPr/>
        </p:nvPicPr>
        <p:blipFill>
          <a:blip r:embed="rId1"/>
          <a:stretch/>
        </p:blipFill>
        <p:spPr>
          <a:xfrm>
            <a:off x="648360" y="174600"/>
            <a:ext cx="4938840" cy="3308040"/>
          </a:xfrm>
          <a:prstGeom prst="rect">
            <a:avLst/>
          </a:prstGeom>
          <a:ln w="9525">
            <a:noFill/>
          </a:ln>
        </p:spPr>
      </p:pic>
      <p:pic>
        <p:nvPicPr>
          <p:cNvPr id="146" name="Замещающее содержимое 106" descr=""/>
          <p:cNvPicPr/>
          <p:nvPr/>
        </p:nvPicPr>
        <p:blipFill>
          <a:blip r:embed="rId2"/>
          <a:stretch/>
        </p:blipFill>
        <p:spPr>
          <a:xfrm>
            <a:off x="647640" y="3483000"/>
            <a:ext cx="4938840" cy="3092760"/>
          </a:xfrm>
          <a:prstGeom prst="rect">
            <a:avLst/>
          </a:prstGeom>
          <a:ln w="9525">
            <a:noFill/>
          </a:ln>
        </p:spPr>
      </p:pic>
      <p:pic>
        <p:nvPicPr>
          <p:cNvPr id="147" name="Изображение 107" descr=""/>
          <p:cNvPicPr/>
          <p:nvPr/>
        </p:nvPicPr>
        <p:blipFill>
          <a:blip r:embed="rId3"/>
          <a:stretch/>
        </p:blipFill>
        <p:spPr>
          <a:xfrm>
            <a:off x="6266160" y="174600"/>
            <a:ext cx="4896720" cy="3223440"/>
          </a:xfrm>
          <a:prstGeom prst="rect">
            <a:avLst/>
          </a:prstGeom>
          <a:ln w="9525">
            <a:noFill/>
          </a:ln>
        </p:spPr>
      </p:pic>
      <p:pic>
        <p:nvPicPr>
          <p:cNvPr id="148" name="Изображение 108" descr=""/>
          <p:cNvPicPr/>
          <p:nvPr/>
        </p:nvPicPr>
        <p:blipFill>
          <a:blip r:embed="rId4"/>
          <a:stretch/>
        </p:blipFill>
        <p:spPr>
          <a:xfrm>
            <a:off x="6266160" y="3483000"/>
            <a:ext cx="4897440" cy="3092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1103</Words>
  <Paragraphs>2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14T11:18:00Z</dcterms:created>
  <dc:creator/>
  <dc:description/>
  <dc:language>en-US</dc:language>
  <cp:lastModifiedBy>Лера</cp:lastModifiedBy>
  <dcterms:modified xsi:type="dcterms:W3CDTF">2022-04-14T14:24:14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0E8BA74225D045D3AE6B42D842C1EAF1</vt:lpwstr>
  </property>
  <property fmtid="{D5CDD505-2E9C-101B-9397-08002B2CF9AE}" pid="3" name="KSOProductBuildVer">
    <vt:lpwstr>1049-11.2.0.11074</vt:lpwstr>
  </property>
  <property fmtid="{D5CDD505-2E9C-101B-9397-08002B2CF9AE}" pid="4" name="PresentationFormat">
    <vt:lpwstr>宽屏</vt:lpwstr>
  </property>
  <property fmtid="{D5CDD505-2E9C-101B-9397-08002B2CF9AE}" pid="5" name="Slides">
    <vt:r8>10</vt:r8>
  </property>
</Properties>
</file>