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A91E-F9F2-4AAE-A30B-B61ED02C2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764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5D0B-FE54-4E2C-80FE-36FFEA64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3576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764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3576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A980-6C4B-4F64-BC00-AAEF9363E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0300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75872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76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0300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75872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EA10-05F8-4B11-A300-36D56C38C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EC80-D3E2-4ECC-85D9-0B2362440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4764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AC35-B5D2-4602-9371-5D09AB7F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346F-6191-43DA-B9BD-2F4F82A9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03576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1A1D-D450-44BF-8504-C17183E8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6453-7F5A-4FB4-8295-D915EEDD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47640" y="25848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4A58-E4CD-4D0D-9404-0789D801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03576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4764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30D5-B89E-45B0-8835-08DD1568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764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9AEB-60CC-45E5-A420-D332C0B5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03576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3576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BE5A-76B1-4933-B694-629D60C9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3576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764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0195-D29E-4C6B-9800-34B90774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4764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FB39-AE39-445E-98CB-86C136DC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3576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764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03576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5696-9B25-4468-9C1D-70E766F34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0300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75872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476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0300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75872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3BE7-EAAD-4420-B968-F2586DE55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25E49-0F6D-49DA-A60B-E01964BD9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4764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6B9D2-B125-4735-92FF-9B1EB010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4D9F1-CFAF-4A73-AB7E-0F208E16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03576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3557C-FABD-417E-9B55-F549B037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60554-5DDD-463C-B41B-0342B90C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2C59-150D-4AC0-9CBD-50486108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47640" y="25848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E6FE4-3F62-4B9D-93F3-59BAD73D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03576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764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3D6A3-8C8B-4499-8E2B-365BF818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03576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3576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0DD78-9ABA-447E-A817-0CFCA30B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03576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4764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F4475-F77E-4C10-BCF5-C27032BB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4764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26D22-C708-4F75-9760-5A27AE9F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3576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4764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03576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FC98E-1803-466A-9B92-2B1648F6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0300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75872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476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20300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775872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3CA4F-2192-43D4-B447-C62096B4A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3576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5CD1-E9D7-47AB-9179-8882C174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D891-C6C3-4496-8778-A07580CE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7640" y="25848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0AA2-F593-4E59-947D-EE53CBE3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3576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764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05B1-F27D-4D88-A957-88E60762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3576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3576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8AB6-10D9-48B5-BB9F-4DCCB4D7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3576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764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ACE7-58E7-4E63-80DE-467D62AC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99975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323000"/>
            <a:ext cx="9143640" cy="218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8000"/>
          </a:bodyPr>
          <a:p>
            <a:pPr indent="0" algn="ctr">
              <a:lnSpc>
                <a:spcPct val="13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99975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4764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 Light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 Light"/>
              </a:rPr>
              <a:t>Second level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99975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4764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 Light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 Light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598176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 Light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 Light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39320" y="1339200"/>
            <a:ext cx="10112760" cy="218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30000"/>
              </a:lnSpc>
              <a:buNone/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Как построить совместный семейный досуг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Изображение 3" descr=""/>
          <p:cNvPicPr/>
          <p:nvPr/>
        </p:nvPicPr>
        <p:blipFill>
          <a:blip r:embed="rId1"/>
          <a:stretch/>
        </p:blipFill>
        <p:spPr>
          <a:xfrm rot="780000">
            <a:off x="9472320" y="3463560"/>
            <a:ext cx="1679040" cy="2842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170676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0000"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Принимая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звезду, вы отвечаете на вопрос: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Что было познавательным, полезным для вас на собрании?»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Отдавая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звезду, даете один совет по  организации совместного досуга с детьм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Замещающее содержимое 109" descr=""/>
          <p:cNvPicPr/>
          <p:nvPr/>
        </p:nvPicPr>
        <p:blipFill>
          <a:blip r:embed="rId1"/>
          <a:stretch/>
        </p:blipFill>
        <p:spPr>
          <a:xfrm rot="420000">
            <a:off x="8918280" y="4047120"/>
            <a:ext cx="3124440" cy="2629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7640" y="241200"/>
            <a:ext cx="10515240" cy="88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дачи собр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6880" y="1253520"/>
            <a:ext cx="11178360" cy="49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-571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ать определение понятию «досуг» и «совместный досуг»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  <a:p>
            <a:pPr marL="571680" indent="-571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знать, что такое «адаптация»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  <a:p>
            <a:pPr marL="571680" indent="-571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ыяснить, какие существуют проблемы организации досуга в семье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  <a:p>
            <a:pPr marL="571680" indent="-571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ыяснить, какие проблемы могут возникнуть              у ребенка в общении со сверстниками.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  <a:p>
            <a:pPr marL="571680" indent="-571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знакомиться с видами совместного семейного досуга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Заголовок 1"/>
          <p:cNvSpPr/>
          <p:nvPr/>
        </p:nvSpPr>
        <p:spPr>
          <a:xfrm>
            <a:off x="647640" y="258480"/>
            <a:ext cx="10515240" cy="8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9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дачи собр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Замещающее содержимое 2"/>
          <p:cNvSpPr/>
          <p:nvPr/>
        </p:nvSpPr>
        <p:spPr>
          <a:xfrm>
            <a:off x="506880" y="1687320"/>
            <a:ext cx="11178360" cy="34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71680" indent="-571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ать определение понятию «досуг» и «совместный досуг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ыяснить, какие существуют проблемы организации досуга в сем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знакомиться с видами совместного семейного досу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1" name="Замещающее содержимое 99" descr=""/>
          <p:cNvPicPr/>
          <p:nvPr/>
        </p:nvPicPr>
        <p:blipFill>
          <a:blip r:embed="rId1"/>
          <a:stretch/>
        </p:blipFill>
        <p:spPr>
          <a:xfrm>
            <a:off x="1510200" y="339840"/>
            <a:ext cx="9172080" cy="6177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25080" y="1253520"/>
            <a:ext cx="62863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осуг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это возможность человека заниматься в свободное время разнообразной деятельностью по своему выбору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3" name="Замещающее содержимое 100" descr=""/>
          <p:cNvPicPr/>
          <p:nvPr/>
        </p:nvPicPr>
        <p:blipFill>
          <a:blip r:embed="rId1"/>
          <a:srcRect l="9507" t="0" r="3285" b="0"/>
          <a:stretch/>
        </p:blipFill>
        <p:spPr>
          <a:xfrm>
            <a:off x="6611760" y="822240"/>
            <a:ext cx="5283360" cy="4782600"/>
          </a:xfrm>
          <a:prstGeom prst="rect">
            <a:avLst/>
          </a:prstGeom>
          <a:ln w="9525">
            <a:noFill/>
          </a:ln>
        </p:spPr>
      </p:pic>
      <p:sp>
        <p:nvSpPr>
          <p:cNvPr id="134" name="Текстовое поле 4"/>
          <p:cNvSpPr/>
          <p:nvPr/>
        </p:nvSpPr>
        <p:spPr>
          <a:xfrm>
            <a:off x="7670880" y="5799960"/>
            <a:ext cx="3165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орис Бим-Ба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15000" y="170280"/>
            <a:ext cx="116989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емейный досуг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- это часть свободного времени, которая предполагает добровольное и совместное участие членов семьи в разнообразных видах деятельности.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6" name="Замещающее содержимое 101" descr=""/>
          <p:cNvPicPr/>
          <p:nvPr/>
        </p:nvPicPr>
        <p:blipFill>
          <a:blip r:embed="rId1"/>
          <a:stretch/>
        </p:blipFill>
        <p:spPr>
          <a:xfrm>
            <a:off x="2703960" y="1998360"/>
            <a:ext cx="6783840" cy="45061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8176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139" name="Замещающее содержимое 102" descr=""/>
          <p:cNvPicPr/>
          <p:nvPr/>
        </p:nvPicPr>
        <p:blipFill>
          <a:blip r:embed="rId1"/>
          <a:stretch/>
        </p:blipFill>
        <p:spPr>
          <a:xfrm>
            <a:off x="1134000" y="563400"/>
            <a:ext cx="9542880" cy="57312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8080" y="2158200"/>
            <a:ext cx="6231600" cy="254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Если человек не знает, что ему делать в часы досуга, то тогда портится у него и голова, и сердце, и нравственность»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42" name="Замещающее содержимое 104" descr=""/>
          <p:cNvPicPr/>
          <p:nvPr/>
        </p:nvPicPr>
        <p:blipFill>
          <a:blip r:embed="rId1"/>
          <a:stretch/>
        </p:blipFill>
        <p:spPr>
          <a:xfrm>
            <a:off x="6861240" y="434520"/>
            <a:ext cx="5077800" cy="5678280"/>
          </a:xfrm>
          <a:prstGeom prst="rect">
            <a:avLst/>
          </a:prstGeom>
          <a:ln w="9525">
            <a:noFill/>
          </a:ln>
        </p:spPr>
      </p:pic>
      <p:sp>
        <p:nvSpPr>
          <p:cNvPr id="143" name="Текстовое поле 105"/>
          <p:cNvSpPr/>
          <p:nvPr/>
        </p:nvSpPr>
        <p:spPr>
          <a:xfrm>
            <a:off x="7386480" y="6113160"/>
            <a:ext cx="402732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нстантин Уш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45" name="Замещающее содержимое 105" descr=""/>
          <p:cNvPicPr/>
          <p:nvPr/>
        </p:nvPicPr>
        <p:blipFill>
          <a:blip r:embed="rId1"/>
          <a:stretch/>
        </p:blipFill>
        <p:spPr>
          <a:xfrm>
            <a:off x="648360" y="174600"/>
            <a:ext cx="4938840" cy="3308040"/>
          </a:xfrm>
          <a:prstGeom prst="rect">
            <a:avLst/>
          </a:prstGeom>
          <a:ln w="9525">
            <a:noFill/>
          </a:ln>
        </p:spPr>
      </p:pic>
      <p:pic>
        <p:nvPicPr>
          <p:cNvPr id="146" name="Замещающее содержимое 106" descr=""/>
          <p:cNvPicPr/>
          <p:nvPr/>
        </p:nvPicPr>
        <p:blipFill>
          <a:blip r:embed="rId2"/>
          <a:stretch/>
        </p:blipFill>
        <p:spPr>
          <a:xfrm>
            <a:off x="647640" y="3483000"/>
            <a:ext cx="4938840" cy="3092760"/>
          </a:xfrm>
          <a:prstGeom prst="rect">
            <a:avLst/>
          </a:prstGeom>
          <a:ln w="9525">
            <a:noFill/>
          </a:ln>
        </p:spPr>
      </p:pic>
      <p:pic>
        <p:nvPicPr>
          <p:cNvPr id="147" name="Изображение 107" descr=""/>
          <p:cNvPicPr/>
          <p:nvPr/>
        </p:nvPicPr>
        <p:blipFill>
          <a:blip r:embed="rId3"/>
          <a:stretch/>
        </p:blipFill>
        <p:spPr>
          <a:xfrm>
            <a:off x="6266160" y="174600"/>
            <a:ext cx="4896720" cy="3223440"/>
          </a:xfrm>
          <a:prstGeom prst="rect">
            <a:avLst/>
          </a:prstGeom>
          <a:ln w="9525">
            <a:noFill/>
          </a:ln>
        </p:spPr>
      </p:pic>
      <p:pic>
        <p:nvPicPr>
          <p:cNvPr id="148" name="Изображение 108" descr=""/>
          <p:cNvPicPr/>
          <p:nvPr/>
        </p:nvPicPr>
        <p:blipFill>
          <a:blip r:embed="rId4"/>
          <a:stretch/>
        </p:blipFill>
        <p:spPr>
          <a:xfrm>
            <a:off x="6266160" y="3483000"/>
            <a:ext cx="4897440" cy="30927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1103</Words>
  <Paragraphs>2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14T11:18:00Z</dcterms:created>
  <dc:creator/>
  <dc:description/>
  <dc:language>en-US</dc:language>
  <cp:lastModifiedBy>Лера</cp:lastModifiedBy>
  <dcterms:modified xsi:type="dcterms:W3CDTF">2022-04-14T14:24:14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0E8BA74225D045D3AE6B42D842C1EAF1</vt:lpwstr>
  </property>
  <property fmtid="{D5CDD505-2E9C-101B-9397-08002B2CF9AE}" pid="3" name="KSOProductBuildVer">
    <vt:lpwstr>1049-11.2.0.11074</vt:lpwstr>
  </property>
  <property fmtid="{D5CDD505-2E9C-101B-9397-08002B2CF9AE}" pid="4" name="PresentationFormat">
    <vt:lpwstr>宽屏</vt:lpwstr>
  </property>
  <property fmtid="{D5CDD505-2E9C-101B-9397-08002B2CF9AE}" pid="5" name="Slides">
    <vt:r8>10</vt:r8>
  </property>
</Properties>
</file>