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2D2-4E37-4B60-AB04-A486526D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7B7-3061-493F-89E8-32415F6B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CFC-E0E3-420B-82F3-BFCEA36A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222-CF98-4E54-A4E8-934594B5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4B113-5315-415E-9E15-19F38C89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70D86-3D56-4156-874A-F9802719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637F6-7869-4F20-A512-F9D4A1C7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2B44C-425C-4B69-BCB9-92DFFDB5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489ED-2255-4AFF-A1F0-CE418E50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03A93-C10F-4CAB-A5C2-F15E930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23D56-4C60-44D6-AB3A-AA4404EE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D35-68EA-4A1B-9838-FC1228F7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0AC53-7FED-4FE6-9864-ACC26DAB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1C08E-2814-45BC-8D37-0BA2E9E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A9FE5-FF1D-4FF5-AC3A-375F2F40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3EAC4-C910-4A94-BB14-C9BB5BCA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83C8B-AFAB-43E5-A27E-4173C812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F6B4-84FE-4A30-80DF-51EDA038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E950-4FAE-4531-A4D6-E30A5908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872B-1A9D-4FE6-B3E2-DC0DC66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D0E2-F81A-4A84-AF21-59B2739B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FF17-52E3-402D-8336-229A4469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F98-9E9F-4ED1-9831-8E4A9B11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C6B8-8761-4E84-BC6E-A584A98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7947-8F38-49A0-9398-09AB6451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18EC-209E-46A3-9B9C-2049755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4FCC-15AF-4802-A01B-13AD56C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944BE-3D4E-4B08-A40D-BCDCC9C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1B02-EDCC-49FA-BFEB-E6A404C4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4951-1F85-4B86-BB44-D46B8C5A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FFA6E-AB2A-4D84-8A4C-7F005080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5E457-824C-44A3-99B9-767CDE37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2758F-9D72-4E88-B0EA-5D6D137C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66F-4A9E-4C4D-85B2-B0E50EF4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923EA-3C24-4694-B8FD-F1E95DA7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EA1B7-09B6-4B1E-9762-BFF3E212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3E652-C212-49D5-8D92-F91C26C7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0F66B-C4CA-4907-BB1D-2C31F5E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F2CFD-DA20-471F-A51F-7F18E11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DCC50-CA7F-4DD3-BC7A-A321CD8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2A53F-DCD9-4AB2-AFBA-06F76DE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0D95C-53DB-41C5-B756-F4A6A5F1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648FB-F592-45D4-A91D-10D0C470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5CD-AF76-4DD9-878E-925F30FA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AA4-FB85-4373-B36F-AB514B8D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5C6-17EC-4B43-8E3A-BB1883B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A48-DAA7-4656-809C-4D1325C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5CC-5C6B-4838-B400-5AC1FCC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942B-6550-43CE-92DF-D35E1486ACC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1331-904C-4DB0-BAD3-65741387B5F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E259-3EA0-4D25-B7FC-274F6632761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47DC-B9E8-47EC-BC46-69B71C7F0DB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15640" y="3885840"/>
            <a:ext cx="7343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здании журнала принимали участие:  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инкевич Г.В.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рбмахер М.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ДОУ № 35 «Радуга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. Саянск, 20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643960" cy="3413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animashki-75"/>
          <p:cNvPicPr/>
          <p:nvPr/>
        </p:nvPicPr>
        <p:blipFill>
          <a:blip r:embed="rId2"/>
          <a:stretch/>
        </p:blipFill>
        <p:spPr>
          <a:xfrm>
            <a:off x="0" y="4554360"/>
            <a:ext cx="1727280" cy="2303640"/>
          </a:xfrm>
          <a:prstGeom prst="rect">
            <a:avLst/>
          </a:prstGeom>
          <a:ln w="0">
            <a:noFill/>
          </a:ln>
        </p:spPr>
      </p:pic>
      <p:sp>
        <p:nvSpPr>
          <p:cNvPr id="173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1116000" y="191160"/>
            <a:ext cx="6912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ДОКУМЕНТЫ НЕОБХОДИ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ОСТУПЛЕНИЯ В ПЕРВЫЙ КЛАС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95280" y="1149480"/>
            <a:ext cx="838836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обный перечень документов для зачисления в первый класс 2016-2017, который имеет право требовать администрация российских шко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явление от родителя о зачислении ребенка в первый класс. Убедитесь в том, что оно зарегистрировано в соответствующем журнале, узнайте входящий номер и приступайте к сбору остальных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ицинская карта поступающего, соответствующая установленной форме (026/у-2000) и заверенная печатью и подписью главного врача поликлин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умент, подтверждающий регистрацию ребенка на территории, подконтрольной школе (справка формы 9, выдаваемая в паспортном стол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спорт родителя или заменяющего его представи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идетельство о рождении поступающего и его ксерокоп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которые школы просят дополнительно представить (но не в обязательном порядке) следующие документ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тографию будущего первоклассник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ицинский полис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стику ребенка из дошкольного учрежде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серокопию свидетельств о рождении родител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авку о состоянии ребенка от невропатол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енную анкету, специально разработанную конкретной школ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Управляющая кнопка: домой 4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animashki-75"/>
          <p:cNvPicPr/>
          <p:nvPr/>
        </p:nvPicPr>
        <p:blipFill>
          <a:blip r:embed="rId1"/>
          <a:stretch/>
        </p:blipFill>
        <p:spPr>
          <a:xfrm>
            <a:off x="7164360" y="4508640"/>
            <a:ext cx="136836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75564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3" descr="C:\Users\User\Desktop\Как подготовить руку к письму 10.jpg"/>
          <p:cNvPicPr/>
          <p:nvPr/>
        </p:nvPicPr>
        <p:blipFill>
          <a:blip r:embed="rId2"/>
          <a:stretch/>
        </p:blipFill>
        <p:spPr>
          <a:xfrm>
            <a:off x="324000" y="1125360"/>
            <a:ext cx="4176720" cy="54723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C:\Users\User\Desktop\развиваем мелкую моторику 6.jpg"/>
          <p:cNvPicPr/>
          <p:nvPr/>
        </p:nvPicPr>
        <p:blipFill>
          <a:blip r:embed="rId3"/>
          <a:stretch/>
        </p:blipFill>
        <p:spPr>
          <a:xfrm>
            <a:off x="4788000" y="1125360"/>
            <a:ext cx="3755880" cy="547236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0180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3" descr="C:\Users\User\Desktop\развиваем мелкую моторику 9.jpg"/>
          <p:cNvPicPr/>
          <p:nvPr/>
        </p:nvPicPr>
        <p:blipFill>
          <a:blip r:embed="rId2"/>
          <a:stretch/>
        </p:blipFill>
        <p:spPr>
          <a:xfrm>
            <a:off x="324000" y="1052640"/>
            <a:ext cx="4032000" cy="5400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C:\Users\User\Desktop\Как подготовить руку к письму 6.jpg"/>
          <p:cNvPicPr/>
          <p:nvPr/>
        </p:nvPicPr>
        <p:blipFill>
          <a:blip r:embed="rId3"/>
          <a:stretch/>
        </p:blipFill>
        <p:spPr>
          <a:xfrm>
            <a:off x="4572000" y="1052640"/>
            <a:ext cx="4321080" cy="5400720"/>
          </a:xfrm>
          <a:prstGeom prst="rect">
            <a:avLst/>
          </a:prstGeom>
          <a:ln w="0">
            <a:noFill/>
          </a:ln>
        </p:spPr>
      </p:pic>
      <p:sp>
        <p:nvSpPr>
          <p:cNvPr id="220" name="Управляющая кнопка: домой 5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1" descr=""/>
          <p:cNvPicPr/>
          <p:nvPr/>
        </p:nvPicPr>
        <p:blipFill>
          <a:blip r:embed="rId1"/>
          <a:stretch/>
        </p:blipFill>
        <p:spPr>
          <a:xfrm>
            <a:off x="158760" y="171360"/>
            <a:ext cx="8862840" cy="80352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http://1.bp.blogspot.com/_XuTQI-8Rm2M/TNPv3R2a3_I/AAAAAAAAFIs/joD9Pc95pDc/s1600/%D1%80%D0%B0%D0%B7%D0%B2%D0%B8%D1%82%D0%B8%D0%B5+%D0%BF%D0%B0%D0%BC%D1%8F%D1%82%D0%B8+%D1%83+%D0%B4%D0%B5%D1%82%D0%B5%D0%B9+11.jpg"/>
          <p:cNvPicPr/>
          <p:nvPr/>
        </p:nvPicPr>
        <p:blipFill>
          <a:blip r:embed="rId2"/>
          <a:stretch/>
        </p:blipFill>
        <p:spPr>
          <a:xfrm>
            <a:off x="179280" y="1052640"/>
            <a:ext cx="4356360" cy="55450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http://4.bp.blogspot.com/_XuTQI-8Rm2M/TMlSfAyUvRI/AAAAAAAAFDs/Z-g7w1iLYRg/s1600/%D0%A0%D0%B0%D0%B7%D0%B2%D0%B8%D1%82%D0%B8%D0%B5+%D0%B2%D0%BD%D0%B8%D0%BC%D0%B0%D0%BD%D0%B8%D1%8F+1.jpg"/>
          <p:cNvPicPr/>
          <p:nvPr/>
        </p:nvPicPr>
        <p:blipFill>
          <a:blip r:embed="rId3"/>
          <a:stretch/>
        </p:blipFill>
        <p:spPr>
          <a:xfrm>
            <a:off x="4500720" y="1052640"/>
            <a:ext cx="4464000" cy="554508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http://4.bp.blogspot.com/_XuTQI-8Rm2M/TNPrDeefdeI/AAAAAAAAFIY/0LIfcKwPI7s/s1600/%D1%80%D0%B0%D0%B7%D0%B2%D0%B8%D1%82%D0%B8%D0%B5+%D0%BF%D0%B0%D0%BC%D1%8F%D1%82%D0%B8+%D1%83+%D1%80%D0%B5%D0%B1%D0%B5%D0%BD%D0%BA%D0%B0++6.jpg"/>
          <p:cNvPicPr/>
          <p:nvPr/>
        </p:nvPicPr>
        <p:blipFill>
          <a:blip r:embed="rId1"/>
          <a:stretch/>
        </p:blipFill>
        <p:spPr>
          <a:xfrm>
            <a:off x="0" y="189000"/>
            <a:ext cx="4356000" cy="6480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" descr="http://3.bp.blogspot.com/_XuTQI-8Rm2M/TNPzSqb3PVI/AAAAAAAAFI0/GwvZZ97mJq4/s1600/%D1%80%D0%B0%D0%B7%D0%B2%D0%B8%D1%82%D0%B8%D0%B5+%D0%BF%D0%B0%D0%BC%D1%8F%D1%82%D0%B8+%D1%83+%D0%B4%D0%BE%D1%88%D0%BA%D0%BE%D0%BB%D1%8C%D0%BD%D0%B8%D0%BA%D0%BE%D0%B2+13.jpg"/>
          <p:cNvPicPr/>
          <p:nvPr/>
        </p:nvPicPr>
        <p:blipFill>
          <a:blip r:embed="rId2"/>
          <a:stretch/>
        </p:blipFill>
        <p:spPr>
          <a:xfrm>
            <a:off x="4356000" y="189000"/>
            <a:ext cx="4788000" cy="648000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омой 3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http://www.razvitierebenka.co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https://infourok.ru/skoro_v_shkolu_konsultaciya_dlya_roditele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ttp://detsad217.jimdo.com/%D0%BB%D0%BE%D0%B3%D0%BE%D0%BF%D0%B5%D0%B4-%D1%81%D0%BE%D0%B2%D0%B5%D1%82%D1%83%D0%B5%D1%82/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28720"/>
          </a:xfrm>
          <a:prstGeom prst="rect">
            <a:avLst/>
          </a:prstGeom>
          <a:ln w="0">
            <a:noFill/>
          </a:ln>
        </p:spPr>
      </p:pic>
      <p:sp>
        <p:nvSpPr>
          <p:cNvPr id="230" name="Управляющая кнопка: домой 3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24000" y="26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одержание журнала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Picture 4" descr="animashki-75"/>
          <p:cNvPicPr/>
          <p:nvPr/>
        </p:nvPicPr>
        <p:blipFill>
          <a:blip r:embed="rId1"/>
          <a:stretch/>
        </p:blipFill>
        <p:spPr>
          <a:xfrm>
            <a:off x="250920" y="4797360"/>
            <a:ext cx="1368360" cy="1820880"/>
          </a:xfrm>
          <a:prstGeom prst="rect">
            <a:avLst/>
          </a:prstGeom>
          <a:ln w="0">
            <a:noFill/>
          </a:ln>
        </p:spPr>
      </p:pic>
      <p:sp>
        <p:nvSpPr>
          <p:cNvPr id="176" name="Скругленный прямоугольник 5">
            <a:hlinkClick r:id="rId2" action="ppaction://hlinksldjump"/>
          </p:cNvPr>
          <p:cNvSpPr/>
          <p:nvPr/>
        </p:nvSpPr>
        <p:spPr>
          <a:xfrm>
            <a:off x="468360" y="1484280"/>
            <a:ext cx="302400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3" action="ppaction://hlinksldjump"/>
              </a:rPr>
              <a:t>К школе- готов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кругленный прямоугольник 6"/>
          <p:cNvSpPr/>
          <p:nvPr/>
        </p:nvSpPr>
        <p:spPr>
          <a:xfrm>
            <a:off x="395280" y="2565360"/>
            <a:ext cx="309708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4" action="ppaction://hlinksldjump"/>
              </a:rPr>
              <a:t>Логопед совету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Скругленный прямоугольник 7"/>
          <p:cNvSpPr/>
          <p:nvPr/>
        </p:nvSpPr>
        <p:spPr>
          <a:xfrm>
            <a:off x="395280" y="3645000"/>
            <a:ext cx="309708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5" action="ppaction://hlinksldjump"/>
              </a:rPr>
              <a:t>Обратите внимание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6" action="ppaction://hlinksldjump"/>
              </a:rPr>
              <a:t>(Советы психолог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Вертикальный свиток 9"/>
          <p:cNvSpPr/>
          <p:nvPr/>
        </p:nvSpPr>
        <p:spPr>
          <a:xfrm>
            <a:off x="6372360" y="1125360"/>
            <a:ext cx="2376360" cy="1798920"/>
          </a:xfrm>
          <a:prstGeom prst="verticalScrol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7" action="ppaction://hlinksldjump"/>
              </a:rPr>
              <a:t>Спрашивал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8" action="ppaction://hlinksldjump"/>
              </a:rPr>
              <a:t>Отвечае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авильный пятиугольник 11"/>
          <p:cNvSpPr/>
          <p:nvPr/>
        </p:nvSpPr>
        <p:spPr>
          <a:xfrm>
            <a:off x="3995640" y="2637000"/>
            <a:ext cx="2521080" cy="1728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9" action="ppaction://hlinksldjump"/>
              </a:rPr>
              <a:t>Тренируем ру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Облако 12"/>
          <p:cNvSpPr/>
          <p:nvPr/>
        </p:nvSpPr>
        <p:spPr>
          <a:xfrm>
            <a:off x="5580000" y="4365720"/>
            <a:ext cx="3095640" cy="187164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10" action="ppaction://hlinksldjump"/>
              </a:rPr>
              <a:t>Упражнения для развития внимания и памя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Скругленный прямоугольник 13"/>
          <p:cNvSpPr/>
          <p:nvPr/>
        </p:nvSpPr>
        <p:spPr>
          <a:xfrm>
            <a:off x="2411280" y="5229360"/>
            <a:ext cx="274320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11" action="ppaction://hlinksldjump"/>
              </a:rPr>
              <a:t>Полезные ссы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74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468360" y="720000"/>
            <a:ext cx="820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 в школ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й осенью ваш ребенок переступит ее поро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ремлении помочь ему уверенно сделать этот ш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тели порой сбиваются с ног в поисках учреждений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ных практиков, готовящих детей к поступлению в шко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, забывается простая истина: образование может сделать ребенка умным, но счастливым делает его только душевное, разумно организованное общение с близкими и любимыми людьми — семь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аших силах создать в семье именно такую обстановку, которая не только подготовит ребенка к успешной учебе, но и позволит ему занять достойное место среди одноклассников, чувствовать себя в школе комфорт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ие дети приходят в школу после детского сада и уже знают, как вести в коллективе, у них есть представление о занятиях; но, для них, как и для тех, кто пришел прямо из дома, эта перемена всего образа жизни – стресс. Да и для родителей сплошные пробл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animashki-75"/>
          <p:cNvPicPr/>
          <p:nvPr/>
        </p:nvPicPr>
        <p:blipFill>
          <a:blip r:embed="rId2"/>
          <a:stretch/>
        </p:blipFill>
        <p:spPr>
          <a:xfrm>
            <a:off x="7236000" y="260280"/>
            <a:ext cx="1461960" cy="194472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Управляющая кнопка: домой 2">
            <a:hlinkClick r:id="rId2" action="ppaction://hlinksldjump"/>
          </p:cNvPr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75564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"/>
          <p:cNvSpPr/>
          <p:nvPr/>
        </p:nvSpPr>
        <p:spPr>
          <a:xfrm>
            <a:off x="179280" y="89064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звестно, нами правят привычки. Наши привычки в буквальном смысле творят нашу судьбу. Любовь к чтению – такая же привычка. Самоподкрепляемая привычка. Стоит только войти во вкус, и удовольствие от результата будет поддерживать сам проце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ычка много читать, в особенности хорошую литературу – входной билет в богатую впечатлениями и возможностями жизнь. «Побочными эффектами» этой привычки становится грамотность, способность ясно и ярко излагать свои мысли, эрудированность и даже открытие в себе новых мотивов и интере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же помочь ребенку «войти во вкус к чтению»? Это довольно прост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179280" y="342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  Подавайте личный пример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йте сами вслух и про себя. Если ребенок часто видит родителей с книгами в руках, то никаких дополнительных стимулов не потребуе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.  Выбирайте вместе.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делайте традицией совместный поход в книжный магазин и дайте ребенку возможность выбирать самому. С условием: на каждую книжку, которую выбирает ребенок, он читает одну книг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ранную в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  Читайте ребенку перед сном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читайте ему добрую сказку или историю на ночь, чтобы запустить процессы подсознательного творчества во сне. Если делать это регулярно, то книга войдет в привычный для ребенка ритуал отхода ко сну и станет для него незаменимым друг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Управляющая кнопка: домой 1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179280" y="18900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613"/>
                </a:solidFill>
                <a:latin typeface="Arial"/>
              </a:rPr>
              <a:t>4.  Используйте аудиокниги.</a:t>
            </a:r>
            <a:r>
              <a:rPr b="0" lang="ru-RU" sz="1800" spc="-1" strike="noStrike">
                <a:solidFill>
                  <a:srgbClr val="22261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ачала произведения с разным количеством голосов, затем озвученные одним. Предлагайте ребенку пофантазировать о героях, какие они внешне, по характеру, нарисовать и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540a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одителям не стоит отстраняться от процесса чтения и становиться только слушателем. Очень помогает </a:t>
            </a:r>
            <a:r>
              <a:rPr b="1" lang="ru-RU" sz="1800" spc="-1" strike="noStrike">
                <a:solidFill>
                  <a:srgbClr val="93540a"/>
                </a:solidFill>
                <a:latin typeface="Arial"/>
              </a:rPr>
              <a:t>прием совместного чт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гда взрослый начинает, а ребенок продолжает. Читайте по роля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c354d"/>
                </a:solidFill>
                <a:latin typeface="Arial"/>
              </a:rPr>
              <a:t>6.  Защитите ребенка от «большого экрана».</a:t>
            </a:r>
            <a:r>
              <a:rPr b="0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ьтруйте то, что ребенок видит с экрана телевизора и монитора компьютера. Не воспитывайте пассивность мыш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7.  Вознаграждайте чтение.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итесь с ребенком о двух-трех привилегиях, которые он будет получать дополнительно, если каждый день будет прочитывать оговоренный с ним объем тек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своения читательского умения подбирайте ребенку </a:t>
            </a:r>
            <a:r>
              <a:rPr b="1" lang="ru-RU" sz="1800" spc="-1" strike="noStrike">
                <a:solidFill>
                  <a:srgbClr val="2d2901"/>
                </a:solidFill>
                <a:latin typeface="Arial"/>
              </a:rPr>
              <a:t>книги с крупным шрифтом и доступным для понимания текстом</a:t>
            </a:r>
            <a:r>
              <a:rPr b="0" lang="ru-RU" sz="1800" spc="-1" strike="noStrike">
                <a:solidFill>
                  <a:srgbClr val="2d2901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торый не должен быть слишком легким или очень знакомым. Хорошо, если книга </a:t>
            </a:r>
            <a:r>
              <a:rPr b="1" lang="ru-RU" sz="1800" spc="-1" strike="noStrike">
                <a:solidFill>
                  <a:srgbClr val="2d2901"/>
                </a:solidFill>
                <a:latin typeface="Arial"/>
              </a:rPr>
              <a:t>красочно оформлена</a:t>
            </a:r>
            <a:r>
              <a:rPr b="0" lang="ru-RU" sz="1800" spc="-1" strike="noStrike">
                <a:solidFill>
                  <a:srgbClr val="2d290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есть разбивка на главы или она состоит из небольших самостоятельных рассказов. </a:t>
            </a:r>
            <a:r>
              <a:rPr b="1" lang="ru-RU" sz="1800" spc="-1" strike="noStrike">
                <a:solidFill>
                  <a:srgbClr val="2d2901"/>
                </a:solidFill>
                <a:latin typeface="Arial"/>
              </a:rPr>
              <a:t>Фактор новизны</a:t>
            </a:r>
            <a:r>
              <a:rPr b="0" lang="ru-RU" sz="1800" spc="-1" strike="noStrike">
                <a:solidFill>
                  <a:srgbClr val="2d290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чно оказывает большое  стимулирующее воздействие на читающе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бывайте, что </a:t>
            </a:r>
            <a:r>
              <a:rPr b="1" lang="ru-RU" sz="1800" spc="-1" strike="noStrike">
                <a:solidFill>
                  <a:srgbClr val="005024"/>
                </a:solidFill>
                <a:latin typeface="Arial"/>
              </a:rPr>
              <a:t>первое чтение – это обязательно чтение вслух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проговаривает то, что он читает. Это не только обеспечивает эффективное освоение чтения, но и способствует развитию устной речи, ее четкости и вырази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37680" cy="1835280"/>
          </a:xfrm>
          <a:prstGeom prst="rect">
            <a:avLst/>
          </a:prstGeom>
          <a:ln w="0">
            <a:noFill/>
          </a:ln>
        </p:spPr>
      </p:pic>
      <p:sp>
        <p:nvSpPr>
          <p:cNvPr id="196" name="Управляющая кнопка: домой 2"/>
          <p:cNvSpPr/>
          <p:nvPr/>
        </p:nvSpPr>
        <p:spPr>
          <a:xfrm>
            <a:off x="8244000" y="623736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_oAvoOizl_s" descr=""/>
          <p:cNvPicPr/>
          <p:nvPr/>
        </p:nvPicPr>
        <p:blipFill>
          <a:blip r:embed="rId2"/>
          <a:stretch/>
        </p:blipFill>
        <p:spPr>
          <a:xfrm>
            <a:off x="900000" y="1908000"/>
            <a:ext cx="7056720" cy="39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116360"/>
          </a:xfrm>
          <a:prstGeom prst="rect">
            <a:avLst/>
          </a:prstGeom>
          <a:ln w="0">
            <a:noFill/>
          </a:ln>
        </p:spPr>
      </p:pic>
      <p:sp>
        <p:nvSpPr>
          <p:cNvPr id="199" name="Вертикальный свиток 3"/>
          <p:cNvSpPr/>
          <p:nvPr/>
        </p:nvSpPr>
        <p:spPr>
          <a:xfrm>
            <a:off x="-181080" y="836640"/>
            <a:ext cx="9325080" cy="6021360"/>
          </a:xfrm>
          <a:prstGeom prst="verticalScrol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50920" y="1521000"/>
            <a:ext cx="8713800" cy="52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школы следует принять во внимание таланты, интересы ребенка и его жела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, чем определиться с выбором учебного заведения, необходимо понять, к какой сфере относятся таланты ребенка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значит, что вы обязательно должны выбирать школу или класс с каким-то особым уклоном. Это может быть общеобразовательное учебное заведение, в котором существуют возможности для развития ребенком своих талантов. Например, он явно имеет способности к </a:t>
            </a:r>
            <a:r>
              <a:rPr b="0" lang="ru-RU" sz="1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ктерскому мастерству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школе есть театральная студия. Или желает заниматься спортом, и в образовательном учреждении имеется спортивная секция. А, может, ребенок пока не демонстрирует яркого интереса к какому-то определенному занятию. Тогда следует ориентироваться на факторы, показывающие, что чаду будет в школе комфортно, и что он будет получать в ней качественное образовани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брать школу для ребенка, в которой он будет в комфорте и безопасности? Обратите внимание на следующие факторы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ней в неделю учатся дети (оптимальный вариант – пять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в учебном заведении столовая и насколько хорошо в ней кормят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кружки или секции, платные или бесплатные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охранник и насколько ответственно он относится к безопасности дете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ля вас имеют значение какие-то другие критерии, конечно, вам стои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нее убедиться, соответствует ли им та или иная школ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2195640" y="765000"/>
            <a:ext cx="51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Какую школу выбр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603360" y="103680"/>
            <a:ext cx="79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АКОЙ ПОРЯДОК ОФОРМЛЕНИЯ ДЕТЕЙ В ПЕРВЫЕ КЛАСС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СУЩЕСТВУЕТ В РФ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Блок-схема: перфолента 4"/>
          <p:cNvSpPr/>
          <p:nvPr/>
        </p:nvSpPr>
        <p:spPr>
          <a:xfrm>
            <a:off x="395280" y="1341360"/>
            <a:ext cx="7993080" cy="2087640"/>
          </a:xfrm>
          <a:prstGeom prst="flowChartPunchedTape">
            <a:avLst/>
          </a:prstGeom>
          <a:solidFill>
            <a:srgbClr val="ffffff"/>
          </a:solidFill>
          <a:ln w="381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Блок-схема: перфолента 5"/>
          <p:cNvSpPr/>
          <p:nvPr/>
        </p:nvSpPr>
        <p:spPr>
          <a:xfrm>
            <a:off x="395280" y="3068640"/>
            <a:ext cx="7993080" cy="1944720"/>
          </a:xfrm>
          <a:prstGeom prst="flowChartPunchedTape">
            <a:avLst/>
          </a:prstGeom>
          <a:solidFill>
            <a:srgbClr val="4e75a3"/>
          </a:solidFill>
          <a:ln w="38160">
            <a:solidFill>
              <a:srgbClr val="5c7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Блок-схема: перфолента 6"/>
          <p:cNvSpPr/>
          <p:nvPr/>
        </p:nvSpPr>
        <p:spPr>
          <a:xfrm>
            <a:off x="395280" y="4437000"/>
            <a:ext cx="7993080" cy="2232000"/>
          </a:xfrm>
          <a:prstGeom prst="flowChartPunchedTape">
            <a:avLst/>
          </a:prstGeom>
          <a:solidFill>
            <a:srgbClr val="ff0000"/>
          </a:solidFill>
          <a:ln w="38160">
            <a:solidFill>
              <a:srgbClr val="b37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755640" y="836640"/>
            <a:ext cx="75614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стерство образования РФ установило определенный порядок оформления детей в первые классы российских шк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123a"/>
                </a:solidFill>
                <a:latin typeface="Times New Roman"/>
                <a:ea typeface="Calibri"/>
              </a:rPr>
              <a:t>1. На момент поступления в 1 класс государственного образовательного учреждения на территории РФ, ребенок должен соответствовать возрасту от 6 лет 6 месяцев, до 8 лет включительно. Возможно обучение и с более раннего возраста, для этого необходимо заявление родителей и согласие администрации шко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 школу принимаются дети указанного возраста независимо от уровня их подготовки и имеющихся зна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 приеме в 1 класс не разрешено любое конкурсное тестирование 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4. Зачисление ребенка происходит, учитывая рекомендации медицинской психолого-педагогической комиссии, которая оценивает его готовность к обуч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5. Прием документов в 1 класс осуществляется с 1 марта и по 31 августа текущего г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20:01:20Z</dcterms:created>
  <dc:creator>Ольга</dc:creator>
  <dc:description/>
  <dc:language>en-US</dc:language>
  <cp:lastModifiedBy>Пользователь</cp:lastModifiedBy>
  <dcterms:modified xsi:type="dcterms:W3CDTF">2018-04-23T03:54:26Z</dcterms:modified>
  <cp:revision>29</cp:revision>
  <dc:subject/>
  <dc:title>Слайд 1</dc:title>
</cp:coreProperties>
</file>