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71F-6800-4B80-84C1-74C9C6C6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1A6-24B2-4161-8E18-0C09CF2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4A9-5A48-4717-8716-CA5150C2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222-7792-4D1A-9F76-902E43F7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8D0F5-8B19-418C-9651-CDA354F7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DEAA8-EDF4-40DB-B3FF-4AE2AC7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D766E-E62A-4898-BB1B-5F7A33C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7ED8-908C-43BF-BF27-D7FC3EF2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F8CAD-D15D-43E4-A22C-A576158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7A8B7-9085-40FC-B143-06FC0469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07191-E172-4033-8659-4F66183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BA6-CF8A-4E63-AA93-AF88EC3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EA2E-6E9A-4A9C-B87E-29E1C82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E879E-E16F-4ED8-9CB1-3D4FBB1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6ACE-154B-4CD2-BE7A-8206EAF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D93C9-00F0-4A7E-866B-8B08CBD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63A3-CB7B-4880-A657-16B14D1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88AC-9472-4057-A3EC-4257BDB3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16B0-05F1-45FB-A539-B8420842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298E-428E-479E-BD76-A0F0B2E4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0C9A-10A9-4A2F-9D39-A478820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C00A-7D02-4192-8804-64EA50E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DCD-C9C0-45C3-ACCA-38C9A40A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3F97-BBB5-4A9F-BC91-8BE475AA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ED7F-2244-4477-AA2A-298FF05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A1F1-7B86-41ED-A00B-B5C254AA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F0EF-FEE7-4488-8572-DF184B5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7CEE-80CD-48A3-B4D3-C1BE24D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29C8-65B1-4100-AF9B-6DFAA2CF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884C-3645-4669-B989-933D55A0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E88C6-121B-4B37-89A8-38CA2888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3DC20-D7D2-459E-B3D9-4B3C44B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BEC71-BEC0-4B5F-845E-4B096EC0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F7E-2819-44C8-B18A-A5472DA6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EE51B-75AA-40DD-8119-D2D1A5A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25DDE-CF01-4FE2-88A8-FABA7521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812E3-0788-47E6-9512-0A107B1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F4552-0B20-47D2-8E1D-8128F48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35968-F61F-43B9-8806-1DB43FB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CA0EB-02F9-48EE-9040-D47B9C2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E4022-01EE-4B8E-A9BC-7E41512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9BC6A-7D60-4ECA-910E-8F7B28D4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6B4AE-3F95-48E2-B494-609138C6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941-9B2B-4949-84C1-D0DF2858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E6B-EB91-46AE-A131-CA71032B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92E-14F9-4A6C-ADF3-B6C31D5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51B-3505-42B8-A228-443DB73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09D-AC3D-41C9-94F1-D779233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368-F6A8-43F9-86D0-631CD949FA5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B2D-3FFD-43A9-8B04-612129D383A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5E4F-9DE6-413B-889C-009DD433AC9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A1C-6157-4DDD-BB30-4144C5DFBD7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15640" y="3885840"/>
            <a:ext cx="734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здании журнала принимали участие: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нкевич Г.В.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бмахер М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ДОУ № 35 «Радуг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. Саянск, 20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43960" cy="341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animashki-75"/>
          <p:cNvPicPr/>
          <p:nvPr/>
        </p:nvPicPr>
        <p:blipFill>
          <a:blip r:embed="rId2"/>
          <a:stretch/>
        </p:blipFill>
        <p:spPr>
          <a:xfrm>
            <a:off x="0" y="4554360"/>
            <a:ext cx="1727280" cy="2303640"/>
          </a:xfrm>
          <a:prstGeom prst="rect">
            <a:avLst/>
          </a:prstGeom>
          <a:ln w="0">
            <a:noFill/>
          </a:ln>
        </p:spPr>
      </p:pic>
      <p:sp>
        <p:nvSpPr>
          <p:cNvPr id="17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116000" y="191160"/>
            <a:ext cx="6912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ДОКУМЕНТЫ НЕОБХОДИ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СТУПЛЕНИЯ В ПЕРВЫЙ КЛАС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95280" y="1149480"/>
            <a:ext cx="8388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обный перечень документов для зачисления в первый класс 2016-2017, который имеет право требовать администрация российских шко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явление от родителя о зачислении ребенка в первый класс. Убедитесь в том, что оно зарегистрировано в соответствующем журнале, узнайте входящий номер и приступайте к сбору остальных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ая карта поступающего, соответствующая установленной форме (026/у-2000) и заверенная печатью и подписью главного врача поликли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, подтверждающий регистрацию ребенка на территории, подконтрольной школе (справка формы 9, выдаваемая в паспортном стол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спорт родителя или заменяющего его представи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идетельство о рождении поступающего и его ксерокоп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школы просят дополнительно представить (но не в обязательном порядке) следующие докумен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тографию будущего первоклассни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ий полис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у ребенка из дошкольного учрежд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серокопию свидетельств о рождении родител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авку о состоянии ребенка от невропатол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ную анкету, специально разработанную конкретной школ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Управляющая кнопка: домой 4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animashki-75"/>
          <p:cNvPicPr/>
          <p:nvPr/>
        </p:nvPicPr>
        <p:blipFill>
          <a:blip r:embed="rId1"/>
          <a:stretch/>
        </p:blipFill>
        <p:spPr>
          <a:xfrm>
            <a:off x="7164360" y="4508640"/>
            <a:ext cx="136836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5564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3" descr="C:\Users\User\Desktop\Как подготовить руку к письму 10.jpg"/>
          <p:cNvPicPr/>
          <p:nvPr/>
        </p:nvPicPr>
        <p:blipFill>
          <a:blip r:embed="rId2"/>
          <a:stretch/>
        </p:blipFill>
        <p:spPr>
          <a:xfrm>
            <a:off x="324000" y="1125360"/>
            <a:ext cx="4176720" cy="5472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C:\Users\User\Desktop\развиваем мелкую моторику 6.jpg"/>
          <p:cNvPicPr/>
          <p:nvPr/>
        </p:nvPicPr>
        <p:blipFill>
          <a:blip r:embed="rId3"/>
          <a:stretch/>
        </p:blipFill>
        <p:spPr>
          <a:xfrm>
            <a:off x="4788000" y="1125360"/>
            <a:ext cx="3755880" cy="547236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018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C:\Users\User\Desktop\развиваем мелкую моторику 9.jpg"/>
          <p:cNvPicPr/>
          <p:nvPr/>
        </p:nvPicPr>
        <p:blipFill>
          <a:blip r:embed="rId2"/>
          <a:stretch/>
        </p:blipFill>
        <p:spPr>
          <a:xfrm>
            <a:off x="324000" y="1052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C:\Users\User\Desktop\Как подготовить руку к письму 6.jpg"/>
          <p:cNvPicPr/>
          <p:nvPr/>
        </p:nvPicPr>
        <p:blipFill>
          <a:blip r:embed="rId3"/>
          <a:stretch/>
        </p:blipFill>
        <p:spPr>
          <a:xfrm>
            <a:off x="4572000" y="1052640"/>
            <a:ext cx="4321080" cy="540072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домой 5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1" descr=""/>
          <p:cNvPicPr/>
          <p:nvPr/>
        </p:nvPicPr>
        <p:blipFill>
          <a:blip r:embed="rId1"/>
          <a:stretch/>
        </p:blipFill>
        <p:spPr>
          <a:xfrm>
            <a:off x="158760" y="171360"/>
            <a:ext cx="8862840" cy="8035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http://1.bp.blogspot.com/_XuTQI-8Rm2M/TNPv3R2a3_I/AAAAAAAAFIs/joD9Pc95pDc/s1600/%D1%80%D0%B0%D0%B7%D0%B2%D0%B8%D1%82%D0%B8%D0%B5+%D0%BF%D0%B0%D0%BC%D1%8F%D1%82%D0%B8+%D1%83+%D0%B4%D0%B5%D1%82%D0%B5%D0%B9+11.jpg"/>
          <p:cNvPicPr/>
          <p:nvPr/>
        </p:nvPicPr>
        <p:blipFill>
          <a:blip r:embed="rId2"/>
          <a:stretch/>
        </p:blipFill>
        <p:spPr>
          <a:xfrm>
            <a:off x="179280" y="1052640"/>
            <a:ext cx="4356360" cy="55450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http://4.bp.blogspot.com/_XuTQI-8Rm2M/TMlSfAyUvRI/AAAAAAAAFDs/Z-g7w1iLYRg/s1600/%D0%A0%D0%B0%D0%B7%D0%B2%D0%B8%D1%82%D0%B8%D0%B5+%D0%B2%D0%BD%D0%B8%D0%BC%D0%B0%D0%BD%D0%B8%D1%8F+1.jpg"/>
          <p:cNvPicPr/>
          <p:nvPr/>
        </p:nvPicPr>
        <p:blipFill>
          <a:blip r:embed="rId3"/>
          <a:stretch/>
        </p:blipFill>
        <p:spPr>
          <a:xfrm>
            <a:off x="4500720" y="1052640"/>
            <a:ext cx="4464000" cy="554508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http://4.bp.blogspot.com/_XuTQI-8Rm2M/TNPrDeefdeI/AAAAAAAAFIY/0LIfcKwPI7s/s1600/%D1%80%D0%B0%D0%B7%D0%B2%D0%B8%D1%82%D0%B8%D0%B5+%D0%BF%D0%B0%D0%BC%D1%8F%D1%82%D0%B8+%D1%83+%D1%80%D0%B5%D0%B1%D0%B5%D0%BD%D0%BA%D0%B0++6.jpg"/>
          <p:cNvPicPr/>
          <p:nvPr/>
        </p:nvPicPr>
        <p:blipFill>
          <a:blip r:embed="rId1"/>
          <a:stretch/>
        </p:blipFill>
        <p:spPr>
          <a:xfrm>
            <a:off x="0" y="189000"/>
            <a:ext cx="4356000" cy="6480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" descr="http://3.bp.blogspot.com/_XuTQI-8Rm2M/TNPzSqb3PVI/AAAAAAAAFI0/GwvZZ97mJq4/s1600/%D1%80%D0%B0%D0%B7%D0%B2%D0%B8%D1%82%D0%B8%D0%B5+%D0%BF%D0%B0%D0%BC%D1%8F%D1%82%D0%B8+%D1%83+%D0%B4%D0%BE%D1%88%D0%BA%D0%BE%D0%BB%D1%8C%D0%BD%D0%B8%D0%BA%D0%BE%D0%B2+13.jpg"/>
          <p:cNvPicPr/>
          <p:nvPr/>
        </p:nvPicPr>
        <p:blipFill>
          <a:blip r:embed="rId2"/>
          <a:stretch/>
        </p:blipFill>
        <p:spPr>
          <a:xfrm>
            <a:off x="4356000" y="189000"/>
            <a:ext cx="4788000" cy="64800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омой 3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http://www.razvitierebenka.co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https://infourok.ru/skoro_v_shkolu_konsultaciya_dlya_roditele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ttp://detsad217.jimdo.com/%D0%BB%D0%BE%D0%B3%D0%BE%D0%BF%D0%B5%D0%B4-%D1%81%D0%BE%D0%B2%D0%B5%D1%82%D1%83%D0%B5%D1%82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2872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домой 3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2400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одержание журнала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4" descr="animashki-75"/>
          <p:cNvPicPr/>
          <p:nvPr/>
        </p:nvPicPr>
        <p:blipFill>
          <a:blip r:embed="rId1"/>
          <a:stretch/>
        </p:blipFill>
        <p:spPr>
          <a:xfrm>
            <a:off x="250920" y="4797360"/>
            <a:ext cx="1368360" cy="1820880"/>
          </a:xfrm>
          <a:prstGeom prst="rect">
            <a:avLst/>
          </a:prstGeom>
          <a:ln w="0">
            <a:noFill/>
          </a:ln>
        </p:spPr>
      </p:pic>
      <p:sp>
        <p:nvSpPr>
          <p:cNvPr id="176" name="Скругленный прямоугольник 5">
            <a:hlinkClick r:id="rId2" action="ppaction://hlinksldjump"/>
          </p:cNvPr>
          <p:cNvSpPr/>
          <p:nvPr/>
        </p:nvSpPr>
        <p:spPr>
          <a:xfrm>
            <a:off x="468360" y="1484280"/>
            <a:ext cx="302400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3" action="ppaction://hlinksldjump"/>
              </a:rPr>
              <a:t>К школе- готов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кругленный прямоугольник 6"/>
          <p:cNvSpPr/>
          <p:nvPr/>
        </p:nvSpPr>
        <p:spPr>
          <a:xfrm>
            <a:off x="395280" y="2565360"/>
            <a:ext cx="309708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4" action="ppaction://hlinksldjump"/>
              </a:rPr>
              <a:t>Логопед совету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7"/>
          <p:cNvSpPr/>
          <p:nvPr/>
        </p:nvSpPr>
        <p:spPr>
          <a:xfrm>
            <a:off x="395280" y="3645000"/>
            <a:ext cx="309708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5" action="ppaction://hlinksldjump"/>
              </a:rPr>
              <a:t>Обратите внимани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6" action="ppaction://hlinksldjump"/>
              </a:rPr>
              <a:t>(Советы психоло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Вертикальный свиток 9"/>
          <p:cNvSpPr/>
          <p:nvPr/>
        </p:nvSpPr>
        <p:spPr>
          <a:xfrm>
            <a:off x="6372360" y="1125360"/>
            <a:ext cx="2376360" cy="179892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7" action="ppaction://hlinksldjump"/>
              </a:rPr>
              <a:t>Спрашива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8" action="ppaction://hlinksldjump"/>
              </a:rPr>
              <a:t>Отвечае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авильный пятиугольник 11"/>
          <p:cNvSpPr/>
          <p:nvPr/>
        </p:nvSpPr>
        <p:spPr>
          <a:xfrm>
            <a:off x="3995640" y="2637000"/>
            <a:ext cx="2521080" cy="1728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9" action="ppaction://hlinksldjump"/>
              </a:rPr>
              <a:t>Тренируем ру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Облако 12"/>
          <p:cNvSpPr/>
          <p:nvPr/>
        </p:nvSpPr>
        <p:spPr>
          <a:xfrm>
            <a:off x="5580000" y="4365720"/>
            <a:ext cx="3095640" cy="187164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10" action="ppaction://hlinksldjump"/>
              </a:rPr>
              <a:t>Упражнения для развития внимания и пам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Скругленный прямоугольник 13"/>
          <p:cNvSpPr/>
          <p:nvPr/>
        </p:nvSpPr>
        <p:spPr>
          <a:xfrm>
            <a:off x="2411280" y="5229360"/>
            <a:ext cx="274320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11" action="ppaction://hlinksldjump"/>
              </a:rPr>
              <a:t>Полезные ссы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4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468360" y="720000"/>
            <a:ext cx="820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 в школ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осенью ваш ребенок переступит ее пор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ремлении помочь ему уверенно сделать этот ш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тели порой сбиваются с ног в поисках учрежде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ных практиков, готовящих детей к поступлению в шк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, забывается простая истина: образование может сделать ребенка умным, но счастливым делает его только душевное, разумно организованное общение с близкими и любимыми людьми — семь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аших силах создать в семье именно такую обстановку, которая не только подготовит ребенка к успешной учебе, но и позволит ему занять достойное место среди одноклассников, чувствовать себя в школе комфорт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ие дети приходят в школу после детского сада и уже знают, как вести в коллективе, у них есть представление о занятиях; но, для них, как и для тех, кто пришел прямо из дома, эта перемена всего образа жизни – стресс. Да и для родителей сплошные пробл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animashki-75"/>
          <p:cNvPicPr/>
          <p:nvPr/>
        </p:nvPicPr>
        <p:blipFill>
          <a:blip r:embed="rId2"/>
          <a:stretch/>
        </p:blipFill>
        <p:spPr>
          <a:xfrm>
            <a:off x="7236000" y="260280"/>
            <a:ext cx="1461960" cy="194472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домой 2">
            <a:hlinkClick r:id="rId2" action="ppaction://hlinksldjump"/>
          </p:cNvPr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5564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179280" y="89064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вестно, нами правят привычки. Наши привычки в буквальном смысле творят нашу судьбу. Любовь к чтению – такая же привычка. Самоподкрепляемая привычка. Стоит только войти во вкус, и удовольствие от результата будет поддерживать сам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ычка много читать, в особенности хорошую литературу – входной билет в богатую впечатлениями и возможностями жизнь. «Побочными эффектами» этой привычки становится грамотность, способность ясно и ярко излагать свои мысли, эрудированность и даже открытие в себе новых мотивов и интере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же помочь ребенку «войти во вкус к чтению»? Это довольно прос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79280" y="342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  Подавайте личный пример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йте сами вслух и про себя. Если ребенок часто видит родителей с книгами в руках, то никаких дополнительных стимулов не потребуе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  Выбирайте вместе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делайте традицией совместный поход в книжный магазин и дайте ребенку возможность выбирать самому. С условием: на каждую книжку, которую выбирает ребенок, он читает одну книг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ранную 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  Читайте ребенку перед сном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итайте ему добрую сказку или историю на ночь, чтобы запустить процессы подсознательного творчества во сне. Если делать это регулярно, то книга войдет в привычный для ребенка ритуал отхода ко сну и станет для него незаменимым друг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Управляющая кнопка: домой 1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179280" y="18900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613"/>
                </a:solidFill>
                <a:latin typeface="Arial"/>
              </a:rPr>
              <a:t>4.  Используйте аудиокниги.</a:t>
            </a:r>
            <a:r>
              <a:rPr b="0" lang="ru-RU" sz="1800" spc="-1" strike="noStrike">
                <a:solidFill>
                  <a:srgbClr val="22261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ачала произведения с разным количеством голосов, затем озвученные одним. Предлагайте ребенку пофантазировать о героях, какие они внешне, по характеру, нарисовать и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одителям не стоит отстраняться от процесса чтения и становиться только слушателем. Очень помогает </a:t>
            </a: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прием совместного чт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гда взрослый начинает, а ребенок продолжает. Читайте по роля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6.  Защитите ребенка от «большого экрана».</a:t>
            </a:r>
            <a:r>
              <a:rPr b="0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ьтруйте то, что ребенок видит с экрана телевизора и монитора компьютера. Не воспитывайте пассивность мыш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7.  Вознаграждайте чтение.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итесь с ребенком о двух-трех привилегиях, которые он будет получать дополнительно, если каждый день будет прочитывать оговоренный с ним объем тек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воения читательского умения подбирайте ребенку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книги с крупным шрифтом и доступным для понимания текстом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й не должен быть слишком легким или очень знакомым. Хорошо, если книга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красочно оформлена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есть разбивка на главы или она состоит из небольших самостоятельных рассказов.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Фактор новизны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чно оказывает большое  стимулирующее воздействие на читающе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ывайте, что </a:t>
            </a:r>
            <a:r>
              <a:rPr b="1" lang="ru-RU" sz="1800" spc="-1" strike="noStrike">
                <a:solidFill>
                  <a:srgbClr val="005024"/>
                </a:solidFill>
                <a:latin typeface="Arial"/>
              </a:rPr>
              <a:t>первое чтение – это обязательно чтение вслух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проговаривает то, что он читает. Это не только обеспечивает эффективное освоение чтения, но и способствует развитию устной речи, ее четкости и вырази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3768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домой 2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_oAvoOizl_s" descr=""/>
          <p:cNvPicPr/>
          <p:nvPr/>
        </p:nvPicPr>
        <p:blipFill>
          <a:blip r:embed="rId2"/>
          <a:stretch/>
        </p:blipFill>
        <p:spPr>
          <a:xfrm>
            <a:off x="900000" y="1908000"/>
            <a:ext cx="705672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116360"/>
          </a:xfrm>
          <a:prstGeom prst="rect">
            <a:avLst/>
          </a:prstGeom>
          <a:ln w="0">
            <a:noFill/>
          </a:ln>
        </p:spPr>
      </p:pic>
      <p:sp>
        <p:nvSpPr>
          <p:cNvPr id="199" name="Вертикальный свиток 3"/>
          <p:cNvSpPr/>
          <p:nvPr/>
        </p:nvSpPr>
        <p:spPr>
          <a:xfrm>
            <a:off x="-181080" y="836640"/>
            <a:ext cx="9325080" cy="602136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50920" y="1521000"/>
            <a:ext cx="8713800" cy="52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школы следует принять во внимание таланты, интересы ребенка и его жела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, чем определиться с выбором учебного заведения, необходимо понять, к какой сфере относятся таланты ребенка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значит, что вы обязательно должны выбирать школу или класс с каким-то особым уклоном. Это может быть общеобразовательное учебное заведение, в котором существуют возможности для развития ребенком своих талантов. Например, он явно имеет способности к </a:t>
            </a:r>
            <a:r>
              <a:rPr b="0" lang="ru-RU" sz="1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ктерскому мастерству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школе есть театральная студия. Или желает заниматься спортом, и в образовательном учреждении имеется спортивная секция. А, может, ребенок пока не демонстрирует яркого интереса к какому-то определенному занятию. Тогда следует ориентироваться на факторы, показывающие, что чаду будет в школе комфортно, и что он будет получать в ней качественное образовани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брать школу для ребенка, в которой он будет в комфорте и безопасности? Обратите внимание на следующие факторы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ней в неделю учатся дети (оптимальный вариант – пять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учебном заведении столовая и насколько хорошо в ней кормят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кружки или секции, платные или бесплатные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охранник и насколько ответственно он относится к безопасности дете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ля вас имеют значение какие-то другие критерии, конечно, вам стои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нее убедиться, соответствует ли им та или иная школ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195640" y="76500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Какую школу выбр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603360" y="103680"/>
            <a:ext cx="79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АКОЙ ПОРЯДОК ОФОРМЛЕНИЯ ДЕТЕЙ В ПЕРВЫЕ КЛАСС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СУЩЕСТВУЕТ В Р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Блок-схема: перфолента 4"/>
          <p:cNvSpPr/>
          <p:nvPr/>
        </p:nvSpPr>
        <p:spPr>
          <a:xfrm>
            <a:off x="395280" y="1341360"/>
            <a:ext cx="7993080" cy="2087640"/>
          </a:xfrm>
          <a:prstGeom prst="flowChartPunchedTap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Блок-схема: перфолента 5"/>
          <p:cNvSpPr/>
          <p:nvPr/>
        </p:nvSpPr>
        <p:spPr>
          <a:xfrm>
            <a:off x="395280" y="3068640"/>
            <a:ext cx="7993080" cy="1944720"/>
          </a:xfrm>
          <a:prstGeom prst="flowChartPunchedTape">
            <a:avLst/>
          </a:prstGeom>
          <a:solidFill>
            <a:srgbClr val="4e75a3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Блок-схема: перфолента 6"/>
          <p:cNvSpPr/>
          <p:nvPr/>
        </p:nvSpPr>
        <p:spPr>
          <a:xfrm>
            <a:off x="395280" y="4437000"/>
            <a:ext cx="7993080" cy="2232000"/>
          </a:xfrm>
          <a:prstGeom prst="flowChartPunchedTape">
            <a:avLst/>
          </a:prstGeom>
          <a:solidFill>
            <a:srgbClr val="ff0000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755640" y="836640"/>
            <a:ext cx="75614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РФ установило определенный порядок оформления детей в первые классы российских ш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123a"/>
                </a:solidFill>
                <a:latin typeface="Times New Roman"/>
                <a:ea typeface="Calibri"/>
              </a:rPr>
              <a:t>1. На момент поступления в 1 класс государственного образовательного учреждения на территории РФ, ребенок должен соответствовать возрасту от 6 лет 6 месяцев, до 8 лет включительно. Возможно обучение и с более раннего возраста, для этого необходимо заявление родителей и согласие администрации шк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школу принимаются дети указанного возраста независимо от уровня их подготовки и имеющихся зна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 приеме в 1 класс не разрешено любое конкурсное тестирование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Зачисление ребенка происходит, учитывая рекомендации медицинской психолого-педагогической комиссии, которая оценивает его готовность к обуч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5. Прием документов в 1 класс осуществляется с 1 марта и по 31 августа текущего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20:01:20Z</dcterms:created>
  <dc:creator>Ольга</dc:creator>
  <dc:description/>
  <dc:language>en-US</dc:language>
  <cp:lastModifiedBy>Пользователь</cp:lastModifiedBy>
  <dcterms:modified xsi:type="dcterms:W3CDTF">2018-04-23T03:54:26Z</dcterms:modified>
  <cp:revision>29</cp:revision>
  <dc:subject/>
  <dc:title>Слайд 1</dc:title>
</cp:coreProperties>
</file>