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77FF-1A3B-45B6-B7BC-CFB627F0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4F30-C022-42DC-BA3F-53355B3B1EE9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B5EB-7C1A-4513-8A71-607EB1032EC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8420-5D70-4545-99CB-831D60F5201A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C037-DCF4-4892-9DFA-FA256DCB0304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4465-857C-41A4-96DB-84E05AEE742F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31D-E76D-4C14-9E76-3A76DFCACF42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98D-A868-4DBE-A836-BC4F76D2A3B2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DC64-23B7-4B77-9E78-07C0E8A22BA5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B5CC-15BB-4D45-90A7-ECC25EC04DA2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320"/>
            <a:ext cx="9144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о – игровая технология</a:t>
            </a:r>
            <a:endParaRPr b="0" lang="en-US" sz="4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09720" y="5063760"/>
            <a:ext cx="43290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одготовили воспитатели: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Доценко Н.Н.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анина Н.А.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Монакова Е.А.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47" name="Picture 11" descr="https://citifox.ru/wp-content/uploads/2017/03/igra-detej2.png"/>
          <p:cNvPicPr/>
          <p:nvPr/>
        </p:nvPicPr>
        <p:blipFill>
          <a:blip r:embed="rId2"/>
          <a:stretch/>
        </p:blipFill>
        <p:spPr>
          <a:xfrm>
            <a:off x="1523880" y="1600200"/>
            <a:ext cx="5972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1981080" y="1620720"/>
            <a:ext cx="6937560" cy="427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dou24.ru/z21/cache/preview/a14ebbd54c0db4b15f8ad91d00dd82b1.JPG"/>
          <p:cNvPicPr/>
          <p:nvPr/>
        </p:nvPicPr>
        <p:blipFill>
          <a:blip r:embed="rId3"/>
          <a:stretch/>
        </p:blipFill>
        <p:spPr>
          <a:xfrm>
            <a:off x="1752480" y="0"/>
            <a:ext cx="736596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dou24.ru/z21/cache/preview/0ef8256efd686f76af5f5afec5dacc39.JPG"/>
          <p:cNvPicPr/>
          <p:nvPr/>
        </p:nvPicPr>
        <p:blipFill>
          <a:blip r:embed="rId2"/>
          <a:stretch/>
        </p:blipFill>
        <p:spPr>
          <a:xfrm>
            <a:off x="1752480" y="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s://www.maam.ru/upload/blogs/20201c876223747f43098f731f9ab032.jpg.jpg"/>
          <p:cNvPicPr/>
          <p:nvPr/>
        </p:nvPicPr>
        <p:blipFill>
          <a:blip r:embed="rId3"/>
          <a:stretch/>
        </p:blipFill>
        <p:spPr>
          <a:xfrm>
            <a:off x="5589720" y="4191120"/>
            <a:ext cx="355428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ttps://www.maam.ru/upload/blogs/51ad641630a3d163fc75e7f96c4f5493.jpg.jpg"/>
          <p:cNvPicPr/>
          <p:nvPr/>
        </p:nvPicPr>
        <p:blipFill>
          <a:blip r:embed="rId4"/>
          <a:stretch/>
        </p:blipFill>
        <p:spPr>
          <a:xfrm>
            <a:off x="1749600" y="4191120"/>
            <a:ext cx="360828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5" name="Rectangle 3" descr=""/>
          <p:cNvPicPr/>
          <p:nvPr/>
        </p:nvPicPr>
        <p:blipFill>
          <a:blip r:embed="rId2"/>
          <a:stretch/>
        </p:blipFill>
        <p:spPr>
          <a:xfrm>
            <a:off x="1981080" y="1620720"/>
            <a:ext cx="6937560" cy="427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dou24.ru/z21/cache/preview/f23e4b06651dc3be59168bd25d3227dd.JPG"/>
          <p:cNvPicPr/>
          <p:nvPr/>
        </p:nvPicPr>
        <p:blipFill>
          <a:blip r:embed="rId3"/>
          <a:stretch/>
        </p:blipFill>
        <p:spPr>
          <a:xfrm>
            <a:off x="1752480" y="0"/>
            <a:ext cx="73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1981080" y="1620720"/>
            <a:ext cx="6937560" cy="427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dou24.ru/z21/images/16-17/str_ped/golub/master_klass/26mashk.JPG"/>
          <p:cNvPicPr/>
          <p:nvPr/>
        </p:nvPicPr>
        <p:blipFill>
          <a:blip r:embed="rId3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dou24.ru/z21/cache/preview/4d32f638a6be778a11a792eed793e848.JPG"/>
          <p:cNvPicPr/>
          <p:nvPr/>
        </p:nvPicPr>
        <p:blipFill>
          <a:blip r:embed="rId2"/>
          <a:stretch/>
        </p:blipFill>
        <p:spPr>
          <a:xfrm>
            <a:off x="1752480" y="0"/>
            <a:ext cx="7391520" cy="433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globalsib.com/wp-content/uploads/2016/12/img-20151021102346-331.jpg"/>
          <p:cNvPicPr/>
          <p:nvPr/>
        </p:nvPicPr>
        <p:blipFill>
          <a:blip r:embed="rId3"/>
          <a:stretch/>
        </p:blipFill>
        <p:spPr>
          <a:xfrm>
            <a:off x="3478320" y="4230720"/>
            <a:ext cx="394020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1981080" y="1620720"/>
            <a:ext cx="6937560" cy="427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dou24.ru/z21/cache/preview/babbb340f769b1cc85c7827b3ec02412.JPG"/>
          <p:cNvPicPr/>
          <p:nvPr/>
        </p:nvPicPr>
        <p:blipFill>
          <a:blip r:embed="rId3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2"/>
          <a:stretch/>
        </p:blipFill>
        <p:spPr>
          <a:xfrm>
            <a:off x="1981080" y="1620720"/>
            <a:ext cx="6937560" cy="42735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http://images.myshared.ru/10/969666/slide_9.jpg"/>
          <p:cNvPicPr/>
          <p:nvPr/>
        </p:nvPicPr>
        <p:blipFill>
          <a:blip r:embed="rId3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1" descr=""/>
          <p:cNvPicPr/>
          <p:nvPr/>
        </p:nvPicPr>
        <p:blipFill>
          <a:blip r:embed="rId2"/>
          <a:stretch/>
        </p:blipFill>
        <p:spPr>
          <a:xfrm>
            <a:off x="2023920" y="1974960"/>
            <a:ext cx="7053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Нина</cp:lastModifiedBy>
  <dcterms:modified xsi:type="dcterms:W3CDTF">2018-10-23T09:28:07Z</dcterms:modified>
  <cp:revision>416</cp:revision>
  <dc:subject/>
  <dc:title>Name of presentation</dc:title>
</cp:coreProperties>
</file>