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898-4F26-41B5-B410-643B07C4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BF5-5F6C-4A6F-9F6A-89C24688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41A-EA03-478A-A0FC-493C566A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BAA-0E53-4009-B64D-0D0F9BB1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024-EC23-48EB-9F78-D87D3AB5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274-35DA-4856-9698-44FFA179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36E-3722-4D78-99B3-27D1B2E6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94C-6088-4844-8C99-A175736C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254-6FD5-4A95-BF24-9CAC0EFD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258-5F07-4E00-915D-4816E154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767-0A69-448F-98F6-065C311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385-23F8-41C6-A95A-65C3C14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17D3-AE26-44F1-AA3A-1ABE88310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9640" y="836640"/>
            <a:ext cx="7920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м - дом - ком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30120" y="4508640"/>
            <a:ext cx="47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гра на развитие слухового вним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bat"/>
              </a:rPr>
              <a:t>Умение сосредотачиваться на звуке - слуховое внимание - очень важная особенность человека, без которой невозможно слушать и понимать речь.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bat"/>
              </a:rPr>
              <a:t>Также важно различать и анализировать звуки. Это умение называется фонематическим слухом. Маленький ребенок не умеет сравнивать звуки, но его можно этому научи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bat"/>
              </a:rPr>
              <a:t>Цель упражнений: развитие фонематического слуха научить ребенка слушать и слыша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50920" y="6021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- дом; это – снежный ком, а это - мальчик 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094120" cy="324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rcRect l="2866" t="6395" r="4280" b="3952"/>
          <a:stretch/>
        </p:blipFill>
        <p:spPr>
          <a:xfrm>
            <a:off x="2700360" y="476280"/>
            <a:ext cx="468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0920" y="59500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кажи: где Том; где ком; где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094120" cy="324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rcRect l="2866" t="6395" r="4280" b="3952"/>
          <a:stretch/>
        </p:blipFill>
        <p:spPr>
          <a:xfrm>
            <a:off x="2700360" y="476280"/>
            <a:ext cx="468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24000" y="5805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тори за мной в том же порядк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м - дом - к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094120" cy="324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rcRect l="2866" t="6395" r="4280" b="3952"/>
          <a:stretch/>
        </p:blipFill>
        <p:spPr>
          <a:xfrm>
            <a:off x="2700360" y="476280"/>
            <a:ext cx="468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95280" y="61657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теперь вот так: ком - Том -д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094120" cy="324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rcRect l="2866" t="6395" r="4280" b="3952"/>
          <a:stretch/>
        </p:blipFill>
        <p:spPr>
          <a:xfrm>
            <a:off x="2700360" y="476280"/>
            <a:ext cx="468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50920" y="5805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тори за мн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м - ком - Том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094120" cy="324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rcRect l="2866" t="6395" r="4280" b="3952"/>
          <a:stretch/>
        </p:blipFill>
        <p:spPr>
          <a:xfrm>
            <a:off x="2700360" y="476280"/>
            <a:ext cx="468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Zanesennyj"/>
              </a:rPr>
              <a:t>Молодец</a:t>
            </a:r>
            <a:r>
              <a:rPr b="0" lang="ru-RU" sz="8800" spc="-1" strike="noStrike">
                <a:solidFill>
                  <a:srgbClr val="ffffff"/>
                </a:solidFill>
                <a:latin typeface="Blaze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0:43Z</dcterms:created>
  <dc:creator>HP</dc:creator>
  <dc:description/>
  <dc:language>en-US</dc:language>
  <cp:lastModifiedBy>Irina</cp:lastModifiedBy>
  <dcterms:modified xsi:type="dcterms:W3CDTF">2022-04-02T13:24:22Z</dcterms:modified>
  <cp:revision>6</cp:revision>
  <dc:subject/>
  <dc:title>Слайд 1</dc:title>
</cp:coreProperties>
</file>