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9.gif" ContentType="image/gif"/>
  <Override PartName="/ppt/media/image7.gif" ContentType="image/gif"/>
  <Override PartName="/ppt/media/image5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637-2F30-4745-A505-58791D39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440-BBEB-42CD-91EC-A684273F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042-F032-4FB9-A8C5-E27EA789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385-5A3E-4A5E-BBD3-B14A0E8D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330-DB7F-4B29-80BF-7FA600AB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0F4-5D6B-4C69-B8AD-6D94F8BF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4F3-7FC2-4C96-9C7E-EB482004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0947-5D1C-4851-AD7C-B049BDB4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53E-5A15-4CB9-B55C-E682C7C7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A05-4DC7-471D-B0A9-33B5A13C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8F4-14F3-4739-A250-36744330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7BB-D441-4858-BCE7-C15B2676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99A9-4302-4DDC-B30F-336EBD4A0E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10.png"/><Relationship Id="rId9" Type="http://schemas.openxmlformats.org/officeDocument/2006/relationships/image" Target="../media/image24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25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26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340000" y="1341360"/>
            <a:ext cx="4680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ЦВЕТЫ</a:t>
            </a:r>
            <a:endParaRPr b="1" lang="en-US" sz="1800" spc="1" strike="noStrike">
              <a:ln w="1260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68360" y="4149720"/>
            <a:ext cx="820908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езентация учителя-логопеда 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ГДОУ д/с "Кудесница" Халько И.А.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ff66"/>
                    </a:gs>
                    <a:gs pos="100000">
                      <a:srgbClr val="009900"/>
                    </a:gs>
                  </a:gsLst>
                  <a:lin ang="2700000"/>
                </a:gradFill>
                <a:latin typeface="Arial"/>
              </a:rPr>
              <a:t>Сосчитай, сколько на картинк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ff66"/>
                  </a:gs>
                  <a:gs pos="100000">
                    <a:srgbClr val="0099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ff66"/>
                    </a:gs>
                    <a:gs pos="100000">
                      <a:srgbClr val="009900"/>
                    </a:gs>
                  </a:gsLst>
                  <a:lin ang="2700000"/>
                </a:gradFill>
                <a:latin typeface="Arial"/>
              </a:rPr>
              <a:t>маков, васильков, ромашек и одуванчик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ff66"/>
                  </a:gs>
                  <a:gs pos="100000">
                    <a:srgbClr val="0099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pic>
        <p:nvPicPr>
          <p:cNvPr id="125" name="Picture 7" descr="василек"/>
          <p:cNvPicPr/>
          <p:nvPr/>
        </p:nvPicPr>
        <p:blipFill>
          <a:blip r:embed="rId1"/>
          <a:stretch/>
        </p:blipFill>
        <p:spPr>
          <a:xfrm rot="20574600">
            <a:off x="6732720" y="3068280"/>
            <a:ext cx="1476360" cy="1284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василек"/>
          <p:cNvPicPr/>
          <p:nvPr/>
        </p:nvPicPr>
        <p:blipFill>
          <a:blip r:embed="rId2"/>
          <a:stretch/>
        </p:blipFill>
        <p:spPr>
          <a:xfrm rot="1734000">
            <a:off x="1284120" y="4405320"/>
            <a:ext cx="1152720" cy="1003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василек"/>
          <p:cNvPicPr/>
          <p:nvPr/>
        </p:nvPicPr>
        <p:blipFill>
          <a:blip r:embed="rId3"/>
          <a:stretch/>
        </p:blipFill>
        <p:spPr>
          <a:xfrm>
            <a:off x="5651640" y="4724280"/>
            <a:ext cx="1476360" cy="1284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василек"/>
          <p:cNvPicPr/>
          <p:nvPr/>
        </p:nvPicPr>
        <p:blipFill>
          <a:blip r:embed="rId4"/>
          <a:stretch/>
        </p:blipFill>
        <p:spPr>
          <a:xfrm rot="1626600">
            <a:off x="178920" y="5229360"/>
            <a:ext cx="1476360" cy="1284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oduvan10"/>
          <p:cNvPicPr/>
          <p:nvPr/>
        </p:nvPicPr>
        <p:blipFill>
          <a:blip r:embed="rId5"/>
          <a:stretch/>
        </p:blipFill>
        <p:spPr>
          <a:xfrm>
            <a:off x="539640" y="2565360"/>
            <a:ext cx="1081080" cy="93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oduvan10"/>
          <p:cNvPicPr/>
          <p:nvPr/>
        </p:nvPicPr>
        <p:blipFill>
          <a:blip r:embed="rId6"/>
          <a:stretch/>
        </p:blipFill>
        <p:spPr>
          <a:xfrm>
            <a:off x="395280" y="3989520"/>
            <a:ext cx="1512720" cy="1311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oduvan10"/>
          <p:cNvPicPr/>
          <p:nvPr/>
        </p:nvPicPr>
        <p:blipFill>
          <a:blip r:embed="rId7"/>
          <a:stretch/>
        </p:blipFill>
        <p:spPr>
          <a:xfrm>
            <a:off x="3419640" y="3063960"/>
            <a:ext cx="1584000" cy="1373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oduvan10"/>
          <p:cNvPicPr/>
          <p:nvPr/>
        </p:nvPicPr>
        <p:blipFill>
          <a:blip r:embed="rId8"/>
          <a:stretch/>
        </p:blipFill>
        <p:spPr>
          <a:xfrm>
            <a:off x="5508720" y="1989000"/>
            <a:ext cx="1081080" cy="93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oduvan10"/>
          <p:cNvPicPr/>
          <p:nvPr/>
        </p:nvPicPr>
        <p:blipFill>
          <a:blip r:embed="rId9"/>
          <a:stretch/>
        </p:blipFill>
        <p:spPr>
          <a:xfrm>
            <a:off x="6659640" y="3905280"/>
            <a:ext cx="1944720" cy="1684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b396041537f7"/>
          <p:cNvPicPr/>
          <p:nvPr/>
        </p:nvPicPr>
        <p:blipFill>
          <a:blip r:embed="rId10"/>
          <a:stretch/>
        </p:blipFill>
        <p:spPr>
          <a:xfrm>
            <a:off x="6012000" y="5589720"/>
            <a:ext cx="722160" cy="79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b396041537f7"/>
          <p:cNvPicPr/>
          <p:nvPr/>
        </p:nvPicPr>
        <p:blipFill>
          <a:blip r:embed="rId11"/>
          <a:stretch/>
        </p:blipFill>
        <p:spPr>
          <a:xfrm rot="4323600">
            <a:off x="2661840" y="1954080"/>
            <a:ext cx="722520" cy="792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b396041537f7"/>
          <p:cNvPicPr/>
          <p:nvPr/>
        </p:nvPicPr>
        <p:blipFill>
          <a:blip r:embed="rId12"/>
          <a:stretch/>
        </p:blipFill>
        <p:spPr>
          <a:xfrm>
            <a:off x="6516720" y="5516640"/>
            <a:ext cx="722160" cy="79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0" descr="b396041537f7"/>
          <p:cNvPicPr/>
          <p:nvPr/>
        </p:nvPicPr>
        <p:blipFill>
          <a:blip r:embed="rId13"/>
          <a:stretch/>
        </p:blipFill>
        <p:spPr>
          <a:xfrm rot="5897400">
            <a:off x="358560" y="5914800"/>
            <a:ext cx="7221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1" descr="59d001e6854f"/>
          <p:cNvPicPr/>
          <p:nvPr/>
        </p:nvPicPr>
        <p:blipFill>
          <a:blip r:embed="rId14"/>
          <a:stretch/>
        </p:blipFill>
        <p:spPr>
          <a:xfrm rot="20754600">
            <a:off x="2842920" y="5229000"/>
            <a:ext cx="736560" cy="93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2" descr="59d001e6854f"/>
          <p:cNvPicPr/>
          <p:nvPr/>
        </p:nvPicPr>
        <p:blipFill>
          <a:blip r:embed="rId15"/>
          <a:stretch/>
        </p:blipFill>
        <p:spPr>
          <a:xfrm>
            <a:off x="2195640" y="3573360"/>
            <a:ext cx="622080" cy="792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59d001e6854f"/>
          <p:cNvPicPr/>
          <p:nvPr/>
        </p:nvPicPr>
        <p:blipFill>
          <a:blip r:embed="rId16"/>
          <a:stretch/>
        </p:blipFill>
        <p:spPr>
          <a:xfrm>
            <a:off x="5580000" y="3500280"/>
            <a:ext cx="736560" cy="93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4" descr="59d001e6854f"/>
          <p:cNvPicPr/>
          <p:nvPr/>
        </p:nvPicPr>
        <p:blipFill>
          <a:blip r:embed="rId17"/>
          <a:stretch/>
        </p:blipFill>
        <p:spPr>
          <a:xfrm>
            <a:off x="7380360" y="1844640"/>
            <a:ext cx="736560" cy="93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5" descr="59d001e6854f"/>
          <p:cNvPicPr/>
          <p:nvPr/>
        </p:nvPicPr>
        <p:blipFill>
          <a:blip r:embed="rId18"/>
          <a:stretch/>
        </p:blipFill>
        <p:spPr>
          <a:xfrm>
            <a:off x="8028000" y="5921280"/>
            <a:ext cx="736560" cy="93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oduvan10"/>
          <p:cNvPicPr/>
          <p:nvPr/>
        </p:nvPicPr>
        <p:blipFill>
          <a:blip r:embed="rId19"/>
          <a:stretch/>
        </p:blipFill>
        <p:spPr>
          <a:xfrm>
            <a:off x="3348000" y="5084640"/>
            <a:ext cx="165744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368280"/>
            <a:ext cx="90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расширять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представления детей о дикорастущих цветущих растен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упражнять в согласовании числительных с существительн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упражнять в согласовании слов в предложен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закреплять в речи пройденные предло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упражнять в употреблении формы множественного числа имен существительных в родительном падеж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развивать память и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411280" y="0"/>
            <a:ext cx="44658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Назови карти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68360" y="1197000"/>
            <a:ext cx="234000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300720" y="1197000"/>
            <a:ext cx="234000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348000" y="1197000"/>
            <a:ext cx="234000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468360" y="4005360"/>
            <a:ext cx="234000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419640" y="4005360"/>
            <a:ext cx="233964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6372360" y="4005360"/>
            <a:ext cx="234000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32400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ОКОЛЬ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419640" y="3357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МА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372360" y="3357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39640" y="6165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СИ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3492360" y="6165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443640" y="6165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УВА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22"/>
          <p:cNvSpPr txBox="1"/>
          <p:nvPr/>
        </p:nvSpPr>
        <p:spPr>
          <a:xfrm>
            <a:off x="2411280" y="549360"/>
            <a:ext cx="446580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Это цве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979640" y="144360"/>
            <a:ext cx="540072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Запомни карти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03280" y="1197000"/>
            <a:ext cx="234000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300720" y="1197000"/>
            <a:ext cx="234000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419640" y="1197000"/>
            <a:ext cx="233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68360" y="4005360"/>
            <a:ext cx="234000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419640" y="4005360"/>
            <a:ext cx="233964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6372360" y="4005360"/>
            <a:ext cx="234000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2400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ОКОЛЬ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3419640" y="3357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МА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6372360" y="3357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539640" y="6165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СИ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492360" y="6165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6443640" y="6165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УВА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2411280" y="73080"/>
            <a:ext cx="446580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Что изменилос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419640" y="1197000"/>
            <a:ext cx="233964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300720" y="1197000"/>
            <a:ext cx="234000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539640" y="1197000"/>
            <a:ext cx="234000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68360" y="4005360"/>
            <a:ext cx="234000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419640" y="4005360"/>
            <a:ext cx="233964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6372360" y="4005360"/>
            <a:ext cx="234000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400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ОКОЛЬ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419640" y="3357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МА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6272E-006 L 0.31302 2.6272E-006 E">
                                      <p:cBhvr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2.6272E-006 L -0.31875 2.6272E-006 E">
                                      <p:cBhvr>
                                        <p:cTn id="6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1979640" y="0"/>
            <a:ext cx="5400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Что изменилос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03280" y="1197000"/>
            <a:ext cx="234000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6300720" y="4005360"/>
            <a:ext cx="234000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419640" y="1197000"/>
            <a:ext cx="233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468360" y="4005360"/>
            <a:ext cx="234000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419640" y="4005360"/>
            <a:ext cx="233964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6300720" y="1197000"/>
            <a:ext cx="234000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372360" y="3357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6443640" y="6165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УВА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6272E-006 L -0.00208 0.40911 E">
                                      <p:cBhvr>
                                        <p:cTn id="8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93802E-007 L -5.55556E-007 -0.40911 E">
                                      <p:cBhvr>
                                        <p:cTn id="8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979640" y="73080"/>
            <a:ext cx="5400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Что изменилос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03280" y="1197000"/>
            <a:ext cx="234000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300720" y="1197000"/>
            <a:ext cx="234000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419640" y="1197000"/>
            <a:ext cx="233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419640" y="4005360"/>
            <a:ext cx="233964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39640" y="4006800"/>
            <a:ext cx="234000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372360" y="4005360"/>
            <a:ext cx="234000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539640" y="6165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СИ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492360" y="6165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73543E-007 L 0.31302 -0.00023 E">
                                      <p:cBhvr>
                                        <p:cTn id="9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6.93802E-007 L -0.31875 6.93802E-007 E">
                                      <p:cBhvr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252720" y="1341360"/>
            <a:ext cx="9396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днажды летним днём          отправилась собирать мёд. Сначала она покружилась…   . Потом подлетела …      , села …       , собрала пыльцу …      . Но самая вкусная пыльца была …         , который рос на луг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468360" y="0"/>
            <a:ext cx="8280360" cy="136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ff66"/>
                    </a:gs>
                    <a:gs pos="100000">
                      <a:srgbClr val="009900"/>
                    </a:gs>
                  </a:gsLst>
                  <a:lin ang="2700000"/>
                </a:gradFill>
                <a:latin typeface="Arial"/>
              </a:rPr>
              <a:t>Упражнение "Путешествие пчел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ff66"/>
                  </a:gs>
                  <a:gs pos="100000">
                    <a:srgbClr val="0099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ff66"/>
                    </a:gs>
                    <a:gs pos="100000">
                      <a:srgbClr val="009900"/>
                    </a:gs>
                  </a:gsLst>
                  <a:lin ang="2700000"/>
                </a:gradFill>
                <a:latin typeface="Arial"/>
              </a:rPr>
              <a:t>Рассмотри картинки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ff66"/>
                  </a:gs>
                  <a:gs pos="100000">
                    <a:srgbClr val="0099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ff66"/>
                    </a:gs>
                    <a:gs pos="100000">
                      <a:srgbClr val="009900"/>
                    </a:gs>
                  </a:gsLst>
                  <a:lin ang="2700000"/>
                </a:gradFill>
                <a:latin typeface="Arial"/>
              </a:rPr>
              <a:t>Дополни предложения предлогам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ff66"/>
                  </a:gs>
                  <a:gs pos="100000">
                    <a:srgbClr val="0099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pic>
        <p:nvPicPr>
          <p:cNvPr id="100" name="Picture 6" descr="Bee10"/>
          <p:cNvPicPr/>
          <p:nvPr/>
        </p:nvPicPr>
        <p:blipFill>
          <a:blip r:embed="rId1"/>
          <a:stretch/>
        </p:blipFill>
        <p:spPr>
          <a:xfrm>
            <a:off x="7236000" y="1341360"/>
            <a:ext cx="1152360" cy="83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василек"/>
          <p:cNvPicPr/>
          <p:nvPr/>
        </p:nvPicPr>
        <p:blipFill>
          <a:blip r:embed="rId2"/>
          <a:stretch/>
        </p:blipFill>
        <p:spPr>
          <a:xfrm rot="20574600">
            <a:off x="7885080" y="2420640"/>
            <a:ext cx="1476360" cy="128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кол"/>
          <p:cNvPicPr/>
          <p:nvPr/>
        </p:nvPicPr>
        <p:blipFill>
          <a:blip r:embed="rId3"/>
          <a:stretch/>
        </p:blipFill>
        <p:spPr>
          <a:xfrm>
            <a:off x="6156360" y="3319560"/>
            <a:ext cx="792000" cy="830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oduvan10"/>
          <p:cNvPicPr/>
          <p:nvPr/>
        </p:nvPicPr>
        <p:blipFill>
          <a:blip r:embed="rId4"/>
          <a:stretch/>
        </p:blipFill>
        <p:spPr>
          <a:xfrm>
            <a:off x="755640" y="3933720"/>
            <a:ext cx="1081080" cy="93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1" descr="b396041537f7"/>
          <p:cNvPicPr/>
          <p:nvPr/>
        </p:nvPicPr>
        <p:blipFill>
          <a:blip r:embed="rId5"/>
          <a:stretch/>
        </p:blipFill>
        <p:spPr>
          <a:xfrm>
            <a:off x="8028000" y="4076640"/>
            <a:ext cx="722160" cy="79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59d001e6854f"/>
          <p:cNvPicPr/>
          <p:nvPr/>
        </p:nvPicPr>
        <p:blipFill>
          <a:blip r:embed="rId6"/>
          <a:stretch/>
        </p:blipFill>
        <p:spPr>
          <a:xfrm>
            <a:off x="2843280" y="5300640"/>
            <a:ext cx="736560" cy="936720"/>
          </a:xfrm>
          <a:prstGeom prst="rect">
            <a:avLst/>
          </a:prstGeom>
          <a:ln w="0">
            <a:noFill/>
          </a:ln>
        </p:spPr>
      </p:pic>
      <p:sp>
        <p:nvSpPr>
          <p:cNvPr id="106" name="WordArt 24"/>
          <p:cNvSpPr txBox="1"/>
          <p:nvPr/>
        </p:nvSpPr>
        <p:spPr>
          <a:xfrm>
            <a:off x="468360" y="0"/>
            <a:ext cx="82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ff66"/>
                    </a:gs>
                    <a:gs pos="100000">
                      <a:srgbClr val="009900"/>
                    </a:gs>
                  </a:gsLst>
                  <a:lin ang="2700000"/>
                </a:gradFill>
                <a:latin typeface="Arial"/>
              </a:rPr>
              <a:t>Упражнение "Путешествие пчел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ff66"/>
                  </a:gs>
                  <a:gs pos="100000">
                    <a:srgbClr val="0099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ff66"/>
                    </a:gs>
                    <a:gs pos="100000">
                      <a:srgbClr val="009900"/>
                    </a:gs>
                  </a:gsLst>
                  <a:lin ang="2700000"/>
                </a:gradFill>
                <a:latin typeface="Arial"/>
              </a:rPr>
              <a:t>Рассмотри картинки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ff66"/>
                  </a:gs>
                  <a:gs pos="100000">
                    <a:srgbClr val="0099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ff66"/>
                    </a:gs>
                    <a:gs pos="100000">
                      <a:srgbClr val="009900"/>
                    </a:gs>
                  </a:gsLst>
                  <a:lin ang="2700000"/>
                </a:gradFill>
                <a:latin typeface="Arial"/>
              </a:rPr>
              <a:t>Дополни предложения предлогам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ff66"/>
                  </a:gs>
                  <a:gs pos="100000">
                    <a:srgbClr val="0099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Игра "Один-м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-179280" y="33577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ОКОЛЬ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2484360" y="3357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643280" y="3357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6877080" y="33577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УВА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-252360" y="6021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 КОЛОКОЛЬЧ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2771640" y="602136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 ЛЮТ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4716360" y="602136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 М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6588000" y="602136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 ОДУВАНЧ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3:32:09Z</dcterms:created>
  <dc:creator>Ирина</dc:creator>
  <dc:description/>
  <dc:language>en-US</dc:language>
  <cp:lastModifiedBy>Ира</cp:lastModifiedBy>
  <dcterms:modified xsi:type="dcterms:W3CDTF">2012-05-22T14:57:02Z</dcterms:modified>
  <cp:revision>14</cp:revision>
  <dc:subject/>
  <dc:title>Слайд 1</dc:title>
</cp:coreProperties>
</file>