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A38D-E976-4C0A-A2B4-60DAC51A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5B5-60B6-4059-B802-FC844382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188-C1E7-431E-988E-2E607D6F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7DC-76A4-4F4C-ADDD-478BA0A1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66A-21EE-40F2-B4FF-5D62A6DE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03C-B3DE-4455-BF05-5ED6D510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5725-8689-4527-B11A-CBA0E633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FAE1-686C-43AE-89B9-CD08A4C8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A763-E92E-4C0D-99A2-F9BAB769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4B0-3219-4D73-8B5C-0B6F1F42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63A-811C-446C-8309-3ED9E1F2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869A-BC87-46D0-B911-D7959054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7CE7-E629-4076-9419-C80E8073B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1720" y="999720"/>
            <a:ext cx="77724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00000"/>
                </a:solidFill>
                <a:latin typeface="Monotype Corsiva"/>
              </a:rPr>
              <a:t>Иван Андреевич Крыло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3571920" y="56437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1769 — 1844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Безымянный"/>
          <p:cNvPicPr/>
          <p:nvPr/>
        </p:nvPicPr>
        <p:blipFill>
          <a:blip r:embed="rId1"/>
          <a:stretch/>
        </p:blipFill>
        <p:spPr>
          <a:xfrm>
            <a:off x="214200" y="3214800"/>
            <a:ext cx="2962440" cy="3301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57120" y="228564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ылов Иван Андреевич, русский писатель, баснописец, журналист, родился 13 февраля 1769 г. в Москве в семье отставного офицера. Детские годы писателя прошли в Твери и на Урале. Правильного образования он так и не получил. Семья его жила очень бедно, еще подростком Крылов вынужден был поступить на службу в канцелярию земского суда на должность подканцеляриста. В 1782 г. Крылов переезжает в Петербург, где устраивается на работу мелким чиновником в Казенной палате.       Крылов занимается самообразованием, изучает литературу и математику, французский и итальянский языки. В 1777—1790 гг. молодой чиновник пробует силы на драматическом поприще. В 1809 —1843 создал более 200 басен, проникнутых демократическим духом, отличающихся сатирической остротой, ярким и метким языком. В них обличались общественные и человеческие пороки. 9 ноября  1844 в возрасте 75 лет Крылов скончался. Похоронен в Петербург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8" descr="krylov1"/>
          <p:cNvPicPr/>
          <p:nvPr/>
        </p:nvPicPr>
        <p:blipFill>
          <a:blip r:embed="rId1"/>
          <a:stretch/>
        </p:blipFill>
        <p:spPr>
          <a:xfrm>
            <a:off x="214200" y="0"/>
            <a:ext cx="1816200" cy="2270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500040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анкт-Петербурге сооружен памятник Крылову. На каждой стороне высокого постамента, на котором разместился памятник, – барельефные изображения персонажей наиболее известных басен Крылова. Памятник был сооружен на деньги, которые собрали по всей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6" descr="4.jpg"/>
          <p:cNvPicPr/>
          <p:nvPr/>
        </p:nvPicPr>
        <p:blipFill>
          <a:blip r:embed="rId1"/>
          <a:stretch/>
        </p:blipFill>
        <p:spPr>
          <a:xfrm>
            <a:off x="4572000" y="285840"/>
            <a:ext cx="3833640" cy="418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Letn_sad_po04c_www"/>
          <p:cNvPicPr/>
          <p:nvPr/>
        </p:nvPicPr>
        <p:blipFill>
          <a:blip r:embed="rId2"/>
          <a:stretch/>
        </p:blipFill>
        <p:spPr>
          <a:xfrm>
            <a:off x="571680" y="1500120"/>
            <a:ext cx="3571560" cy="2691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00040" y="3499920"/>
            <a:ext cx="8229600" cy="30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Monotype Corsiva"/>
              </a:rPr>
              <a:t>          </a:t>
            </a:r>
            <a:r>
              <a:rPr b="1" lang="en-US" sz="4800" spc="-1" strike="noStrike">
                <a:solidFill>
                  <a:srgbClr val="c00000"/>
                </a:solidFill>
                <a:latin typeface="Monotype Corsiva"/>
              </a:rPr>
              <a:t>БАС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это короткий комический рассказ в стих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или прозе с прямым моральным выводо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придающим рассказу аллегорический смыс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Главные герои: животные, растения, лю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Ольга\Рабочий стол\картинки\Крылов\3128015.jpg"/>
          <p:cNvPicPr/>
          <p:nvPr/>
        </p:nvPicPr>
        <p:blipFill>
          <a:blip r:embed="rId1"/>
          <a:stretch/>
        </p:blipFill>
        <p:spPr>
          <a:xfrm>
            <a:off x="357120" y="214200"/>
            <a:ext cx="2335320" cy="3071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басни"/>
          <p:cNvPicPr/>
          <p:nvPr/>
        </p:nvPicPr>
        <p:blipFill>
          <a:blip r:embed="rId2"/>
          <a:stretch/>
        </p:blipFill>
        <p:spPr>
          <a:xfrm>
            <a:off x="3714840" y="357120"/>
            <a:ext cx="2127240" cy="2928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Ольга\Рабочий стол\картинки\Крылов\p979825.jpg"/>
          <p:cNvPicPr/>
          <p:nvPr/>
        </p:nvPicPr>
        <p:blipFill>
          <a:blip r:embed="rId3"/>
          <a:stretch/>
        </p:blipFill>
        <p:spPr>
          <a:xfrm>
            <a:off x="6572160" y="357120"/>
            <a:ext cx="2143080" cy="29592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57120" y="285732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форизмы из басен И.А. Крылова уже при его жизни использовались его современниками наряду с пословицами и поговорками.</a:t>
            </a:r>
            <a:br>
              <a:rPr sz="3200"/>
            </a:b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.А.Крылов обогатил русский язык, русскую речь крылатыми, остроумными, образными выражениями-сравнен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Ольга\Рабочий стол\картинки\Крылов\krylov.jpg"/>
          <p:cNvPicPr/>
          <p:nvPr/>
        </p:nvPicPr>
        <p:blipFill>
          <a:blip r:embed="rId1"/>
          <a:stretch/>
        </p:blipFill>
        <p:spPr>
          <a:xfrm>
            <a:off x="285840" y="214200"/>
            <a:ext cx="2000160" cy="26672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00040" y="1357200"/>
            <a:ext cx="81439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вы, друзья, как ни садитесь,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е в музыканты не годите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а только воз и ныне там.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к под каждым ей листком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ыл готов и стол, и дом.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ртышка к старости слаба глазами ст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 радости в зобу дыханье сперло.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, совсем без драки,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гу попасть в большие забияк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«Крылатые выражен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D:\MD\Мои рисунки\boy_works.gif"/>
          <p:cNvPicPr/>
          <p:nvPr/>
        </p:nvPicPr>
        <p:blipFill>
          <a:blip r:embed="rId1"/>
          <a:stretch/>
        </p:blipFill>
        <p:spPr>
          <a:xfrm>
            <a:off x="7143840" y="4786200"/>
            <a:ext cx="158256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Monotype Corsiva"/>
              </a:rPr>
              <a:t>Слушаем басн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Ольга\Рабочий стол\картинки\Крылов\69498.jpg"/>
          <p:cNvPicPr/>
          <p:nvPr/>
        </p:nvPicPr>
        <p:blipFill>
          <a:blip r:embed="rId1"/>
          <a:stretch/>
        </p:blipFill>
        <p:spPr>
          <a:xfrm>
            <a:off x="500040" y="1571760"/>
            <a:ext cx="1928880" cy="2705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Ольга\Рабочий стол\картинки\Крылов\251314.jpg"/>
          <p:cNvPicPr/>
          <p:nvPr/>
        </p:nvPicPr>
        <p:blipFill>
          <a:blip r:embed="rId2"/>
          <a:stretch/>
        </p:blipFill>
        <p:spPr>
          <a:xfrm>
            <a:off x="3429000" y="1500120"/>
            <a:ext cx="1938240" cy="2711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Ольга\Рабочий стол\картинки\Крылов\lebed_rak_schuka1.jpg"/>
          <p:cNvPicPr/>
          <p:nvPr/>
        </p:nvPicPr>
        <p:blipFill>
          <a:blip r:embed="rId3"/>
          <a:stretch/>
        </p:blipFill>
        <p:spPr>
          <a:xfrm>
            <a:off x="1071720" y="4429080"/>
            <a:ext cx="3071520" cy="2071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Documents and Settings\Ольга\Рабочий стол\картинки\Крылов\52433.jpg"/>
          <p:cNvPicPr/>
          <p:nvPr/>
        </p:nvPicPr>
        <p:blipFill>
          <a:blip r:embed="rId4"/>
          <a:stretch/>
        </p:blipFill>
        <p:spPr>
          <a:xfrm>
            <a:off x="6286680" y="1571760"/>
            <a:ext cx="1833480" cy="2571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Documents and Settings\Ольга\Рабочий стол\картинки\Крылов\d6ad471ff08908958ef8edf40d5d4a1d.jpg"/>
          <p:cNvPicPr/>
          <p:nvPr/>
        </p:nvPicPr>
        <p:blipFill>
          <a:blip r:embed="rId5"/>
          <a:stretch/>
        </p:blipFill>
        <p:spPr>
          <a:xfrm>
            <a:off x="4929120" y="4429080"/>
            <a:ext cx="3571920" cy="207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54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42840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Ольга\Рабочий стол\картинки\блестяшки- цветочки\d0a1d0bed0bbd0bdd0b5d187d0bdd0b0d18f20d180d0b0d0b4d0bed181d182d18c.gif"/>
          <p:cNvPicPr/>
          <p:nvPr/>
        </p:nvPicPr>
        <p:blipFill>
          <a:blip r:embed="rId1"/>
          <a:stretch/>
        </p:blipFill>
        <p:spPr>
          <a:xfrm>
            <a:off x="2500200" y="1785960"/>
            <a:ext cx="3643560" cy="36561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714240" y="1357200"/>
            <a:ext cx="764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Вы молодц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9:35:58Z</dcterms:created>
  <dc:creator>Ольга</dc:creator>
  <dc:description/>
  <dc:language>en-US</dc:language>
  <cp:lastModifiedBy>Сташкова Ольга В</cp:lastModifiedBy>
  <dcterms:modified xsi:type="dcterms:W3CDTF">2014-02-12T08:50:37Z</dcterms:modified>
  <cp:revision>57</cp:revision>
  <dc:subject/>
  <dc:title>Иван Андреевич Крылов</dc:title>
</cp:coreProperties>
</file>