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3CC-3019-48D5-B9AD-FFEB1C92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C61-8EBA-467F-A1DF-6BFAC7C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B19-14D6-476D-8391-76BADC3A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210-CC17-461E-B925-AA77DC27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B29F-A98B-4B37-A88C-82BCBC9D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FA82-C1BE-4BA9-82FE-69C946ED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EDB-217C-4E82-B58F-53BBD88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792A-9FF8-4010-AC2A-A697CBE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77AC-F5A8-4F55-BCBE-FBC99C0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98EA-3CCB-4546-AB39-C711F66B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36F-6247-42A3-94FA-C28503C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AB1-D8AC-46C0-B03A-6F5AE9BF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17D7-72F3-4619-BCBA-18A9FB1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D55-BF98-4E97-8008-F371A99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04EB-4516-42D4-9C8E-C67720FF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CD1-0903-45D7-9B9A-D094886F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251E-78E5-4CC8-8C10-51A9F045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2AD-EC1F-401B-BC17-1968B0E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278-7C3D-4C5D-A093-8B65497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EE2-4BB4-448B-93EB-154BF97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BD9-EB2E-45CC-A33A-DABC626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2D7-9718-49DE-ACD8-48F5C55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544-08B1-408A-BE21-EC9922F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886-3F4A-4FFF-ABC5-8D8432C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1D0-A8BB-4656-A613-402E376B1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E0B-2C58-4EC5-A059-7DB698166A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5960" y="4267080"/>
            <a:ext cx="419076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 rot="21270600">
            <a:off x="380880" y="228240"/>
            <a:ext cx="691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ПЕРЕДИ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ОПАСНОСТЬ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ЖДЁТ!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4" name="Picture 6" descr="c7875561401791a09234025efd4c8b7f"/>
          <p:cNvPicPr/>
          <p:nvPr/>
        </p:nvPicPr>
        <p:blipFill>
          <a:blip r:embed="rId1"/>
          <a:stretch/>
        </p:blipFill>
        <p:spPr>
          <a:xfrm rot="21273000">
            <a:off x="3717720" y="2743200"/>
            <a:ext cx="5256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4356000" cy="32734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4343400" cy="3267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09" name="Oval 6"/>
          <p:cNvSpPr/>
          <p:nvPr/>
        </p:nvSpPr>
        <p:spPr>
          <a:xfrm>
            <a:off x="3429000" y="1523880"/>
            <a:ext cx="14479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7010280" y="4648320"/>
            <a:ext cx="14479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457200"/>
            <a:ext cx="73152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ли в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алились под лед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делать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28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00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4" name="Picture 8" descr="29"/>
          <p:cNvPicPr/>
          <p:nvPr/>
        </p:nvPicPr>
        <p:blipFill>
          <a:blip r:embed="rId3"/>
          <a:stretch/>
        </p:blipFill>
        <p:spPr>
          <a:xfrm>
            <a:off x="0" y="3581280"/>
            <a:ext cx="4356000" cy="3276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5" name="Picture 9" descr="30"/>
          <p:cNvPicPr/>
          <p:nvPr/>
        </p:nvPicPr>
        <p:blipFill>
          <a:blip r:embed="rId4"/>
          <a:stretch/>
        </p:blipFill>
        <p:spPr>
          <a:xfrm>
            <a:off x="4724280" y="3559320"/>
            <a:ext cx="4419720" cy="32986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6" name="Picture 10" descr="35"/>
          <p:cNvPicPr/>
          <p:nvPr/>
        </p:nvPicPr>
        <p:blipFill>
          <a:blip r:embed="rId5"/>
          <a:stretch/>
        </p:blipFill>
        <p:spPr>
          <a:xfrm>
            <a:off x="2484360" y="1844640"/>
            <a:ext cx="3960720" cy="2957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2927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6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5199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33200" y="30420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берите самый безопасный маршрут для лыжника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V="1">
            <a:off x="6858000" y="3352320"/>
            <a:ext cx="1523880" cy="838440"/>
          </a:xfrm>
          <a:prstGeom prst="line">
            <a:avLst/>
          </a:prstGeom>
          <a:ln w="190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5105520" y="2971800"/>
            <a:ext cx="609480" cy="1371600"/>
          </a:xfrm>
          <a:prstGeom prst="line">
            <a:avLst/>
          </a:prstGeom>
          <a:ln w="190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914400" y="3505320"/>
            <a:ext cx="1295280" cy="914400"/>
          </a:xfrm>
          <a:prstGeom prst="line">
            <a:avLst/>
          </a:prstGeom>
          <a:ln w="1904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685800" y="345960"/>
            <a:ext cx="7689960" cy="521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ПЕРЕДИ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ОПАСНОСТЬ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ЖДЁТ!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4" name="Picture 4" descr="c7875561401791a09234025efd4c8b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14040" y="151920"/>
            <a:ext cx="7162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когда-то был вод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 сменил вдруг облик с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теперь под 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реке мы види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рук, без топор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строен мости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кло, 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легло под стек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ьётся речка — мы леж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ёд на речке — мы беж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774920" y="1371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Ё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622640" y="3048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Ё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590520" y="4419720"/>
            <a:ext cx="2550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ЕКА ПОДО ЛЬД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318440" y="579132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Ь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52280" y="304920"/>
            <a:ext cx="87631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ИМНЯЯ Р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ЗБУКА БЕЗОПАСНОС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6" descr="74048_900"/>
          <p:cNvPicPr/>
          <p:nvPr/>
        </p:nvPicPr>
        <p:blipFill>
          <a:blip r:embed="rId1"/>
          <a:stretch/>
        </p:blipFill>
        <p:spPr>
          <a:xfrm>
            <a:off x="6019920" y="2057400"/>
            <a:ext cx="2971800" cy="204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th_a_led"/>
          <p:cNvPicPr/>
          <p:nvPr/>
        </p:nvPicPr>
        <p:blipFill>
          <a:blip r:embed="rId2"/>
          <a:stretch/>
        </p:blipFill>
        <p:spPr>
          <a:xfrm>
            <a:off x="304920" y="2209680"/>
            <a:ext cx="22860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97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123720" y="3049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ловек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ы не пингвин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Не гуляй средь льдин оди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0e7b4b01236c82e6b2352bb7978937f65c29600"/>
          <p:cNvPicPr/>
          <p:nvPr/>
        </p:nvPicPr>
        <p:blipFill>
          <a:blip r:embed="rId1"/>
          <a:stretch/>
        </p:blipFill>
        <p:spPr>
          <a:xfrm>
            <a:off x="2971800" y="2971800"/>
            <a:ext cx="3524400" cy="352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22366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4145455d9b036fd0d1695832249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80880" y="5714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е выходите на лед в одиноч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504960" y="304560"/>
            <a:ext cx="5257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 ходи зимой по льду: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жешь ты попасть в беду –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лунку или в полынью –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971800" cy="192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mage008_69"/>
          <p:cNvPicPr/>
          <p:nvPr/>
        </p:nvPicPr>
        <p:blipFill>
          <a:blip r:embed="rId2"/>
          <a:stretch/>
        </p:blipFill>
        <p:spPr>
          <a:xfrm>
            <a:off x="1981080" y="2666880"/>
            <a:ext cx="5943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EV0CrIlLj2I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908360" y="5028840"/>
            <a:ext cx="563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Под снегом могут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полынья, лун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76360" y="304560"/>
            <a:ext cx="5715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тех мест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где бьют клю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бегут к реке руч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ли где стоит завод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най, что там непрочен л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different6"/>
          <p:cNvPicPr/>
          <p:nvPr/>
        </p:nvPicPr>
        <p:blipFill>
          <a:blip r:embed="rId1"/>
          <a:stretch/>
        </p:blipFill>
        <p:spPr>
          <a:xfrm>
            <a:off x="152280" y="152280"/>
            <a:ext cx="3124440" cy="195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38057_html_m2e5f9d5d"/>
          <p:cNvPicPr/>
          <p:nvPr/>
        </p:nvPicPr>
        <p:blipFill>
          <a:blip r:embed="rId2"/>
          <a:stretch/>
        </p:blipFill>
        <p:spPr>
          <a:xfrm>
            <a:off x="1295280" y="2895480"/>
            <a:ext cx="61772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</cp:lastModifiedBy>
  <dcterms:modified xsi:type="dcterms:W3CDTF">2022-04-17T17:28:1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