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D5B1-3329-4F4A-9B5B-6C830F69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431A-53D8-4C6C-BB67-9AB4D6C8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9333-C65D-4ABF-BA8C-1E2CC9D1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CAD9-04B4-4F5D-AA4A-79462759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159B-C0E1-4B06-A8FE-A7764FD7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CA79-3903-4EFD-A8DD-199B658C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30C0-C3A5-437B-94F4-73DB5067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28F7-B85F-4E51-B081-714C135E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CFD9-600E-4F0D-AC76-4A8793E2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D6FB-EE7F-4F47-A21B-9CFC1DB2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5BFA-B284-4414-BF31-3257715E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82D7-2BED-44E0-99CF-6B5A1A56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3A89-2574-49B5-8C1E-3DBF5B11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97CD-9FE9-4231-9E86-E355A442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FE22-ECA1-4868-BA21-DD41E649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E3CC-D725-45FB-B0E1-EFF2886A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12A4-4EF2-4391-8B46-DC377659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EA00-A76F-47A7-8CF8-5FDD0EDC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971A-15FD-4354-B239-CFEC4874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0523-217E-4DCC-99CA-239A3875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B59E-5631-469E-BE57-FB821BF6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2DA0-CC06-4847-A847-219B78D7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C48E-7017-4B26-A7C8-97CBC565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5BC3-871F-4916-9A07-394B167B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F48B-02D4-4E7D-A08E-4111D48DDA9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FE01-8D33-4AC2-BA7A-A968916FF81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38280" y="2438280"/>
            <a:ext cx="786744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рфологический разбор причаст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Светлый день, отсыревший хлеб, потемневшее небо, старый замок, сырой дом, свежий огурец, темная туча, посвежевший воздух, отдохнувший путник, умывающийся ребенок, видимый берег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кажите словосочетания с причастием по его признакам: действительное, прошедшее время, совершенного вида, И.п., ед. ч., ж.р.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) прибывший поезд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) слушающая музыку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) читаемая книг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) потерянное врем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) сжатый воздух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е) остывшая земл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радательное , прошедшее время, совершенного вида, И.п., ед.ч., м.р.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освещенный дом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заходящее солнц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расколовшийся орех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) потерянное врем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) сжатый воздух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) остывшая земл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иства сорва…ая с дерева закружилась в вихре и стала подниматься кверх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рога вь…щаяся тонкой лентой по темному хвойному лесу привела к озер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бо было загроможд…о клочьями снежно-белых облак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елаем вам быть в этой жизни думающими, ликующими, занимающимися, дарующими всем тепло и радость, улыбающимися, светящимися, горящими, излучающими свет и добро, идущими вперед, знающими, читающими, любящими, не сдающимися, не унывающими перед неудачами и трудностями, вечно стремящимися к знаниям, к самоусовершенствованию, самоутверждению, самопознанию (себя и мира) – всегда и во всем ( несмотря, вопреки, невзирая!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0-28T23:56:3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