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AB448-E1AB-467C-BF94-84AE7CF08E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8CDE0-9677-42AC-B039-5A6A9FB887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1A669-8FE6-42FA-A21F-1E9A83B3C5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407FA-64F5-458A-8E73-D4928A5B65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0C045-6509-43BB-8629-CEB12AAAD5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5B849-747B-45A0-985D-FA1B9FFD31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36CB6-8B24-4533-8FD5-A30356C7D8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58551-6AED-49F8-A753-F0D2BA1E3F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09238-673D-4570-A295-2FE6ADB884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CB492-06B6-4838-9177-E4237B1B9E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02FB8-E65A-44AF-AD8E-15F0DF29E0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C24E9-D179-49BF-A895-52941D6121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5AA6-BFDA-4964-BC57-8B362FE492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D46D-4966-4A3A-93D8-BF49828A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5A3A-11B2-4485-A701-2727FABB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E702-05C3-4988-9AF7-0C4D7BB90C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62DE4-D834-4E7B-A922-E4A2DD4192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54E7C-C2A7-4A80-93F2-CBA4F43F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52678-706E-4AB2-84F2-C2DC89D4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29884-FF9B-46A5-8ED6-05B4D31F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AFABA-F6BD-4277-8A8C-27FD3103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8695E-CCE7-4A82-89A4-4FF06002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97F7A-B8DE-4885-ADDA-8EBB4547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4927-281F-49AB-B6B1-05338E28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FD373-C20C-4641-BDA5-FAF781C9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18193-E914-430C-9588-170299F8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3475B-DDA0-4707-B269-67E0142D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9B08B-7F71-4302-9B29-5A74B48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0D4D2-B2E3-4E27-BA2E-2E9CBB36E7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48D3-9EF9-47A1-BD63-80295823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9542-CDBD-49BA-8837-989959CE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2AD2-94F1-435C-95C7-FBB89F5D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3FA2-C561-4900-80BB-8300EB25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ADFE-22CE-4A6C-80A0-81BBD612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2FC0-2739-4E36-9474-5536DEB9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0F3D-0478-47E9-9DAB-DDE9CB6B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6.5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173BAD-0128-4F9F-9B5C-EA2C952FC675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6.5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2660B8-48A9-4D09-8CCA-B81ECBF72EA0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уна с земли ноч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764388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0" y="22320"/>
            <a:ext cx="900108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планеты солнечной системы вращаются вокруг Солнца по своей орбите.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сколько интересного космонавты могут увидеть в космосе! Теперь обо всем этом знаешь и ты!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42960" y="1285920"/>
            <a:ext cx="7572240" cy="49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576720"/>
            <a:ext cx="521496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 этих малышей – они с интересом смотрят в ночное небо! Там столько красивых звезд! Люди с самых давних времен любили смотреть на звезды, и им было очень интересно – какие же они на самом деле!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199120" y="428760"/>
            <a:ext cx="3716280" cy="492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0" y="3071880"/>
            <a:ext cx="521496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7200"/>
            <a:ext cx="442908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 Первый космонавт-Юрий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14200" y="2286000"/>
            <a:ext cx="4226040" cy="316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4676760" y="357120"/>
            <a:ext cx="425448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космонавт-Юрий Гагари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14200" y="285840"/>
            <a:ext cx="871560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286160" y="2000160"/>
            <a:ext cx="485784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42920" y="2714760"/>
            <a:ext cx="4734000" cy="32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5040"/>
            <a:ext cx="5500800" cy="13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однималась все выше и выше! Посмотри! Она уже выше облаков!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643280" y="1363680"/>
            <a:ext cx="4105440" cy="53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0" y="20880"/>
            <a:ext cx="3571920" cy="37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 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43040" y="3643200"/>
            <a:ext cx="4395960" cy="300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214880" y="428760"/>
            <a:ext cx="4900680" cy="30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0"/>
            <a:ext cx="428616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3960"/>
            <a:ext cx="50007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на из космоса тоже видна как шар. Луна намного меньше нашей планеты Земля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ак выглядит Луна если к ней подлететь поближ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2-04-17T06:58:45Z</dcterms:modified>
  <cp:revision>2</cp:revision>
  <dc:subject/>
  <dc:title>Презентация PowerPoint</dc:title>
</cp:coreProperties>
</file>