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5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449F45-120E-41AF-8338-18B7B63971F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B1E165-D258-4623-86BA-90D568746E8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F82138-00AC-4B5E-8DC0-BE8B9ED2E2F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AF619C-AE5B-44AB-B456-2C7067846EE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47B7C5-1078-43AE-B1C0-9A8C1BC1C3D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953D81-6D77-4FA8-85C2-2A750D1A3F6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4B8C4E-4BAB-4A85-A85E-EDAF0818099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AF0B47-BCF2-443B-989D-1620D315FD8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E15DFD-A729-4E8C-B898-7CD3842C3D7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5D06F1-EE21-441F-A851-B1AEB31F70C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051F67-5FA8-499C-9333-D86501B73F5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93F842-9B63-4E74-B962-2C0D666492C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D6497-ED4B-448B-ABA4-9AB2BE60BD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E01E0-CB7B-4D64-9B23-E22E182AF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9E95A-C3F8-434E-BCDD-3C8E7272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06D26-9CFF-46BD-B71F-C67B7BA5BF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8CF022-B032-46CA-9B0F-8805E7C264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630A17-27A5-4459-8C00-AE330CFC6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B7254C-4C7B-441D-BA95-571CD20EE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7C719C-7497-4966-9C6E-BF804B56B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952B9C-A0BA-4D1D-BF8B-9F7281E6C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29EDD3-F5B4-4BFE-898A-56F5C55AB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8D04A6-83C7-4BF3-A12A-6448A78A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C706B-9649-409A-9E78-735883625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2B0B30-A3F9-4B8E-96C9-0A62DD9F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E4F89A-8E81-48C0-9D89-AB68931A9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0E0C09-94D2-4AF2-BDE9-B5D22E5FD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08C9A4-8312-4046-84E9-1E4C2459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5B5EE0-6E96-4048-93F2-91D479A86D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8D24C-6E94-4F51-9636-F9C6DDADF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45BD3-FD76-4EDE-8E66-8D2EEBBCF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C9467-F21A-4173-ADA9-67F87AFA3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CFE83-8055-451F-991F-EC585D25C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81BA9-4E7D-4B31-8EA4-EF2642104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78065-38B4-4105-93E9-D90FADFC4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1EAC6-F44B-4A3A-A125-DEB499173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16.5.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A511F9C-A278-4167-9397-7D492D971387}" type="slidenum">
              <a: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33264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16.5.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7F33100-42F9-4F9F-B25F-65751942E1CD}" type="slidenum">
              <a: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уна с земли ночью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714240" y="1500120"/>
            <a:ext cx="7643880" cy="477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"/>
          <p:cNvSpPr/>
          <p:nvPr/>
        </p:nvSpPr>
        <p:spPr>
          <a:xfrm>
            <a:off x="0" y="22320"/>
            <a:ext cx="9001080" cy="155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се планеты солнечной системы вращаются вокруг Солнца по своей орбите. На тех планетах, которые очень близко к Солнцу – очень жарко – горячей, чем на горячей сковородке! Мы не смогли бы пробыть там и секунды! А на самых дальних планетах – которые далеко от Солнца – наоборот очень холодно, потому что солнечные лучи туда плохо долетают.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т сколько интересного космонавты могут увидеть в космосе! Теперь обо всем этом знаешь и ты!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642960" y="1285920"/>
            <a:ext cx="7572240" cy="493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0" y="576720"/>
            <a:ext cx="5214960" cy="106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и на этих малышей – они с интересом смотрят в ночное небо! Там столько красивых звезд! Люди с самых давних времен любили смотреть на звезды, и им было очень интересно – какие же они на самом деле!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5199120" y="428760"/>
            <a:ext cx="3716280" cy="4929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>
            <a:off x="0" y="3071880"/>
            <a:ext cx="5214960" cy="325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"/>
          <p:cNvSpPr/>
          <p:nvPr/>
        </p:nvSpPr>
        <p:spPr>
          <a:xfrm>
            <a:off x="0" y="7200"/>
            <a:ext cx="4429080" cy="155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от однажды они решили полететь в космос! К звездам! Для полета в космос люди построили космическую ракету. В ракету посадили космонавта – именно он должен был управлять ракетой и лететь к звездам. Первый космонавт-Юрий Гагар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214200" y="2286000"/>
            <a:ext cx="4226040" cy="3166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"/>
          <p:cNvPicPr/>
          <p:nvPr/>
        </p:nvPicPr>
        <p:blipFill>
          <a:blip r:embed="rId2"/>
          <a:stretch/>
        </p:blipFill>
        <p:spPr>
          <a:xfrm>
            <a:off x="4676760" y="357120"/>
            <a:ext cx="4254480" cy="41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й космонавт-Юрий Гагарин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"/>
          <p:cNvSpPr/>
          <p:nvPr/>
        </p:nvSpPr>
        <p:spPr>
          <a:xfrm>
            <a:off x="214200" y="285840"/>
            <a:ext cx="8715600" cy="17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о дело в том, что в космосе очень и очень холодно. Если выйти в космос без специального костюма – можно моментально замерзнуть и превратиться в ледышку. Кроме того – в космосе очень мало воздуха и обычный человек в нем не сможет дышать. Именно поэтому на космонавта, который полетел в космос, одели вот такой скафандр. Скафандр очень теплый и защищает космонавта от холода даже в космосе. Кроме того – в скафандре человек может дышать – он снабжает человека воздухом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4286160" y="2000160"/>
            <a:ext cx="4857840" cy="3886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142920" y="2714760"/>
            <a:ext cx="4734000" cy="32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"/>
          <p:cNvSpPr/>
          <p:nvPr/>
        </p:nvSpPr>
        <p:spPr>
          <a:xfrm>
            <a:off x="0" y="5040"/>
            <a:ext cx="5500800" cy="137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космонавт сел в ракету, пошел обратный отсчет: «Пять, четыре, три, два, один, ПУСК!». Ракета оторвалась от земли, из ее хвоста вырвался огонь – так сильно работал ее двигатель. И ракета полетела высоко в небо. 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поднималась все выше и выше! Посмотри! Она уже выше облаков!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4643280" y="1363680"/>
            <a:ext cx="4105440" cy="53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0" y="20880"/>
            <a:ext cx="3571920" cy="37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– наша планета Земля – мы на ней живем. Как видишь – она круглая – похожа на большой мяч. Наша планета – очень и очень большая. Поэтому мы не замечаем, что она похожа на шар. Но если подняться над землей высоко-высоко – то из космоса мы ее увидим такой, как на этой картинке. Посмотри, синие пятна на нашей планете – это вода – моря и океаны. Зеленые пятнышки – это зеленые леса и луга. Коричневые пятна – это горы. Правда она очень красивая, наша планета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1643040" y="3643200"/>
            <a:ext cx="4395960" cy="3000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2"/>
          <a:stretch/>
        </p:blipFill>
        <p:spPr>
          <a:xfrm>
            <a:off x="4214880" y="428760"/>
            <a:ext cx="4900680" cy="30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"/>
          <p:cNvSpPr/>
          <p:nvPr/>
        </p:nvSpPr>
        <p:spPr>
          <a:xfrm>
            <a:off x="0" y="0"/>
            <a:ext cx="4286160" cy="33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0" y="3960"/>
            <a:ext cx="500076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на из космоса тоже видна как шар. Луна намного меньше нашей планеты Земля.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как выглядит Луна если к ней подлететь поближе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1"/>
          <a:stretch/>
        </p:blipFill>
        <p:spPr>
          <a:xfrm>
            <a:off x="571680" y="7858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22-04-17T06:58:45Z</dcterms:modified>
  <cp:revision>2</cp:revision>
  <dc:subject/>
  <dc:title>Презентация PowerPoint</dc:title>
</cp:coreProperties>
</file>