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6.png" ContentType="image/png"/>
  <Override PartName="/ppt/media/image26.png" ContentType="image/png"/>
  <Override PartName="/ppt/media/image33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08D-CF95-44E7-ADF2-7460F1A2C7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232-93F1-485E-BDF5-8CF5D36DEA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78F-0253-48BF-8BBD-88B9574AA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D53-8D7A-4329-B37A-4771BAF6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8F1-0C9B-44CE-9D72-B9C7C51C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722-057F-4AFA-9767-54F21C2C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57E-D51F-4F95-982B-AAACFE65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798-ED62-4232-9AEE-D1D4D7F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1C7-2D9A-4F30-AAEE-B58154F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FAB-1C71-4630-A9E8-F2308842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6B9-2CB7-4BFB-AE03-EC775E8A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BF6-1E30-4B29-911D-7D51CF2B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ABB-5CE1-478C-AC31-7D139D4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ACD-75BA-421E-BCA9-234AF17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41C-C025-44F1-8FD4-395A152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7E9C-565B-4E49-A600-83E029B91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851280" y="4608360"/>
            <a:ext cx="500688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занов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95280" y="33336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щеобразовательное учреждение   школа № 4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гского района города Санкт-Петербур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1988640"/>
            <a:ext cx="8572320" cy="17859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Ориентирование на местности</a:t>
            </a:r>
            <a:br>
              <a:rPr sz="48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и выход к населенным пункт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289080" y="898560"/>
            <a:ext cx="420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ярная звезда всегда находится на север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тобы найти Полярную звезду, надо сначала найти созвезд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Медведиц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поминающее ковш, составленный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воль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рких звез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Затем через две крайние правые звезды Большой Медведицы мысленно провести линию, на котор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ложить пять р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сстояние между этими крайними звездами, и тогда в конце этой линии найд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ярную звез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ая, в свою очередь, находи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хвос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ругого созвездия, называемо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лой Медведиц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Став лицом к Полярной звезде, мы получим направление на сев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0" y="1100160"/>
            <a:ext cx="433692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31B-FBCB-4F89-B86A-9FA6FE2D58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785880"/>
          </a:xfrm>
          <a:prstGeom prst="rect">
            <a:avLst/>
          </a:prstGeom>
          <a:solidFill>
            <a:srgbClr val="99ccff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Полярной звез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8"/>
          <p:cNvSpPr/>
          <p:nvPr/>
        </p:nvSpPr>
        <p:spPr>
          <a:xfrm>
            <a:off x="304920" y="2362320"/>
            <a:ext cx="3216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следнюю четверть Лу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304920" y="1600200"/>
            <a:ext cx="316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ервую четверть Лу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3"/>
          <p:cNvSpPr/>
          <p:nvPr/>
        </p:nvSpPr>
        <p:spPr>
          <a:xfrm>
            <a:off x="3581280" y="1600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4"/>
          <p:cNvSpPr/>
          <p:nvPr/>
        </p:nvSpPr>
        <p:spPr>
          <a:xfrm>
            <a:off x="3581280" y="2362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357280" y="3000240"/>
          <a:ext cx="6400800" cy="3584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роны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ая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идна, правая половина диска Лун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олу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иден весь диск Лун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няя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идна левая половина диска Лу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ост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час (ноч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ю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час (ноч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часов (ут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зап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час (ноч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часов (ут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95"/>
          <p:cNvSpPr/>
          <p:nvPr/>
        </p:nvSpPr>
        <p:spPr>
          <a:xfrm>
            <a:off x="4419720" y="2254320"/>
            <a:ext cx="312408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час ночи - на восто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7часов утра - на ю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6"/>
          <p:cNvSpPr/>
          <p:nvPr/>
        </p:nvSpPr>
        <p:spPr>
          <a:xfrm>
            <a:off x="4419720" y="1415880"/>
            <a:ext cx="3124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 часов находится на ю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час ночи - на запа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7"/>
          <p:cNvSpPr/>
          <p:nvPr/>
        </p:nvSpPr>
        <p:spPr>
          <a:xfrm>
            <a:off x="380880" y="9144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приблизительного ориентирования нужно знать, что ле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01" descr=""/>
          <p:cNvPicPr/>
          <p:nvPr/>
        </p:nvPicPr>
        <p:blipFill>
          <a:blip r:embed="rId1"/>
          <a:stretch/>
        </p:blipFill>
        <p:spPr>
          <a:xfrm>
            <a:off x="166680" y="2895480"/>
            <a:ext cx="2119320" cy="387828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389C-B9CD-489A-9F4D-46CABA25F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429760" cy="681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Лу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638680" y="0"/>
            <a:ext cx="3481560" cy="5638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52280" y="88596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бывает или убывает), то нуж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2920" y="6140520"/>
            <a:ext cx="7643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полнолу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чью стороны горизонта определяются так же, как по Солнцу и часам, причем Луна принимается за Солн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52280" y="1330200"/>
            <a:ext cx="519768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ить на глаз радиус диска Луны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на шесть равных частей, определить, сколько таких частей содержится в поперечнике видимого серпа Луны, и заметить по часам врем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з этого времен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ычес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если Луна прибывает)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или прибави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(если Луна убывает) столько частей, сколько содержится в поперечнике видимого серпа Луны. Полученная сумма или разность покажет час, когда в том направлении, где находится Луна, будет находиться Солнце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аправить на Луну то место на циферблат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которое соответствует полученному после сложения или вычитания времени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угла между направлением на Луну и на час (по зимнему времени) или на два часа (по летнему времени) покажет направление на юг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983280" y="1676520"/>
            <a:ext cx="1015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таре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8154360" y="1676520"/>
            <a:ext cx="864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Р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аст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1D6-2DD2-463B-ACF9-3F44E7109E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5214960" cy="6811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Луна непол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80880" y="1523880"/>
            <a:ext cx="3505320" cy="1557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день направление тени (она будет самая короткая) указывает на сев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3565440"/>
            <a:ext cx="8610480" cy="31431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Не дожидаясь самой короткой тени можно ориентироваться следующим способом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Воткните в землю палку около 1 метра дли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Отметьте конец т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Подождите 10-15 минут и повторите процеду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Проведите линию от первой позиции тени до второй и продлите на шаг дальше второй отмет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Станьте носком левой ноги напротив первой отметки, а правой - в конце линии, которую вы начертили. Сейчас вы стоите лицом на сев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52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6781680" y="4038480"/>
            <a:ext cx="1486080" cy="1319400"/>
          </a:xfrm>
          <a:prstGeom prst="rect">
            <a:avLst/>
          </a:prstGeom>
          <a:ln w="0">
            <a:noFill/>
          </a:ln>
        </p:spPr>
      </p:pic>
      <p:sp>
        <p:nvSpPr>
          <p:cNvPr id="161" name="Номер слайда 7"/>
          <p:cNvSpPr/>
          <p:nvPr/>
        </p:nvSpPr>
        <p:spPr>
          <a:xfrm>
            <a:off x="655308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1741-2550-44D6-BAE0-8A6CE950D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3786120" cy="928800"/>
          </a:xfrm>
          <a:prstGeom prst="rect">
            <a:avLst/>
          </a:prstGeom>
          <a:solidFill>
            <a:srgbClr val="9966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По те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" y="1077840"/>
            <a:ext cx="87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водится в сочетании с другими способами. В основе его лежит знание следующих призна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142920" y="1681200"/>
            <a:ext cx="67276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6929280" y="2643120"/>
            <a:ext cx="2073600" cy="3501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ение сторон горизонта по различным местным признакам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енее надеж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чем по небесным светилам. Поэтому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ьзоваться ими над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осторож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веряя результаты разными способа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Этих способов ориентирования очень мно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"/>
          <p:cNvPicPr/>
          <p:nvPr/>
        </p:nvPicPr>
        <p:blipFill>
          <a:blip r:embed="rId2"/>
          <a:stretch/>
        </p:blipFill>
        <p:spPr>
          <a:xfrm>
            <a:off x="7358040" y="149076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67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393-DB75-4295-9AC3-EF7A8F802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786880" cy="1000440"/>
          </a:xfrm>
          <a:prstGeom prst="rect">
            <a:avLst/>
          </a:prstGeom>
          <a:solidFill>
            <a:srgbClr val="ffff66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сторон горизонта по местным предме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492360" y="563400"/>
            <a:ext cx="51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мотря на то, ч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адки некоторых насекомых и животных служат признаками для определения сторон горизон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десь требуется более осторожный под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ем при ориентировании по растения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smile2"/>
          <p:cNvPicPr/>
          <p:nvPr/>
        </p:nvPicPr>
        <p:blipFill>
          <a:blip r:embed="rId1"/>
          <a:stretch/>
        </p:blipFill>
        <p:spPr>
          <a:xfrm>
            <a:off x="428760" y="3800520"/>
            <a:ext cx="2857320" cy="162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8b9a1fdf0e8512298ae2b96836e676da"/>
          <p:cNvPicPr/>
          <p:nvPr/>
        </p:nvPicPr>
        <p:blipFill>
          <a:blip r:embed="rId2"/>
          <a:stretch/>
        </p:blipFill>
        <p:spPr>
          <a:xfrm>
            <a:off x="3132000" y="5013360"/>
            <a:ext cx="2867040" cy="1562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9"/>
          <p:cNvPicPr/>
          <p:nvPr/>
        </p:nvPicPr>
        <p:blipFill>
          <a:blip r:embed="rId3"/>
          <a:stretch/>
        </p:blipFill>
        <p:spPr>
          <a:xfrm>
            <a:off x="6572160" y="4191120"/>
            <a:ext cx="1121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1042920" y="1781280"/>
            <a:ext cx="1719360" cy="171900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A0BE-1F94-4BF0-95FD-F09969517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3357360" cy="150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удьте осторож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4716360" y="115920"/>
            <a:ext cx="4132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солну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же отличный помощник при ориентировании. Дело в том, что это теплолюбивое растение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го шляпки при цветении всегда повернуты в одном направлении — к солнц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6—7 ча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тра шляпки всегда обращены на восход солнца — к восто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2 ча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я — строго на ю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о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 18 до 21 ча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закат солнца — к запа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цикл повторяется и в пасмурную погоду.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Все это относится только к маленьким бутонам (завязям шляпок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спустившиеся, а тем более уже созревшие шляпки подсолнечника находятся примерно в одном положении — на восток или юго-вост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C83F-BF3A-4649-A856-89AF3F664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4000320" cy="785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Подсолн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C65-0A7D-4C71-A15F-676DD249E4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57120" y="521496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, в каком направлении от нашей школы находятся почта, универсам Невский, станции метро проспект Большевиков и улица Дыбен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5214960" y="1214280"/>
            <a:ext cx="350676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285840" y="1285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 каком направлении двигалась группа туристов, если Полярную звезду они видели справа от себ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857760" y="371484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 каком направлении течет река Оккервил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Рисунок 7" descr="1.gif"/>
          <p:cNvPicPr/>
          <p:nvPr/>
        </p:nvPicPr>
        <p:blipFill>
          <a:blip r:embed="rId2"/>
          <a:stretch/>
        </p:blipFill>
        <p:spPr>
          <a:xfrm>
            <a:off x="428760" y="2571840"/>
            <a:ext cx="3286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24000" y="3689280"/>
            <a:ext cx="849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ольших массивах культурного леса определить стороны горизонта можно по просе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, как правило,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прорубаются строго по линиям север-юг и восток-запа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надписям номеров кварталов на столб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установленных на пересечениях просек. На каждом таком столбе в верхней его части и на каждой из четырех граней проставляются цифры - нумерация противолежащих кварталов леса;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ребро между двумя гранями с наименьшими цифрами показывает направление на севе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мера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рт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НГ идет с запада на восток и далее на ю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6156360" y="1025640"/>
            <a:ext cx="2879640" cy="2332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5881680" cy="280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4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Номер слайда 7"/>
          <p:cNvSpPr/>
          <p:nvPr/>
        </p:nvSpPr>
        <p:spPr>
          <a:xfrm>
            <a:off x="8001000" y="6248520"/>
            <a:ext cx="457200" cy="45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149D-7492-4A49-90F8-24F78B5E6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115920"/>
            <a:ext cx="7772400" cy="714240"/>
          </a:xfrm>
          <a:prstGeom prst="rect">
            <a:avLst/>
          </a:prstGeom>
          <a:solidFill>
            <a:srgbClr val="ffff66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 просек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28600" y="1143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иентироваться на мес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значи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ь свое местополо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направления на стороны горизон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окружающих местных предметов и форм рельеф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йти указанное направление движения и точно выдержать его в пу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572000" y="2786040"/>
            <a:ext cx="4495680" cy="3381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28600" y="3124080"/>
            <a:ext cx="42670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ность ориентирования составляют три элемен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760" y="4003560"/>
            <a:ext cx="4282920" cy="2533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ознание местности, на которой мы находим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известным ее признакам и местным предметам: определение своего местополож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ыскание направления движения на данной мест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83D-D81F-4D57-A811-B5A0E163F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1447560" cy="97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201680" cy="1600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9"/>
          <p:cNvSpPr/>
          <p:nvPr/>
        </p:nvSpPr>
        <p:spPr>
          <a:xfrm>
            <a:off x="3426840" y="1203480"/>
            <a:ext cx="165384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олнц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2" descr=""/>
          <p:cNvPicPr/>
          <p:nvPr/>
        </p:nvPicPr>
        <p:blipFill>
          <a:blip r:embed="rId3"/>
          <a:stretch/>
        </p:blipFill>
        <p:spPr>
          <a:xfrm>
            <a:off x="6553080" y="990720"/>
            <a:ext cx="1263600" cy="1295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3"/>
          <p:cNvSpPr/>
          <p:nvPr/>
        </p:nvSpPr>
        <p:spPr>
          <a:xfrm>
            <a:off x="6553080" y="2057400"/>
            <a:ext cx="19051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лярной звез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4"/>
          <a:stretch/>
        </p:blipFill>
        <p:spPr>
          <a:xfrm>
            <a:off x="1714680" y="1617840"/>
            <a:ext cx="148572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5"/>
          <a:stretch/>
        </p:blipFill>
        <p:spPr>
          <a:xfrm>
            <a:off x="304920" y="51814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7"/>
          <p:cNvSpPr/>
          <p:nvPr/>
        </p:nvSpPr>
        <p:spPr>
          <a:xfrm>
            <a:off x="529920" y="5410080"/>
            <a:ext cx="132624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8" descr=""/>
          <p:cNvPicPr/>
          <p:nvPr/>
        </p:nvPicPr>
        <p:blipFill>
          <a:blip r:embed="rId6"/>
          <a:stretch/>
        </p:blipFill>
        <p:spPr>
          <a:xfrm>
            <a:off x="3886200" y="43434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9"/>
          <p:cNvSpPr/>
          <p:nvPr/>
        </p:nvSpPr>
        <p:spPr>
          <a:xfrm>
            <a:off x="3886200" y="5715000"/>
            <a:ext cx="19051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аянию сне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"/>
          <p:cNvPicPr/>
          <p:nvPr/>
        </p:nvPicPr>
        <p:blipFill>
          <a:blip r:embed="rId7"/>
          <a:stretch/>
        </p:blipFill>
        <p:spPr>
          <a:xfrm>
            <a:off x="304920" y="3200400"/>
            <a:ext cx="2933640" cy="1936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1"/>
          <p:cNvSpPr/>
          <p:nvPr/>
        </p:nvSpPr>
        <p:spPr>
          <a:xfrm>
            <a:off x="2362320" y="4800600"/>
            <a:ext cx="137160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Луне и ча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"/>
          <p:cNvPicPr/>
          <p:nvPr/>
        </p:nvPicPr>
        <p:blipFill>
          <a:blip r:embed="rId8"/>
          <a:stretch/>
        </p:blipFill>
        <p:spPr>
          <a:xfrm>
            <a:off x="152280" y="1066680"/>
            <a:ext cx="1676520" cy="160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"/>
          <p:cNvPicPr/>
          <p:nvPr/>
        </p:nvPicPr>
        <p:blipFill>
          <a:blip r:embed="rId9"/>
          <a:stretch/>
        </p:blipFill>
        <p:spPr>
          <a:xfrm>
            <a:off x="152280" y="2895480"/>
            <a:ext cx="1295640" cy="987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4"/>
          <p:cNvSpPr/>
          <p:nvPr/>
        </p:nvSpPr>
        <p:spPr>
          <a:xfrm>
            <a:off x="452520" y="1066680"/>
            <a:ext cx="141912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 ка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1671120" y="1523880"/>
            <a:ext cx="173340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омпас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4572000" y="1676520"/>
            <a:ext cx="182880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олнцу и ча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224640" y="2819520"/>
            <a:ext cx="137952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Лу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8" descr=""/>
          <p:cNvPicPr/>
          <p:nvPr/>
        </p:nvPicPr>
        <p:blipFill>
          <a:blip r:embed="rId10"/>
          <a:stretch/>
        </p:blipFill>
        <p:spPr>
          <a:xfrm>
            <a:off x="5943600" y="3833640"/>
            <a:ext cx="146700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11"/>
          <a:stretch/>
        </p:blipFill>
        <p:spPr>
          <a:xfrm>
            <a:off x="7508880" y="4429080"/>
            <a:ext cx="1349280" cy="1676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1"/>
          <p:cNvSpPr/>
          <p:nvPr/>
        </p:nvSpPr>
        <p:spPr>
          <a:xfrm>
            <a:off x="5943240" y="6072120"/>
            <a:ext cx="18982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строй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2" descr=""/>
          <p:cNvPicPr/>
          <p:nvPr/>
        </p:nvPicPr>
        <p:blipFill>
          <a:blip r:embed="rId12"/>
          <a:stretch/>
        </p:blipFill>
        <p:spPr>
          <a:xfrm>
            <a:off x="7010280" y="30002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3"/>
          <p:cNvSpPr/>
          <p:nvPr/>
        </p:nvSpPr>
        <p:spPr>
          <a:xfrm>
            <a:off x="4419720" y="3429000"/>
            <a:ext cx="297180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стным предмет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зна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омер слайда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842A-0637-4374-9B59-67BE84C60D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86880" cy="714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ориентирования на мест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28600" y="133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ориентироваться по карте на местности, надо прежде всего сориентировать карту и определить точку своего стоя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785880" y="4572000"/>
            <a:ext cx="714384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228600" y="2651040"/>
            <a:ext cx="855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иентирование карты по линиям местност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случае необходимо выйти на дорогу (просеку, берег реки или другую линию), отыскать ее на карте и затем поворачивать карту до тех пор, пока направление дороги (линии) на карте не совпадет с направлением дороги (линии) на местности, затем проверить, чтобы предметы, расположенные справа и слева от дороги (линии), на местности находились с тех же сторон, что и на ка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8A5-572F-4F5D-BC5F-C44563FA65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4357800" cy="1143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иентирование по кар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928880" y="5002200"/>
            <a:ext cx="694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асом нельзя пользова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близи железных предметов, боевой техники и линий электропередачи, так как они вызывают отклонение магнитной стрел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85840" y="5033880"/>
            <a:ext cx="1681200" cy="168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700360" cy="1933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28600" y="846000"/>
            <a:ext cx="598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ется преимущественно на местности, затруднительной для ориентирования (в лесу, в пустыне, в тундре), а также при плохой видимости. В этих условиях компасом определяют направление на север, а затем карту поворачивают (направляют) верхней стороной рамки в сторону севера так, чтобы вертикальная линия координатной сетки карты совпадала с продольной осью магнитной стрелки компа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2740-8130-48F5-8538-C4735ED0D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6000840" cy="71460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иентирование карты по компас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4191120"/>
            <a:ext cx="634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еве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– С (норд –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юг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– Ю (зюйд Z)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ли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апад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– З (вест – W)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осток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– В (ост – О) или EST – 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28954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ают 4 основные стороны горизонта, их обозначают начальными буквами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578628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В скобках даны морские названия сторон горизонта, которые попали в Россию благодаря Петру I из Голландии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105520" y="26449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365040" y="901800"/>
            <a:ext cx="847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и сторон горизо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правлений на север, восток, юг, запад)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его местонахо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мест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назначе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ыбранных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иенти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я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ограниченной террито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553-EA8E-405F-98EE-104932F05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714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иентирование без кар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285840" y="71424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заимосвязаны между соб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и, если известно хотя бы одно из них, можно определить остальные. В противоположном направлении по отношению к северу будет юг, справа-восток, а слева - запа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3124080" y="1785960"/>
            <a:ext cx="5775480" cy="3822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3809880" y="571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ное положение сторон гориз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2920" y="5357880"/>
            <a:ext cx="3643200" cy="13136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стороны горизонта можно магнитным компасом - стрелка темным (синим) концом показывает на сев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752400" y="2181240"/>
            <a:ext cx="2247840" cy="2247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430280" y="1900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49240" y="4329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20" y="3043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918880" y="31147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 rot="2069400">
            <a:off x="8640" y="4246200"/>
            <a:ext cx="253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север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– С (норд –N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юг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– Ю (зюйд Z)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или 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запад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– З (вест – W)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восток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– В (ост – О) или EST – Е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75D6-45C2-4306-BC1B-0DBBEBB9BE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880" y="71280"/>
            <a:ext cx="8415360" cy="57168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на стороны горизон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04920" y="3139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верном полушарии места восхода и захода Солнца по временам года следующе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3951360"/>
          <a:ext cx="8001000" cy="18399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це восхо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це захо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юго-вост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юго-зап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северо-вост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северо-зап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ной \ Осен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ост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зап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54"/>
          <p:cNvSpPr/>
          <p:nvPr/>
        </p:nvSpPr>
        <p:spPr>
          <a:xfrm>
            <a:off x="304920" y="585144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более точного определения сторон горизонта по Солнцу используются наручные ча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2"/>
          <p:cNvSpPr/>
          <p:nvPr/>
        </p:nvSpPr>
        <p:spPr>
          <a:xfrm>
            <a:off x="6324480" y="1219320"/>
            <a:ext cx="2667240" cy="1618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ожно рассчитать и промежуточное положение солнца по отношению к сторонам горизо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1371600"/>
          <a:ext cx="6019920" cy="132084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7 часов у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ост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 час дня (13.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лизительно на ю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7 часов вечера (19.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зап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77" descr=""/>
          <p:cNvPicPr/>
          <p:nvPr/>
        </p:nvPicPr>
        <p:blipFill>
          <a:blip r:embed="rId1"/>
          <a:stretch/>
        </p:blipFill>
        <p:spPr>
          <a:xfrm>
            <a:off x="6329520" y="304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8"/>
          <p:cNvSpPr/>
          <p:nvPr/>
        </p:nvSpPr>
        <p:spPr>
          <a:xfrm>
            <a:off x="304920" y="914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редних широтах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лет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л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136440" y="2666880"/>
            <a:ext cx="634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Times New Roman"/>
              </a:rPr>
              <a:t>зимнее врем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лнце в 10 часов утра находится на юго-востоке, в 16 часов дня на юго-западе, а в 22 часа на северо-запад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311720" y="138240"/>
            <a:ext cx="2189160" cy="8240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 ночи солнца уже не видно, поэтому ориентиром служит наиболее освещенная часть горизо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омер слайда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A880-1985-41F7-837F-9B0072675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3143160" cy="78588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Солн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1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462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465440" cy="2981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5791320" y="4343400"/>
            <a:ext cx="306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торон горизонта по Солнцу и ча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до 13 час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после 13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04920" y="152388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ть лицом к Солн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ь ча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ить часовую стрелку на солн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между часовой стрелкой и цифрой "1" по зимнему времени или на "2" по летнему времени (только для территории СНГ) на циферблате нужно разделить попо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ная линия и будет направлением «север – юг». При эт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гда в той стороне, где солнце было или будет в середине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2"/>
          <a:stretch/>
        </p:blipFill>
        <p:spPr>
          <a:xfrm>
            <a:off x="6172200" y="0"/>
            <a:ext cx="1447920" cy="1379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231120" y="990720"/>
            <a:ext cx="22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на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B1E-CA90-4756-ACF1-B3012667E7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840" y="71280"/>
            <a:ext cx="5715000" cy="928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Солнцу и час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хоренко О.В., Махоренко В.В.</dc:creator>
  <dc:description/>
  <dc:language>en-US</dc:language>
  <cp:lastModifiedBy>RePack by Diakov</cp:lastModifiedBy>
  <dcterms:modified xsi:type="dcterms:W3CDTF">2022-04-17T16:44:21Z</dcterms:modified>
  <cp:revision>256</cp:revision>
  <dc:subject>Ориентирование на местности и выход к населенным пунктам</dc:subject>
  <dc:title>PowerPoint Presentation</dc:title>
</cp:coreProperties>
</file>