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8C4-3A1C-4895-B574-C9E9DAC7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7A0-EA03-4198-8D5F-86D2435E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4BF-C2FC-4BE9-9CB7-004A32DD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5DA-6770-4815-A65B-EF63A518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A2A-B2A1-4C9C-A82D-A9EF0E37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682-793D-4803-8A56-9D46C6B2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F00-EF59-4F53-A238-E2AC962A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829-1E1E-40DA-B22B-1E5CE47C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0FF-CF81-4712-A7E9-B74367C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644-3315-47D9-A848-4634226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231-6C1E-4AC1-8465-6F158913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ACF-3B67-4717-A64A-0B5763DE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9ef5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9e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ef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da9e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ef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da9e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ef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da9e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ef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da9ef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ef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da9ef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ef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da9ef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ef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4bdf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bdf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4bdf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1CBA-0944-4868-8FCE-368511FCCB74}" type="slidenum">
              <a:rPr b="0" lang="ru-RU" sz="1200" spc="-1" strike="noStrike">
                <a:solidFill>
                  <a:srgbClr val="e4bdf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86080" y="4143240"/>
            <a:ext cx="5400720" cy="221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56800"/>
            <a:ext cx="8229600" cy="307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ПРИМЕНЕНИЕ ТЕХНОЛОГИИ ПРОЕКТНОГО ОБУЧЕНИЯ НА УРОКЕ РУССКОГО ЯЗЫКА </a:t>
            </a: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В 7 КЛАССЕ</a:t>
            </a: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Повторение и систематизация </a:t>
            </a: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знаний по теме "Причастие".</a:t>
            </a: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43" name="Picture 1" descr="D:\Documents and Settings\Учитель\Рабочий стол\Мои рисунки\школа\bells[1].gif"/>
          <p:cNvPicPr/>
          <p:nvPr/>
        </p:nvPicPr>
        <p:blipFill>
          <a:blip r:embed="rId1"/>
          <a:stretch/>
        </p:blipFill>
        <p:spPr>
          <a:xfrm>
            <a:off x="0" y="3213000"/>
            <a:ext cx="3859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91" name="Содержимое 4" descr=""/>
          <p:cNvPicPr/>
          <p:nvPr/>
        </p:nvPicPr>
        <p:blipFill>
          <a:blip r:embed="rId1"/>
          <a:stretch/>
        </p:blipFill>
        <p:spPr>
          <a:xfrm>
            <a:off x="444600" y="847800"/>
            <a:ext cx="79977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Documents and Settings\Учитель\Рабочий стол\Мои рисунки\clock7.gif"/>
          <p:cNvPicPr/>
          <p:nvPr/>
        </p:nvPicPr>
        <p:blipFill>
          <a:blip r:embed="rId2"/>
          <a:stretch/>
        </p:blipFill>
        <p:spPr>
          <a:xfrm>
            <a:off x="3498840" y="0"/>
            <a:ext cx="2090880" cy="1427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928800" y="142884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де </a:t>
            </a:r>
            <a:endParaRPr b="0" lang="en-US" sz="2800" spc="-1" strike="noStrike">
              <a:solidFill>
                <a:srgbClr val="da9ef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13b7"/>
                </a:solidFill>
                <a:latin typeface="Century Gothic"/>
              </a:rPr>
              <a:t>н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2857680" y="142884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де </a:t>
            </a:r>
            <a:r>
              <a:rPr b="1" lang="ru-RU" sz="2800" spc="-1" strike="noStrike">
                <a:solidFill>
                  <a:srgbClr val="8413b7"/>
                </a:solidFill>
                <a:latin typeface="Century Gothic"/>
              </a:rPr>
              <a:t>нн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4929120" y="1357200"/>
            <a:ext cx="114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13b7"/>
                </a:solidFill>
                <a:latin typeface="Century Gothic"/>
              </a:rPr>
              <a:t>Не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- слитно?</a:t>
            </a:r>
            <a:endParaRPr b="0" lang="en-US" sz="2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6500880" y="1357200"/>
            <a:ext cx="185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13b7"/>
                </a:solidFill>
                <a:latin typeface="Century Gothic"/>
              </a:rPr>
              <a:t>Не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-раздельно?</a:t>
            </a:r>
            <a:endParaRPr b="0" lang="en-US" sz="2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642960" y="3368160"/>
            <a:ext cx="1785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1Собран(нн)ый урожай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Кошен(нн)ый по росе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3.Мочён(нн)ое яблоко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4Поляна освещен(нн)ая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2643120" y="3439440"/>
            <a:ext cx="1785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1.Ломан(нн)ые прутья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Книга прочитан(нн)а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3Просеян(нн)ая мука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4.Вязан(нн)ая кофта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0" y="3127680"/>
            <a:ext cx="1714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1.(Не)улетающие синицы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(Не)улетающие осенью птицы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3.Деревья (не)посажены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4.Никем(не) замеченные следы</a:t>
            </a:r>
            <a:r>
              <a:rPr b="0" lang="ru-RU" sz="1400" spc="-1" strike="noStrike">
                <a:solidFill>
                  <a:srgbClr val="da9ef5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da9ef5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500880" y="3197880"/>
            <a:ext cx="17859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1.(Не)доумевающий взгляд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 (Не)кошеная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садовником трава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3.(не)кипячёная вода.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4.(Не)навидящий ложь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da9ef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Documents and Settings\Учитель\Рабочий стол\Мои рисунки\clock7.gif"/>
          <p:cNvPicPr/>
          <p:nvPr/>
        </p:nvPicPr>
        <p:blipFill>
          <a:blip r:embed="rId1"/>
          <a:stretch/>
        </p:blipFill>
        <p:spPr>
          <a:xfrm>
            <a:off x="285840" y="285840"/>
            <a:ext cx="2927160" cy="2000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28560" y="274680"/>
            <a:ext cx="625788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entury Gothic"/>
              </a:rPr>
              <a:t>Задание 3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 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Озаглавьте статью, вставьте пропущен­ные буквы, раскройте скобки, расставьте недостающие знаки препинания, допиши­те несколько предложений, ответив на вопросы: Какие вы знаете весенние цветы? (нарциссы, ландыши, анютины глазки) Какие цветы издают аромат? Какие цветы вы любите больше всего? Почему? К какому стилю относится данный текст? Назовите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тип речи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Какие изобразительные средства представлены в данном отрывке?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Поместите фотографию или рисунок.</a:t>
            </a:r>
            <a:br>
              <a:rPr sz="1400"/>
            </a:br>
            <a:endParaRPr b="0" lang="en-US" sz="1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714400"/>
            <a:ext cx="8229600" cy="378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a9ef5"/>
                </a:solidFill>
                <a:latin typeface="Century Gothic"/>
              </a:rPr>
              <a:t> </a:t>
            </a:r>
            <a:endParaRPr b="0" lang="en-US" sz="25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a9ef5"/>
                </a:solidFill>
                <a:latin typeface="Century Gothic"/>
              </a:rPr>
              <a:t>    </a:t>
            </a:r>
            <a:r>
              <a:rPr b="1" lang="ru-RU" sz="2500" spc="-1" strike="noStrike">
                <a:solidFill>
                  <a:srgbClr val="0070c0"/>
                </a:solidFill>
                <a:latin typeface="Century Gothic"/>
              </a:rPr>
              <a:t>Знаете ли вы цветы появляюшиеся в лесу ран(нн)ей весной? Вот на открытой п…лянке цветёт гусин(нн)ый лук. Хорошо видны среди кустарников нежно-лиловые цветы- хохлатки.</a:t>
            </a:r>
            <a:endParaRPr b="0" lang="en-US" sz="25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entury Gothic"/>
              </a:rPr>
              <a:t>     </a:t>
            </a:r>
            <a:r>
              <a:rPr b="1" lang="ru-RU" sz="2500" spc="-1" strike="noStrike">
                <a:solidFill>
                  <a:srgbClr val="0070c0"/>
                </a:solidFill>
                <a:latin typeface="Century Gothic"/>
              </a:rPr>
              <a:t>Возле ручья р…стёт никем (не)замеч…нная целая семья ж…лтых цветов мать-и-мачехи.</a:t>
            </a:r>
            <a:endParaRPr b="0" lang="en-US" sz="25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entury Gothic"/>
              </a:rPr>
              <a:t>    </a:t>
            </a:r>
            <a:r>
              <a:rPr b="1" lang="ru-RU" sz="2500" spc="-1" strike="noStrike">
                <a:solidFill>
                  <a:srgbClr val="0070c0"/>
                </a:solidFill>
                <a:latin typeface="Century Gothic"/>
              </a:rPr>
              <a:t>Под сводами д…ревьев струит(ть)ся чудес…ный аромат- это цветёт белый душ…стый колокольчик-ландыш.</a:t>
            </a:r>
            <a:endParaRPr b="0" lang="en-US" sz="25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da9ef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a9ef5"/>
                </a:solidFill>
                <a:latin typeface="Century Gothic"/>
              </a:rPr>
              <a:t>          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Century Gothic"/>
              </a:rPr>
              <a:t>Задание 4 </a:t>
            </a:r>
            <a:br>
              <a:rPr sz="4000"/>
            </a:br>
            <a:endParaRPr b="0" lang="en-US" sz="40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a9ef5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0070c0"/>
                </a:solidFill>
                <a:latin typeface="Century Gothic"/>
              </a:rPr>
              <a:t>Поместите в газету интервью журналиста на тему: "Нужно ли соблюдать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entury Gothic"/>
              </a:rPr>
              <a:t>произносительную норму в речи?" (Не забудьте, речь должна идти о причастиях.)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106" name="Picture 2" descr="D:\Documents and Settings\Учитель\Рабочий стол\Мои рисунки\clock7.gif"/>
          <p:cNvPicPr/>
          <p:nvPr/>
        </p:nvPicPr>
        <p:blipFill>
          <a:blip r:embed="rId1"/>
          <a:stretch/>
        </p:blipFill>
        <p:spPr>
          <a:xfrm>
            <a:off x="712800" y="285840"/>
            <a:ext cx="25002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53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Gothic"/>
              </a:rPr>
              <a:t>Задание 5</a:t>
            </a:r>
            <a:br>
              <a:rPr sz="4000"/>
            </a:br>
            <a:endParaRPr b="0" lang="en-US" sz="40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400" y="1285920"/>
            <a:ext cx="8258040" cy="521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Ребята, вам пришло письмо.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Дорогие друзья! Здравствуйте! Пишет  вам 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Вася  Шустрик. Помогите, я   забыл   некоторые правила  образования  причастий.   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Искренне  благодарю   за помощь.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                                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Вася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Замените выделенные слова причастиями. 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1. Увидел я кудрявый лес,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entury Gothic"/>
              </a:rPr>
              <a:t>который дышал </a:t>
            </a: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весенней прохладой. 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2. Ландыши,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Century Gothic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entury Gothic"/>
              </a:rPr>
              <a:t>которые уже распустились</a:t>
            </a: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, издавали тонкий, нежный аромат весны. 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3. Впереди нас были темно-синие вершины гор,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entury Gothic"/>
              </a:rPr>
              <a:t>которые покрылись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  снегом. 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4. Около купальни,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entury Gothic"/>
              </a:rPr>
              <a:t>которая строилась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под зелёными ветвями ивняка, барахтался в воде плотник Герасим.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109" name="Picture 2" descr="D:\Documents and Settings\Учитель\Рабочий стол\Мои рисунки\clock7.gif"/>
          <p:cNvPicPr/>
          <p:nvPr/>
        </p:nvPicPr>
        <p:blipFill>
          <a:blip r:embed="rId1"/>
          <a:stretch/>
        </p:blipFill>
        <p:spPr>
          <a:xfrm>
            <a:off x="6145200" y="285840"/>
            <a:ext cx="249876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1866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Gothic"/>
              </a:rPr>
              <a:t>Восстановите стихотворение Н.А.Некрасова « Железная дорога»</a:t>
            </a:r>
            <a:br>
              <a:rPr sz="2700"/>
            </a:br>
            <a:r>
              <a:rPr b="0" lang="ru-RU" sz="4400" spc="-1" strike="noStrike">
                <a:solidFill>
                  <a:srgbClr val="da9ef5"/>
                </a:solidFill>
                <a:latin typeface="Century Gothic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9ef5"/>
                </a:solidFill>
                <a:latin typeface="Century Gothic"/>
              </a:rPr>
              <a:t>	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         </a:t>
            </a: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Славная осень! Здоровый, ядреный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         </a:t>
            </a: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Воздух усталые силы бодрит;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         </a:t>
            </a: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Лёд……..на речке студеной,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         </a:t>
            </a: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Словно как ……. сахар лежит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 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         </a:t>
            </a: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Около леса, как в мягкой постели,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         </a:t>
            </a: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Выспаться можно – покой и простор! – 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         </a:t>
            </a: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Листья поблекнуть еще не успели,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         </a:t>
            </a:r>
            <a:r>
              <a:rPr b="1" lang="ru-RU" sz="2700" spc="-1" strike="noStrike">
                <a:solidFill>
                  <a:srgbClr val="0070c0"/>
                </a:solidFill>
                <a:latin typeface="Century Gothic"/>
              </a:rPr>
              <a:t>Желты и свежи лежат как ковер...</a:t>
            </a: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112" name="Picture 2" descr="D:\Documents and Settings\Учитель\Рабочий стол\Мои рисунки\clock7.gif"/>
          <p:cNvPicPr/>
          <p:nvPr/>
        </p:nvPicPr>
        <p:blipFill>
          <a:blip r:embed="rId1"/>
          <a:stretch/>
        </p:blipFill>
        <p:spPr>
          <a:xfrm>
            <a:off x="6357960" y="285840"/>
            <a:ext cx="25002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Gothic"/>
              </a:rPr>
              <a:t>Задание7</a:t>
            </a:r>
            <a:br>
              <a:rPr sz="4000"/>
            </a:br>
            <a:endParaRPr b="0" lang="en-US" sz="40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a9ef5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Gothic"/>
              </a:rPr>
              <a:t>Ребята, дома вы должны были написать сочинение на одну из предложенных тем: "Веселый случай на уроке", "Мой друг",  "Любимый уголок".</a:t>
            </a: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Gothic"/>
              </a:rPr>
              <a:t>Для придания образности речи необходимо было использовать причастия</a:t>
            </a: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Gothic"/>
              </a:rPr>
              <a:t>Лучшее сочинение поместите в газету.</a:t>
            </a: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115" name="Picture 2" descr="D:\Documents and Settings\Учитель\Рабочий стол\Мои рисунки\clock7.gif"/>
          <p:cNvPicPr/>
          <p:nvPr/>
        </p:nvPicPr>
        <p:blipFill>
          <a:blip r:embed="rId1"/>
          <a:stretch/>
        </p:blipFill>
        <p:spPr>
          <a:xfrm>
            <a:off x="6145200" y="285840"/>
            <a:ext cx="249876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Gothic"/>
              </a:rPr>
              <a:t>Задание 8</a:t>
            </a:r>
            <a:br>
              <a:rPr sz="4000"/>
            </a:br>
            <a:endParaRPr b="0" lang="en-US" sz="40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9ef5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entury Gothic"/>
              </a:rPr>
              <a:t>Вам необходимо представить газету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70c0"/>
                </a:solidFill>
                <a:latin typeface="Century Gothic"/>
              </a:rPr>
              <a:t> защитить ваш проект. Оцените объем и качество выполненной вами работы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70c0"/>
                </a:solidFill>
                <a:latin typeface="Century Gothic"/>
              </a:rPr>
              <a:t>   Проведите обсуждение отметки каждого участника в группе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118" name="Picture 2" descr="D:\Documents and Settings\Учитель\Рабочий стол\Мои рисунки\clock7.gif"/>
          <p:cNvPicPr/>
          <p:nvPr/>
        </p:nvPicPr>
        <p:blipFill>
          <a:blip r:embed="rId1"/>
          <a:stretch/>
        </p:blipFill>
        <p:spPr>
          <a:xfrm>
            <a:off x="6145200" y="285840"/>
            <a:ext cx="249876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Цели: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entury Gothic"/>
              </a:rPr>
              <a:t>Проверить знания учащихся по теме;</a:t>
            </a:r>
            <a:endParaRPr b="0" lang="en-US" sz="26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entury Gothic"/>
              </a:rPr>
              <a:t>Активизировать самостоятельную деятельность учащихся по обобщению сведений о причастии;</a:t>
            </a:r>
            <a:endParaRPr b="0" lang="en-US" sz="26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entury Gothic"/>
              </a:rPr>
              <a:t>Закрепить навыки правописания причастий и постановки знаков препинания с причастным оборотом;</a:t>
            </a:r>
            <a:endParaRPr b="0" lang="en-US" sz="26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entury Gothic"/>
              </a:rPr>
              <a:t>Продолжить работу по воспитанию бережного, внимательного отношения к русскому языку. </a:t>
            </a:r>
            <a:endParaRPr b="0" lang="en-US" sz="26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entury Gothic"/>
              </a:rPr>
              <a:t>воспитывать уважительное отношение к партнеру, аккуратность, честность.</a:t>
            </a:r>
            <a:endParaRPr b="0" lang="en-US" sz="26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a9ef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14800" y="785520"/>
            <a:ext cx="5472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  <a:ea typeface="Times New Roman"/>
              </a:rPr>
              <a:t>Причастие- это часть речи,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Century Gothic"/>
                <a:ea typeface="Times New Roman"/>
              </a:rPr>
              <a:t>причастная  глаголу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Century Gothic"/>
                <a:ea typeface="Times New Roman"/>
              </a:rPr>
              <a:t>в образе прилагательного.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Century Gothic"/>
                <a:ea typeface="Times New Roman"/>
              </a:rPr>
              <a:t>В.Даль</a:t>
            </a:r>
            <a:br>
              <a:rPr sz="4000"/>
            </a:b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Начинаем наш урок. 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Очень хочется, чтоб впрок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Он пошел нам, и тогда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Будем грамотны всегда. 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48" name="Picture 5" descr="12"/>
          <p:cNvPicPr/>
          <p:nvPr/>
        </p:nvPicPr>
        <p:blipFill>
          <a:blip r:embed="rId1"/>
          <a:stretch/>
        </p:blipFill>
        <p:spPr>
          <a:xfrm>
            <a:off x="571680" y="214200"/>
            <a:ext cx="289548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49579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МЫ в редакции Лингвистической газеты</a:t>
            </a: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14480" y="4429080"/>
            <a:ext cx="47862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Будем издавать стенгазету по теме: 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« Причастие»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51" name="Picture 2" descr="D:\Documents and Settings\Учитель\Рабочий стол\Мои рисунки\школа\7c76931e577c[1].jpg"/>
          <p:cNvPicPr/>
          <p:nvPr/>
        </p:nvPicPr>
        <p:blipFill>
          <a:blip r:embed="rId1"/>
          <a:stretch/>
        </p:blipFill>
        <p:spPr>
          <a:xfrm>
            <a:off x="360360" y="2359080"/>
            <a:ext cx="371160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Documents and Settings\Учитель\Рабочий стол\Мои рисунки\школа\1220533256_schoolboy[1].jpg"/>
          <p:cNvPicPr/>
          <p:nvPr/>
        </p:nvPicPr>
        <p:blipFill>
          <a:blip r:embed="rId2"/>
          <a:stretch/>
        </p:blipFill>
        <p:spPr>
          <a:xfrm>
            <a:off x="5211720" y="285840"/>
            <a:ext cx="31640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План работы:</a:t>
            </a:r>
            <a:br>
              <a:rPr sz="4000"/>
            </a:br>
            <a:endParaRPr b="0" lang="en-US" sz="40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6760" y="928440"/>
            <a:ext cx="4357800" cy="514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Каждой группе необходимо подготовить стенную газету;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Само- и взаимооценка;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щита проекта;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одведение итогов урока.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55" name="Picture 4" descr="D:\Documents and Settings\Учитель\Рабочий стол\школа 1\4c[1].gif"/>
          <p:cNvPicPr/>
          <p:nvPr/>
        </p:nvPicPr>
        <p:blipFill>
          <a:blip r:embed="rId1"/>
          <a:stretch/>
        </p:blipFill>
        <p:spPr>
          <a:xfrm>
            <a:off x="4143240" y="1000080"/>
            <a:ext cx="473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Памятка 1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(по организации работы в группе)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Уважаемые ребята, не забывайте, что главное в деле — дружба. Умейте помочь товарищу, поддержать при необходимости, высказать свое мнение, прислушаться к мнению одноклассников. Успехов вам, дорогие ребята.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Выберите редактора вашей газеты. Редактор осуществляет руководство группой.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Редактор назначает (выбирает) корректора, журналистов, художника.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Редактор распределяет обязанности в группе.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Группа определяет цель.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Приступайте к работе.</a:t>
            </a:r>
            <a:endParaRPr b="0" lang="en-US" sz="20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58" name="Picture 3" descr="18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08360" y="333360"/>
            <a:ext cx="45356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Gothic"/>
              </a:rPr>
              <a:t>Памятка 2</a:t>
            </a:r>
            <a:br>
              <a:rPr sz="4000"/>
            </a:br>
            <a:endParaRPr b="0" lang="en-US" sz="40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Газета должна иметь название.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Материалы статей должны быть интересны читателям.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Писать в газете необходимо грамотно и разборчиво.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Не забудьте оставить свой адрес.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61" name="Picture 3" descr="0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500120" y="0"/>
            <a:ext cx="5715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7120" y="1714320"/>
            <a:ext cx="8229600" cy="3971880"/>
          </a:xfrm>
          <a:prstGeom prst="rect">
            <a:avLst/>
          </a:prstGeom>
          <a:solidFill>
            <a:srgbClr val="ffff00"/>
          </a:solidFill>
          <a:ln w="9360">
            <a:solidFill>
              <a:srgbClr val="16151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Century Gothic"/>
                <a:ea typeface="Times New Roman"/>
              </a:rPr>
              <a:t>Впишите в свободные клеточки  названия части речи, о которой говорится в стихотворении </a:t>
            </a: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Century Gothic"/>
                <a:ea typeface="Times New Roman"/>
              </a:rPr>
              <a:t>П. Чесноков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Это будет названием нашей газеты</a:t>
            </a: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Вот свойство мое обязательное:</a:t>
            </a: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Склоняюсь я, как прилагательное.</a:t>
            </a: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На все вопросы его отвечаю.</a:t>
            </a: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Глагол по значению напоминаю.</a:t>
            </a: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64" name="Picture 79" descr="03"/>
          <p:cNvPicPr/>
          <p:nvPr/>
        </p:nvPicPr>
        <p:blipFill>
          <a:blip r:embed="rId1"/>
          <a:stretch/>
        </p:blipFill>
        <p:spPr>
          <a:xfrm>
            <a:off x="2071800" y="357120"/>
            <a:ext cx="651024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D:\Documents and Settings\Учитель\Рабочий стол\Мои рисунки\clock7.gif"/>
          <p:cNvPicPr/>
          <p:nvPr/>
        </p:nvPicPr>
        <p:blipFill>
          <a:blip r:embed="rId2"/>
          <a:stretch/>
        </p:blipFill>
        <p:spPr>
          <a:xfrm>
            <a:off x="360360" y="285840"/>
            <a:ext cx="1712880" cy="1360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8"/>
          <p:cNvSpPr/>
          <p:nvPr/>
        </p:nvSpPr>
        <p:spPr>
          <a:xfrm>
            <a:off x="1571760" y="5715000"/>
            <a:ext cx="5786280" cy="144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 flipH="1">
            <a:off x="1571760" y="5715000"/>
            <a:ext cx="144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>
            <a:off x="1571760" y="6357960"/>
            <a:ext cx="5786280" cy="144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69" name="Прямая соединительная линия 15"/>
          <p:cNvSpPr/>
          <p:nvPr/>
        </p:nvSpPr>
        <p:spPr>
          <a:xfrm flipH="1">
            <a:off x="6786720" y="5715000"/>
            <a:ext cx="144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0" name="Прямая соединительная линия 17"/>
          <p:cNvSpPr/>
          <p:nvPr/>
        </p:nvSpPr>
        <p:spPr>
          <a:xfrm flipH="1">
            <a:off x="2212560" y="5716440"/>
            <a:ext cx="180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1" name="Прямая соединительная линия 19"/>
          <p:cNvSpPr/>
          <p:nvPr/>
        </p:nvSpPr>
        <p:spPr>
          <a:xfrm flipH="1">
            <a:off x="7358040" y="5715000"/>
            <a:ext cx="144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2" name="Прямая соединительная линия 23"/>
          <p:cNvSpPr/>
          <p:nvPr/>
        </p:nvSpPr>
        <p:spPr>
          <a:xfrm flipH="1">
            <a:off x="2857680" y="5715000"/>
            <a:ext cx="144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3" name="Прямая соединительная линия 25"/>
          <p:cNvSpPr/>
          <p:nvPr/>
        </p:nvSpPr>
        <p:spPr>
          <a:xfrm flipH="1">
            <a:off x="3499920" y="5715000"/>
            <a:ext cx="180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4" name="Прямая соединительная линия 29"/>
          <p:cNvSpPr/>
          <p:nvPr/>
        </p:nvSpPr>
        <p:spPr>
          <a:xfrm>
            <a:off x="4143240" y="5715000"/>
            <a:ext cx="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5" name="Прямая соединительная линия 33"/>
          <p:cNvSpPr/>
          <p:nvPr/>
        </p:nvSpPr>
        <p:spPr>
          <a:xfrm flipH="1">
            <a:off x="4785840" y="5715000"/>
            <a:ext cx="180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6" name="Прямая соединительная линия 35"/>
          <p:cNvSpPr/>
          <p:nvPr/>
        </p:nvSpPr>
        <p:spPr>
          <a:xfrm flipH="1">
            <a:off x="5428800" y="5715000"/>
            <a:ext cx="180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7" name="Прямая соединительная линия 37"/>
          <p:cNvSpPr/>
          <p:nvPr/>
        </p:nvSpPr>
        <p:spPr>
          <a:xfrm flipH="1">
            <a:off x="6143760" y="5715000"/>
            <a:ext cx="1440" cy="642960"/>
          </a:xfrm>
          <a:prstGeom prst="line">
            <a:avLst/>
          </a:prstGeom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8" name="TextBox 52"/>
          <p:cNvSpPr/>
          <p:nvPr/>
        </p:nvSpPr>
        <p:spPr>
          <a:xfrm>
            <a:off x="1714680" y="557208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п</a:t>
            </a:r>
            <a:endParaRPr b="0" lang="en-US" sz="40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79" name="TextBox 53"/>
          <p:cNvSpPr/>
          <p:nvPr/>
        </p:nvSpPr>
        <p:spPr>
          <a:xfrm>
            <a:off x="2286000" y="56437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р</a:t>
            </a:r>
            <a:endParaRPr b="0" lang="en-US" sz="36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80" name="TextBox 54"/>
          <p:cNvSpPr/>
          <p:nvPr/>
        </p:nvSpPr>
        <p:spPr>
          <a:xfrm>
            <a:off x="2908440" y="56437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и</a:t>
            </a:r>
            <a:endParaRPr b="0" lang="en-US" sz="36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81" name="TextBox 55"/>
          <p:cNvSpPr/>
          <p:nvPr/>
        </p:nvSpPr>
        <p:spPr>
          <a:xfrm>
            <a:off x="3552120" y="564372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ч</a:t>
            </a:r>
            <a:endParaRPr b="0" lang="en-US" sz="36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82" name="TextBox 56"/>
          <p:cNvSpPr/>
          <p:nvPr/>
        </p:nvSpPr>
        <p:spPr>
          <a:xfrm>
            <a:off x="4236480" y="56437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</a:t>
            </a:r>
            <a:endParaRPr b="0" lang="en-US" sz="36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83" name="TextBox 57"/>
          <p:cNvSpPr/>
          <p:nvPr/>
        </p:nvSpPr>
        <p:spPr>
          <a:xfrm>
            <a:off x="4891320" y="564372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с</a:t>
            </a:r>
            <a:endParaRPr b="0" lang="en-US" sz="36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84" name="TextBox 58"/>
          <p:cNvSpPr/>
          <p:nvPr/>
        </p:nvSpPr>
        <p:spPr>
          <a:xfrm>
            <a:off x="5642640" y="5643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т</a:t>
            </a:r>
            <a:endParaRPr b="0" lang="en-US" sz="36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85" name="TextBox 59"/>
          <p:cNvSpPr/>
          <p:nvPr/>
        </p:nvSpPr>
        <p:spPr>
          <a:xfrm>
            <a:off x="6194520" y="56437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и</a:t>
            </a:r>
            <a:endParaRPr b="0" lang="en-US" sz="3600" spc="-1" strike="noStrike">
              <a:solidFill>
                <a:srgbClr val="da9ef5"/>
              </a:solidFill>
              <a:latin typeface="Arial"/>
            </a:endParaRPr>
          </a:p>
        </p:txBody>
      </p:sp>
      <p:sp>
        <p:nvSpPr>
          <p:cNvPr id="86" name="TextBox 60"/>
          <p:cNvSpPr/>
          <p:nvPr/>
        </p:nvSpPr>
        <p:spPr>
          <a:xfrm>
            <a:off x="6874920" y="564372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endParaRPr b="0" lang="en-US" sz="3600" spc="-1" strike="noStrike">
              <a:solidFill>
                <a:srgbClr val="da9ef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9920" y="274320"/>
            <a:ext cx="30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Gothic"/>
              </a:rPr>
              <a:t>Задание 1.</a:t>
            </a:r>
            <a:br>
              <a:rPr sz="4000"/>
            </a:br>
            <a:endParaRPr b="0" lang="en-US" sz="4000" spc="-1" strike="noStrike">
              <a:solidFill>
                <a:srgbClr val="da9ef5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a9ef5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0070c0"/>
                </a:solidFill>
                <a:latin typeface="Century Gothic"/>
              </a:rPr>
              <a:t>Повторите трудные случаи написания причастий. Слушайте ответ одноклассника внимательно, дополните, если отвечающий не рассказал главное. Задайте вопросы, если вы что-то не поняли.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оздайте кластер.</a:t>
            </a: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9ef5"/>
              </a:solidFill>
              <a:latin typeface="Century Gothic"/>
            </a:endParaRPr>
          </a:p>
        </p:txBody>
      </p:sp>
      <p:pic>
        <p:nvPicPr>
          <p:cNvPr id="89" name="Picture 2" descr="D:\Documents and Settings\Учитель\Рабочий стол\Мои рисунки\clock7.gif"/>
          <p:cNvPicPr/>
          <p:nvPr/>
        </p:nvPicPr>
        <p:blipFill>
          <a:blip r:embed="rId1"/>
          <a:stretch/>
        </p:blipFill>
        <p:spPr>
          <a:xfrm>
            <a:off x="712800" y="285840"/>
            <a:ext cx="2932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04-17T09:06:08Z</dcterms:modified>
  <cp:revision>15</cp:revision>
  <dc:subject/>
  <dc:title>Урок разработала  Макеева Марина Петровна, учитель русского языка и литературы высшей квалификационной категории  МОУ « Нурлатская средняя общеобразовательная школа №9» г.Нурлат Республики Татарстан</dc:title>
</cp:coreProperties>
</file>