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339F-48AF-4676-8903-A0C63C64B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F3D-F4CE-4EC4-B29A-DBBE023C1B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9F5F-D75F-4F8D-A445-2ABB0165C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2257-E111-4FFC-9D3F-EC214FFFF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9137-6E36-4EE2-A7EA-9BF81601E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DA1-3D4D-4D29-ACBD-9EF2DF6D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7E2-5056-4D34-B31D-3A85C9CF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877-2539-40EA-A546-9F8826A0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1D5-14C5-4178-90C9-0992A073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6B2-6930-4C62-BE35-EFD156E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98B-DA3F-45B7-AF00-3D928DE0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35D-F3D4-4418-80C7-F8019266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9A6-B44C-466A-9B94-E82F98F7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02F-2CF3-405A-84F9-858A3152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2A2-86A3-4574-854E-85BC34DD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641-B714-442A-8A4A-16E1DBF2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A61-B82B-44DF-96E2-52EB6B1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6651-3824-4F2B-8527-6833EE14C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hgo.maousosh.9@sakhalin.gov.ru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ucheb"/>
          <p:cNvPicPr/>
          <p:nvPr/>
        </p:nvPicPr>
        <p:blipFill>
          <a:blip r:embed="rId1"/>
          <a:stretch/>
        </p:blipFill>
        <p:spPr>
          <a:xfrm>
            <a:off x="285840" y="5072040"/>
            <a:ext cx="8858160" cy="178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071720" y="1785960"/>
            <a:ext cx="742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ОРТФОЛИО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85880" y="3857760"/>
            <a:ext cx="49291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иданова Мари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:\Фото Я\100_0958.JPG"/>
          <p:cNvPicPr/>
          <p:nvPr/>
        </p:nvPicPr>
        <p:blipFill>
          <a:blip r:embed="rId2"/>
          <a:stretch/>
        </p:blipFill>
        <p:spPr>
          <a:xfrm>
            <a:off x="6724800" y="4475160"/>
            <a:ext cx="2077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037880" y="2924280"/>
            <a:ext cx="767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ookman Old Style"/>
              </a:rPr>
              <a:t>Спасибо  за 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ucheb"/>
          <p:cNvPicPr/>
          <p:nvPr/>
        </p:nvPicPr>
        <p:blipFill>
          <a:blip r:embed="rId1"/>
          <a:stretch/>
        </p:blipFill>
        <p:spPr>
          <a:xfrm>
            <a:off x="285840" y="5072040"/>
            <a:ext cx="8858160" cy="17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66"/>
          <p:cNvPicPr/>
          <p:nvPr/>
        </p:nvPicPr>
        <p:blipFill>
          <a:blip r:embed="rId2"/>
          <a:stretch/>
        </p:blipFill>
        <p:spPr>
          <a:xfrm>
            <a:off x="8190000" y="5735520"/>
            <a:ext cx="954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468360" y="189000"/>
            <a:ext cx="8675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ие сведения о педагогическом работни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Ф. И. О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иданова Ма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Дата рожден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1 сентября 196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Образовани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ее, Южно-Сахалинский  государственный педагогический институт,      198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таж работ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трудов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35 лет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1 год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азанном ОУ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года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Имеющаяся квалификационная категор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ая  по должности «учитель»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поряжение МОСО от  27.12.2017 № 3.12-1528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анимаемая должность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ь русского языка и литературы, приказ № 131-л от 04.09.2019 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Имеющиеся звания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ное название образовательного учрежден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ниципальное автономное образовательное учреждение средняя общеобразовательная школа  № 9  г. Холмска муниципального образования «Холмский городской округ» Сахали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Юридический адре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940620 Сахалинская область, г. Холмск,  улица  Александра Матросова, до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khgo.maousosh.9@sakhalin.gov.r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/факс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42433) 71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66"/>
          <p:cNvPicPr/>
          <p:nvPr/>
        </p:nvPicPr>
        <p:blipFill>
          <a:blip r:embed="rId2"/>
          <a:stretch/>
        </p:blipFill>
        <p:spPr>
          <a:xfrm>
            <a:off x="8354880" y="5929200"/>
            <a:ext cx="7891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Марина\Desktop\Грамоты\Диплом сказки Пушкина.jpg"/>
          <p:cNvPicPr/>
          <p:nvPr/>
        </p:nvPicPr>
        <p:blipFill>
          <a:blip r:embed="rId1"/>
          <a:stretch/>
        </p:blipFill>
        <p:spPr>
          <a:xfrm rot="21337800">
            <a:off x="2020680" y="2795400"/>
            <a:ext cx="237960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1979640" y="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и дост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Марина\Desktop\Грамоты\blagodarnost-124294-au-151335.png"/>
          <p:cNvPicPr/>
          <p:nvPr/>
        </p:nvPicPr>
        <p:blipFill>
          <a:blip r:embed="rId2"/>
          <a:stretch/>
        </p:blipFill>
        <p:spPr>
          <a:xfrm rot="20848800">
            <a:off x="333360" y="-12600"/>
            <a:ext cx="2641680" cy="311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Марина\Desktop\Грамоты\сканирование.jpg"/>
          <p:cNvPicPr/>
          <p:nvPr/>
        </p:nvPicPr>
        <p:blipFill>
          <a:blip r:embed="rId3"/>
          <a:stretch/>
        </p:blipFill>
        <p:spPr>
          <a:xfrm rot="20658000">
            <a:off x="123840" y="2339640"/>
            <a:ext cx="2292480" cy="31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Марина\Desktop\Грамоты\сканирование0009.jpg"/>
          <p:cNvPicPr/>
          <p:nvPr/>
        </p:nvPicPr>
        <p:blipFill>
          <a:blip r:embed="rId4"/>
          <a:stretch/>
        </p:blipFill>
        <p:spPr>
          <a:xfrm>
            <a:off x="3059280" y="476280"/>
            <a:ext cx="2498400" cy="31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:\HPSCANS\сканирование0003.jpg"/>
          <p:cNvPicPr/>
          <p:nvPr/>
        </p:nvPicPr>
        <p:blipFill>
          <a:blip r:embed="rId5"/>
          <a:stretch/>
        </p:blipFill>
        <p:spPr>
          <a:xfrm>
            <a:off x="539640" y="5157720"/>
            <a:ext cx="3600720" cy="17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Users\пк\Desktop\Мои достижения\6Б Св-во о подгтовке ученика.jpg"/>
          <p:cNvPicPr/>
          <p:nvPr/>
        </p:nvPicPr>
        <p:blipFill>
          <a:blip r:embed="rId6"/>
          <a:stretch/>
        </p:blipFill>
        <p:spPr>
          <a:xfrm rot="714000">
            <a:off x="6818400" y="-38160"/>
            <a:ext cx="2325600" cy="316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пк\Desktop\Мои достижения\Благодарность Виктория.JPG"/>
          <p:cNvPicPr/>
          <p:nvPr/>
        </p:nvPicPr>
        <p:blipFill>
          <a:blip r:embed="rId7"/>
          <a:stretch/>
        </p:blipFill>
        <p:spPr>
          <a:xfrm rot="577800">
            <a:off x="5412960" y="735120"/>
            <a:ext cx="2516400" cy="33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пк\Desktop\Мои достижения\Благодарность.JPG"/>
          <p:cNvPicPr/>
          <p:nvPr/>
        </p:nvPicPr>
        <p:blipFill>
          <a:blip r:embed="rId8"/>
          <a:stretch/>
        </p:blipFill>
        <p:spPr>
          <a:xfrm rot="979800">
            <a:off x="6508800" y="3048120"/>
            <a:ext cx="2663640" cy="356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:\Users\пк\Desktop\Дети грамоты\Сертификат Без срока давности. Коноваленко А.png"/>
          <p:cNvPicPr/>
          <p:nvPr/>
        </p:nvPicPr>
        <p:blipFill>
          <a:blip r:embed="rId9"/>
          <a:stretch/>
        </p:blipFill>
        <p:spPr>
          <a:xfrm>
            <a:off x="4067280" y="3284640"/>
            <a:ext cx="2449440" cy="216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C:\Users\пк\Desktop\Мои достижения\Скиданова М.А..jpg"/>
          <p:cNvPicPr/>
          <p:nvPr/>
        </p:nvPicPr>
        <p:blipFill>
          <a:blip r:embed="rId10"/>
          <a:stretch/>
        </p:blipFill>
        <p:spPr>
          <a:xfrm>
            <a:off x="4284720" y="5084640"/>
            <a:ext cx="3618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285920" y="1571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620640"/>
          <a:ext cx="8820000" cy="6021360"/>
        </p:xfrm>
        <a:graphic>
          <a:graphicData uri="http://schemas.openxmlformats.org/drawingml/2006/table">
            <a:tbl>
              <a:tblPr/>
              <a:tblGrid>
                <a:gridCol w="1198440"/>
                <a:gridCol w="5627520"/>
                <a:gridCol w="1994040"/>
              </a:tblGrid>
              <a:tr h="1008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урса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подавание предмета «Русский язык» в современных условиях реализации ФГОС.  АНО ДПО «ФИПКиП» г. 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стовере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 772406580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ые технологии инклюзивного образования обучающихся с ОВЗ в условиях реализации ФГОС г. Екатерин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стовере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6624084777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качества образования в общеобразовательной организации. ФИОКО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стовер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412150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 с применением ЭО и ДОТ: организационные, психолого-педагогические и технологические аспекты.  ГБУ РЦОКО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тификат от 20.05.2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5"/>
          <p:cNvSpPr/>
          <p:nvPr/>
        </p:nvSpPr>
        <p:spPr>
          <a:xfrm>
            <a:off x="2124000" y="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. Повышение квал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714680" y="50004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чебные достижения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571760" y="15717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рамма  уровня обу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66"/>
          <p:cNvPicPr/>
          <p:nvPr/>
        </p:nvPicPr>
        <p:blipFill>
          <a:blip r:embed="rId1"/>
          <a:stretch/>
        </p:blipFill>
        <p:spPr>
          <a:xfrm>
            <a:off x="8354880" y="5929200"/>
            <a:ext cx="789120" cy="928800"/>
          </a:xfrm>
          <a:prstGeom prst="rect">
            <a:avLst/>
          </a:prstGeom>
          <a:ln w="0">
            <a:noFill/>
          </a:ln>
        </p:spPr>
      </p:pic>
      <p:pic>
        <p:nvPicPr>
          <p:cNvPr id="71" name="Диаграмма 4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792000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619280" y="2602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ные показатели результатов ОГЭ по предмету в межаттестационный 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143000" y="1857240"/>
            <a:ext cx="5715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268280"/>
          <a:ext cx="7921440" cy="4878360"/>
        </p:xfrm>
        <a:graphic>
          <a:graphicData uri="http://schemas.openxmlformats.org/drawingml/2006/table">
            <a:tbl>
              <a:tblPr/>
              <a:tblGrid>
                <a:gridCol w="1544400"/>
                <a:gridCol w="1370160"/>
                <a:gridCol w="1568520"/>
                <a:gridCol w="1793880"/>
                <a:gridCol w="1644480"/>
              </a:tblGrid>
              <a:tr h="50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оц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17 -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20 - 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"5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"4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"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"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6" descr="66"/>
          <p:cNvPicPr/>
          <p:nvPr/>
        </p:nvPicPr>
        <p:blipFill>
          <a:blip r:embed="rId1"/>
          <a:stretch/>
        </p:blipFill>
        <p:spPr>
          <a:xfrm>
            <a:off x="8286840" y="5850000"/>
            <a:ext cx="85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403280" y="1197000"/>
            <a:ext cx="691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692360" y="333360"/>
            <a:ext cx="7235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ные показатели результатов ЕГЭ по предмету в межаттестационный 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4000" y="2349360"/>
          <a:ext cx="8820000" cy="2880000"/>
        </p:xfrm>
        <a:graphic>
          <a:graphicData uri="http://schemas.openxmlformats.org/drawingml/2006/table">
            <a:tbl>
              <a:tblPr/>
              <a:tblGrid>
                <a:gridCol w="1361880"/>
                <a:gridCol w="2022480"/>
                <a:gridCol w="1152720"/>
                <a:gridCol w="790560"/>
                <a:gridCol w="865080"/>
                <a:gridCol w="1008000"/>
                <a:gridCol w="863640"/>
                <a:gridCol w="755640"/>
              </a:tblGrid>
              <a:tr h="866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Год\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Ф.И.О.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редний тестовы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тестовых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-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-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\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анова М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/13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/33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/33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/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6" descr="66"/>
          <p:cNvPicPr/>
          <p:nvPr/>
        </p:nvPicPr>
        <p:blipFill>
          <a:blip r:embed="rId1"/>
          <a:stretch/>
        </p:blipFill>
        <p:spPr>
          <a:xfrm>
            <a:off x="8286840" y="5850000"/>
            <a:ext cx="85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ебные достижения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755640" y="1197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ающиеся, получившие на ЕГЭ по рус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70 баллов и вы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1989000"/>
          <a:ext cx="8305920" cy="3672000"/>
        </p:xfrm>
        <a:graphic>
          <a:graphicData uri="http://schemas.openxmlformats.org/drawingml/2006/table">
            <a:tbl>
              <a:tblPr/>
              <a:tblGrid>
                <a:gridCol w="2863800"/>
                <a:gridCol w="2374920"/>
                <a:gridCol w="1441440"/>
                <a:gridCol w="1625760"/>
              </a:tblGrid>
              <a:tr h="78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льясова А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йчук Ксения Олег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саликова И.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рзина А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6" descr="66"/>
          <p:cNvPicPr/>
          <p:nvPr/>
        </p:nvPicPr>
        <p:blipFill>
          <a:blip r:embed="rId1"/>
          <a:stretch/>
        </p:blipFill>
        <p:spPr>
          <a:xfrm>
            <a:off x="8286840" y="5850000"/>
            <a:ext cx="8571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556000" y="35532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В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66"/>
          <p:cNvPicPr/>
          <p:nvPr/>
        </p:nvPicPr>
        <p:blipFill>
          <a:blip r:embed="rId1"/>
          <a:stretch/>
        </p:blipFill>
        <p:spPr>
          <a:xfrm>
            <a:off x="8190000" y="5950080"/>
            <a:ext cx="954000" cy="112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684360" y="1052640"/>
          <a:ext cx="8064360" cy="2525760"/>
        </p:xfrm>
        <a:graphic>
          <a:graphicData uri="http://schemas.openxmlformats.org/drawingml/2006/table">
            <a:tbl>
              <a:tblPr/>
              <a:tblGrid>
                <a:gridCol w="1245960"/>
                <a:gridCol w="1128960"/>
                <a:gridCol w="720720"/>
                <a:gridCol w="720720"/>
                <a:gridCol w="792000"/>
                <a:gridCol w="719280"/>
                <a:gridCol w="1022040"/>
                <a:gridCol w="851040"/>
                <a:gridCol w="86364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바탕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바탕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5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5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5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6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6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6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Диаграмма 7" descr=""/>
          <p:cNvPicPr/>
          <p:nvPr/>
        </p:nvPicPr>
        <p:blipFill>
          <a:blip r:embed="rId2"/>
          <a:stretch/>
        </p:blipFill>
        <p:spPr>
          <a:xfrm>
            <a:off x="704880" y="3645000"/>
            <a:ext cx="795024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09:56:41Z</dcterms:created>
  <dc:creator>admin</dc:creator>
  <dc:description/>
  <dc:language>en-US</dc:language>
  <cp:lastModifiedBy>пк</cp:lastModifiedBy>
  <dcterms:modified xsi:type="dcterms:W3CDTF">2022-04-18T11:39:39Z</dcterms:modified>
  <cp:revision>292</cp:revision>
  <dc:subject/>
  <dc:title>Слайд 1</dc:title>
</cp:coreProperties>
</file>