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24.jpeg" ContentType="image/jpeg"/>
  <Override PartName="/ppt/media/image15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5457-D461-432B-AB82-8D45D6C9A5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9B32-E49A-4CBD-8AAC-C1BDE753BE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D68B-3D76-4D28-9169-D2157F7371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7468-85D2-42B5-8A08-A15C07E1D7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A403-BAFC-4A90-95A7-4B76641E41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2D8C-E3E0-4701-BEA0-9DD85968DF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AD8E-BF92-486C-BB7C-A48F6521F0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C9C1-4696-4902-A000-C0CE2D20E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476F-0F6B-4ED0-B5FA-385719D3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6829-CA39-4D6C-9ACE-3D41BC006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C97D-AB1C-4246-885A-1469EDF67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A591-70FD-4A20-835F-B9AD87E2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4CDC-3480-41D4-8700-4DE70023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5D9D-AA5E-442D-A28F-10BFCD23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3B4A-CAB5-4D87-9DF8-C843B77A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3350-FD9F-438A-923B-4BA68BD3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7BE3-4E17-47AD-AC9E-E2C67313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E31B-B665-4A3B-A167-EA2678D7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F810-67EA-4244-8D2F-95E2B910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4520-2183-4666-B8A1-70FA582D4C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ucheb"/>
          <p:cNvPicPr/>
          <p:nvPr/>
        </p:nvPicPr>
        <p:blipFill>
          <a:blip r:embed="rId1"/>
          <a:stretch/>
        </p:blipFill>
        <p:spPr>
          <a:xfrm>
            <a:off x="285840" y="5072040"/>
            <a:ext cx="8858160" cy="178596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1071720" y="1785960"/>
            <a:ext cx="742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ПОРТФОЛИО ПЕДАГО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785880" y="3857760"/>
            <a:ext cx="49291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киданова Марина Анато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F:\Фото Я\100_0958.JPG"/>
          <p:cNvPicPr/>
          <p:nvPr/>
        </p:nvPicPr>
        <p:blipFill>
          <a:blip r:embed="rId2"/>
          <a:stretch/>
        </p:blipFill>
        <p:spPr>
          <a:xfrm>
            <a:off x="6724800" y="4475160"/>
            <a:ext cx="207792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65280" y="475920"/>
            <a:ext cx="847872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2060"/>
                </a:solidFill>
                <a:latin typeface="Calibri"/>
              </a:rPr>
              <a:t>       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Используемые образовательные техноло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49280" y="1341360"/>
          <a:ext cx="8353440" cy="4619880"/>
        </p:xfrm>
        <a:graphic>
          <a:graphicData uri="http://schemas.openxmlformats.org/drawingml/2006/table">
            <a:tbl>
              <a:tblPr/>
              <a:tblGrid>
                <a:gridCol w="2663640"/>
                <a:gridCol w="568980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Arial Unicode MS"/>
                        </a:rPr>
                        <a:t>Название техн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Использование в образовательном процесс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Arial Unicode MS"/>
                        </a:rPr>
                        <a:t>Применение ИК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Arial Unicode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eeece1"/>
                        </a:buClr>
                        <a:buSzPct val="75000"/>
                        <a:buFont typeface="Book Antiqu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именение учебных электронных изданий по литературе и русскому языку, ресурсов сети Интернет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eeece1"/>
                        </a:buClr>
                        <a:buSzPct val="75000"/>
                        <a:buFont typeface="Book Antiqu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азработка презентаций к урокам русского языка и литературы, лекций-презентаци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eeece1"/>
                        </a:buClr>
                        <a:buSzPct val="75000"/>
                        <a:buFont typeface="Book Antiqu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существление тестового контроля знаний обучающих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Технология дифференциации обучени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На уроке даю задание каждому ученику в соответствии с его способностями, вырабатываю у ребят привычку самостоятельно черпать знания из различных источников информаци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0" name="Picture 6" descr="66"/>
          <p:cNvPicPr/>
          <p:nvPr/>
        </p:nvPicPr>
        <p:blipFill>
          <a:blip r:embed="rId1"/>
          <a:stretch/>
        </p:blipFill>
        <p:spPr>
          <a:xfrm>
            <a:off x="8190000" y="5950080"/>
            <a:ext cx="954000" cy="112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503280" y="981000"/>
          <a:ext cx="8101080" cy="5184720"/>
        </p:xfrm>
        <a:graphic>
          <a:graphicData uri="http://schemas.openxmlformats.org/drawingml/2006/table">
            <a:tbl>
              <a:tblPr/>
              <a:tblGrid>
                <a:gridCol w="2119320"/>
                <a:gridCol w="598176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Arial Unicode MS"/>
                        </a:rPr>
                        <a:t>Название  техн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Использование в образовательном процесс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Исследовательский мет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Задания исследовательского, творческого характер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Информационные и исследовательские проекты      (исследовательские работ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Здоровьесберегающие технолог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Arial Unicode MS"/>
                        </a:rPr>
                        <a:t>различные формы снятия утомления: собрана коллекция электронных физминуток для глаз, двигательных физминуток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Тестовые технолог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Использую различные виды тест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Calibri"/>
                        </a:rPr>
                        <a:t>Тесты разной степени сложности позволяют осуществлять индивидуальный подход к ученика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Calibri"/>
                        </a:rPr>
                        <a:t>Применяю тесты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в формате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S Power Point,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готовые тестирующие программы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asy Quzz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Rectangle 2"/>
          <p:cNvSpPr/>
          <p:nvPr/>
        </p:nvSpPr>
        <p:spPr>
          <a:xfrm>
            <a:off x="1187280" y="260280"/>
            <a:ext cx="8477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Используемые образовательные техн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66"/>
          <p:cNvPicPr/>
          <p:nvPr/>
        </p:nvPicPr>
        <p:blipFill>
          <a:blip r:embed="rId1"/>
          <a:stretch/>
        </p:blipFill>
        <p:spPr>
          <a:xfrm>
            <a:off x="8190000" y="5950080"/>
            <a:ext cx="954000" cy="112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Учебно-материальная ба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1116000" y="1844640"/>
            <a:ext cx="77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66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РМ учителя (ПК, интерактивная доска, проекто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66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 ученических П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66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исок справочной и энциклопедической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66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исок методической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66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идео/аудиоматериалы, компьютерные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66"/>
          <p:cNvPicPr/>
          <p:nvPr/>
        </p:nvPicPr>
        <p:blipFill>
          <a:blip r:embed="rId1"/>
          <a:stretch/>
        </p:blipFill>
        <p:spPr>
          <a:xfrm>
            <a:off x="8190000" y="5735520"/>
            <a:ext cx="954000" cy="112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1068120" y="1857240"/>
            <a:ext cx="767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Bookman Old Style"/>
              </a:rPr>
              <a:t>Спасибо  за 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ucheb"/>
          <p:cNvPicPr/>
          <p:nvPr/>
        </p:nvPicPr>
        <p:blipFill>
          <a:blip r:embed="rId1"/>
          <a:stretch/>
        </p:blipFill>
        <p:spPr>
          <a:xfrm>
            <a:off x="285840" y="5072040"/>
            <a:ext cx="8858160" cy="1785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66"/>
          <p:cNvPicPr/>
          <p:nvPr/>
        </p:nvPicPr>
        <p:blipFill>
          <a:blip r:embed="rId2"/>
          <a:stretch/>
        </p:blipFill>
        <p:spPr>
          <a:xfrm>
            <a:off x="8190000" y="5735520"/>
            <a:ext cx="954000" cy="11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1476360" y="0"/>
            <a:ext cx="766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Результаты участия обучающихся в конкурсах, фестивалях в межаттестационный  пери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00040" y="1500120"/>
          <a:ext cx="8429760" cy="3708360"/>
        </p:xfrm>
        <a:graphic>
          <a:graphicData uri="http://schemas.openxmlformats.org/drawingml/2006/table">
            <a:tbl>
              <a:tblPr/>
              <a:tblGrid>
                <a:gridCol w="1171440"/>
                <a:gridCol w="1825920"/>
                <a:gridCol w="2082600"/>
                <a:gridCol w="1771560"/>
                <a:gridCol w="157824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.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.И. уч-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конкур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 rowSpan="4">
                  <a:txBody>
                    <a:bodyPr lIns="47520" rIns="47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-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Волков 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урс  чтецов  «Виктори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Тен Елизав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урс  чтецов «Виктори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Гоненко Людми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урс  чтецов «Виктори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итель1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Гоненко Людми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урс  чтецов «Виктори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" name="Picture 42" descr="F:\HPSCANS\сканирование0010.jpg"/>
          <p:cNvPicPr/>
          <p:nvPr/>
        </p:nvPicPr>
        <p:blipFill>
          <a:blip r:embed="rId1"/>
          <a:srcRect l="4363" t="0" r="0" b="4157"/>
          <a:stretch/>
        </p:blipFill>
        <p:spPr>
          <a:xfrm rot="20325000">
            <a:off x="263520" y="4479480"/>
            <a:ext cx="1352520" cy="1706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C:\Users\Марина\Desktop\Грамоты\сканирование0009.jpg"/>
          <p:cNvPicPr/>
          <p:nvPr/>
        </p:nvPicPr>
        <p:blipFill>
          <a:blip r:embed="rId2"/>
          <a:stretch/>
        </p:blipFill>
        <p:spPr>
          <a:xfrm rot="20467200">
            <a:off x="1152000" y="4884840"/>
            <a:ext cx="1409760" cy="1793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66"/>
          <p:cNvPicPr/>
          <p:nvPr/>
        </p:nvPicPr>
        <p:blipFill>
          <a:blip r:embed="rId3"/>
          <a:stretch/>
        </p:blipFill>
        <p:spPr>
          <a:xfrm>
            <a:off x="8190000" y="5735520"/>
            <a:ext cx="954000" cy="11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1403280" y="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езультаты участия обучающихся в конкурсах, фестивалях в межаттестационный  пери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50920" y="981000"/>
          <a:ext cx="8712000" cy="5886360"/>
        </p:xfrm>
        <a:graphic>
          <a:graphicData uri="http://schemas.openxmlformats.org/drawingml/2006/table">
            <a:tbl>
              <a:tblPr/>
              <a:tblGrid>
                <a:gridCol w="933480"/>
                <a:gridCol w="1763640"/>
                <a:gridCol w="2550960"/>
                <a:gridCol w="1833840"/>
                <a:gridCol w="1630080"/>
              </a:tblGrid>
              <a:tr h="6292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.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.И. уч-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конкур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200">
                <a:tc rowSpan="2">
                  <a:txBody>
                    <a:bodyPr lIns="47520" rIns="47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-20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вловская Али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урс  чтецов «Живая класси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овален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урс сочинений «Без срока давност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 rowSpan="3">
                  <a:txBody>
                    <a:bodyPr lIns="47520" rIns="47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вловская Али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урс  чтецов «Живая класси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ко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ачёв Вади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урс  сочинений «Без срока давност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вловская Али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урс чтецов  «Виктори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Picture 49" descr="C:\Users\пк\Desktop\Дети грамоты\Виктория область Павловская  участник 20-21.jpg"/>
          <p:cNvPicPr/>
          <p:nvPr/>
        </p:nvPicPr>
        <p:blipFill>
          <a:blip r:embed="rId1"/>
          <a:stretch/>
        </p:blipFill>
        <p:spPr>
          <a:xfrm rot="20698200">
            <a:off x="109440" y="5317920"/>
            <a:ext cx="1065240" cy="1465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0" descr="C:\Users\пк\Desktop\Дети грамоты\Сертификат Без срока давности. Коноваленко А 19-20.png"/>
          <p:cNvPicPr/>
          <p:nvPr/>
        </p:nvPicPr>
        <p:blipFill>
          <a:blip r:embed="rId2"/>
          <a:stretch/>
        </p:blipFill>
        <p:spPr>
          <a:xfrm>
            <a:off x="250920" y="2421000"/>
            <a:ext cx="884160" cy="1224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7" descr="C:\Users\пк\Desktop\Дети грамоты\классика алиса  муниц победитель 19-20.jpg"/>
          <p:cNvPicPr/>
          <p:nvPr/>
        </p:nvPicPr>
        <p:blipFill>
          <a:blip r:embed="rId3"/>
          <a:stretch/>
        </p:blipFill>
        <p:spPr>
          <a:xfrm>
            <a:off x="8666280" y="1268280"/>
            <a:ext cx="1162080" cy="151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0" descr="C:\Users\пк\Desktop\Дети грамоты\Классика шк. этап Павловская победитель 2 место 20-21.jpg"/>
          <p:cNvPicPr/>
          <p:nvPr/>
        </p:nvPicPr>
        <p:blipFill>
          <a:blip r:embed="rId4"/>
          <a:stretch/>
        </p:blipFill>
        <p:spPr>
          <a:xfrm>
            <a:off x="8647200" y="3645000"/>
            <a:ext cx="10461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1403280" y="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езультаты участия обучающихся в конкурсах, фестивалях в межаттестационный  пери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50920" y="1557360"/>
          <a:ext cx="8712000" cy="3510000"/>
        </p:xfrm>
        <a:graphic>
          <a:graphicData uri="http://schemas.openxmlformats.org/drawingml/2006/table">
            <a:tbl>
              <a:tblPr/>
              <a:tblGrid>
                <a:gridCol w="933480"/>
                <a:gridCol w="1763640"/>
                <a:gridCol w="2344680"/>
                <a:gridCol w="2040120"/>
                <a:gridCol w="1630080"/>
              </a:tblGrid>
              <a:tr h="9720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.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.И. уч-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конкур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9000">
                <a:tc rowSpan="2">
                  <a:txBody>
                    <a:bodyPr lIns="47520" rIns="47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нокуров Максимили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международный конкурс по литературе «Старт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дународ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вловская Али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ник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5" name="Picture 2" descr="C:\Users\пк\Desktop\Дети грамоты\Междунар. кокурс Старт  участик литер 20-21.jpg"/>
          <p:cNvPicPr/>
          <p:nvPr/>
        </p:nvPicPr>
        <p:blipFill>
          <a:blip r:embed="rId1"/>
          <a:stretch/>
        </p:blipFill>
        <p:spPr>
          <a:xfrm rot="20418000">
            <a:off x="-193680" y="3163680"/>
            <a:ext cx="1317600" cy="1860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пк\Desktop\Дети грамоты\Ученик года 2020-2021.jpg"/>
          <p:cNvPicPr/>
          <p:nvPr/>
        </p:nvPicPr>
        <p:blipFill>
          <a:blip r:embed="rId2"/>
          <a:stretch/>
        </p:blipFill>
        <p:spPr>
          <a:xfrm rot="1048800">
            <a:off x="260280" y="4673520"/>
            <a:ext cx="1636920" cy="1984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66"/>
          <p:cNvPicPr/>
          <p:nvPr/>
        </p:nvPicPr>
        <p:blipFill>
          <a:blip r:embed="rId3"/>
          <a:stretch/>
        </p:blipFill>
        <p:spPr>
          <a:xfrm>
            <a:off x="8190000" y="5516640"/>
            <a:ext cx="954000" cy="112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1403280" y="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езультаты участия обучающихся в конкурсах, фестивалях в межаттестационный  пери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50920" y="981000"/>
          <a:ext cx="8712000" cy="5272200"/>
        </p:xfrm>
        <a:graphic>
          <a:graphicData uri="http://schemas.openxmlformats.org/drawingml/2006/table">
            <a:tbl>
              <a:tblPr/>
              <a:tblGrid>
                <a:gridCol w="933480"/>
                <a:gridCol w="1763640"/>
                <a:gridCol w="2550960"/>
                <a:gridCol w="1833840"/>
                <a:gridCol w="1630080"/>
              </a:tblGrid>
              <a:tr h="6292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.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.И. уч-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конкур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2040">
                <a:tc rowSpan="3">
                  <a:txBody>
                    <a:bodyPr lIns="47520" rIns="47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вловская Али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укало Ден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урс чтецов  «Виктор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инакова Викто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урс сочинений «Без срока давност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вловская Али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орческий читательский онлайн-марафон «С любовью о земле сахалинско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" descr="C:\Users\пк\Desktop\Дети грамоты\Стукало Д. Виктория муниц этап 21-22.JPG"/>
          <p:cNvPicPr/>
          <p:nvPr/>
        </p:nvPicPr>
        <p:blipFill>
          <a:blip r:embed="rId1"/>
          <a:stretch/>
        </p:blipFill>
        <p:spPr>
          <a:xfrm rot="20486400">
            <a:off x="179280" y="2204640"/>
            <a:ext cx="993960" cy="1368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Users\пк\Desktop\Дети грамоты\Обл. библ. конкурс победитель Павловская 21-22.jpg"/>
          <p:cNvPicPr/>
          <p:nvPr/>
        </p:nvPicPr>
        <p:blipFill>
          <a:blip r:embed="rId2"/>
          <a:stretch/>
        </p:blipFill>
        <p:spPr>
          <a:xfrm rot="20923800">
            <a:off x="250560" y="5084640"/>
            <a:ext cx="1063440" cy="1463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66"/>
          <p:cNvPicPr/>
          <p:nvPr/>
        </p:nvPicPr>
        <p:blipFill>
          <a:blip r:embed="rId3"/>
          <a:stretch/>
        </p:blipFill>
        <p:spPr>
          <a:xfrm>
            <a:off x="8190000" y="5950080"/>
            <a:ext cx="954000" cy="112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1332000" y="33336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езультаты участия обучающихся  олимпиадах в межаттестационный  пери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24000" y="1628640"/>
          <a:ext cx="8496000" cy="4778640"/>
        </p:xfrm>
        <a:graphic>
          <a:graphicData uri="http://schemas.openxmlformats.org/drawingml/2006/table">
            <a:tbl>
              <a:tblPr/>
              <a:tblGrid>
                <a:gridCol w="1873080"/>
                <a:gridCol w="1595520"/>
                <a:gridCol w="1913040"/>
                <a:gridCol w="920520"/>
                <a:gridCol w="860400"/>
                <a:gridCol w="1333440"/>
              </a:tblGrid>
              <a:tr h="765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звание олимпиа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2320"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ероссийская олимпиада школь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9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ер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-20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ер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-20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 4 (русский яз) Участник 2(лит-р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бедитель 1 (лит-р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17" descr="D:\для фотошопа\для сборки виньетки\КАРТИНКИ\526c9d73020a.png"/>
          <p:cNvPicPr/>
          <p:nvPr/>
        </p:nvPicPr>
        <p:blipFill>
          <a:blip r:embed="rId1"/>
          <a:stretch/>
        </p:blipFill>
        <p:spPr>
          <a:xfrm rot="20961600">
            <a:off x="468000" y="4746600"/>
            <a:ext cx="1176120" cy="1684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66"/>
          <p:cNvPicPr/>
          <p:nvPr/>
        </p:nvPicPr>
        <p:blipFill>
          <a:blip r:embed="rId2"/>
          <a:stretch/>
        </p:blipFill>
        <p:spPr>
          <a:xfrm>
            <a:off x="8190000" y="5950080"/>
            <a:ext cx="954000" cy="112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2071800" y="260280"/>
            <a:ext cx="707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истанционные  предметные олимпиа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42960" y="1773360"/>
          <a:ext cx="8072280" cy="3600360"/>
        </p:xfrm>
        <a:graphic>
          <a:graphicData uri="http://schemas.openxmlformats.org/drawingml/2006/table">
            <a:tbl>
              <a:tblPr/>
              <a:tblGrid>
                <a:gridCol w="2468520"/>
                <a:gridCol w="2032200"/>
                <a:gridCol w="3571560"/>
              </a:tblGrid>
              <a:tr h="360036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дународные интернет-олимпиады для учащихся  по русскому язы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11 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2060"/>
                          </a:solidFill>
                          <a:uFillTx/>
                          <a:latin typeface="Arial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тельный порт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«Солнечный свет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плом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тепени –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плом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тепени –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pic>
        <p:nvPicPr>
          <p:cNvPr id="79" name="Picture 30" descr="C:\Users\Марина\Desktop\Дипломы\2f136764456682f40900e6c93bed27b2.jpg"/>
          <p:cNvPicPr/>
          <p:nvPr/>
        </p:nvPicPr>
        <p:blipFill>
          <a:blip r:embed="rId1"/>
          <a:stretch/>
        </p:blipFill>
        <p:spPr>
          <a:xfrm>
            <a:off x="5292720" y="2781360"/>
            <a:ext cx="1181160" cy="1739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2" descr="C:\Users\Марина\Desktop\Дипломы\87fc3a7c8da37b24109aed2b3b480608.jpg"/>
          <p:cNvPicPr/>
          <p:nvPr/>
        </p:nvPicPr>
        <p:blipFill>
          <a:blip r:embed="rId2"/>
          <a:stretch/>
        </p:blipFill>
        <p:spPr>
          <a:xfrm>
            <a:off x="7020000" y="2852640"/>
            <a:ext cx="1143000" cy="1617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Марина\Desktop\Дипломы\06ab53b248f3ea6ed4558bf8672bebd1.jpg"/>
          <p:cNvPicPr/>
          <p:nvPr/>
        </p:nvPicPr>
        <p:blipFill>
          <a:blip r:embed="rId3"/>
          <a:stretch/>
        </p:blipFill>
        <p:spPr>
          <a:xfrm>
            <a:off x="7380360" y="3789360"/>
            <a:ext cx="1127160" cy="1593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C:\Users\Марина\Desktop\Дипломы\3b791b8162a6135a53b56ab9b7849b32.jpg"/>
          <p:cNvPicPr/>
          <p:nvPr/>
        </p:nvPicPr>
        <p:blipFill>
          <a:blip r:embed="rId4"/>
          <a:stretch/>
        </p:blipFill>
        <p:spPr>
          <a:xfrm>
            <a:off x="5867280" y="3716280"/>
            <a:ext cx="1122480" cy="1571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7" descr="D:\для фотошопа\для сборки виньетки\КАРТИНКИ\526c9d73020a.png"/>
          <p:cNvPicPr/>
          <p:nvPr/>
        </p:nvPicPr>
        <p:blipFill>
          <a:blip r:embed="rId5"/>
          <a:stretch/>
        </p:blipFill>
        <p:spPr>
          <a:xfrm rot="21216600">
            <a:off x="90360" y="4352400"/>
            <a:ext cx="1176480" cy="1684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66"/>
          <p:cNvPicPr/>
          <p:nvPr/>
        </p:nvPicPr>
        <p:blipFill>
          <a:blip r:embed="rId6"/>
          <a:stretch/>
        </p:blipFill>
        <p:spPr>
          <a:xfrm>
            <a:off x="8190000" y="5735520"/>
            <a:ext cx="954000" cy="11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2"/>
          <p:cNvSpPr/>
          <p:nvPr/>
        </p:nvSpPr>
        <p:spPr>
          <a:xfrm>
            <a:off x="2071800" y="260280"/>
            <a:ext cx="707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истанционные  предметные олимпиа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68360" y="1628640"/>
          <a:ext cx="8353440" cy="4608720"/>
        </p:xfrm>
        <a:graphic>
          <a:graphicData uri="http://schemas.openxmlformats.org/drawingml/2006/table">
            <a:tbl>
              <a:tblPr/>
              <a:tblGrid>
                <a:gridCol w="2554200"/>
                <a:gridCol w="2559240"/>
                <a:gridCol w="3240000"/>
              </a:tblGrid>
              <a:tr h="460872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Международные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нет- олимпиады для учащихся  по русскому язы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11 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2060"/>
                          </a:solidFill>
                          <a:uFillTx/>
                          <a:latin typeface="Arial"/>
                        </a:rPr>
                        <a:t>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тельный порт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«Солнечный свет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Диплом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</a:t>
                      </a: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степен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литература – 5 чел. русский язык – 1 чел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pic>
        <p:nvPicPr>
          <p:cNvPr id="87" name="Picture 17" descr="D:\для фотошопа\для сборки виньетки\КАРТИНКИ\526c9d73020a.png"/>
          <p:cNvPicPr/>
          <p:nvPr/>
        </p:nvPicPr>
        <p:blipFill>
          <a:blip r:embed="rId1"/>
          <a:stretch/>
        </p:blipFill>
        <p:spPr>
          <a:xfrm rot="21216600">
            <a:off x="90360" y="4352400"/>
            <a:ext cx="1176480" cy="1684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пк\Desktop\Дети грамоты\Им Кристина 21-22.JPG"/>
          <p:cNvPicPr/>
          <p:nvPr/>
        </p:nvPicPr>
        <p:blipFill>
          <a:blip r:embed="rId2"/>
          <a:stretch/>
        </p:blipFill>
        <p:spPr>
          <a:xfrm>
            <a:off x="5867280" y="2852640"/>
            <a:ext cx="1081080" cy="1586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5" descr="C:\Users\пк\Desktop\Кочергина Э. Лит.JPG"/>
          <p:cNvPicPr/>
          <p:nvPr/>
        </p:nvPicPr>
        <p:blipFill>
          <a:blip r:embed="rId3"/>
          <a:stretch/>
        </p:blipFill>
        <p:spPr>
          <a:xfrm>
            <a:off x="7596360" y="2852640"/>
            <a:ext cx="1044360" cy="1513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6" descr="C:\Users\пк\Desktop\Кирилаха П. Лит.JPG"/>
          <p:cNvPicPr/>
          <p:nvPr/>
        </p:nvPicPr>
        <p:blipFill>
          <a:blip r:embed="rId4"/>
          <a:stretch/>
        </p:blipFill>
        <p:spPr>
          <a:xfrm>
            <a:off x="5508720" y="4076640"/>
            <a:ext cx="1150920" cy="1513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7" descr="C:\Users\пк\Desktop\Костенко  Н. Лит.JPG"/>
          <p:cNvPicPr/>
          <p:nvPr/>
        </p:nvPicPr>
        <p:blipFill>
          <a:blip r:embed="rId5"/>
          <a:stretch/>
        </p:blipFill>
        <p:spPr>
          <a:xfrm>
            <a:off x="7812000" y="4076640"/>
            <a:ext cx="1152720" cy="1546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8" descr="C:\Users\пк\Desktop\Горбунов Лит.JPG"/>
          <p:cNvPicPr/>
          <p:nvPr/>
        </p:nvPicPr>
        <p:blipFill>
          <a:blip r:embed="rId6"/>
          <a:stretch/>
        </p:blipFill>
        <p:spPr>
          <a:xfrm>
            <a:off x="6659640" y="3213000"/>
            <a:ext cx="1098360" cy="1440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9" descr="C:\Users\пк\Desktop\Горбунов РЯ.JPG"/>
          <p:cNvPicPr/>
          <p:nvPr/>
        </p:nvPicPr>
        <p:blipFill>
          <a:blip r:embed="rId7"/>
          <a:stretch/>
        </p:blipFill>
        <p:spPr>
          <a:xfrm>
            <a:off x="6659640" y="4724280"/>
            <a:ext cx="115236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учно-методическая деятельность</a:t>
            </a:r>
            <a:br>
              <a:rPr sz="3600"/>
            </a:b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частие в семинарах, конференция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астие в семинарах,  конференц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14200" y="1500120"/>
          <a:ext cx="8643960" cy="4411800"/>
        </p:xfrm>
        <a:graphic>
          <a:graphicData uri="http://schemas.openxmlformats.org/drawingml/2006/table">
            <a:tbl>
              <a:tblPr/>
              <a:tblGrid>
                <a:gridCol w="1405080"/>
                <a:gridCol w="7238880"/>
              </a:tblGrid>
              <a:tr h="43344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-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ятый класс: в зоне особого вним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9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разовательные технологии как элемент обучения в рамках реализации ФГ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-20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пользование эффективных форм и методов работы учителя по ликвидации пробелов знаний по итогам ВПР, ГИ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стовые технологии в условиях реализации ФГ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68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-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ческие приёмы критического мышления, используемые на уроках русского языка и литератур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текущего контроля успеваемости как обеспечение объективности оценивания уровня подготовки выпускников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97" name="Picture 6" descr="66"/>
          <p:cNvPicPr/>
          <p:nvPr/>
        </p:nvPicPr>
        <p:blipFill>
          <a:blip r:embed="rId1"/>
          <a:stretch/>
        </p:blipFill>
        <p:spPr>
          <a:xfrm>
            <a:off x="8190000" y="5950080"/>
            <a:ext cx="954000" cy="1122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09:56:41Z</dcterms:created>
  <dc:creator>admin</dc:creator>
  <dc:description/>
  <dc:language>en-US</dc:language>
  <cp:lastModifiedBy>пк</cp:lastModifiedBy>
  <dcterms:modified xsi:type="dcterms:W3CDTF">2022-04-18T11:38:31Z</dcterms:modified>
  <cp:revision>291</cp:revision>
  <dc:subject/>
  <dc:title>Слайд 1</dc:title>
</cp:coreProperties>
</file>