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E77-C25F-4490-88F3-5381479E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375-8AB3-4722-9876-470742D0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C60-8295-4959-A8E8-3B68734C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7C0-CD16-4C8D-93BE-A083A00C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E4F9-A404-4405-B9CB-EA2443E3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C23C-DEBD-40F7-AB99-7514C3F5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B089-9086-4A87-B811-7276A968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B7AC-A784-43EB-B87A-30C66EBF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D10C-8EB0-4CA5-9211-3940EC0F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3A07-F57B-4AE6-9502-DF2C0774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F480-DB6D-45B3-A8B2-29BA6598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E30-AB46-4D77-951C-354C97DD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1363-3021-475A-999E-E81F4F0A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16E0-3E40-434A-9C7B-C2C4E09E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55CE-6B4B-403C-BF30-315E7F62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C29B-9EF6-465C-87B7-F7DF6B20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E515-E440-478D-AFF6-706C5109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1C5-C256-46CE-9C1E-47CD9B62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3E2-42A2-4AC7-BAF6-D17DC612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6BD-8D54-42D1-8210-E6249EE4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FB0-D3B5-47C2-9521-F98428B8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61F-4925-4F62-9A04-D9ABADA8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924-56A1-4288-A1C5-18430AFE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441-28F6-4B1A-A304-292B9457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C4A7-88EA-43CF-9AE8-CD8AF774356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473B-49AA-4FC6-AB31-441BF3AD68B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628280"/>
            <a:ext cx="7545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99"/>
                </a:solidFill>
                <a:latin typeface="Garamond"/>
              </a:rPr>
              <a:t>Артикуляционная гимнастика для развития речи дошкольников</a:t>
            </a:r>
            <a:endParaRPr b="0" lang="en-US" sz="46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«Заборчик»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361008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улыбнуться, с напряжением обнажив сомкнутые зуб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032360" cy="254808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«Дудочка»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32360" y="2276640"/>
            <a:ext cx="3610080" cy="37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с напряжением вытянуть вперед губы (зубы сомкнуты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4249800" cy="288900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«Чистим зубки»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610080" cy="40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улыбнуться, открыть ро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кончиком языка с внутренней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стороны «почистить»  нижние и верхние зуб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291120" cy="432108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«Слоник пьёт»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6720" y="2133720"/>
            <a:ext cx="361008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вытянув вперёд губы трубочкой, образовать «хобот слоник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«набирать водичку», слегка при этом причмоки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521160" cy="352908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«Часики»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610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улыбнуться, открыть ро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кончик языка (как часовую стрелку) переводить из одного уголка рта в друг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327480" cy="38876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«Пароход гудит»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3640" y="2204640"/>
            <a:ext cx="3610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губы в улыб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ткрыть ро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 напряжением произнести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долгое «ы-ы-ы..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4103640" cy="302580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«Лошадка»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36100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тянуть губ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открыть ро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цокатъ "узким"языком.(как цокают копытами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лошад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103640" cy="317160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95280" y="52920"/>
            <a:ext cx="8209080" cy="6257520"/>
            <a:chOff x="395280" y="52920"/>
            <a:chExt cx="8209080" cy="6257520"/>
          </a:xfrm>
        </p:grpSpPr>
        <p:sp>
          <p:nvSpPr>
            <p:cNvPr id="88" name=""/>
            <p:cNvSpPr/>
            <p:nvPr/>
          </p:nvSpPr>
          <p:spPr>
            <a:xfrm>
              <a:off x="3655440" y="333360"/>
              <a:ext cx="1571760" cy="236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cccc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26640" y="3858480"/>
              <a:ext cx="1746360" cy="245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cccc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5280" y="425160"/>
              <a:ext cx="8209080" cy="58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7560" y="2570760"/>
              <a:ext cx="3143880" cy="14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cccc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880" y="2509560"/>
              <a:ext cx="3143880" cy="14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cccc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480800">
              <a:off x="4878000" y="884880"/>
              <a:ext cx="3318480" cy="138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cccc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9480800">
              <a:off x="889920" y="4225680"/>
              <a:ext cx="3318480" cy="112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cccc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265600">
              <a:off x="889920" y="884520"/>
              <a:ext cx="3114720" cy="128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cccc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265600">
              <a:off x="4669920" y="4348800"/>
              <a:ext cx="3410280" cy="100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cccc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72080" y="486360"/>
              <a:ext cx="1338840" cy="171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00"/>
                  </a:solidFill>
                  <a:latin typeface="Times New Roman"/>
                </a:rPr>
                <a:t>Артикуляцион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00"/>
                  </a:solidFill>
                  <a:latin typeface="Times New Roman"/>
                </a:rPr>
                <a:t>ной гимнастикой называются специальные упражнения для развития подвижности, ловкости языка, губ, щек, уздечки</a:t>
              </a:r>
              <a:r>
                <a:rPr b="0" i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9429200">
              <a:off x="5186880" y="1073520"/>
              <a:ext cx="279468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Мы выполняем гимнастику для рук, ног, чтобы они стали сильными, ловкими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. </a:t>
              </a: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Такая же гимнастика необходима и для речевых органов, где язык (главная мышца) нуждается в достаточно хорошем развитии для выполнения тонких целенаправленных движений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400600">
              <a:off x="1151640" y="1099080"/>
              <a:ext cx="2557440" cy="10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Не огорчайтесь, если некоторые упражнения не будут получаться с первого раза.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Попробуйте повторять их вместе с ребенком. Будьте терпеливы, ласковы и спокойны, и у вас все получится.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9920" y="2999880"/>
              <a:ext cx="2481480" cy="6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00"/>
                  </a:solidFill>
                  <a:latin typeface="Times New Roman"/>
                </a:rPr>
                <a:t>Детям </a:t>
              </a: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5—7 </a:t>
              </a:r>
              <a:r>
                <a:rPr b="1" i="1" lang="ru-RU" sz="900" spc="-1" strike="noStrike">
                  <a:solidFill>
                    <a:srgbClr val="000000"/>
                  </a:solidFill>
                  <a:latin typeface="Times New Roman"/>
                </a:rPr>
                <a:t>лет и далее артикуляционная гимнастика поможет преодолеть уже сложившиеся наруш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9531800">
              <a:off x="1384560" y="4409640"/>
              <a:ext cx="2481480" cy="6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Times New Roman"/>
                </a:rPr>
                <a:t>Артикуляционную гимнастику лучше всего проводить в виде сказки,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5—7 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Times New Roman"/>
                </a:rPr>
                <a:t>мину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7120" y="2754720"/>
              <a:ext cx="2503440" cy="12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Times New Roman"/>
                </a:rPr>
                <a:t>Детям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2—4 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Times New Roman"/>
                </a:rPr>
                <a:t>лет артикуляционная гимнастика поможет обрести целенаправленность движений языка. Помните, что в этом возрасте вы помогаете малышу достичь правильного звукопроизнош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493000">
              <a:off x="4878000" y="4532760"/>
              <a:ext cx="2707200" cy="6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В начальный период артикуляционную гимнастику необходимо выполнять перед зеркал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72080" y="4226040"/>
              <a:ext cx="1484640" cy="20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Times New Roman"/>
                </a:rPr>
                <a:t>Ребенок должен видеть, что делает язык. Мы, взрослые, не задумываемся, где находится в данный момент язык (за верхними или за нижними зубами). У нас автоматизированный навык, а ребенку необходимо через зрительное восприятие обрести этот автоматизм, постоянно упражняяс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2520" y="1988640"/>
              <a:ext cx="2095920" cy="22068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50000">
                  <a:srgbClr val="ffffff"/>
                </a:gs>
                <a:gs pos="100000">
                  <a:srgbClr val="ff0066"/>
                </a:gs>
              </a:gsLst>
              <a:lin ang="54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12-11-2005 20;07;05" descr=""/>
            <p:cNvPicPr/>
            <p:nvPr/>
          </p:nvPicPr>
          <p:blipFill>
            <a:blip r:embed="rId1"/>
            <a:stretch/>
          </p:blipFill>
          <p:spPr>
            <a:xfrm>
              <a:off x="3684600" y="2141640"/>
              <a:ext cx="1548000" cy="175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277920"/>
          <a:ext cx="8229600" cy="5825880"/>
        </p:xfrm>
        <a:graphic>
          <a:graphicData uri="http://schemas.openxmlformats.org/drawingml/2006/table">
            <a:tbl>
              <a:tblPr/>
              <a:tblGrid>
                <a:gridCol w="2521080"/>
                <a:gridCol w="2815920"/>
                <a:gridCol w="289260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Georgia"/>
                        </a:rPr>
                        <a:t>Возрастная норма появления зву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Georgia"/>
                        </a:rPr>
                        <a:t>Физиологические заме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Georgia"/>
                        </a:rPr>
                        <a:t>Патологические заме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 года - «С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, т, 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, 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 года - «З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ь, д, 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, 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 года - «Ш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, т, сь, 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, 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 года - «Ж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ь, д, зь, 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, 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-6 лет - «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, ль, 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, г, в, н, э, ы, 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-6 лет - «Л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, в, 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, г, н, у, ы, э, 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-6 лет - «Л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,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, г, н, у, ы, э, 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Артикуляционная гимнастика для развития речи дошкольников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Ребенок учится произносить различные звуки благодаря хорошей подвижности и дифференцированной работе органов артикуляционного аппарата. Точность, сила, объем движений развиваются у ребенка постепенно. Взрослые могут помочь ему в этом проведением артикуляционной гимнасти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 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Артикуляционная гимнастика способствует выработке движений речевых органов, необходимых для правильного произношения звуков и для объединения простых движений в сложные артикуляционные уклады различных фонем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Рекомендации по проведению АГ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-2 мин.ежедневно, лучше перед завтра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Не более 2-3 упр. за один раз (одно упражнение ново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Подбор упражнений от простого к сложно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Эмоциональное проведение (игровая форм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Выполнять АГ сид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Ребенок должен хорошо видеть лицо взросл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Взрослый следит за качеством выполнения упражн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Артикуляционная гимнастика как основа правильного произношения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Для правильного произношения нужны сильные, упругие и подвижные язык, губы, мягкое нёбо. Все эти речевые органы состоят из мышц. Необходимо тренировать мышцы языка и губ. Для этого и существует специальная гимнастика, которая называется артикуляцион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Артикуляционная гимнастика является подготовительным этапом при постановке звуков. Упражнения подбирают в соответствии с тем какие звуки нарушены у ребёнк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Методика выполнения упражнений артикуляционной гимнастики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Упражнения выполняются от простого к сложно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Сначала упражнения выполняются перед зеркалом в медленном тем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На первых занятиях каждое упражнение выполняют два раза. Затем каждое упражнение выполняют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0-15 р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Проводить артикуляционную гимнастику надо ежеднев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Если у ребёнка не получается какое-то движение можно использовать механическую помощ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Занятия должны проходить в игровой форме. Можно привлечь любимую игруш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Сказка о Весёлом Язычке</a:t>
            </a:r>
            <a:br>
              <a:rPr sz="3800"/>
            </a:b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Жил да был Весёлый Язычок. У него был домик. Это рот. Чтобы Весёлый Язычок не выбегал, его домик всегда был закрыт. А дверей в доме д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ервая дверь - это губы. Давай её откроем (упражнение «Лягушки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Вторая дверь- это зубы. Откроем и её (упражнение «Окошко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Что же делает наш язычок? Он спит. У него есть мягкая подушка – твоя губка (упражнение «Лопаточк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конец он проснулся, высунулся на улицу (упражнение «Иголочк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осмотрел направо, потом налево (упражнение «Часики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огода хорошая, светит солнышко. Захотелось язычку погулять. Вышел он во двор, увидел качели. Решил покачаться (упражнение «Качели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отом увидел наш Язычок лошадку и захотелось ему на ней покататься (упражнение «Лошадк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гулялся язычок и отправился домой. Закрыл сначала вторую дверь - зубы (упражнение «Лягушки»), а затем первую- губы (сомкнуть губ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Комплекс артикуляционной гимнастики «Окошко»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2349360"/>
            <a:ext cx="40384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широко открыть рот — «жарко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закрыть рот — «холодно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1360" y="1628640"/>
            <a:ext cx="3268440" cy="43214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57:51Z</dcterms:created>
  <dc:creator>Capricornus</dc:creator>
  <dc:description/>
  <dc:language>en-US</dc:language>
  <cp:lastModifiedBy>Capricornus</cp:lastModifiedBy>
  <dcterms:modified xsi:type="dcterms:W3CDTF">2009-03-22T15:13:47Z</dcterms:modified>
  <cp:revision>10</cp:revision>
  <dc:subject/>
  <dc:title>Артикуляционная гимнастика для развития речи дошкольников</dc:title>
</cp:coreProperties>
</file>