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DAF-D9A5-4E37-B56B-F2EC6B22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EE0-3D74-4D29-8B77-CFB1FE5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DB7-03B7-46FD-B6E1-38751B32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114-336F-4A59-8EBF-57FE91B8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46D-4853-4334-89D5-8C9B2E7B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61A-ED16-4980-872E-CD146CB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88F-8359-4EFD-9B92-24C507ED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9AC2-5B3C-4C1E-9F7E-DD90A28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49FD-AA44-4E65-841C-80FD28D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6FCC-A6BB-421D-A903-011BC1D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257-D908-49DB-89C9-97B887F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BA2-89A1-4AD5-96FC-FF4CD226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AE48-1481-4757-BC7E-BFEB3690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BFAB-48B8-4AEE-B2A0-DC64F76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120D-6B02-4C6B-8936-2A3EB9A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9BC5-B5FC-4039-8570-97CE2EF2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6EAD-1BDF-4118-BF17-D8AF7BD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17F-6A88-4C5B-A96C-41479460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234-471F-4D0C-B2C3-DE0C7EAE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B40-9863-405F-B653-465BBC6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DC0-52CD-4FBB-AE62-8E341FEC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1A3-46A3-41E7-A6F1-D375C9A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802-27B8-4E6E-BDD9-CE1D5EF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0E2-2DF6-4B8B-902A-44E1E2BA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EDC-5B24-4C29-82B0-CB9E98E4A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975-E94B-47C9-BB14-9F8C9BAAF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Что такое экономика?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кружающий мир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2 класс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: Тароева В.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г.Мурманска СОШ №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8640" y="152388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Н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1523880"/>
            <a:ext cx="192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ЭК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2000" y="178920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4160" y="1523880"/>
            <a:ext cx="122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7000" y="1523880"/>
            <a:ext cx="148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М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523880"/>
            <a:ext cx="801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Экономика – от др. греч. слов ЭКОС- дом и НОМОС- закон, буквально - правила  ведения хозяйства или  хозяйстве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48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Отрасль - совокупность предприятий, добывающих  или представляющих однородную продукц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773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6112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Чтобы мы могли выпить утром стакан молока работает несколько отраслей.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) Сельскохозяйственная. Она занимается посевом растений, пригодных для питания рогатого скота.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) Животноводство. Занимается содержанием коров и коз, а также их дойкой.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3) Затем работает пищевая промышленность. На заводе молоко пастеризуют и разливает его по упаковкам.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) Торговля. Занимается продажей молока. После упаковки молоко попадает на полки магази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97920" y="1522800"/>
            <a:ext cx="673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Я узна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Я научился различа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Я могу объяснить взаимосвяз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Я узнал о появлен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720" y="304920"/>
            <a:ext cx="45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2T14:21:19Z</dcterms:created>
  <dc:creator>79533</dc:creator>
  <dc:description/>
  <dc:language>en-US</dc:language>
  <cp:lastModifiedBy>79533080696</cp:lastModifiedBy>
  <dcterms:modified xsi:type="dcterms:W3CDTF">2021-12-12T14:57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