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BE9-CEE1-420B-B5BF-7106128E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FE2-BD09-4008-A828-D691AE22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640-A108-4298-8DAD-B226CB08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F02-B342-4181-9DB1-F739A829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A58B-2708-43F5-ADF8-25512143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B47-5E2A-452E-B9D8-2E8C3CFD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C46A-2E8C-46A2-A171-76FD9199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553-2F10-4841-B16A-0737765C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FD3-67E6-4184-A170-BF43EBA9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9A7-FD89-4E1E-BD7D-9EE6AF87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570-A2C7-4B8D-B2F7-D91DBA2E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3CA4-9091-4F14-8A37-CEDB4447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F27B-E902-43FE-AE7C-1C2489DA63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доброта.wmv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2183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9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Зачем делать добр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2296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Добро – это умение радоваться, сочувствовать, сопереживать, сострадать, откликаться на чувства других и держать свою душу открыт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чем делать добр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шапокляк.wma" descr=""/>
          <p:cNvPicPr/>
          <p:nvPr/>
        </p:nvPicPr>
        <p:blipFill>
          <a:blip r:embed="rId1"/>
          <a:stretch/>
        </p:blipFill>
        <p:spPr>
          <a:xfrm>
            <a:off x="179280" y="63644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2"/>
          <a:stretch/>
        </p:blipFill>
        <p:spPr>
          <a:xfrm>
            <a:off x="2017800" y="981000"/>
            <a:ext cx="4959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166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1" descr=""/>
          <p:cNvPicPr/>
          <p:nvPr/>
        </p:nvPicPr>
        <p:blipFill>
          <a:blip r:embed="rId1"/>
          <a:stretch/>
        </p:blipFill>
        <p:spPr>
          <a:xfrm>
            <a:off x="347760" y="2798640"/>
            <a:ext cx="8448480" cy="145584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2" descr=""/>
          <p:cNvPicPr/>
          <p:nvPr/>
        </p:nvPicPr>
        <p:blipFill>
          <a:blip r:embed="rId2"/>
          <a:stretch/>
        </p:blipFill>
        <p:spPr>
          <a:xfrm>
            <a:off x="317520" y="2792520"/>
            <a:ext cx="849168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7T20:07:29Z</dcterms:created>
  <dc:creator>Оля</dc:creator>
  <dc:description/>
  <dc:language>en-US</dc:language>
  <cp:lastModifiedBy>Малышева Ольга</cp:lastModifiedBy>
  <dcterms:modified xsi:type="dcterms:W3CDTF">2022-04-18T15:51:34Z</dcterms:modified>
  <cp:revision>11</cp:revision>
  <dc:subject/>
  <dc:title>Слайд 1</dc:title>
</cp:coreProperties>
</file>