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18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9DB-EF4F-4280-8FB2-7DAA43CB2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2FEA-713F-44B2-8CFB-7DF7A3B6C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68D-650F-4655-8DA0-348AB0E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5A6-C410-4BAC-BA8E-20F8176D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ACE-E99D-4D3F-A189-C3F1727D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D1A-48E1-4CB4-BE15-4E64F41E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03D1-F3AE-4AC9-BFBC-936C2C98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274-A297-47A0-A525-E47D7F4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046B-C1DB-4F26-8779-864F13D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B27-2BC4-4F59-B8FB-5707DD80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2C9C-C81D-4D6A-AD32-7E25173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095-3055-4BB2-87E9-3DA7648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167F-7D5F-4F8C-87AB-E05F0F0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288-B3C3-4F11-B936-534C2AD7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35A5-6236-4FF1-A2A6-245EC84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1920-93C0-422B-9BB0-E28B675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FA34-207A-4373-82CE-BDE324F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2891-A1A0-46D9-AB84-217635B6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3942-E2CB-4C1F-9F7E-AED2F8FB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85C-99AA-4FD0-BA18-787D41FD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359-E4F4-4683-96EE-EDB633CC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0B7-0B66-4B31-A5A3-840771E8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948-1047-4E2C-BFAD-ADE04511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D58-8D33-4726-B775-1DB4BA5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EC6-60DC-4C30-A0E4-0277B54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512-E3DF-492A-83AE-0F4A298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165-88C3-434B-A17C-76B60E4E2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AE2-6750-4140-9AB4-82D9A6AAD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2060"/>
              </a:solidFill>
              <a:latin typeface="Majest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рьяков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ОУ «Кулаг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Это интересно!!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читайте текст и ответьте на вопрос : что означает слово «глагол» на старославянском язы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 - необыкновенная часть речи. Необыкновенна она уже своим наз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глагол» заимствовано из старославянского языка, где оно имело значение «слово, речь», «глаголить» значило говор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 Иванович Буслаев, известный русский ученый-лингвист, так объясняет этот термин: «Глагол есть старинное речение и значит тоже, что слово: стало быть глагол есть все то, что говорит, что сказывает о предмете; потому - то глагол и бывает сказуем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глагол» постепенно утратило старое значение. Теперь это название одной из частей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Выберите слова, которые относятся к теме нашего уро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с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542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нак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ajestic"/>
              </a:rPr>
              <a:t>Правила работы в группах</a:t>
            </a: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е не тр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е не т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е 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сегда 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 – это самостоятельная часть речи, которая обозначает действие или состояние предмета, отвечает на вопросы что делать? 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 имеет форму времени, изменяется по числам, в прошедшем времени единственного числа изменяется по р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едложении является сказуем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2"/>
          <p:cNvSpPr/>
          <p:nvPr/>
        </p:nvSpPr>
        <p:spPr>
          <a:xfrm rot="21405600">
            <a:off x="4421160" y="5945040"/>
            <a:ext cx="3105000" cy="497160"/>
          </a:xfrm>
          <a:prstGeom prst="cloudCallout">
            <a:avLst>
              <a:gd name="adj1" fmla="val -143513"/>
              <a:gd name="adj2" fmla="val 18243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332000" y="333360"/>
            <a:ext cx="5545080" cy="1727280"/>
          </a:xfrm>
          <a:prstGeom prst="cloudCallout">
            <a:avLst>
              <a:gd name="adj1" fmla="val -21226"/>
              <a:gd name="adj2" fmla="val 3850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2916360" y="1989000"/>
            <a:ext cx="144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3635280" y="1989000"/>
            <a:ext cx="14472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72000" y="1268280"/>
            <a:ext cx="144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 flipH="1" rot="20368800">
            <a:off x="6010920" y="1628640"/>
            <a:ext cx="144720" cy="4316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kalendula_kopija"/>
          <p:cNvPicPr/>
          <p:nvPr/>
        </p:nvPicPr>
        <p:blipFill>
          <a:blip r:embed="rId1"/>
          <a:srcRect l="12992" t="0" r="11695" b="0"/>
          <a:stretch/>
        </p:blipFill>
        <p:spPr>
          <a:xfrm>
            <a:off x="2411280" y="5048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kalendula_kopija"/>
          <p:cNvPicPr/>
          <p:nvPr/>
        </p:nvPicPr>
        <p:blipFill>
          <a:blip r:embed="rId2"/>
          <a:srcRect l="13005" t="0" r="11675" b="0"/>
          <a:stretch/>
        </p:blipFill>
        <p:spPr>
          <a:xfrm>
            <a:off x="500364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kalendula_kopija"/>
          <p:cNvPicPr/>
          <p:nvPr/>
        </p:nvPicPr>
        <p:blipFill>
          <a:blip r:embed="rId3"/>
          <a:srcRect l="12992" t="0" r="11695" b="0"/>
          <a:stretch/>
        </p:blipFill>
        <p:spPr>
          <a:xfrm>
            <a:off x="7020000" y="49417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kalendula_kopija"/>
          <p:cNvPicPr/>
          <p:nvPr/>
        </p:nvPicPr>
        <p:blipFill>
          <a:blip r:embed="rId4"/>
          <a:srcRect l="12991" t="0" r="11692" b="0"/>
          <a:stretch/>
        </p:blipFill>
        <p:spPr>
          <a:xfrm>
            <a:off x="755640" y="4437000"/>
            <a:ext cx="938160" cy="938160"/>
          </a:xfrm>
          <a:prstGeom prst="rect">
            <a:avLst/>
          </a:prstGeom>
          <a:ln w="0">
            <a:noFill/>
          </a:ln>
        </p:spPr>
      </p:pic>
      <p:sp>
        <p:nvSpPr>
          <p:cNvPr id="127" name="Oval 24"/>
          <p:cNvSpPr/>
          <p:nvPr/>
        </p:nvSpPr>
        <p:spPr>
          <a:xfrm>
            <a:off x="5292720" y="1197000"/>
            <a:ext cx="792000" cy="792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5"/>
          <p:cNvSpPr/>
          <p:nvPr/>
        </p:nvSpPr>
        <p:spPr>
          <a:xfrm rot="1009200">
            <a:off x="5360760" y="2009520"/>
            <a:ext cx="14292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6"/>
          <p:cNvSpPr/>
          <p:nvPr/>
        </p:nvSpPr>
        <p:spPr>
          <a:xfrm rot="2878800">
            <a:off x="4836960" y="1680840"/>
            <a:ext cx="142920" cy="115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7"/>
          <p:cNvSpPr/>
          <p:nvPr/>
        </p:nvSpPr>
        <p:spPr>
          <a:xfrm rot="5400000">
            <a:off x="4570920" y="979920"/>
            <a:ext cx="14436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8"/>
          <p:cNvSpPr/>
          <p:nvPr/>
        </p:nvSpPr>
        <p:spPr>
          <a:xfrm rot="7475400">
            <a:off x="4818600" y="390960"/>
            <a:ext cx="14436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 rot="10800000">
            <a:off x="5508360" y="-360"/>
            <a:ext cx="14292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 rot="12761400">
            <a:off x="6095160" y="75960"/>
            <a:ext cx="14292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 rot="14269200">
            <a:off x="6550560" y="486000"/>
            <a:ext cx="144360" cy="11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2"/>
          <p:cNvSpPr/>
          <p:nvPr/>
        </p:nvSpPr>
        <p:spPr>
          <a:xfrm rot="16200000">
            <a:off x="6732360" y="1051920"/>
            <a:ext cx="142920" cy="115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 rot="19141800">
            <a:off x="6497640" y="1725120"/>
            <a:ext cx="142920" cy="1152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5"/>
          <p:cNvSpPr/>
          <p:nvPr/>
        </p:nvSpPr>
        <p:spPr>
          <a:xfrm rot="20882400">
            <a:off x="5938920" y="2044800"/>
            <a:ext cx="142920" cy="115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7" descr="rose125"/>
          <p:cNvPicPr/>
          <p:nvPr/>
        </p:nvPicPr>
        <p:blipFill>
          <a:blip r:embed="rId6">
            <a:lum bright="6000"/>
          </a:blip>
          <a:srcRect l="0" t="0" r="46607" b="41938"/>
          <a:stretch/>
        </p:blipFill>
        <p:spPr>
          <a:xfrm rot="9148200">
            <a:off x="4858560" y="4220640"/>
            <a:ext cx="111924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rose125"/>
          <p:cNvPicPr/>
          <p:nvPr/>
        </p:nvPicPr>
        <p:blipFill>
          <a:blip r:embed="rId7">
            <a:lum bright="6000"/>
          </a:blip>
          <a:srcRect l="0" t="0" r="46607" b="41938"/>
          <a:stretch/>
        </p:blipFill>
        <p:spPr>
          <a:xfrm rot="15785400">
            <a:off x="931320" y="4188960"/>
            <a:ext cx="11192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12605 0.43056 E">
                                      <p:cBhvr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06285 0.51435 E">
                                      <p:cBhvr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1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L 0.09462 0.49375 E">
                                      <p:cBhvr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1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6545 0.55648 E">
                                      <p:cBhvr>
                                        <p:cTn id="73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6500"/>
                            </p:stCondLst>
                            <p:childTnLst>
                              <p:par>
                                <p:cTn id="11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1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3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0.21094 0.12848 E">
                                      <p:cBhvr>
                                        <p:cTn id="153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500"/>
                            </p:stCondLst>
                            <p:childTnLst>
                              <p:par>
                                <p:cTn id="1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24601 0.14491 E">
                                      <p:cBhvr>
                                        <p:cTn id="156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42" name="Picture 2" descr="И снова утро!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С добрым утром. (Есенин Сергей, 1983г.) Библиотека :: Учеба-Легко.РФ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Есенин С.А. - С добрым утром [читает Игорь Ильин].mp3" descr=""/>
          <p:cNvPicPr/>
          <p:nvPr/>
        </p:nvPicPr>
        <p:blipFill>
          <a:blip r:embed="rId3"/>
          <a:stretch/>
        </p:blipFill>
        <p:spPr>
          <a:xfrm>
            <a:off x="85345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114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ремали звезды золо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рожало зеркало за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зжит свет на заводи ре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умянит сетку небоск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нулись сонные бере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репали шелковые к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естят зеленые сер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горят серебряные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летня заросшая 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ядилась ярким перламу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качаясь, шепчет шаловли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 добрым утро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ajestic"/>
              </a:rPr>
              <a:t>Самопроверка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рем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вез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ло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рожало зеркало за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резж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заводи р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мян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тку небоск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ыбну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н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ре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треп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елковые к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елестя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еле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реж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я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ребряны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>
            <a:off x="914400" y="2057400"/>
            <a:ext cx="152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4"/>
          <p:cNvSpPr/>
          <p:nvPr/>
        </p:nvSpPr>
        <p:spPr>
          <a:xfrm>
            <a:off x="914400" y="20574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7"/>
          <p:cNvSpPr/>
          <p:nvPr/>
        </p:nvSpPr>
        <p:spPr>
          <a:xfrm>
            <a:off x="914400" y="23623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2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6"/>
          <p:cNvSpPr/>
          <p:nvPr/>
        </p:nvSpPr>
        <p:spPr>
          <a:xfrm>
            <a:off x="914400" y="2438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летня заросша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ядила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рким перламу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качаясь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шеп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ловли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 добрым утро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838080" y="2819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8"/>
          <p:cNvSpPr/>
          <p:nvPr/>
        </p:nvSpPr>
        <p:spPr>
          <a:xfrm>
            <a:off x="1066680" y="5334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6"/>
          <p:cNvSpPr/>
          <p:nvPr/>
        </p:nvSpPr>
        <p:spPr>
          <a:xfrm>
            <a:off x="1066680" y="35053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40"/>
          <p:cNvSpPr/>
          <p:nvPr/>
        </p:nvSpPr>
        <p:spPr>
          <a:xfrm>
            <a:off x="914400" y="41911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42"/>
          <p:cNvSpPr/>
          <p:nvPr/>
        </p:nvSpPr>
        <p:spPr>
          <a:xfrm>
            <a:off x="838080" y="4952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5105520" y="24382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9"/>
          <p:cNvSpPr/>
          <p:nvPr/>
        </p:nvSpPr>
        <p:spPr>
          <a:xfrm>
            <a:off x="6477120" y="31240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7"/>
          <p:cNvSpPr/>
          <p:nvPr/>
        </p:nvSpPr>
        <p:spPr>
          <a:xfrm>
            <a:off x="914400" y="45720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особенно запом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ему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Лариса\рабочий стол\Smajlik-1024x593.jpg"/>
          <p:cNvPicPr/>
          <p:nvPr/>
        </p:nvPicPr>
        <p:blipFill>
          <a:blip r:embed="rId6"/>
          <a:stretch/>
        </p:blipFill>
        <p:spPr>
          <a:xfrm>
            <a:off x="4648320" y="2057400"/>
            <a:ext cx="40384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Иван Сергеевич Тургенев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регите наш язык, наш прекрасный русский язык – это клад, это достояние, переданное нам нашими предшественниками! Обращайтесь почтительно с этим могущественным орудием; в руках умелых оно в состоянии совершать чудес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Лариса\рабочий стол\00049371.jpg"/>
          <p:cNvPicPr/>
          <p:nvPr/>
        </p:nvPicPr>
        <p:blipFill>
          <a:blip r:embed="rId3"/>
          <a:stretch/>
        </p:blipFill>
        <p:spPr>
          <a:xfrm>
            <a:off x="717480" y="215100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Бортовой журнал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51"/>
              </a:spcBef>
              <a:buSzPct val="2742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товой  журнал  ученика 4 класса  МОАУ «Кулаг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SzPct val="2742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милия, имя исследователя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ение в начале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гадал я тему исслед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во я напис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 работать со словар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инёс пользу в работе груп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 выделил грамматическую осно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деальное задание» Какой уровень ты выбр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99"/>
              </a:spcBef>
              <a:buSzPct val="2466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ение в конце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49"/>
              </a:spcBef>
              <a:buSzPct val="4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12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ajestic"/>
              </a:rPr>
              <a:t>Источники</a:t>
            </a:r>
            <a:r>
              <a:rPr b="0" lang="ru-RU" sz="4800" spc="-1" strike="noStrike">
                <a:solidFill>
                  <a:srgbClr val="000000"/>
                </a:solidFill>
                <a:latin typeface="Majestic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004.radikal.ru/1103/d6/6c9527db1fac.png рам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070.radikal.ru/1005/25/c106eb1c9e19.png сова среди кн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eb-workspace.ru/uploads/posts/2011-04/1302382775_5tu9lsencqknrmo.jpeg марк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forum.materinstvo.ru/uploads/1254137775/post-35249-1254217825_thumb.png цветы, глобус и пр. (рабочий слай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ВЕСНА - Всемирная схемотехн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7" name="Picture 2" descr="C:\Users\Лариса\рабочий стол\podberi-dejstvie_p04_.jpg"/>
          <p:cNvPicPr/>
          <p:nvPr/>
        </p:nvPicPr>
        <p:blipFill>
          <a:blip r:embed="rId1"/>
          <a:stretch/>
        </p:blipFill>
        <p:spPr>
          <a:xfrm>
            <a:off x="2971800" y="3429000"/>
            <a:ext cx="4191120" cy="3067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28600" y="10558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Больше всего я люблю действовать, не люблю предлоги и всем известную частиц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Какая это часть реч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00000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Arial"/>
              </a:rPr>
              <a:t>Тема: Глагол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Arial"/>
              </a:rPr>
              <a:t>Роль глаголов в языке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Arial"/>
              </a:rPr>
              <a:t>Цель: 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м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 видела в 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 настоящую 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Работа со словарём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словаря  Владимира Ивановича Да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1. Слово, речь, выраж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2. Словесная речь человека, разумный говор, язык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Работа со словарём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словаря Сергея Ивановича Ожег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гол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речи, обозначающая действие или состояние, выражающая это значение в формах времени, лица, числа (в наст.вр.), рода (в прош. в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ajestic"/>
              </a:rPr>
              <a:t>Работа со словарём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этимологического словар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еского происхождения, означает «реч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Лариса</cp:lastModifiedBy>
  <dcterms:modified xsi:type="dcterms:W3CDTF">2022-03-29T12:27:47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