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18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12A-4AA3-4E5A-B7C9-492642896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985-3C7F-4D00-B06E-7D1BEC48E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3E5-71AF-43AA-B6DC-9DF6201E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043-DD26-41A4-9F69-54191D5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0AD-7854-4191-BC74-F1D9DB84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9EE-282E-4E52-8876-F96C77EF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342-FD44-4B8E-BFEA-64D6C9CE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866-8340-4157-B66E-D776DCF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BCAD-C4E0-447A-88B2-1B2E7AC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8F3-60EA-4F2F-BBA6-1BFF88A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A9F-702F-49F1-BFAF-E08A021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051B-30EE-492A-AEBE-437B8C2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416F-CB24-4514-860B-9B443CA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B97-B7EC-4976-876F-61C99841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805-92E6-4BC1-87B9-B9EED2A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2EB-37E1-4D6E-A52F-752E614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BD3A-62DA-4644-A098-80F73F70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E0CF-CCA2-458F-B5A9-EDFD6E15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5DDA-979F-4F67-9CAF-98491531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9C2-A658-4039-95D0-040B680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945-90B7-44D1-ADC5-4A457AF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05C-F57B-4AD9-9114-F298FCB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BDE-63FE-4DC1-9843-2E7C620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04D-CF2F-47A8-8BEE-0A7B209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BDD-440F-4D03-A73B-F9B3129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D3B-5630-44C0-A855-BBB1A8E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CEC-E578-47A2-9854-B4A8F536D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A8E-06C6-4A28-AAA0-0F3DAE0F5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2060"/>
              </a:solidFill>
              <a:latin typeface="Majest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рьяков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ОУ «Кулаг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Это интересно!!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читайте текст и ответьте на вопрос : что означает слово «глагол» на старославянском язы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- необыкновенная часть речи. Необыкновенна она уже своим наз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глагол» заимствовано из старославянского языка, где оно имело значение «слово, речь», «глаголить» значило говор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 Иванович Буслаев, известный русский ученый-лингвист, так объясняет этот термин: «Глагол есть старинное речение и значит тоже, что слово: стало быть глагол есть все то, что говорит, что сказывает о предмете; потому - то глагол и бывает сказуем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глагол» постепенно утратило старое значение. Теперь это название одной из частей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Выберите слова, которые относятся к теме нашего уро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нак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ajestic"/>
              </a:rPr>
              <a:t>Правила работы в группах</a:t>
            </a: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не тр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не т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сегда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– это самостоятельная часть речи, которая обозначает действие или состояние предмета, отвечает на вопросы что делать?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имеет форму времени, изменяется по числам, в прошедшем времени единственного числа изменяется по 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едложении является сказуем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2"/>
          <p:cNvSpPr/>
          <p:nvPr/>
        </p:nvSpPr>
        <p:spPr>
          <a:xfrm rot="21405600">
            <a:off x="4421160" y="5945040"/>
            <a:ext cx="3105000" cy="497160"/>
          </a:xfrm>
          <a:prstGeom prst="cloudCallout">
            <a:avLst>
              <a:gd name="adj1" fmla="val -143513"/>
              <a:gd name="adj2" fmla="val 18243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332000" y="333360"/>
            <a:ext cx="5545080" cy="1727280"/>
          </a:xfrm>
          <a:prstGeom prst="cloudCallout">
            <a:avLst>
              <a:gd name="adj1" fmla="val -21226"/>
              <a:gd name="adj2" fmla="val 3850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2916360" y="198900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3635280" y="1989000"/>
            <a:ext cx="14472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72000" y="126828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 flipH="1" rot="20368800">
            <a:off x="6010920" y="1628640"/>
            <a:ext cx="144720" cy="4316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kalendula_kopija"/>
          <p:cNvPicPr/>
          <p:nvPr/>
        </p:nvPicPr>
        <p:blipFill>
          <a:blip r:embed="rId1"/>
          <a:srcRect l="12992" t="0" r="11695" b="0"/>
          <a:stretch/>
        </p:blipFill>
        <p:spPr>
          <a:xfrm>
            <a:off x="2411280" y="5048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kalendula_kopija"/>
          <p:cNvPicPr/>
          <p:nvPr/>
        </p:nvPicPr>
        <p:blipFill>
          <a:blip r:embed="rId2"/>
          <a:srcRect l="13005" t="0" r="11675" b="0"/>
          <a:stretch/>
        </p:blipFill>
        <p:spPr>
          <a:xfrm>
            <a:off x="500364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kalendula_kopija"/>
          <p:cNvPicPr/>
          <p:nvPr/>
        </p:nvPicPr>
        <p:blipFill>
          <a:blip r:embed="rId3"/>
          <a:srcRect l="12992" t="0" r="11695" b="0"/>
          <a:stretch/>
        </p:blipFill>
        <p:spPr>
          <a:xfrm>
            <a:off x="7020000" y="49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kalendula_kopija"/>
          <p:cNvPicPr/>
          <p:nvPr/>
        </p:nvPicPr>
        <p:blipFill>
          <a:blip r:embed="rId4"/>
          <a:srcRect l="12991" t="0" r="11692" b="0"/>
          <a:stretch/>
        </p:blipFill>
        <p:spPr>
          <a:xfrm>
            <a:off x="755640" y="4437000"/>
            <a:ext cx="938160" cy="938160"/>
          </a:xfrm>
          <a:prstGeom prst="rect">
            <a:avLst/>
          </a:prstGeom>
          <a:ln w="0">
            <a:noFill/>
          </a:ln>
        </p:spPr>
      </p:pic>
      <p:sp>
        <p:nvSpPr>
          <p:cNvPr id="127" name="Oval 24"/>
          <p:cNvSpPr/>
          <p:nvPr/>
        </p:nvSpPr>
        <p:spPr>
          <a:xfrm>
            <a:off x="5292720" y="1197000"/>
            <a:ext cx="792000" cy="792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5"/>
          <p:cNvSpPr/>
          <p:nvPr/>
        </p:nvSpPr>
        <p:spPr>
          <a:xfrm rot="1009200">
            <a:off x="5360760" y="200952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6"/>
          <p:cNvSpPr/>
          <p:nvPr/>
        </p:nvSpPr>
        <p:spPr>
          <a:xfrm rot="2878800">
            <a:off x="4836960" y="168084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"/>
          <p:cNvSpPr/>
          <p:nvPr/>
        </p:nvSpPr>
        <p:spPr>
          <a:xfrm rot="5400000">
            <a:off x="4570920" y="97992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8"/>
          <p:cNvSpPr/>
          <p:nvPr/>
        </p:nvSpPr>
        <p:spPr>
          <a:xfrm rot="7475400">
            <a:off x="4818600" y="390960"/>
            <a:ext cx="14436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 rot="10800000">
            <a:off x="5508360" y="-36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 rot="12761400">
            <a:off x="6095160" y="7596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 rot="14269200">
            <a:off x="6550560" y="48600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2"/>
          <p:cNvSpPr/>
          <p:nvPr/>
        </p:nvSpPr>
        <p:spPr>
          <a:xfrm rot="16200000">
            <a:off x="6732360" y="105192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 rot="19141800">
            <a:off x="6497640" y="1725120"/>
            <a:ext cx="142920" cy="1152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5"/>
          <p:cNvSpPr/>
          <p:nvPr/>
        </p:nvSpPr>
        <p:spPr>
          <a:xfrm rot="20882400">
            <a:off x="5938920" y="204480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7" descr="rose125"/>
          <p:cNvPicPr/>
          <p:nvPr/>
        </p:nvPicPr>
        <p:blipFill>
          <a:blip r:embed="rId6">
            <a:lum bright="6000"/>
          </a:blip>
          <a:srcRect l="0" t="0" r="46607" b="41938"/>
          <a:stretch/>
        </p:blipFill>
        <p:spPr>
          <a:xfrm rot="9148200">
            <a:off x="4858560" y="4220640"/>
            <a:ext cx="111924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rose125"/>
          <p:cNvPicPr/>
          <p:nvPr/>
        </p:nvPicPr>
        <p:blipFill>
          <a:blip r:embed="rId7">
            <a:lum bright="6000"/>
          </a:blip>
          <a:srcRect l="0" t="0" r="46607" b="41938"/>
          <a:stretch/>
        </p:blipFill>
        <p:spPr>
          <a:xfrm rot="15785400">
            <a:off x="931320" y="4188960"/>
            <a:ext cx="11192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12605 0.43056 E">
                                      <p:cBhvr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06285 0.51435 E">
                                      <p:cBhvr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1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L 0.09462 0.49375 E">
                                      <p:cBhvr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1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6545 0.55648 E">
                                      <p:cBhvr>
                                        <p:cTn id="73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11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1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3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0.21094 0.12848 E">
                                      <p:cBhvr>
                                        <p:cTn id="153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500"/>
                            </p:stCondLst>
                            <p:childTnLst>
                              <p:par>
                                <p:cTn id="1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24601 0.14491 E">
                                      <p:cBhvr>
                                        <p:cTn id="15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2" name="Picture 2" descr="И снова утро!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С добрым утром. (Есенин Сергей, 1983г.) Библиотека :: Учеба-Легко.РФ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Есенин С.А. - С добрым утром [читает Игорь Ильин].mp3" descr=""/>
          <p:cNvPicPr/>
          <p:nvPr/>
        </p:nvPicPr>
        <p:blipFill>
          <a:blip r:embed="rId3"/>
          <a:stretch/>
        </p:blipFill>
        <p:spPr>
          <a:xfrm>
            <a:off x="85345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114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ремали звезды золо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рожало зеркало за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зжит свет на заводи ре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умянит сетку небоск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нулись сонные бере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репали шелковые к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естят зеленые сер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орят серебряные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летня заросшая 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ядилась ярким перламу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качаясь, шепчет шаловли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 добрым утро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ajestic"/>
              </a:rPr>
              <a:t>Самопроверка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рем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вез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рожало зеркало за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резж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заводи р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мя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тку небоск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ыбну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н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ре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треп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елковые к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елестя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еле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реж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я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ребря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>
            <a:off x="914400" y="2057400"/>
            <a:ext cx="152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4"/>
          <p:cNvSpPr/>
          <p:nvPr/>
        </p:nvSpPr>
        <p:spPr>
          <a:xfrm>
            <a:off x="914400" y="20574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7"/>
          <p:cNvSpPr/>
          <p:nvPr/>
        </p:nvSpPr>
        <p:spPr>
          <a:xfrm>
            <a:off x="914400" y="23623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2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6"/>
          <p:cNvSpPr/>
          <p:nvPr/>
        </p:nvSpPr>
        <p:spPr>
          <a:xfrm>
            <a:off x="914400" y="2438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летня заросша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ядила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качаясь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еп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ловл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 добрым утро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838080" y="2819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8"/>
          <p:cNvSpPr/>
          <p:nvPr/>
        </p:nvSpPr>
        <p:spPr>
          <a:xfrm>
            <a:off x="1066680" y="5334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6"/>
          <p:cNvSpPr/>
          <p:nvPr/>
        </p:nvSpPr>
        <p:spPr>
          <a:xfrm>
            <a:off x="1066680" y="35053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40"/>
          <p:cNvSpPr/>
          <p:nvPr/>
        </p:nvSpPr>
        <p:spPr>
          <a:xfrm>
            <a:off x="914400" y="41911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42"/>
          <p:cNvSpPr/>
          <p:nvPr/>
        </p:nvSpPr>
        <p:spPr>
          <a:xfrm>
            <a:off x="838080" y="4952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5105520" y="24382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9"/>
          <p:cNvSpPr/>
          <p:nvPr/>
        </p:nvSpPr>
        <p:spPr>
          <a:xfrm>
            <a:off x="6477120" y="3124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7"/>
          <p:cNvSpPr/>
          <p:nvPr/>
        </p:nvSpPr>
        <p:spPr>
          <a:xfrm>
            <a:off x="914400" y="45720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особенно запом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ему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Лариса\рабочий стол\Smajlik-1024x593.jpg"/>
          <p:cNvPicPr/>
          <p:nvPr/>
        </p:nvPicPr>
        <p:blipFill>
          <a:blip r:embed="rId6"/>
          <a:stretch/>
        </p:blipFill>
        <p:spPr>
          <a:xfrm>
            <a:off x="4648320" y="2057400"/>
            <a:ext cx="40384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Иван Сергеевич Тургенев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 – это клад, это достояние, переданное нам нашими предшественниками! Обращайтесь почтительно с этим могущественным орудием; в руках умелых оно в состоянии совершать чудес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Лариса\рабочий стол\00049371.jpg"/>
          <p:cNvPicPr/>
          <p:nvPr/>
        </p:nvPicPr>
        <p:blipFill>
          <a:blip r:embed="rId3"/>
          <a:stretch/>
        </p:blipFill>
        <p:spPr>
          <a:xfrm>
            <a:off x="717480" y="215100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Бортовой журнал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SzPct val="2742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товой  журнал  ученика 4 класса  МОАУ «Кулаг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SzPct val="2742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милия, имя исследователя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 в начале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гадал я тему исслед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о я напис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 работать со словар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инёс пользу в работе груп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 выделил грамматическую осно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деальное задание» Какой уровень ты выбр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 в конце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12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ajestic"/>
              </a:rPr>
              <a:t>Источники</a:t>
            </a:r>
            <a:r>
              <a:rPr b="0" lang="ru-RU" sz="4800" spc="-1" strike="noStrike">
                <a:solidFill>
                  <a:srgbClr val="000000"/>
                </a:solidFill>
                <a:latin typeface="Majestic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004.radikal.ru/1103/d6/6c9527db1fac.png рам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070.radikal.ru/1005/25/c106eb1c9e19.png сова среди кн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eb-workspace.ru/uploads/posts/2011-04/1302382775_5tu9lsencqknrmo.jpeg марк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forum.materinstvo.ru/uploads/1254137775/post-35249-1254217825_thumb.png цветы, глобус и пр. (рабочий слай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ВЕСНА - Всемирная схемотехн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7" name="Picture 2" descr="C:\Users\Лариса\рабочий стол\podberi-dejstvie_p04_.jpg"/>
          <p:cNvPicPr/>
          <p:nvPr/>
        </p:nvPicPr>
        <p:blipFill>
          <a:blip r:embed="rId1"/>
          <a:stretch/>
        </p:blipFill>
        <p:spPr>
          <a:xfrm>
            <a:off x="2971800" y="3429000"/>
            <a:ext cx="4191120" cy="3067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28600" y="10558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льше всего я люблю действовать, не люблю предлоги и всем известную частиц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кая это часть реч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Тема: Глагол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Роль глаголов в языке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Цель: 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м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 видела в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 настоящую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ловаря  Владимира Ивановича Да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1. Слово, речь, выраж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2. Словесная речь человека, разумный говор, язык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ловаря Сергея Ивановича Ожег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гол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речи, обозначающая действие или состояние, выражающая это значение в формах времени, лица, числа (в наст.вр.), рода (в прош. в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этимологического словар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еского происхождения, означает «реч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Лариса</cp:lastModifiedBy>
  <dcterms:modified xsi:type="dcterms:W3CDTF">2022-03-29T12:27:47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