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16A-95D6-43F2-91A2-E24D472A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CE4-AECF-40B1-AC50-145342A5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B47-81D9-4584-B928-BC850AA6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BC3-2363-4978-B8A6-7DB61D12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49B-55B6-4CA8-8E4C-D2BAB26B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336-4634-4EFF-B2EF-BD24B6CC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840-4F4D-4EAF-8F26-6D125659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80C-8BFA-43F8-B214-D3E8EE81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0D4-0565-4CBE-B56C-98CF0077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FAF-8A5D-4102-864C-B2C14DD5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A3D-A5E0-44C3-88D1-42298963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2EC-7340-4F80-9750-95391D55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B0AA-9C92-497E-9CE6-A2C58DEBA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 и ДЕРЕВ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и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soroka-vorona_24"/>
          <p:cNvPicPr/>
          <p:nvPr/>
        </p:nvPicPr>
        <p:blipFill>
          <a:blip r:embed="rId1"/>
          <a:stretch/>
        </p:blipFill>
        <p:spPr>
          <a:xfrm>
            <a:off x="468360" y="1128600"/>
            <a:ext cx="799308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ращивание культурных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Stn0_mhhB_ATMN_bBAEKt23EihpwnDTNNfw_bVKASRaWzOafU4"/>
          <p:cNvPicPr/>
          <p:nvPr/>
        </p:nvPicPr>
        <p:blipFill>
          <a:blip r:embed="rId1"/>
          <a:stretch/>
        </p:blipFill>
        <p:spPr>
          <a:xfrm>
            <a:off x="684360" y="1413000"/>
            <a:ext cx="770544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ревня окружена лес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ANd9GcRh3yZqr6b1_lz0l0gLef3buE_iSxiu-6z9xUvN4pmF3HN6XqSUcA"/>
          <p:cNvPicPr/>
          <p:nvPr/>
        </p:nvPicPr>
        <p:blipFill>
          <a:blip r:embed="rId1"/>
          <a:stretch/>
        </p:blipFill>
        <p:spPr>
          <a:xfrm>
            <a:off x="539640" y="1116000"/>
            <a:ext cx="828036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 (многоэтажные дом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Nd9GcRqwLzLLvKV0pi_8Q1flXlZm4pUdDkOKs-Z7mYc_4f86KAVwzwF"/>
          <p:cNvPicPr/>
          <p:nvPr/>
        </p:nvPicPr>
        <p:blipFill>
          <a:blip r:embed="rId1"/>
          <a:stretch/>
        </p:blipFill>
        <p:spPr>
          <a:xfrm>
            <a:off x="539640" y="1438200"/>
            <a:ext cx="81010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сфальтированные дор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0008-008-2"/>
          <p:cNvPicPr/>
          <p:nvPr/>
        </p:nvPicPr>
        <p:blipFill>
          <a:blip r:embed="rId1"/>
          <a:stretch/>
        </p:blipFill>
        <p:spPr>
          <a:xfrm>
            <a:off x="684360" y="148428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Nd9GcSNOTuxeqtIx32Hze2v6Oh9Pm__zzGoSPauWvrQv1D51a0DOHplHQ"/>
          <p:cNvPicPr/>
          <p:nvPr/>
        </p:nvPicPr>
        <p:blipFill>
          <a:blip r:embed="rId1"/>
          <a:stretch/>
        </p:blipFill>
        <p:spPr>
          <a:xfrm>
            <a:off x="0" y="1125360"/>
            <a:ext cx="637236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ественный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SXgXRFPfqwjm_RY1TmjC83m8uVu2pJ60uWt0Jlhn687Ow9ypGC"/>
          <p:cNvPicPr/>
          <p:nvPr/>
        </p:nvPicPr>
        <p:blipFill>
          <a:blip r:embed="rId1"/>
          <a:stretch/>
        </p:blipFill>
        <p:spPr>
          <a:xfrm>
            <a:off x="0" y="1197000"/>
            <a:ext cx="4140360" cy="275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SxcIiu_sck4WwaJCUDL0yazHKoBxurj1DfWMbxgbZsoEoPX43t"/>
          <p:cNvPicPr/>
          <p:nvPr/>
        </p:nvPicPr>
        <p:blipFill>
          <a:blip r:embed="rId2"/>
          <a:stretch/>
        </p:blipFill>
        <p:spPr>
          <a:xfrm>
            <a:off x="4500720" y="1197000"/>
            <a:ext cx="3384360" cy="26622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img-20140410110225-114"/>
          <p:cNvPicPr/>
          <p:nvPr/>
        </p:nvPicPr>
        <p:blipFill>
          <a:blip r:embed="rId3"/>
          <a:stretch/>
        </p:blipFill>
        <p:spPr>
          <a:xfrm>
            <a:off x="1619280" y="3240000"/>
            <a:ext cx="54007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и, музеи, кинотеат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Nd9GcTH86DborBtZe2GsdAaoCYTvSUKfhO3iCX3UfK995R5KAZwYeSkSA"/>
          <p:cNvPicPr/>
          <p:nvPr/>
        </p:nvPicPr>
        <p:blipFill>
          <a:blip r:embed="rId1"/>
          <a:stretch/>
        </p:blipFill>
        <p:spPr>
          <a:xfrm>
            <a:off x="324000" y="1341360"/>
            <a:ext cx="3558960" cy="551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ANd9GcQvUm3qdGxD9jeltWf_l74SPUZezK4tRgiuEG7FVzBaK68Gam3D"/>
          <p:cNvPicPr/>
          <p:nvPr/>
        </p:nvPicPr>
        <p:blipFill>
          <a:blip r:embed="rId2"/>
          <a:stretch/>
        </p:blipFill>
        <p:spPr>
          <a:xfrm>
            <a:off x="4067280" y="1268280"/>
            <a:ext cx="4610160" cy="4508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TxBwnEIvJgMpogSajYsvM2XDEbWzDyn6CQi2n1LJ0ixh4UP0Bz"/>
          <p:cNvPicPr/>
          <p:nvPr/>
        </p:nvPicPr>
        <p:blipFill>
          <a:blip r:embed="rId3"/>
          <a:stretch/>
        </p:blipFill>
        <p:spPr>
          <a:xfrm>
            <a:off x="1116000" y="1700280"/>
            <a:ext cx="6696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зованность, мало зе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Nd9GcSLeGc2qxo161-TRhc0E3JOudKzU1Q-M8CL99X4gR7SfC0br19a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ло, Деревня (дом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9127"/>
          <p:cNvPicPr/>
          <p:nvPr/>
        </p:nvPicPr>
        <p:blipFill>
          <a:blip r:embed="rId1"/>
          <a:stretch/>
        </p:blipFill>
        <p:spPr>
          <a:xfrm>
            <a:off x="250920" y="1125360"/>
            <a:ext cx="5400720" cy="4118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RJfIqiYlt7NpUM6st81_hB4JMFJj-yh8wK1ErgxkjQs21RQFR8UA"/>
          <p:cNvPicPr/>
          <p:nvPr/>
        </p:nvPicPr>
        <p:blipFill>
          <a:blip r:embed="rId2"/>
          <a:stretch/>
        </p:blipFill>
        <p:spPr>
          <a:xfrm>
            <a:off x="3319560" y="2519280"/>
            <a:ext cx="58244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елочные дор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ANd9GcTmObAntj3rX4H-VNmbDn9xHIS39X56O9PuYEGjdr0NZ9-s2pAEgg"/>
          <p:cNvPicPr/>
          <p:nvPr/>
        </p:nvPicPr>
        <p:blipFill>
          <a:blip r:embed="rId1"/>
          <a:stretch/>
        </p:blipFill>
        <p:spPr>
          <a:xfrm>
            <a:off x="1187280" y="1268280"/>
            <a:ext cx="71280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4:45:47Z</dcterms:created>
  <dc:creator>Таня</dc:creator>
  <dc:description/>
  <dc:language>en-US</dc:language>
  <cp:lastModifiedBy>анастасия костина</cp:lastModifiedBy>
  <dcterms:modified xsi:type="dcterms:W3CDTF">2021-10-29T11:08:22Z</dcterms:modified>
  <cp:revision>3</cp:revision>
  <dc:subject/>
  <dc:title>ГОРОД и ДЕРЕВНЯ</dc:title>
</cp:coreProperties>
</file>