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B6C-A1E6-4257-8D23-BD7994FD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450-41CF-4D31-8884-8C3D64E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C8F-3C55-47D5-9E86-92917844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08A-92C2-4E4D-8BE5-9EBC58F2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60D-98BB-497B-A997-116BBAA9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1F6-8BC5-4248-AAF0-64661F0F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B10-6A58-4757-8457-D3613F90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4FC-A486-4624-8877-E45BB122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B77-11C9-491D-81A2-4B4AC2B9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D79-1A96-4D99-A1D2-52E9BBA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C9A-E8B6-4BC5-9B59-30887D1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90A-532A-4BCF-B68C-3DBE079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B99B-2F70-471E-B473-1D0653A3D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и ДЕ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oroka-vorona_24"/>
          <p:cNvPicPr/>
          <p:nvPr/>
        </p:nvPicPr>
        <p:blipFill>
          <a:blip r:embed="rId1"/>
          <a:stretch/>
        </p:blipFill>
        <p:spPr>
          <a:xfrm>
            <a:off x="468360" y="1128600"/>
            <a:ext cx="79930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ращивание культурных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Stn0_mhhB_ATMN_bBAEKt23EihpwnDTNNfw_bVKASRaWzOafU4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евня окружена ле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ANd9GcRh3yZqr6b1_lz0l0gLef3buE_iSxiu-6z9xUvN4pmF3HN6XqSUcA"/>
          <p:cNvPicPr/>
          <p:nvPr/>
        </p:nvPicPr>
        <p:blipFill>
          <a:blip r:embed="rId1"/>
          <a:stretch/>
        </p:blipFill>
        <p:spPr>
          <a:xfrm>
            <a:off x="539640" y="1116000"/>
            <a:ext cx="82803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(многоэтажные дом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RqwLzLLvKV0pi_8Q1flXlZm4pUdDkOKs-Z7mYc_4f86KAVwzwF"/>
          <p:cNvPicPr/>
          <p:nvPr/>
        </p:nvPicPr>
        <p:blipFill>
          <a:blip r:embed="rId1"/>
          <a:stretch/>
        </p:blipFill>
        <p:spPr>
          <a:xfrm>
            <a:off x="539640" y="1438200"/>
            <a:ext cx="8101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сфальтирован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0008-008-2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Nd9GcSNOTuxeqtIx32Hze2v6Oh9Pm__zzGoSPauWvrQv1D51a0DOHplHQ"/>
          <p:cNvPicPr/>
          <p:nvPr/>
        </p:nvPicPr>
        <p:blipFill>
          <a:blip r:embed="rId1"/>
          <a:stretch/>
        </p:blipFill>
        <p:spPr>
          <a:xfrm>
            <a:off x="0" y="1125360"/>
            <a:ext cx="63723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ствен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SXgXRFPfqwjm_RY1TmjC83m8uVu2pJ60uWt0Jlhn687Ow9ypGC"/>
          <p:cNvPicPr/>
          <p:nvPr/>
        </p:nvPicPr>
        <p:blipFill>
          <a:blip r:embed="rId1"/>
          <a:stretch/>
        </p:blipFill>
        <p:spPr>
          <a:xfrm>
            <a:off x="0" y="1197000"/>
            <a:ext cx="414036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SxcIiu_sck4WwaJCUDL0yazHKoBxurj1DfWMbxgbZsoEoPX43t"/>
          <p:cNvPicPr/>
          <p:nvPr/>
        </p:nvPicPr>
        <p:blipFill>
          <a:blip r:embed="rId2"/>
          <a:stretch/>
        </p:blipFill>
        <p:spPr>
          <a:xfrm>
            <a:off x="4500720" y="1197000"/>
            <a:ext cx="3384360" cy="26622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img-20140410110225-114"/>
          <p:cNvPicPr/>
          <p:nvPr/>
        </p:nvPicPr>
        <p:blipFill>
          <a:blip r:embed="rId3"/>
          <a:stretch/>
        </p:blipFill>
        <p:spPr>
          <a:xfrm>
            <a:off x="1619280" y="3240000"/>
            <a:ext cx="54007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и, музеи, кинотеа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TH86DborBtZe2GsdAaoCYTvSUKfhO3iCX3UfK995R5KAZwYeSkSA"/>
          <p:cNvPicPr/>
          <p:nvPr/>
        </p:nvPicPr>
        <p:blipFill>
          <a:blip r:embed="rId1"/>
          <a:stretch/>
        </p:blipFill>
        <p:spPr>
          <a:xfrm>
            <a:off x="324000" y="1341360"/>
            <a:ext cx="3558960" cy="551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vUm3qdGxD9jeltWf_l74SPUZezK4tRgiuEG7FVzBaK68Gam3D"/>
          <p:cNvPicPr/>
          <p:nvPr/>
        </p:nvPicPr>
        <p:blipFill>
          <a:blip r:embed="rId2"/>
          <a:stretch/>
        </p:blipFill>
        <p:spPr>
          <a:xfrm>
            <a:off x="4067280" y="1268280"/>
            <a:ext cx="4610160" cy="4508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TxBwnEIvJgMpogSajYsvM2XDEbWzDyn6CQi2n1LJ0ixh4UP0Bz"/>
          <p:cNvPicPr/>
          <p:nvPr/>
        </p:nvPicPr>
        <p:blipFill>
          <a:blip r:embed="rId3"/>
          <a:stretch/>
        </p:blipFill>
        <p:spPr>
          <a:xfrm>
            <a:off x="1116000" y="1700280"/>
            <a:ext cx="6696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зованность, мало зе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Nd9GcSLeGc2qxo161-TRhc0E3JOudKzU1Q-M8CL99X4gR7SfC0br19a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о, Деревня (дом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9127"/>
          <p:cNvPicPr/>
          <p:nvPr/>
        </p:nvPicPr>
        <p:blipFill>
          <a:blip r:embed="rId1"/>
          <a:stretch/>
        </p:blipFill>
        <p:spPr>
          <a:xfrm>
            <a:off x="250920" y="1125360"/>
            <a:ext cx="5400720" cy="4118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RJfIqiYlt7NpUM6st81_hB4JMFJj-yh8wK1ErgxkjQs21RQFR8UA"/>
          <p:cNvPicPr/>
          <p:nvPr/>
        </p:nvPicPr>
        <p:blipFill>
          <a:blip r:embed="rId2"/>
          <a:stretch/>
        </p:blipFill>
        <p:spPr>
          <a:xfrm>
            <a:off x="3319560" y="2519280"/>
            <a:ext cx="5824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елоч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ANd9GcTmObAntj3rX4H-VNmbDn9xHIS39X56O9PuYEGjdr0NZ9-s2pAEgg"/>
          <p:cNvPicPr/>
          <p:nvPr/>
        </p:nvPicPr>
        <p:blipFill>
          <a:blip r:embed="rId1"/>
          <a:stretch/>
        </p:blipFill>
        <p:spPr>
          <a:xfrm>
            <a:off x="1187280" y="1268280"/>
            <a:ext cx="7128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4:45:47Z</dcterms:created>
  <dc:creator>Таня</dc:creator>
  <dc:description/>
  <dc:language>en-US</dc:language>
  <cp:lastModifiedBy>анастасия костина</cp:lastModifiedBy>
  <dcterms:modified xsi:type="dcterms:W3CDTF">2021-10-29T11:08:22Z</dcterms:modified>
  <cp:revision>3</cp:revision>
  <dc:subject/>
  <dc:title>ГОРОД и ДЕРЕВНЯ</dc:title>
</cp:coreProperties>
</file>