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674-C473-4C49-A930-941DEC7F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368-3AE2-403B-AFBF-F1FE1005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5588-87F6-4421-9D27-8E8DDED0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38E-BC28-4E8C-A12B-65DF12A1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63E-E122-4066-BD7B-67D5FAF9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265-59FF-4D3D-900A-BD0E282D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615-66A5-43D1-A6DA-C5F1BCB7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9F1-F539-41F3-806D-71502327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BB4-BAF1-4C2C-BD30-65B21E98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BEC-84C2-4FA7-80CC-EFD0AACE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6CF-FD6D-4152-86C0-813EF7CA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720-BFF0-43E5-9DB3-8511D317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>
            <a:alpha val="5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CA93-A90C-4E9E-B3B7-C3B174EBDEA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2/21/83/21083383_Bezuymyannuyy12341234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6966000" cy="609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0000"/>
                </a:solidFill>
                <a:latin typeface="Times New Roman"/>
              </a:rPr>
              <a:t>Санкт-Петербург – «вторая столица» России</a:t>
            </a: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piter_2_maxi_2"/>
          <p:cNvPicPr/>
          <p:nvPr/>
        </p:nvPicPr>
        <p:blipFill>
          <a:blip r:embed="rId1"/>
          <a:stretch/>
        </p:blipFill>
        <p:spPr>
          <a:xfrm>
            <a:off x="2195640" y="3141720"/>
            <a:ext cx="42717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дмиралтей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БанзеИБ\Desktop\i.jpg"/>
          <p:cNvPicPr/>
          <p:nvPr/>
        </p:nvPicPr>
        <p:blipFill>
          <a:blip r:embed="rId1"/>
          <a:stretch/>
        </p:blipFill>
        <p:spPr>
          <a:xfrm>
            <a:off x="1042920" y="2708280"/>
            <a:ext cx="7950240" cy="392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БанзеИБ\Desktop\754333_kartinki-admiralteistvo.jpg"/>
          <p:cNvPicPr/>
          <p:nvPr/>
        </p:nvPicPr>
        <p:blipFill>
          <a:blip r:embed="rId2"/>
          <a:stretch/>
        </p:blipFill>
        <p:spPr>
          <a:xfrm>
            <a:off x="250920" y="1125360"/>
            <a:ext cx="2562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дный всад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БанзеИБ\Desktop\8a3f8efd8797368dd328510cf43e8b9a_w960_h2048.jpg"/>
          <p:cNvPicPr/>
          <p:nvPr/>
        </p:nvPicPr>
        <p:blipFill>
          <a:blip r:embed="rId1"/>
          <a:stretch/>
        </p:blipFill>
        <p:spPr>
          <a:xfrm>
            <a:off x="971640" y="1197000"/>
            <a:ext cx="72183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евский проспек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4292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евский проспект в Санкт-Петербурге – одна из самых первых и самая известная улица в Северной столице. Её протяженность составляет 4,5 км. Наибольшая ширина – 60 м у Гостиного Двора, наименьшая – 25 м у реки Мойк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Это одна из 3-х улиц-лучей, расходящихся от Адмиралтейств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i?id=14973502-17-72&amp;n=21"/>
          <p:cNvPicPr/>
          <p:nvPr/>
        </p:nvPicPr>
        <p:blipFill>
          <a:blip r:embed="rId1"/>
          <a:stretch/>
        </p:blipFill>
        <p:spPr>
          <a:xfrm>
            <a:off x="2484360" y="1341360"/>
            <a:ext cx="41007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Белые но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учшее время для отдыха в Петербурге – это лето, а ещё лучше конец июня – начало июля. Ибо именно в это время Вы сможете наблюдать «белые ночи». Среди жителей распространено мнение, что белые ночи – это период времени, когда солнце вовсе не садится. В действительности, белые ночи – это ночи, в течение которых естественная освещённость так и не становится слишком низкой, т.е. вся ночь состоит лишь из сумерек. В Петербурге пик белых ночей приходится на 22 июня, а официально белые ночи длятся с 11 июня по 2 июля. В действительности же, всё лето продолжительность дня в Санкт-Петербурге значительно больше чем, например, в Моск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8" descr="0b175b5dff704d295242ba31d242d551"/>
          <p:cNvPicPr/>
          <p:nvPr/>
        </p:nvPicPr>
        <p:blipFill>
          <a:blip r:embed="rId1"/>
          <a:stretch/>
        </p:blipFill>
        <p:spPr>
          <a:xfrm>
            <a:off x="395280" y="1341360"/>
            <a:ext cx="3382920" cy="253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c6cec9e66169"/>
          <p:cNvPicPr/>
          <p:nvPr/>
        </p:nvPicPr>
        <p:blipFill>
          <a:blip r:embed="rId2"/>
          <a:stretch/>
        </p:blipFill>
        <p:spPr>
          <a:xfrm>
            <a:off x="971640" y="4076640"/>
            <a:ext cx="345744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Алые пар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Картинка 27 из 282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38440" y="1697040"/>
            <a:ext cx="566712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тербург по праву считается одним из красивейших городов мира. Сотни туристов съезжаются сюда со всех концов света, чтобы своими глазами увидеть знаменитые памятники скульптуры и архитектуры, пройтись по улицам Северной столицы России и прикоснуться к её истори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История Санкт-Петербур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03640" y="1484280"/>
            <a:ext cx="3889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ание Санкт-Петербурга пришлось на период Северной войны со Швецией (1700-1721 гг.), когда Пётр I пытался установить свою власть на всей территории по течению реки Не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сной 1703 года была взята крепость Ниеншанц, стоявшая на месте впадения Охты в Нев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епость находилась в неудобном месте, была небольшой и не могла защитить Неву от попыток шведов вновь владеть е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1283698631_13"/>
          <p:cNvPicPr/>
          <p:nvPr/>
        </p:nvPicPr>
        <p:blipFill>
          <a:blip r:embed="rId1"/>
          <a:stretch/>
        </p:blipFill>
        <p:spPr>
          <a:xfrm>
            <a:off x="324000" y="1557360"/>
            <a:ext cx="4392360" cy="2962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0" y="4797360"/>
            <a:ext cx="51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этому 16 мая 1703 года на Заячьем острове на Неве Пётр I решил заложить новый город и назвать его Санкт-Питербурхом (по-голландски), в честь своего святого. Позже это название заменили на немецкое  –  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149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Город на Неве несколько раз за все годы существования менял своё имя. С 1703 по 1914 – Санкт-Петербург. С 1914 по 1924 – Петроград. С 1924 по 1991 – Ленинград. С 1991 года городу возвращено его историческое имя - Санкт-Петербург. Петербург 206 лет был столицей России с 1712 по 1918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15280"/>
          <p:cNvPicPr/>
          <p:nvPr/>
        </p:nvPicPr>
        <p:blipFill>
          <a:blip r:embed="rId1"/>
          <a:stretch/>
        </p:blipFill>
        <p:spPr>
          <a:xfrm>
            <a:off x="2143080" y="142920"/>
            <a:ext cx="50641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5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роме пожаров городу угрожали наводнения. Пётр I сам описывал в письмах, как наводнения загоняли жителей на кровли, а по городу ездили на лодках. Но всё это не смущало царя. Пётр был влюблён в «свой» город и называл его «парадизом» – то есть раем. Хотя место, выбранное для города, было не идеальным, да и сам город был построен на костях крепостных люд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1022_0"/>
          <p:cNvPicPr/>
          <p:nvPr/>
        </p:nvPicPr>
        <p:blipFill>
          <a:blip r:embed="rId1"/>
          <a:stretch/>
        </p:blipFill>
        <p:spPr>
          <a:xfrm>
            <a:off x="4356000" y="3284640"/>
            <a:ext cx="422604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07552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 1726 году, уже после смерти Петра I, Петербург становится главным торговым портом страны – через него проходило в 2 раз больше товаров, чем через Архангельск. Этому способствовало строительство в 1709 году Вышневолоцкого канала, который связал Петербург с бассейном Волги и Каспийском морем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80806de9d8eade55ffc64c079e71e7a4"/>
          <p:cNvPicPr/>
          <p:nvPr/>
        </p:nvPicPr>
        <p:blipFill>
          <a:blip r:embed="rId1"/>
          <a:stretch/>
        </p:blipFill>
        <p:spPr>
          <a:xfrm>
            <a:off x="1763640" y="2924280"/>
            <a:ext cx="56167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042920" y="476280"/>
            <a:ext cx="727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архитектуре Петербурга сплетались русские и западные художественные традиции. Так возник особый стиль, который называют русским (или петровским) барок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етербург – город моряков, торговцев и военных, стал одной из красивейших столиц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75cf0d80012a"/>
          <p:cNvPicPr/>
          <p:nvPr/>
        </p:nvPicPr>
        <p:blipFill>
          <a:blip r:embed="rId1"/>
          <a:stretch/>
        </p:blipFill>
        <p:spPr>
          <a:xfrm>
            <a:off x="1619280" y="2421000"/>
            <a:ext cx="5761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9280" y="3933360"/>
            <a:ext cx="8013960" cy="21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914 году Санкт-Петербург переименовали в Петроград. С 1918 года Санкт-Петербург лишился столичного статуса, с 1924 года город стал называться Ленинградом. Самый тяжёлый период за всё время существования города - блокада Ленинграда. С июня 1941 по 1944 год велась битва за город. Только благодаря огромным жертвам защитников города, их мужеству и отваге, Ленинград продолжил своё существование, не сдался фашистким войс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800_441935aa1fb062954df8369879b8fc18"/>
          <p:cNvPicPr/>
          <p:nvPr/>
        </p:nvPicPr>
        <p:blipFill>
          <a:blip r:embed="rId1"/>
          <a:stretch/>
        </p:blipFill>
        <p:spPr>
          <a:xfrm flipH="1" rot="33000">
            <a:off x="1547640" y="691560"/>
            <a:ext cx="6048720" cy="28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Достопримечательност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анкт-Петербур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73789963_img423"/>
          <p:cNvPicPr/>
          <p:nvPr/>
        </p:nvPicPr>
        <p:blipFill>
          <a:blip r:embed="rId1"/>
          <a:stretch/>
        </p:blipFill>
        <p:spPr>
          <a:xfrm>
            <a:off x="5796000" y="620640"/>
            <a:ext cx="2897280" cy="2017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67327176_fotosmall"/>
          <p:cNvPicPr/>
          <p:nvPr/>
        </p:nvPicPr>
        <p:blipFill>
          <a:blip r:embed="rId2"/>
          <a:stretch/>
        </p:blipFill>
        <p:spPr>
          <a:xfrm>
            <a:off x="324000" y="4292640"/>
            <a:ext cx="3333600" cy="220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09175be662ad4ad9a90912986ef1582b"/>
          <p:cNvPicPr/>
          <p:nvPr/>
        </p:nvPicPr>
        <p:blipFill>
          <a:blip r:embed="rId3"/>
          <a:stretch/>
        </p:blipFill>
        <p:spPr>
          <a:xfrm>
            <a:off x="324000" y="620640"/>
            <a:ext cx="2735280" cy="2054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0d1ab66383e76218da504e6c8960e918"/>
          <p:cNvPicPr/>
          <p:nvPr/>
        </p:nvPicPr>
        <p:blipFill>
          <a:blip r:embed="rId4"/>
          <a:stretch/>
        </p:blipFill>
        <p:spPr>
          <a:xfrm>
            <a:off x="5651640" y="4221000"/>
            <a:ext cx="30733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15:24:52Z</dcterms:created>
  <dc:creator>Наталья</dc:creator>
  <dc:description/>
  <dc:language>en-US</dc:language>
  <cp:lastModifiedBy>Наталья Евгеньевна</cp:lastModifiedBy>
  <dcterms:modified xsi:type="dcterms:W3CDTF">2022-04-18T05:00:24Z</dcterms:modified>
  <cp:revision>10</cp:revision>
  <dc:subject/>
  <dc:title>Санкт-Петербург  «вторая столица» России</dc:title>
</cp:coreProperties>
</file>