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jpeg" ContentType="image/jpeg"/>
  <Override PartName="/ppt/media/image1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37E6C-E1F7-4611-91DA-481ED94BC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83E46-FF65-4091-9BB0-C69690671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C53E5-5715-405C-96D4-D18A24711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99BB0-1CAE-47A2-BFDD-E36775B13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CB962-22BE-473F-9025-95609DE6A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CAFC4-F658-4673-8776-4BDF4FA32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41A10-A1DD-4C94-95CF-4EC1E1F65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5AFDF-89EB-4827-8426-316742ADA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5B6E8-129B-47A7-9E56-68D123911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0C36E-7556-446B-933D-934AFA8D4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32200-D44C-409D-9261-5AF1AEB3A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E2A56-396B-4D95-99AF-612EECB9F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E23BE-1985-4883-B1EA-42607BE7519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15840" y="1341000"/>
            <a:ext cx="9144000" cy="242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GulimChe"/>
                <a:ea typeface="GulimChe"/>
              </a:rPr>
              <a:t>КОСМОС в рисунках детей</a:t>
            </a:r>
            <a:br>
              <a:rPr sz="4800"/>
            </a:br>
            <a:r>
              <a:rPr b="1" lang="ru-RU" sz="1600" spc="-1" strike="noStrike">
                <a:solidFill>
                  <a:srgbClr val="ffffff"/>
                </a:solidFill>
                <a:latin typeface="GulimChe"/>
                <a:ea typeface="GulimChe"/>
              </a:rPr>
              <a:t>полготовительная к школе группа «Радуга» МДОУ «Детский сад № 2 «Росинка»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ulimChe"/>
                <a:ea typeface="GulimChe"/>
              </a:rPr>
              <a:t>Руководитель : Панченко И.П. , учитель - логопед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451280" y="5805360"/>
            <a:ext cx="151308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    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оня Б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Рисунок 2" descr="G:\ПОРТФОЛЕО\Новая папка\Новая папка\Соня Б..jpg"/>
          <p:cNvPicPr/>
          <p:nvPr/>
        </p:nvPicPr>
        <p:blipFill>
          <a:blip r:embed="rId1"/>
          <a:stretch/>
        </p:blipFill>
        <p:spPr>
          <a:xfrm>
            <a:off x="755640" y="189000"/>
            <a:ext cx="7272360" cy="6335640"/>
          </a:xfrm>
          <a:prstGeom prst="rect">
            <a:avLst/>
          </a:prstGeom>
          <a:ln w="0">
            <a:noFill/>
          </a:ln>
        </p:spPr>
      </p:pic>
    </p:spTree>
  </p:cSld>
  <p:transition advTm="3000">
    <p:newsflash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451280" y="5805360"/>
            <a:ext cx="151308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    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асилиса К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045120"/>
          </a:xfrm>
          <a:prstGeom prst="rect">
            <a:avLst/>
          </a:prstGeom>
          <a:ln w="0">
            <a:noFill/>
          </a:ln>
        </p:spPr>
      </p:pic>
    </p:spTree>
  </p:cSld>
  <p:transition advTm="3000">
    <p:newsflash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4436640"/>
            <a:ext cx="9144000" cy="242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GulimChe"/>
                <a:ea typeface="GulimChe"/>
              </a:rPr>
              <a:t>С днём Космонавтики!</a:t>
            </a:r>
            <a:br>
              <a:rPr sz="4800"/>
            </a:br>
            <a:r>
              <a:rPr b="1" lang="ru-RU" sz="1600" spc="-1" strike="noStrike">
                <a:solidFill>
                  <a:srgbClr val="ffffff"/>
                </a:solidFill>
                <a:latin typeface="GulimChe"/>
                <a:ea typeface="GulimChe"/>
              </a:rPr>
              <a:t>полготовительная к школе группа «Радуга» МДОУ «Детский сад № 2 «Росинка»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ulimChe"/>
                <a:ea typeface="GulimChe"/>
              </a:rPr>
              <a:t>Руководитель : Панченко И.П. , учитель - логопед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2" descr="C:\Users\viki\AppData\Local\Microsoft\Windows\Temporary Internet Files\Content.IE5\M4P7N6CI\MCj04303170000[1].wmf"/>
          <p:cNvPicPr/>
          <p:nvPr/>
        </p:nvPicPr>
        <p:blipFill>
          <a:blip r:embed="rId1"/>
          <a:stretch/>
        </p:blipFill>
        <p:spPr>
          <a:xfrm>
            <a:off x="1643040" y="142920"/>
            <a:ext cx="3865680" cy="38876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" descr="C:\Users\viki\AppData\Local\Microsoft\Windows\Temporary Internet Files\Content.IE5\M4P7N6CI\MCj04303170000[1].wmf"/>
          <p:cNvPicPr/>
          <p:nvPr/>
        </p:nvPicPr>
        <p:blipFill>
          <a:blip r:embed="rId2"/>
          <a:stretch/>
        </p:blipFill>
        <p:spPr>
          <a:xfrm>
            <a:off x="1795320" y="295200"/>
            <a:ext cx="3865680" cy="388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451280" y="5805360"/>
            <a:ext cx="151308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Глеб П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8353440" cy="5761080"/>
          </a:xfrm>
          <a:prstGeom prst="rect">
            <a:avLst/>
          </a:prstGeom>
          <a:ln w="0">
            <a:noFill/>
          </a:ln>
        </p:spPr>
      </p:pic>
    </p:spTree>
  </p:cSld>
  <p:transition advTm="3000"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451280" y="5805360"/>
            <a:ext cx="151308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оня С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Рисунок 3" descr="G:\ПОРТФОЛЕО\Новая папка\Новая папка\Соня С..jpg"/>
          <p:cNvPicPr/>
          <p:nvPr/>
        </p:nvPicPr>
        <p:blipFill>
          <a:blip r:embed="rId1"/>
          <a:stretch/>
        </p:blipFill>
        <p:spPr>
          <a:xfrm>
            <a:off x="395280" y="476280"/>
            <a:ext cx="8424720" cy="5473800"/>
          </a:xfrm>
          <a:prstGeom prst="rect">
            <a:avLst/>
          </a:prstGeom>
          <a:ln w="0">
            <a:noFill/>
          </a:ln>
        </p:spPr>
      </p:pic>
    </p:spTree>
  </p:cSld>
  <p:transition advTm="3000"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451280" y="5805360"/>
            <a:ext cx="151308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атя С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2174760" y="260280"/>
            <a:ext cx="4918320" cy="6499440"/>
          </a:xfrm>
          <a:prstGeom prst="rect">
            <a:avLst/>
          </a:prstGeom>
          <a:ln w="0">
            <a:noFill/>
          </a:ln>
        </p:spPr>
      </p:pic>
    </p:spTree>
  </p:cSld>
  <p:transition advTm="3000"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451280" y="5805360"/>
            <a:ext cx="151308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Алина В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Рисунок 3" descr="G:\ПОРТФОЛЕО\Новая папка\Новая папка\Алина В..jpg"/>
          <p:cNvPicPr/>
          <p:nvPr/>
        </p:nvPicPr>
        <p:blipFill>
          <a:blip r:embed="rId1"/>
          <a:stretch/>
        </p:blipFill>
        <p:spPr>
          <a:xfrm>
            <a:off x="971640" y="260280"/>
            <a:ext cx="6696000" cy="6264360"/>
          </a:xfrm>
          <a:prstGeom prst="rect">
            <a:avLst/>
          </a:prstGeom>
          <a:ln w="0">
            <a:noFill/>
          </a:ln>
        </p:spPr>
      </p:pic>
    </p:spTree>
  </p:cSld>
  <p:transition advTm="3000"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451280" y="5805360"/>
            <a:ext cx="151308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аша Н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Рисунок 2" descr="G:\ПОРТФОЛЕО\Новая папка\Новая папка\Даша.jpg"/>
          <p:cNvPicPr/>
          <p:nvPr/>
        </p:nvPicPr>
        <p:blipFill>
          <a:blip r:embed="rId1"/>
          <a:stretch/>
        </p:blipFill>
        <p:spPr>
          <a:xfrm>
            <a:off x="1187280" y="260280"/>
            <a:ext cx="6985080" cy="5761080"/>
          </a:xfrm>
          <a:prstGeom prst="rect">
            <a:avLst/>
          </a:prstGeom>
          <a:ln w="0">
            <a:noFill/>
          </a:ln>
        </p:spPr>
      </p:pic>
    </p:spTree>
  </p:cSld>
  <p:transition advTm="3000"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380360" y="5732640"/>
            <a:ext cx="15127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аксим С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2195640" y="190440"/>
            <a:ext cx="4754520" cy="6478560"/>
          </a:xfrm>
          <a:prstGeom prst="rect">
            <a:avLst/>
          </a:prstGeom>
          <a:ln w="0">
            <a:noFill/>
          </a:ln>
        </p:spPr>
      </p:pic>
    </p:spTree>
  </p:cSld>
  <p:transition advTm="3000"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451280" y="5805360"/>
            <a:ext cx="151308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тёпа  Т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Рисунок 2" descr="G:\ПОРТФОЛЕО\Новая папка\Новая папка\Стёпа 001.jpg"/>
          <p:cNvPicPr/>
          <p:nvPr/>
        </p:nvPicPr>
        <p:blipFill>
          <a:blip r:embed="rId1"/>
          <a:stretch/>
        </p:blipFill>
        <p:spPr>
          <a:xfrm>
            <a:off x="539640" y="404640"/>
            <a:ext cx="8209080" cy="5400720"/>
          </a:xfrm>
          <a:prstGeom prst="rect">
            <a:avLst/>
          </a:prstGeom>
          <a:ln w="0">
            <a:noFill/>
          </a:ln>
        </p:spPr>
      </p:pic>
    </p:spTree>
  </p:cSld>
  <p:transition advTm="3000"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451280" y="5805360"/>
            <a:ext cx="151308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арк К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3" descr=""/>
          <p:cNvPicPr/>
          <p:nvPr/>
        </p:nvPicPr>
        <p:blipFill>
          <a:blip r:embed="rId1"/>
          <a:stretch/>
        </p:blipFill>
        <p:spPr>
          <a:xfrm>
            <a:off x="431640" y="322200"/>
            <a:ext cx="8317080" cy="5776920"/>
          </a:xfrm>
          <a:prstGeom prst="rect">
            <a:avLst/>
          </a:prstGeom>
          <a:ln w="0">
            <a:noFill/>
          </a:ln>
        </p:spPr>
      </p:pic>
    </p:spTree>
  </p:cSld>
  <p:transition advTm="3000"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0T17:50:45Z</dcterms:created>
  <dc:creator>Admin</dc:creator>
  <dc:description/>
  <dc:language>en-US</dc:language>
  <cp:lastModifiedBy>Дарья</cp:lastModifiedBy>
  <dcterms:modified xsi:type="dcterms:W3CDTF">2022-04-18T09:32:31Z</dcterms:modified>
  <cp:revision>81</cp:revision>
  <dc:subject/>
  <dc:title>Слайд 1</dc:title>
</cp:coreProperties>
</file>