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95D-F7CB-4CB9-9E48-28428AD8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3D2-DC42-4B93-84E6-B9F6758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493-5E5B-4C71-918C-98476152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600-5271-4DDE-B186-602B71C6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095-9BBD-40DE-8197-4DE177A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D75-5CA6-4271-913D-6F63F6F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269-EEE9-4ABC-99DB-AF99584B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740-6B73-4016-94EA-BB28991F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791-9F68-42E0-A381-64798D88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7E9-23E5-4C8F-937A-F861C72C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28B-2BB4-4681-9FA9-ADBDD8B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0CC-A6DF-428B-85AF-DFF5691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60A3-C5A9-40F3-ADC0-CE1BC553D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134100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КОСМОС в рисунках детей</a:t>
            </a:r>
            <a:br>
              <a:rPr sz="48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полготовительная к школе группа «Радуга» МДОУ «Детский сад № 2 «Росинка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Руководитель : Панченко И.П. , учитель -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я 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G:\ПОРТФОЛЕО\Новая папка\Новая папка\Соня Б..jpg"/>
          <p:cNvPicPr/>
          <p:nvPr/>
        </p:nvPicPr>
        <p:blipFill>
          <a:blip r:embed="rId1"/>
          <a:stretch/>
        </p:blipFill>
        <p:spPr>
          <a:xfrm>
            <a:off x="755640" y="189000"/>
            <a:ext cx="7272360" cy="6335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са 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С днём Космонавтики!</a:t>
            </a:r>
            <a:br>
              <a:rPr sz="48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полготовительная к школе группа «Радуга» МДОУ «Детский сад № 2 «Росинка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ulimChe"/>
                <a:ea typeface="GulimChe"/>
              </a:rPr>
              <a:t>Руководитель : Панченко И.П. , учитель - логоп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3865680" cy="38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viki\AppData\Local\Microsoft\Windows\Temporary Internet Files\Content.IE5\M4P7N6CI\MCj04303170000[1].wmf"/>
          <p:cNvPicPr/>
          <p:nvPr/>
        </p:nvPicPr>
        <p:blipFill>
          <a:blip r:embed="rId2"/>
          <a:stretch/>
        </p:blipFill>
        <p:spPr>
          <a:xfrm>
            <a:off x="1795320" y="295200"/>
            <a:ext cx="38656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еб 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я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G:\ПОРТФОЛЕО\Новая папка\Новая папка\Соня С..jpg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473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я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74760" y="260280"/>
            <a:ext cx="4918320" cy="64994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ина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:\ПОРТФОЛЕО\Новая папка\Новая папка\Алина В..jpg"/>
          <p:cNvPicPr/>
          <p:nvPr/>
        </p:nvPicPr>
        <p:blipFill>
          <a:blip r:embed="rId1"/>
          <a:stretch/>
        </p:blipFill>
        <p:spPr>
          <a:xfrm>
            <a:off x="971640" y="260280"/>
            <a:ext cx="6696000" cy="6264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ша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G:\ПОРТФОЛЕО\Новая папка\Новая папка\Даша.jpg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80360" y="5732640"/>
            <a:ext cx="151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95640" y="190440"/>
            <a:ext cx="4754520" cy="6478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ёпа  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G:\ПОРТФОЛЕО\Новая папка\Новая папка\Стёпа 001.jp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4007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51280" y="5805360"/>
            <a:ext cx="151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 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31640" y="322200"/>
            <a:ext cx="8317080" cy="577692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Дарья</cp:lastModifiedBy>
  <dcterms:modified xsi:type="dcterms:W3CDTF">2022-04-18T09:32:31Z</dcterms:modified>
  <cp:revision>81</cp:revision>
  <dc:subject/>
  <dc:title>Слайд 1</dc:title>
</cp:coreProperties>
</file>