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6BA-9E36-4C5A-9415-8268FCD7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AF8-ABB3-486E-B128-FEE7099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49A-DD6D-4D16-A4E4-6720482F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C58-546C-46CA-8D8F-A355E0DD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A17C-2B24-48EE-B65F-0EF26519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84F6-AD5E-4A65-AE0D-9C10BD44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B08-90E6-4D88-9C3F-A7A7C1EF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5D59-DCAF-4AB0-9619-D873A95C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031B-4946-48AA-8A2A-6CF646EF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FC30-F19F-4A7B-8AE3-73C54A95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0CC-51EC-460C-8161-95F959E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82E-3C92-43AA-9719-DF537F5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E916-DAEF-471D-BE29-AAC35E0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846C-35B3-4CD9-A872-6C8D7E4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3215-1066-400A-A0E0-CD91440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F9EB-E701-4189-B1AA-BE15DDB2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258-5817-40BA-967E-518B8466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BC39-E52D-4171-8E46-36B1E015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C5C0-BB4D-4D77-BDEC-263E10C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21EB-F950-45F5-8D95-D605991F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0532-B9B8-4E92-BAA6-2DC43A5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C239-2B49-42C3-BA51-75D21F89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B24-B1BF-490D-9177-4DFF54F8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6C79-069C-450C-A117-2453622B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5C96-DAA3-4753-AA5E-FC3CFB7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1A29-9147-43D7-9372-E967C5D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3203-D956-451F-A250-FBCD3912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E094-6B02-44D5-9023-6A54573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DB60-C4A2-4E57-958C-DDD4401C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F096-C3CB-4B6C-847E-88578C68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9773-3FC9-435B-9AC9-EC375F3C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DE58-958F-42E9-8E7D-ABA22B9A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B72B-378D-406F-8E4F-70FB8246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AF9-0264-43A3-9CDD-72E84A6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8955-F1E4-4BF2-B06F-D84199D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006B-4EB0-4BB7-8F03-66D93239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ECAD-479B-4079-BF0D-09E3DD17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2DCEA-9B5C-401D-88E2-2F6636F6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6D82-DC73-4419-ACBE-9061FDC5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242A-D674-4980-A36E-76ACE11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8390-FF06-42A3-93CD-19FAABD9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63DC-406C-4DFE-8304-5A417904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1521-0F49-4BD9-AFC1-10AE866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7BA8-665A-41CB-B942-442605CE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5F1-C4E1-45F5-BF7E-2859086F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882D-A5FD-40C0-AA28-85876B23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A6D4-FF05-410D-9768-81D6A020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962AD-5843-47E8-9183-B6DF4340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BE8B-3217-426C-8EB2-A35C2469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C629-6919-4585-94D9-CCB4A41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DF40-67A5-4B64-B8F7-7A85523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D14F-1806-40E6-9D42-CF42FFAC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73F5-50DC-4B78-B8A7-EBFE75C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77E5-37FB-4960-84C8-735602A1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7EDA-CE50-4B70-8726-CE8054F0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8BA-19FD-426A-8F4E-B6E35D9A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EA07-79C9-46FE-8BE1-5509D1E0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CA20-2405-4374-8217-90719A79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D184-19B0-4A7D-AB14-D485CFB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4F79-C1C4-4D98-A6CB-64EB363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ED46-FD7B-411C-9045-5E34A21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A4882-5107-4A38-B694-5B26857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460ED-F7F6-42D0-8A7F-E809444A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BD03-E1A5-4C98-9529-F972E04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5014-17F4-49B7-A63A-4ABDB4D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A0C6-FDFB-4A1D-88E0-D3E42A5C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EEA-8449-43D2-8E35-250BEC0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1C204-73C8-44B5-A230-12835FE8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C587-CD60-4194-9658-EA9C92A8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2A83D-ABB6-475A-B114-8456F3DF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32DFD-1E69-4EA9-B161-FC51514D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599E-1AFA-4A5B-80E7-44604C0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0634-F18D-4222-93C5-DFCDAFE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4C79-0BC5-4260-8337-613CCC8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885A-172C-47C7-9CF6-CD965720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192C-50C3-455C-8866-21171651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EFFB-E821-427D-AAEB-6588D4B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385-4844-41E8-83B2-BDE79BA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6E7BC-7DCE-4488-9C7D-4505500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ED05-A03F-44A0-BC01-EA2A186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E996-8133-4CF2-B20D-1219D623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7661C-FF87-4BB8-A4CD-E89D3705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D13FC-525A-4BE3-9798-2656B505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494B-A270-4D4E-B9CD-F8692F7D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3DAC3-1EB9-49DB-B4D8-E167AD70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FC26-7EFF-40BA-B2F9-B0709117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76080-8231-4592-AD04-3F4D8BC4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BDCB-E36D-4846-A6F1-B6336BF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E1C-64C1-4BD9-8673-53A6949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B282-D175-4417-8F92-C6FDCCBD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53F3D-C115-4C5D-845B-41A61DE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6666-33D7-41E9-BA8D-DA1B0E65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21BCD-49E0-4CC5-8A6B-96FC6CD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570B-8863-45BE-86F8-6CE6CE7C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E328-B681-4A8B-ADA8-3A3ED171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4369-2436-400C-9C0F-5531A9A1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0523-0C03-407E-8BC2-2B74BA52E41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8" name="Полилиния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19" descr=""/>
            <p:cNvPicPr/>
            <p:nvPr/>
          </p:nvPicPr>
          <p:blipFill>
            <a:blip r:embed="rId6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F23B-21E9-417A-9054-3EFB20F44F3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B3C-F69F-438C-8DF3-435115DF552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B4D8-A8F3-4331-8ADE-A00247FF98E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C13-5D50-4DB3-97D0-1575125F41A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86EA-0A17-41F3-B397-B898F9A1A4C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55C3-E81C-4723-891D-113813ED138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Прямоугольный треугольник 15" descr=""/>
            <p:cNvPicPr/>
            <p:nvPr/>
          </p:nvPicPr>
          <p:blipFill>
            <a:blip r:embed="rId5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6" descr=""/>
          <p:cNvPicPr/>
          <p:nvPr/>
        </p:nvPicPr>
        <p:blipFill>
          <a:blip r:embed="rId6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A80-D2ED-4EBC-9C80-253983C25F7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49120" y="-55440"/>
            <a:ext cx="8894880" cy="7570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611280" y="234936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ПРОЦЕССА ФИЗИЧЕСКОГО ВОСПИТАНИЯ И ПРОВЕДЕНИЕ МЕРОПРИЯТИЙ ПО ФИЗИЧЕСКОЙ КУЛЬТУРЕ В ЗАВИСИМОСТИ ОТ ПОЛА, ВОЗРАСТА И СОСТОЯНИЯ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7" descr="C:\Users\Home\Downloads\логотип без фона.png"/>
          <p:cNvPicPr/>
          <p:nvPr/>
        </p:nvPicPr>
        <p:blipFill>
          <a:blip r:embed="rId2"/>
          <a:stretch/>
        </p:blipFill>
        <p:spPr>
          <a:xfrm>
            <a:off x="231840" y="268200"/>
            <a:ext cx="877680" cy="858960"/>
          </a:xfrm>
          <a:prstGeom prst="rect">
            <a:avLst/>
          </a:prstGeom>
          <a:ln w="0">
            <a:noFill/>
          </a:ln>
        </p:spPr>
      </p:pic>
      <p:sp>
        <p:nvSpPr>
          <p:cNvPr id="397" name="Надпись 5"/>
          <p:cNvSpPr/>
          <p:nvPr/>
        </p:nvSpPr>
        <p:spPr>
          <a:xfrm>
            <a:off x="6588000" y="5229360"/>
            <a:ext cx="2556000" cy="158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 и провел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ший воспитатель МДОБ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етский сад Боровичок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Колтубановск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лификационной категори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льмухаметова А.М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23.03.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105766"/>
                </a:solidFill>
                <a:latin typeface="Arial"/>
                <a:ea typeface="Arial"/>
              </a:rPr>
              <a:t>Первую подгруппу составля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 здоровые дети, имеющие средний и высокий уровень двигательной активности, а также хорошую физическую подготовленнос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5766"/>
                </a:solidFill>
                <a:latin typeface="Arial"/>
                <a:ea typeface="Arial"/>
              </a:rPr>
              <a:t>   </a:t>
            </a:r>
            <a:r>
              <a:rPr b="1" lang="ru-RU" sz="2700" spc="-1" strike="noStrike">
                <a:solidFill>
                  <a:srgbClr val="105766"/>
                </a:solidFill>
                <a:latin typeface="Arial"/>
                <a:ea typeface="Arial"/>
              </a:rPr>
              <a:t>Во вторую группу включаются д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дготовительной группой здоровья, с низким уровнем двигательной активности и слабой физической подготовленност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1700280"/>
            <a:ext cx="878508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, объем, интенсивность физической нагрузки снижена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состоянием ребенка, после физической нагрузк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ую часть упражнений аэробные и дыхательные гимнастик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некоторых видов упражнений по медицинским показаниям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ребенку во время упражнени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ополнительного времени для выполнения заданий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8229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Объект 4" descr=""/>
          <p:cNvPicPr/>
          <p:nvPr/>
        </p:nvPicPr>
        <p:blipFill>
          <a:blip r:embed="rId1"/>
          <a:stretch/>
        </p:blipFill>
        <p:spPr>
          <a:xfrm>
            <a:off x="474840" y="1189080"/>
            <a:ext cx="8424720" cy="5408640"/>
          </a:xfrm>
          <a:prstGeom prst="rect">
            <a:avLst/>
          </a:prstGeom>
          <a:ln w="0">
            <a:noFill/>
          </a:ln>
        </p:spPr>
      </p:pic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4360" y="1557360"/>
          <a:ext cx="8229600" cy="4896000"/>
        </p:xfrm>
        <a:graphic>
          <a:graphicData uri="http://schemas.openxmlformats.org/drawingml/2006/table">
            <a:tbl>
              <a:tblPr/>
              <a:tblGrid>
                <a:gridCol w="1242720"/>
                <a:gridCol w="1187640"/>
                <a:gridCol w="1227240"/>
                <a:gridCol w="1255680"/>
                <a:gridCol w="1657080"/>
                <a:gridCol w="1659240"/>
              </a:tblGrid>
              <a:tr h="476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Формы проведения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одержание зан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водн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Р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сновные дви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движная иг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аключительн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762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ен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тдельно дево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8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тдельно м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овмест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762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ктябрь и да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лан работы по физическому воспитанию (перспективный план по физическому воспитанию, календарно-тематический план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Лист здоровья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ЖУРНАЛ (Лист)учета перенесенных заболеваний детей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иагностика и мониторинг физического развития и здоровья дошкольников, медико-педагогический контроль на физкультурном занятии (два раза в год – на начало и конец года с анализом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лан ежемесячного проведения спортивных досугов с отчетом на сайте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огласие родителя (законного представителя) ребенка на назначение мероприятий по закаливанию с учетом состояния здоровья ребенка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Графики водных закаливающих процедур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Журнал назначений мероприятий по закаливанию с учетом состояния здоровья детей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ЖУРНАЛ контроля за организацией процесса физического воспитания и проведением мероприятий по физической культуре в зависимости от пола, возраста и состояния здоровь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C:\Users\ДС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7708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2" descr=""/>
          <p:cNvPicPr/>
          <p:nvPr/>
        </p:nvPicPr>
        <p:blipFill>
          <a:blip r:embed="rId2"/>
          <a:stretch/>
        </p:blipFill>
        <p:spPr>
          <a:xfrm>
            <a:off x="1620720" y="1487520"/>
            <a:ext cx="5761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95280" y="189000"/>
            <a:ext cx="8280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4012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ендерное воспитание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это организация   педагогического процесса с учётом половой  идентичности, особенностей̆ развития детей  в ходе поло ролевой со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960" indent="-24012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9960" indent="-24012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9960" indent="-24012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7278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791920" cy="1255680"/>
          </a:xfrm>
          <a:prstGeom prst="rect">
            <a:avLst/>
          </a:prstGeom>
          <a:ln w="0">
            <a:noFill/>
          </a:ln>
        </p:spPr>
      </p:pic>
      <p:sp>
        <p:nvSpPr>
          <p:cNvPr id="401" name="Содержимое 2"/>
          <p:cNvSpPr/>
          <p:nvPr/>
        </p:nvSpPr>
        <p:spPr>
          <a:xfrm>
            <a:off x="179280" y="1417680"/>
            <a:ext cx="885672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вое различие детей (мальчик-девоч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ояние здоровья (группа здоровь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ая подготовленность детей (уровень физ.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 физической нагрузки во время восстановительного периода после перенесенного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791920" cy="1255680"/>
          </a:xfrm>
          <a:prstGeom prst="rect">
            <a:avLst/>
          </a:prstGeom>
          <a:ln w="0">
            <a:noFill/>
          </a:ln>
        </p:spPr>
      </p:pic>
      <p:sp>
        <p:nvSpPr>
          <p:cNvPr id="403" name="Содержимое 2"/>
          <p:cNvSpPr/>
          <p:nvPr/>
        </p:nvSpPr>
        <p:spPr>
          <a:xfrm>
            <a:off x="179280" y="1417680"/>
            <a:ext cx="878544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1738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циональный двигательный режим, физические упражнения и закаливающие мероприятия следу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существлять с учетом состояния здоровья, возрастно-половых возможностей детей, группы здоровья и сезона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1738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нные формы двигательной деятельности должны включать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утреннюю зарядку, физкультурные занятия в помещении и на воздухе, физкультурные минутки, подвижные игры, спортивные упражнения, ритмическую зарядку, занятия на тренажера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179640" algn="just">
              <a:lnSpc>
                <a:spcPct val="11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е физической подготовленности дошколь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одит воспитатель либо педагог по физической культуре в начале учебного года (сентябрь - октябрь) и в конце его (апрель - май) и контролирует старший воспитатель ДОО. Оценку уровня физической подготовленности медицинская сестра вносит в "Медицинскую карту"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179640" algn="just">
              <a:lnSpc>
                <a:spcPct val="11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ешение на проведение тестирования физической подготовленности детей дает медперсонал ДО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179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57400"/>
          </a:xfrm>
          <a:prstGeom prst="rect">
            <a:avLst/>
          </a:prstGeom>
          <a:ln w="0">
            <a:noFill/>
          </a:ln>
        </p:spPr>
      </p:pic>
      <p:pic>
        <p:nvPicPr>
          <p:cNvPr id="406" name="Объект 6" descr="C:\Users\Садик\Desktop\Отчет по министерской проверки\Журнал назначений мероприятий по закаливанию\Разновозрастная группа от 1,5-3 лет\001.jpg"/>
          <p:cNvPicPr/>
          <p:nvPr/>
        </p:nvPicPr>
        <p:blipFill>
          <a:blip r:embed="rId2"/>
          <a:stretch/>
        </p:blipFill>
        <p:spPr>
          <a:xfrm>
            <a:off x="250920" y="1557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5" descr=""/>
          <p:cNvPicPr/>
          <p:nvPr/>
        </p:nvPicPr>
        <p:blipFill>
          <a:blip r:embed="rId3"/>
          <a:stretch/>
        </p:blipFill>
        <p:spPr>
          <a:xfrm>
            <a:off x="250920" y="4287960"/>
            <a:ext cx="3600360" cy="23875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16"/>
          <p:cNvSpPr/>
          <p:nvPr/>
        </p:nvSpPr>
        <p:spPr>
          <a:xfrm>
            <a:off x="3780000" y="1700280"/>
            <a:ext cx="4814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закаливания в повседневной жизни: умывание прохладной водой, широкая аэрация помещении, правильно организованная прогулка, физические упражнения, проводимые в легкой спортивной одежде помещении и на открытом воздух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мероприятия: водные, воздушные и солнеч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3848040" y="4286160"/>
            <a:ext cx="517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 работа по физическому воспитанию должна проводится с учетом состояния здоровья детей и осуществляется воспитателем по физкультуре и воспитателями групп при регулярном контроле со стороны медицинских работников, методиста (старшего воспитателя) и заведующей ДО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Объект 3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024000" cy="4751280"/>
          </a:xfrm>
          <a:prstGeom prst="rect">
            <a:avLst/>
          </a:prstGeom>
          <a:ln w="0">
            <a:noFill/>
          </a:ln>
        </p:spPr>
      </p:pic>
      <p:pic>
        <p:nvPicPr>
          <p:cNvPr id="411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"/>
          <p:cNvPicPr/>
          <p:nvPr/>
        </p:nvPicPr>
        <p:blipFill>
          <a:blip r:embed="rId3"/>
          <a:stretch/>
        </p:blipFill>
        <p:spPr>
          <a:xfrm>
            <a:off x="3233880" y="1557360"/>
            <a:ext cx="2950920" cy="47512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"/>
          <p:cNvPicPr/>
          <p:nvPr/>
        </p:nvPicPr>
        <p:blipFill>
          <a:blip r:embed="rId4"/>
          <a:stretch/>
        </p:blipFill>
        <p:spPr>
          <a:xfrm>
            <a:off x="6256440" y="1539720"/>
            <a:ext cx="27795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682560" y="212760"/>
            <a:ext cx="816948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19664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 подборе упражнений только для мальчиков или только для девочек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 дозировк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по времен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 подборе оборуд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 обучении сложным двигательным движения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ые ориентировк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олей в подвижных игра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 требованиях к качеству выполнения зада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новка и уборка снаряд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 оценке деятельност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ензитивных этапов для формирования и совершенствования двигательных способностей, физических качеств, двигательных навыков и ум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условных обозначений на карточках, пиктограммах для мальчиков и девочек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ирование внимания детей на мужские и женские виды спорт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27400" indent="-4478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334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физической нагрузки в процессе занят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ие сложных для выполнения упражнений на более легки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некоторых видов упражнений по медицинским показания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состоянием ребенка во время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на улучшение результа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ребенку во время упражнен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ополнительного времени для выполнения задан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8200" indent="-457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детей на подгруппы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8:46:09Z</dcterms:created>
  <dc:creator>1</dc:creator>
  <dc:description/>
  <dc:language>en-US</dc:language>
  <cp:lastModifiedBy>Садик</cp:lastModifiedBy>
  <dcterms:modified xsi:type="dcterms:W3CDTF">2022-04-18T06:20:26Z</dcterms:modified>
  <cp:revision>153</cp:revision>
  <dc:subject/>
  <dc:title>МБДОУ детский сад № 5 комбинированного вида  «Чебурашка»  г.о. Колом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4e0000000000010243100207f6000400038000</vt:lpwstr>
  </property>
</Properties>
</file>