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2.jpeg" ContentType="image/jpeg"/>
  <Override PartName="/ppt/media/image8.jpeg" ContentType="image/jpeg"/>
  <Override PartName="/ppt/media/image38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28.jpeg" ContentType="image/jpeg"/>
  <Override PartName="/ppt/media/image36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7.jpeg" ContentType="image/jpeg"/>
  <Override PartName="/ppt/media/image1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9EF-7724-4177-822F-06512BA5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CBA-6804-42E4-9E64-05C52909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FE6-E49D-4AF8-81DC-B7242F12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D70-CC6C-442F-8BBC-A023CA8F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B8B4-A8E1-475A-98DA-1EE08279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CC88-0FE2-4A26-8AC4-F3AFF62B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29A4-0804-4931-84DC-3A1D77EA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EDA3-9895-49D0-8BA8-2E2271C7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BC17-A008-4736-A3B5-EE48E8A4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46F3-B93F-4CBF-8944-2AAC5652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E2E8-36A3-4CBE-96D5-18A4B487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234-8E82-45D2-BF29-D8C5EE7F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3C0B-8DB1-43EA-9F40-2F63FD5E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A467-8ADC-42F3-85E4-B09F6CE5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9597-7E67-403F-882A-CA16B2FE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ED5D-FC90-41FB-8710-C6B83EEC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BB40-DCB9-4A10-AD25-EB301492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F8E-5716-4BC6-8D6C-21AF0537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1E4-5900-4624-BC1B-0C890C56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EB2-5ABB-4714-BCB0-D5D7B4E1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283D-25FE-487F-A75F-D669A8AB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650-E715-4C10-B0B1-1BAE0186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46A-F159-437A-B406-FB974794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006-3A0A-403F-99B1-A429DEB0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7D2F-0628-44F0-B082-7EF43EF116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EE26-C167-41B0-A60A-A03F0D0B571E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АСХАЛЬНЫЕ ЯЙЦА ИЗ СОЛЁНОГО ТЕСТ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6" descr="1300506"/>
          <p:cNvPicPr/>
          <p:nvPr/>
        </p:nvPicPr>
        <p:blipFill>
          <a:blip r:embed="rId1"/>
          <a:stretch/>
        </p:blipFill>
        <p:spPr>
          <a:xfrm>
            <a:off x="579600" y="1739880"/>
            <a:ext cx="3377880" cy="4497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B0D88836B83E-531"/>
          <p:cNvPicPr/>
          <p:nvPr/>
        </p:nvPicPr>
        <p:blipFill>
          <a:blip r:embed="rId2"/>
          <a:stretch/>
        </p:blipFill>
        <p:spPr>
          <a:xfrm>
            <a:off x="4284720" y="1805040"/>
            <a:ext cx="3240000" cy="4432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Готовое издели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0" name="Picture 6" descr="1300522"/>
          <p:cNvPicPr/>
          <p:nvPr/>
        </p:nvPicPr>
        <p:blipFill>
          <a:blip r:embed="rId1"/>
          <a:stretch/>
        </p:blipFill>
        <p:spPr>
          <a:xfrm>
            <a:off x="382680" y="1598760"/>
            <a:ext cx="3378240" cy="4497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414310353_293edfbeb0"/>
          <p:cNvPicPr/>
          <p:nvPr/>
        </p:nvPicPr>
        <p:blipFill>
          <a:blip r:embed="rId2"/>
          <a:stretch/>
        </p:blipFill>
        <p:spPr>
          <a:xfrm>
            <a:off x="4500720" y="1916280"/>
            <a:ext cx="25923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зделие окрашенное гуашевыми краск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3" name="Picture 6" descr="1300506"/>
          <p:cNvPicPr/>
          <p:nvPr/>
        </p:nvPicPr>
        <p:blipFill>
          <a:blip r:embed="rId1"/>
          <a:stretch/>
        </p:blipFill>
        <p:spPr>
          <a:xfrm>
            <a:off x="382680" y="1598760"/>
            <a:ext cx="3378240" cy="4497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3436212233_de5ca18c93"/>
          <p:cNvPicPr/>
          <p:nvPr/>
        </p:nvPicPr>
        <p:blipFill>
          <a:blip r:embed="rId2"/>
          <a:stretch/>
        </p:blipFill>
        <p:spPr>
          <a:xfrm>
            <a:off x="5003640" y="1341360"/>
            <a:ext cx="2089440" cy="2735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bf72eede32e6t"/>
          <p:cNvPicPr/>
          <p:nvPr/>
        </p:nvPicPr>
        <p:blipFill>
          <a:blip r:embed="rId3"/>
          <a:stretch/>
        </p:blipFill>
        <p:spPr>
          <a:xfrm>
            <a:off x="4284720" y="4149720"/>
            <a:ext cx="1942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219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ЭТАПЫ ИЗГОТОВЛЕНИЯ ПЛОСКОГО ЯЙЦА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425520" y="915840"/>
            <a:ext cx="69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скатаем тесто в пласт толщиной около 0,5 см и формочкой выдавили яйца. В качестве формочки возьмем пластиковый стаканчик и слегка его придавили с боков, чтобы получился овал. Яйца отделим от остального теста и слегка смоченным в воде пальцем разгладили кр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Рисунок 5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43196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5140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сим каждое яйцо отдельно. Проделаем в них дырочки, чтоб после сушки продеть ленточки для подвешивания.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0" name="Рисунок 4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548240" cy="340200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5" descr=""/>
          <p:cNvPicPr/>
          <p:nvPr/>
        </p:nvPicPr>
        <p:blipFill>
          <a:blip r:embed="rId2"/>
          <a:stretch/>
        </p:blipFill>
        <p:spPr>
          <a:xfrm>
            <a:off x="3419640" y="3645000"/>
            <a:ext cx="402084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Украшение яиц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536400" y="836640"/>
            <a:ext cx="68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ля первого яйца мы скатали колбаски из теста — получился крест, а вокруг него —  слегка приплюснутые маленькие шарики. Все детали солёного теста перед соединением нужно слегка смочить вод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Рисунок 5" descr=""/>
          <p:cNvPicPr/>
          <p:nvPr/>
        </p:nvPicPr>
        <p:blipFill>
          <a:blip r:embed="rId1"/>
          <a:stretch/>
        </p:blipFill>
        <p:spPr>
          <a:xfrm>
            <a:off x="2411280" y="2779560"/>
            <a:ext cx="33386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ля второго яйца из солёного теста мы слепим божью коровку (сделаем овал, приплюснем его, пластиковым ножом нарисуем крылышки и голову).  Листочки – тоже овал, ножом обозначим прожилки. Раскрасим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6" name="Рисунок 4" descr=""/>
          <p:cNvPicPr/>
          <p:nvPr/>
        </p:nvPicPr>
        <p:blipFill>
          <a:blip r:embed="rId1"/>
          <a:stretch/>
        </p:blipFill>
        <p:spPr>
          <a:xfrm>
            <a:off x="2378160" y="2133720"/>
            <a:ext cx="3079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ля этого яйца мы сделаем маленькие овалы (цветочек) и шарики и приплюснем их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8" name="Рисунок 4" descr=""/>
          <p:cNvPicPr/>
          <p:nvPr/>
        </p:nvPicPr>
        <p:blipFill>
          <a:blip r:embed="rId1"/>
          <a:stretch/>
        </p:blipFill>
        <p:spPr>
          <a:xfrm>
            <a:off x="1909800" y="1370160"/>
            <a:ext cx="4095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0" name="Рисунок 3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66056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то нам нужно для те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Picture 8" descr="solenoe-testo-retsept"/>
          <p:cNvPicPr/>
          <p:nvPr/>
        </p:nvPicPr>
        <p:blipFill>
          <a:blip r:embed="rId1"/>
          <a:stretch/>
        </p:blipFill>
        <p:spPr>
          <a:xfrm>
            <a:off x="1979640" y="4076640"/>
            <a:ext cx="4032360" cy="2521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solenoe-testo-dlya-podelok"/>
          <p:cNvPicPr/>
          <p:nvPr/>
        </p:nvPicPr>
        <p:blipFill>
          <a:blip r:embed="rId2"/>
          <a:stretch/>
        </p:blipFill>
        <p:spPr>
          <a:xfrm>
            <a:off x="3995640" y="1557360"/>
            <a:ext cx="3384720" cy="2158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1300556"/>
          <p:cNvPicPr/>
          <p:nvPr/>
        </p:nvPicPr>
        <p:blipFill>
          <a:blip r:embed="rId3"/>
          <a:stretch/>
        </p:blipFill>
        <p:spPr>
          <a:xfrm>
            <a:off x="179280" y="1268280"/>
            <a:ext cx="32544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3370952108_681036f343"/>
          <p:cNvPicPr/>
          <p:nvPr/>
        </p:nvPicPr>
        <p:blipFill>
          <a:blip r:embed="rId1"/>
          <a:stretch/>
        </p:blipFill>
        <p:spPr>
          <a:xfrm>
            <a:off x="650880" y="907920"/>
            <a:ext cx="3416400" cy="5400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a422cb09b0f2t"/>
          <p:cNvPicPr/>
          <p:nvPr/>
        </p:nvPicPr>
        <p:blipFill>
          <a:blip r:embed="rId2"/>
          <a:stretch/>
        </p:blipFill>
        <p:spPr>
          <a:xfrm>
            <a:off x="4284720" y="907920"/>
            <a:ext cx="3311640" cy="5187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ЭТАПЫ ИЗГОТОВЛЕНИЯ ОБЪЕМНОГО ЯЙЦ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Picture 6" descr="1300554"/>
          <p:cNvPicPr/>
          <p:nvPr/>
        </p:nvPicPr>
        <p:blipFill>
          <a:blip r:embed="rId1"/>
          <a:stretch/>
        </p:blipFill>
        <p:spPr>
          <a:xfrm>
            <a:off x="263520" y="2489040"/>
            <a:ext cx="3616200" cy="271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1300552"/>
          <p:cNvPicPr/>
          <p:nvPr/>
        </p:nvPicPr>
        <p:blipFill>
          <a:blip r:embed="rId2"/>
          <a:stretch/>
        </p:blipFill>
        <p:spPr>
          <a:xfrm>
            <a:off x="4394160" y="1598760"/>
            <a:ext cx="2892600" cy="217152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8"/>
          <p:cNvSpPr/>
          <p:nvPr/>
        </p:nvSpPr>
        <p:spPr>
          <a:xfrm>
            <a:off x="3059280" y="1557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6659640" y="1916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11" descr="4_312"/>
          <p:cNvPicPr/>
          <p:nvPr/>
        </p:nvPicPr>
        <p:blipFill>
          <a:blip r:embed="rId3"/>
          <a:stretch/>
        </p:blipFill>
        <p:spPr>
          <a:xfrm>
            <a:off x="4313160" y="3922560"/>
            <a:ext cx="3056040" cy="217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ИДАЁМ ТЕСТУ ФОРМУ ЯЙЦ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Picture 8" descr="1300550"/>
          <p:cNvPicPr/>
          <p:nvPr/>
        </p:nvPicPr>
        <p:blipFill>
          <a:blip r:embed="rId1"/>
          <a:stretch/>
        </p:blipFill>
        <p:spPr>
          <a:xfrm>
            <a:off x="625320" y="1598760"/>
            <a:ext cx="2892600" cy="2171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1300548"/>
          <p:cNvPicPr/>
          <p:nvPr/>
        </p:nvPicPr>
        <p:blipFill>
          <a:blip r:embed="rId2"/>
          <a:stretch/>
        </p:blipFill>
        <p:spPr>
          <a:xfrm>
            <a:off x="4394160" y="1598760"/>
            <a:ext cx="2892600" cy="2171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1300546"/>
          <p:cNvPicPr/>
          <p:nvPr/>
        </p:nvPicPr>
        <p:blipFill>
          <a:blip r:embed="rId3"/>
          <a:stretch/>
        </p:blipFill>
        <p:spPr>
          <a:xfrm>
            <a:off x="623880" y="3922560"/>
            <a:ext cx="3587760" cy="24591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11"/>
          <p:cNvSpPr/>
          <p:nvPr/>
        </p:nvSpPr>
        <p:spPr>
          <a:xfrm>
            <a:off x="971640" y="1197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3780000" y="177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250920" y="551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15" descr="4_3461"/>
          <p:cNvPicPr/>
          <p:nvPr/>
        </p:nvPicPr>
        <p:blipFill>
          <a:blip r:embed="rId4"/>
          <a:stretch/>
        </p:blipFill>
        <p:spPr>
          <a:xfrm>
            <a:off x="5148360" y="3860640"/>
            <a:ext cx="2036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Декоративное оформл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Picture 8" descr="1300544"/>
          <p:cNvPicPr/>
          <p:nvPr/>
        </p:nvPicPr>
        <p:blipFill>
          <a:blip r:embed="rId1"/>
          <a:stretch/>
        </p:blipFill>
        <p:spPr>
          <a:xfrm>
            <a:off x="625320" y="1598760"/>
            <a:ext cx="2892600" cy="2171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1300542"/>
          <p:cNvPicPr/>
          <p:nvPr/>
        </p:nvPicPr>
        <p:blipFill>
          <a:blip r:embed="rId2"/>
          <a:stretch/>
        </p:blipFill>
        <p:spPr>
          <a:xfrm>
            <a:off x="4394160" y="1598760"/>
            <a:ext cx="2892600" cy="2171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1300540"/>
          <p:cNvPicPr/>
          <p:nvPr/>
        </p:nvPicPr>
        <p:blipFill>
          <a:blip r:embed="rId3"/>
          <a:stretch/>
        </p:blipFill>
        <p:spPr>
          <a:xfrm>
            <a:off x="623880" y="3922560"/>
            <a:ext cx="2894040" cy="21733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11"/>
          <p:cNvSpPr/>
          <p:nvPr/>
        </p:nvSpPr>
        <p:spPr>
          <a:xfrm>
            <a:off x="2195640" y="1268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>
            <a:off x="4067280" y="162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AutoShape 13"/>
          <p:cNvSpPr/>
          <p:nvPr/>
        </p:nvSpPr>
        <p:spPr>
          <a:xfrm>
            <a:off x="250920" y="558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15" descr="2299333838_56d8c860a7"/>
          <p:cNvPicPr/>
          <p:nvPr/>
        </p:nvPicPr>
        <p:blipFill>
          <a:blip r:embed="rId4"/>
          <a:stretch/>
        </p:blipFill>
        <p:spPr>
          <a:xfrm>
            <a:off x="3851280" y="3922560"/>
            <a:ext cx="3692520" cy="2530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епим свечу или кулич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Picture 8" descr="1300538"/>
          <p:cNvPicPr/>
          <p:nvPr/>
        </p:nvPicPr>
        <p:blipFill>
          <a:blip r:embed="rId1"/>
          <a:stretch/>
        </p:blipFill>
        <p:spPr>
          <a:xfrm>
            <a:off x="625320" y="1598760"/>
            <a:ext cx="2892600" cy="2171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1300536"/>
          <p:cNvPicPr/>
          <p:nvPr/>
        </p:nvPicPr>
        <p:blipFill>
          <a:blip r:embed="rId2"/>
          <a:stretch/>
        </p:blipFill>
        <p:spPr>
          <a:xfrm>
            <a:off x="900000" y="3922560"/>
            <a:ext cx="1987560" cy="2602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1300534"/>
          <p:cNvPicPr/>
          <p:nvPr/>
        </p:nvPicPr>
        <p:blipFill>
          <a:blip r:embed="rId3"/>
          <a:stretch/>
        </p:blipFill>
        <p:spPr>
          <a:xfrm>
            <a:off x="4073400" y="1940040"/>
            <a:ext cx="3378240" cy="449712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11"/>
          <p:cNvSpPr/>
          <p:nvPr/>
        </p:nvSpPr>
        <p:spPr>
          <a:xfrm>
            <a:off x="0" y="177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6084720" y="1039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2843280" y="45813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7" descr="1300530"/>
          <p:cNvPicPr/>
          <p:nvPr/>
        </p:nvPicPr>
        <p:blipFill>
          <a:blip r:embed="rId1"/>
          <a:stretch/>
        </p:blipFill>
        <p:spPr>
          <a:xfrm>
            <a:off x="395280" y="765000"/>
            <a:ext cx="3378240" cy="4497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1300528"/>
          <p:cNvPicPr/>
          <p:nvPr/>
        </p:nvPicPr>
        <p:blipFill>
          <a:blip r:embed="rId2"/>
          <a:stretch/>
        </p:blipFill>
        <p:spPr>
          <a:xfrm>
            <a:off x="4859280" y="1125360"/>
            <a:ext cx="1724040" cy="226224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9"/>
          <p:cNvSpPr/>
          <p:nvPr/>
        </p:nvSpPr>
        <p:spPr>
          <a:xfrm>
            <a:off x="1042920" y="105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5435640" y="404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Picture 13" descr="0103338c2993t"/>
          <p:cNvPicPr/>
          <p:nvPr/>
        </p:nvPicPr>
        <p:blipFill>
          <a:blip r:embed="rId3"/>
          <a:stretch/>
        </p:blipFill>
        <p:spPr>
          <a:xfrm>
            <a:off x="3995640" y="3716280"/>
            <a:ext cx="3562560" cy="237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8" descr="1300526"/>
          <p:cNvPicPr/>
          <p:nvPr/>
        </p:nvPicPr>
        <p:blipFill>
          <a:blip r:embed="rId1"/>
          <a:stretch/>
        </p:blipFill>
        <p:spPr>
          <a:xfrm>
            <a:off x="382680" y="1598760"/>
            <a:ext cx="3378240" cy="4497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1300524"/>
          <p:cNvPicPr/>
          <p:nvPr/>
        </p:nvPicPr>
        <p:blipFill>
          <a:blip r:embed="rId2"/>
          <a:stretch/>
        </p:blipFill>
        <p:spPr>
          <a:xfrm>
            <a:off x="4140360" y="1628640"/>
            <a:ext cx="3311280" cy="446436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12"/>
          <p:cNvSpPr/>
          <p:nvPr/>
        </p:nvSpPr>
        <p:spPr>
          <a:xfrm>
            <a:off x="1692360" y="9079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6084720" y="1413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8:45:25Z</dcterms:created>
  <dc:creator>школа</dc:creator>
  <dc:description/>
  <dc:language>en-US</dc:language>
  <cp:lastModifiedBy>Ирина</cp:lastModifiedBy>
  <dcterms:modified xsi:type="dcterms:W3CDTF">2022-04-14T04:27:42Z</dcterms:modified>
  <cp:revision>16</cp:revision>
  <dc:subject/>
  <dc:title>ПАСХАЛЬНОЕ ЯЙЦО ИЗ СОЛЁНОГО ТЕС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270000000000010243100207f6000400038000</vt:lpwstr>
  </property>
</Properties>
</file>