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BF3-3C4E-4FF0-9EA1-8F5097FB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847-C376-440C-93FC-E997A30E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559-4175-438B-B73B-17598C3D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9ED-86A4-45C3-8678-CD8D583E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916E-3D95-4B42-88A2-0A66FB07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C7A7-E110-4062-BB9E-32B3B62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D71A-9ADF-4ADE-811A-9317DB02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934-8034-4DE7-B5EF-E8FC6E0C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08F0-0206-45E6-A019-3E1E1B2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919F-FD14-44B0-B8F4-3AFAE6A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9ED1-6EC6-4798-B27A-F6AA10D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7AB-89F3-4810-9BCA-10566D5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FF3C-D08C-4B8C-B3C2-A1614D1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F631-B45C-4CF4-860C-83532A4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17A-2CE5-4DE8-9614-BB8062A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5917-064F-4090-810D-0CC4EE0C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F8C-FF9C-4EED-BABF-EF750D39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6A6-FECF-4307-AAFC-A56CD05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375-CDBF-4EA7-8279-E6E0435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F9B-333B-4AD1-8C53-1BF30D8B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0AB-4540-49D8-A3FC-4CFFB1D6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E75-2073-46FD-86C9-D920650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057-3B97-4143-9874-C50719A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F17-F4B7-4758-BABA-75822A2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2DE-9B1D-417F-A55E-2A7DFED97BA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F795-6024-4173-9163-B7A83F1CCEF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minibanda.ru/getBlogImage.ashx?id=6d4c15e9-b290-4d8b-819c-df6dd69fe5d0&amp;pageurl=http://www.povarenok.ru%2Fdict%2Fword%2F82%2F%7E20%2F&amp;id=51750492&amp;iid=7&amp;imgwidth=96&amp;imgheight=116&amp;imgsize=52127&amp;images_links=b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frame.html?imgurl=http://www.cookerybook.ru/images/content/preview1/884.jpg&amp;pageurl=http://www.cookerybook.ru%2Fcontent-884.html&amp;id=50308606&amp;iid=8&amp;imgwidth=140&amp;imgheight=140&amp;imgsize=698350&amp;images_links=b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go.mail.ru/frame.html?imgurl=http://www.rjevka.com/images/pictures/03113446_small.jpg&amp;pageurl=http://www.rustoys.ru%2Findex.html%3Fcatid%3D82%26action%3Dcat%26cat%3D101%26from%3D1340%26rustoys%3D67167ac7c38ec9e912dd47d752c6cc05&amp;id=15723744&amp;iid=4&amp;imgwidth=83&amp;imgheight=100&amp;imgsize=34002&amp;images_links=b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go.mail.ru/frame.html?imgurl=http://www.likbez.by/pictures/94617.gif&amp;pageurl=http://www.libring.ru%2Fbook52787&amp;id=27239796&amp;iid=0&amp;imgwidth=200&amp;imgheight=310&amp;imgsize=27293&amp;images_links=b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aptechka.rhema.ru/fito/pic/grech.gif&amp;pageurl=http://www.aptechka.rhema.ru%2Ffito%2Fgrech.shtml&amp;id=20020975&amp;iid=8&amp;imgwidth=200&amp;imgheight=300&amp;imgsize=16358&amp;images_links=b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go.mail.ru/frame.html?imgurl=http://www.bianmao.net/ProductImage/2007_Prthmb_masoo_183341491.jpg&amp;pageurl=http://www.bianmao.net%2Ffront%3FACTION%3Dbianmao.gb.allproductlist2%26shopid%3Dmasoo&amp;id=37637434&amp;iid=2&amp;imgwidth=775&amp;imgheight=752&amp;imgsize=219966&amp;images_links=b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findfoto.ru/foto/medium/5/4032.jpg&amp;pageurl=http://www.findfoto.ru%2Fwork%2Ffoto%2F%3Fid%3D4032&amp;id=20746132&amp;iid=3&amp;imgwidth=500&amp;imgheight=333&amp;imgsize=242460&amp;images_links=b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o.mail.ru/frame.html?imgurl=http://www.sibpk.sibinfo.net/Products/passim/passim/img/psheno.jpg&amp;pageurl=http://www.sibpk.sibinfo.net%2FProducts%2Fpassim%2Fpassim%2Fpsheno.htm&amp;id=5641846&amp;iid=3&amp;imgwidth=272&amp;imgheight=331&amp;imgsize=26722&amp;images_links=b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go.mail.ru/frame.html?imgurl=http://molbiol.ru/pictures/heckfy_167.jpg&amp;pageurl=http://olig.ru%2Fpictures%2Flst_monocotyledon.html&amp;id=42937844&amp;iid=7&amp;imgwidth=140&amp;imgheight=105&amp;imgsize=126881&amp;images_links=b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vkusnoteka.ru/files/level3/p550-1.jpg&amp;pageurl=http://www.vkusnoteka.ru%2Findex.php%3Fpage%3Dl2%26id%3D51&amp;id=18829102&amp;iid=3&amp;imgwidth=90&amp;imgheight=120&amp;imgsize=32355&amp;images_links=b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go.mail.ru/frame.html?imgurl=http://stgetman.narod.ru/oves.jpg&amp;pageurl=http://www.ueipk.com.ua%2Foats%2F&amp;id=49976864&amp;iid=2&amp;imgwidth=200&amp;imgheight=267&amp;imgsize=29340&amp;images_links=b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go.mail.ru/frame.html?imgurl=http://www.toplambg.com/index_files/products/Avena_sativa.jpg&amp;pageurl=http://narodnaya-medicina.com%2Fposts%2F114-%25D0%259E%25D0%25B2%25D0%25B5%25D1%2581-%25D0%25BF%25D0%25BE%25D1%2581%25D0%25B5%25D0%25B2%25D0%25BD%25D0%25BE%25D0%25B9---Avena-sativa-L-.html&amp;id=41345447&amp;iid=2&amp;imgwidth=487&amp;imgheight=800&amp;imgsize=121368&amp;images_links=b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"/>
          <p:cNvSpPr/>
          <p:nvPr/>
        </p:nvSpPr>
        <p:spPr>
          <a:xfrm>
            <a:off x="533520" y="304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«Аленький цветочек» г. Надыма»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611280" y="141300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заняти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ружающий мир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готовительной групп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«Из чего варят каш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5410080" y="5181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хина Татьяна Валерьевна, воспита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А из чего варят манную кашу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манной кру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крупа – э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шеничная му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вёрдых сорт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обо крупного помо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i?id=20659958&amp;tov=4"/>
          <p:cNvPicPr/>
          <p:nvPr/>
        </p:nvPicPr>
        <p:blipFill>
          <a:blip r:embed="rId1"/>
          <a:stretch/>
        </p:blipFill>
        <p:spPr>
          <a:xfrm>
            <a:off x="5486400" y="2133720"/>
            <a:ext cx="1523880" cy="241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i?id=12579431&amp;tov=7"/>
          <p:cNvPicPr/>
          <p:nvPr/>
        </p:nvPicPr>
        <p:blipFill>
          <a:blip r:embed="rId2"/>
          <a:stretch/>
        </p:blipFill>
        <p:spPr>
          <a:xfrm>
            <a:off x="7238880" y="4572000"/>
            <a:ext cx="1676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Что можно добавить в кашу, чтобы она стала ещё вкуснее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4" descr="варенье2"/>
          <p:cNvPicPr/>
          <p:nvPr/>
        </p:nvPicPr>
        <p:blipFill>
          <a:blip r:embed="rId1"/>
          <a:stretch/>
        </p:blipFill>
        <p:spPr>
          <a:xfrm>
            <a:off x="380880" y="23623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ежевика2"/>
          <p:cNvPicPr/>
          <p:nvPr/>
        </p:nvPicPr>
        <p:blipFill>
          <a:blip r:embed="rId2"/>
          <a:stretch/>
        </p:blipFill>
        <p:spPr>
          <a:xfrm>
            <a:off x="3429000" y="2362320"/>
            <a:ext cx="2050920" cy="2165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мёд2"/>
          <p:cNvPicPr/>
          <p:nvPr/>
        </p:nvPicPr>
        <p:blipFill>
          <a:blip r:embed="rId3"/>
          <a:stretch/>
        </p:blipFill>
        <p:spPr>
          <a:xfrm>
            <a:off x="6781680" y="1981080"/>
            <a:ext cx="1981440" cy="221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сухофрукты2"/>
          <p:cNvPicPr/>
          <p:nvPr/>
        </p:nvPicPr>
        <p:blipFill>
          <a:blip r:embed="rId4"/>
          <a:stretch/>
        </p:blipFill>
        <p:spPr>
          <a:xfrm>
            <a:off x="5867280" y="4800600"/>
            <a:ext cx="229896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земляника"/>
          <p:cNvPicPr/>
          <p:nvPr/>
        </p:nvPicPr>
        <p:blipFill>
          <a:blip r:embed="rId5"/>
          <a:stretch/>
        </p:blipFill>
        <p:spPr>
          <a:xfrm>
            <a:off x="380880" y="4648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орех2"/>
          <p:cNvPicPr/>
          <p:nvPr/>
        </p:nvPicPr>
        <p:blipFill>
          <a:blip r:embed="rId6"/>
          <a:stretch/>
        </p:blipFill>
        <p:spPr>
          <a:xfrm>
            <a:off x="289548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828440"/>
            <a:ext cx="779292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зентацию подготовил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Маркова Марина Викторовн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читель начальных классов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школы № 7 г.Калуг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ИЗ ЧЕГО ВАРЯТ КАШ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6" descr="i?id=5175049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362320"/>
            <a:ext cx="1733400" cy="2181240"/>
          </a:xfrm>
          <a:prstGeom prst="rect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</p:pic>
      <p:pic>
        <p:nvPicPr>
          <p:cNvPr id="104" name="Picture 8" descr="i?id=50308606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4191120"/>
            <a:ext cx="1962000" cy="2038320"/>
          </a:xfrm>
          <a:prstGeom prst="rect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</p:pic>
      <p:pic>
        <p:nvPicPr>
          <p:cNvPr id="105" name="Picture 10" descr="i?id=15723744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1981080"/>
            <a:ext cx="1524240" cy="2210040"/>
          </a:xfrm>
          <a:prstGeom prst="rect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</p:pic>
      <p:pic>
        <p:nvPicPr>
          <p:cNvPr id="106" name="Picture 12" descr="i?id=27239796&amp;tov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3962520"/>
            <a:ext cx="1524240" cy="2009520"/>
          </a:xfrm>
          <a:prstGeom prst="rect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е каши ты знаеш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аша манная молоч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Каша манная розовая (с морковным соком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Каша пшенная молочная или рассыпчат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Каша гречневая на молоке или рассыпчат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е каши ты знаеш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Каша геркулесов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.Каша пшённая с тыкв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.Каша рисовая на моло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Каша перлов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.Каша из смеси различных кру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Попробуй придумать свою каш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истории каш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ша – исконно русское блюд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ьные  каши варились в че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ого знаменательного событ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русских князей существовал обыча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нак примирения между враг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ть кашу. Без каши мирный догов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читался недействительн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З ЧЕГО ВАРЯТ КАШ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ечневую и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ечих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i?id=2002097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90512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?id=37637434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505320"/>
            <a:ext cx="22194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З ЧЕГО ВАРЯТ КАШ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шённую  и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шена (прос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i?id=20746132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581280"/>
            <a:ext cx="2057400" cy="2048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?id=5641846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843280"/>
            <a:ext cx="1623960" cy="188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i?id=4293784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2133720"/>
            <a:ext cx="1885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З ЧЕГО ВАРЯТ КАШ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ркулесовую и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всяных хлопье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i?id=18829102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981080"/>
            <a:ext cx="143820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?id=49976864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3962520"/>
            <a:ext cx="1676160" cy="212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?id=41345447&amp;tov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2895480"/>
            <a:ext cx="1400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курузную и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З ЧЕГО ВАРЯТ КАШ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6" descr="кукуруза"/>
          <p:cNvPicPr/>
          <p:nvPr/>
        </p:nvPicPr>
        <p:blipFill>
          <a:blip r:embed="rId1"/>
          <a:stretch/>
        </p:blipFill>
        <p:spPr>
          <a:xfrm>
            <a:off x="4648320" y="1828800"/>
            <a:ext cx="4233600" cy="380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укурузная крупа"/>
          <p:cNvPicPr/>
          <p:nvPr/>
        </p:nvPicPr>
        <p:blipFill>
          <a:blip r:embed="rId2"/>
          <a:stretch/>
        </p:blipFill>
        <p:spPr>
          <a:xfrm>
            <a:off x="1828800" y="3505320"/>
            <a:ext cx="160956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108840" y="59180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укуру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PC</cp:lastModifiedBy>
  <dcterms:modified xsi:type="dcterms:W3CDTF">2022-04-18T16:12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