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3.jpeg" ContentType="image/jpe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69F-DFF4-47DA-A368-9AF96430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839-0E8F-4B06-B6FC-43EF3B77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993-ECBE-43BB-9EEE-0F0A3C1D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FA9-23B7-4AF3-B801-4F482F13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8E37-23FA-4CD3-B1AA-3C2CDF37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DDBA-C4F4-4045-BB7B-82B596B2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4713-73F0-4B08-BFF0-AFC5C2F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8A6A-458F-4AD4-925A-F5A402C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25A9-41D4-4F77-A22C-CD28D9C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2289-16C0-4563-8596-AD14133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678-8837-45A3-97D2-FA1EE6D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24D-5241-4164-AB9B-00B1C5D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C14-BC4C-40E9-B13E-715C601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CE43-357D-4BC4-9B35-F57B89E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566-DF4E-4FDE-9373-FB5D388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1062-5BC9-4FEE-A657-B0D7CF2B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1A0-8BD5-4C27-BEE1-8A53B477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963-11EE-42E5-9D30-DD2CC34F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6F3-B811-45A1-890F-3A37AB0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490-CCEA-46A0-8EA9-AA4C7C4C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F6F-2BB2-4EB9-A94A-70B5854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355-B17D-4D44-846E-DCCD1871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A89-8696-4011-AA3D-8435A95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C3-9136-47D3-9A2B-B32C760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F26-284B-4366-8362-7CF5CB3E3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81D-6E68-44EF-8C78-979A8E0B6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5960" y="24285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СИХОЛОГИЧЕСКИЕ ВОЗРАСТНЫЕ ОСОБЕННОСТИ ПОДРОСТ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7b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ротиворечивост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 семье подростки стремятся к своей независимости, праву поступать по-свое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среди сверстников они соглашатели, проявляющие чрезмерную зависимость от чужого м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нтерес к противоположному пол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ростки могут страдать от пониженной самооцен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давать чрезмерное значение недостаткам своей внешност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ановиться застенчивыми, домосед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baby102"/>
          <p:cNvPicPr/>
          <p:nvPr/>
        </p:nvPicPr>
        <p:blipFill>
          <a:blip r:embed="rId2"/>
          <a:stretch/>
        </p:blipFill>
        <p:spPr>
          <a:xfrm>
            <a:off x="5867280" y="4869000"/>
            <a:ext cx="197172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50000">
              <a:srgbClr val="c0c0c0"/>
            </a:gs>
            <a:gs pos="100000">
              <a:srgbClr val="59595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20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оиск смысла жизн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росток нуждается в нравственном авторитете, который ответил бы на все его сомн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йдись нежелательный авторитет, поразивший подростка своим «знанием жизни», своей уверенностью, а порой и мнимой щедростью, криминальной псевдоромантикой, и он пойдет по дороге, ведущей к преступл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Личностные черты подростк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по В.А. Сухомлинском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примиримость ко зл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Стремление к идеал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ела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ть личностью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Романтическая восторженность и грубые выходки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48"/>
          <p:cNvPicPr/>
          <p:nvPr/>
        </p:nvPicPr>
        <p:blipFill>
          <a:blip r:embed="rId1"/>
          <a:stretch/>
        </p:blipFill>
        <p:spPr>
          <a:xfrm>
            <a:off x="6732720" y="5589720"/>
            <a:ext cx="733320" cy="561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2818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Тест «Готовы ли вы к переходному возрасту ребенка?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На ваш взгляд, самая большая проблема переходного возраста заключается в том, что ребенок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перестает прислушиваться к мнению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может попасть в плохую компан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начинает осознавать себя как самостоятельную лич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Вспоминая свое детство, вы обычно рассказываете ребенку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о том, что вы хорошо училис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о похожих проблемах и способах их реш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забавные случа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Сколько времени в день вы проводите с ребенком, беседуя о его делах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не больше час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около 2 ча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больше 2 ча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45tgf"/>
          <p:cNvPicPr/>
          <p:nvPr/>
        </p:nvPicPr>
        <p:blipFill>
          <a:blip r:embed="rId1"/>
          <a:stretch/>
        </p:blipFill>
        <p:spPr>
          <a:xfrm>
            <a:off x="6300720" y="5273640"/>
            <a:ext cx="1008000" cy="81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69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Учитель жалуется на поведение ребенка, в то время как сын или дочка сами утверждают, что виновником происшествия является их одноклассник. Ваши действия..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отругаете ребенка, потому что учитель не станет жаловаться беспричинно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встанете на сторону сына или дочери и будете обвинять одноклассни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дома подробно расспросите ребенка и объясните ему, почему учитель счел его виноваты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 Каких проблем подросткового возраста вы боитесь больше всего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отчужде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употребления алкогол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ранних отнош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9c6022b019adb4e76fb7c28beb0c6ec2"/>
          <p:cNvPicPr/>
          <p:nvPr/>
        </p:nvPicPr>
        <p:blipFill>
          <a:blip r:embed="rId1"/>
          <a:stretch/>
        </p:blipFill>
        <p:spPr>
          <a:xfrm>
            <a:off x="6156360" y="4653000"/>
            <a:ext cx="1911240" cy="204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30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бенок признался, что девочка (мальчик), которая(-ый) ему нравится, не отвечает взаимностью. Что вы ему скажет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предложите немного изменить внешность, вести себя более открыто  и дружелюбно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успокоите, что в его жизни еще будет много других девочек (мальчиков), в сто раз лучш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постараетесь отвлечь ребенка от печальных мыслей и пережива­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. Ребенок наотрез отказывается заниматься в кружке, который раньше посещал с удовольствием. Ваши действи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)  предложите ему выбрать другое заняти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постараетесь убедить продолжить занятие, чтобы довести начатое дело до конц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упрекнете его в лени и нежелании развивать свои способ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8.  Подросток просит вас отпустить его с друзьями в клуб, на дис­котеку. Ваша реакция..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придумаете благовидный предлог, из-за которого ребенку придется  отложить встречу с друзьям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поговорите с ним об опасностях, которые таят в себе такие места,  и запретите посещать подобные места до 18 лет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отпустите при условии, что ребенок будет «выходить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 связь» в условленное врем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620280"/>
            <a:ext cx="7696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9. Подросток считает себя непривлекательным из-за угрей. Как его можно успокои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обратить внимание на его выразительные глаза и красивую форму нос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сказать, что это временное явление, и у всех подростков бывают пры­щ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собрать информацию о существующих косметических средствах борьбы с угрями и пообещать купить и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0.  Вы обнаружили, что от куртки ребенка пахнет табаком. Что вы предпримет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будете искать сигареты в карманах его курт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строго спросите, не начал ли ребенок кур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заведете разговор о том, что многие подростки рано начинают курить, и как бы невзначай спросите, нет ли таких среди его друзей, и как он сам относится к курен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1. Если вам не нравится кто-то из друзей ребенка, вы обычно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просите его меньше общаться с этим друго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не разрешаете приглашать друга к вам домо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откровенно высказываете свое мнение о н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2. Что вы скажете ребенку, если услышите, как он грубит бабушк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«Как ты разговариваешь с бабушкой?!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«Что у вас произошло?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«Пожалуйста, не обижай бабушку!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3. Ребенок увлекся музыкальной группой, творчество которой нам не нравится. Вы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)  постараетесь понять, что именно привлекает ребенка в музыке лю­бимого коллекти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  предложите послушать записи других современных и классических исполн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)  подвергнете критике тексты песен и аранжировку, чтобы ребенок осознал свое заблужд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люч к тест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828800"/>
          <a:ext cx="6734160" cy="3657600"/>
        </p:xfrm>
        <a:graphic>
          <a:graphicData uri="http://schemas.openxmlformats.org/drawingml/2006/table">
            <a:tbl>
              <a:tblPr/>
              <a:tblGrid>
                <a:gridCol w="480960"/>
                <a:gridCol w="480960"/>
                <a:gridCol w="480960"/>
                <a:gridCol w="481320"/>
                <a:gridCol w="480960"/>
                <a:gridCol w="480960"/>
                <a:gridCol w="480960"/>
                <a:gridCol w="480960"/>
                <a:gridCol w="480960"/>
                <a:gridCol w="414360"/>
                <a:gridCol w="547920"/>
                <a:gridCol w="480960"/>
                <a:gridCol w="480960"/>
                <a:gridCol w="48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144" descr="hw13"/>
          <p:cNvPicPr/>
          <p:nvPr/>
        </p:nvPicPr>
        <p:blipFill>
          <a:blip r:embed="rId1"/>
          <a:stretch/>
        </p:blipFill>
        <p:spPr>
          <a:xfrm>
            <a:off x="324000" y="189000"/>
            <a:ext cx="1371600" cy="123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11520"/>
            <a:ext cx="831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20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«В подростковом возрасте многие человеческие достоинства проявляются в чудаческих и неподобающих поступках» (И.Гёт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«Структура личности подростка... В ней нет ничего устойчивого, окончательного и неподвижного. Все в ней - переход, все течет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(Л.С. Выготский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нализ результатов те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-25 баллов - готовность номер один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аш ребенок не страдает от недостатка внимания и знает, что родители всегда будут на его стороне и в любой момент придут на помощь. Ежедневный родительский труд дает вам основание для уверенности в том, что все «вложенное» в ребенка не позволит  ему совершить непоправимых ошибок. Тем не менее, не стоит забывать принцип: «Доверяй, но проверяй!». Каким бы самостоятельным ни казался ребенок, все-таки он еще не совсем взрослый. Контролировать местонахождение, успеваемость и круг общения можно косвенно и ненавязчиво, например, через общих знакомых или родителей друзей подростка. Не стоит поощрять излишнюю фамильярность в общении и стараться быть для ребенка «своим в доску». Для гармоничного развития ребенку нужно ощущать твердые жизненные принципы родителей, их спокойствие и увер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6-45 баллов -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раха глаза велики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 чересчур восприимчивы к трудностям переходного возраста. Вас пугают газетные статьи о подростковой преступности и наркомании . Диковатая подростковая мода, современная музыка, употребление жаргона - все это вызывает в вас внутренний протест, который может заставить сына или дочь «закрыться», в ваших отношениях с ребенком не хватает непринужденности. Если ежедневно не давать возможности проявлять самостоятельность, как он научится ответственности? Гиперопека и нравоучительные беседы никогда не оправдывают возлагаемых на них надежд. Лучше просто время от времени болтать с ребенком о фильмах и музыке, о каких-то незначительных событиях, исподволь расспрашивая его о друзьях, взглядах на жизнь, и ненавязчиво высказывать свое мнение. Подросток обязательно примет все это к сведен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7913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6-65 баллов - без диктатуры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ам необходимо пересмотреть свои отношения с ребенком, чтобы уберечь и его, и себя от серьезных конфликтов. Основная проблема состоит в излишней требовательности, нежелании принимать систему ценностей подростка и мириться с изменениями в его характере. Жесткий контроль, постоянные запреты, отсутствие личного пространства заставляют ребенка протестовать и отстаивать свою свободу, часто проявляя грубость и даже жестокость. Не имея возможности приглашать друзей к себе домой, ребенок всё свободное время пропадает на улице или «висит на телефоне». В такой ситуации необходимо подумать, что вы можете предложить ему вместо подобных развлечений. Например, можно записать ребенка в туристический клуб, если он испытывает тягу к приключениям, или в танцевальную студию, если он целыми днями слушает рэп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Памятка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696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Старайтесь говорить со своим ребенком открыто на самые деликатные т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Опасайтесь получения вашим ребенком информации из чужих у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Рассказывайте о своих переживаниях в том возрасте, в котором сейчас ваши де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Будьте открыты для общения с ребенком. Даже если вы чего-то не знаете или в чем-то сомневаетесь, не стесняйтесь сказать об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 Не высказывайтесь негативно о тех переживаниях, которые были связаны с вашим взрослением. Ребенок будет их переживать с вашей позиции и воспринимать так, как воспринимали в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амятка для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7696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являйте ласку к своим детям, демонстрируйте им свою любов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7.  Будьте особенно внимательны и наблюдательны, обращайте внимание на любые изменения в поведении своего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амятка для род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8. Старайтесь защитить своего ребенка всеми возможными способами, если он в этом нуждает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9.  В самостоятельности ребенка не следует видеть угрозу лишиться её. Помните, что ребенку нужна не столько самостоятельность, сколько право на не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0. Хотите, чтобы ребенок сделал то, что вам нужно, сделайте так, чтобы он сам захотел эт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1. Не перегружайте ребенка опекой и контрол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peopls166"/>
          <p:cNvPicPr/>
          <p:nvPr/>
        </p:nvPicPr>
        <p:blipFill>
          <a:blip r:embed="rId1"/>
          <a:stretch/>
        </p:blipFill>
        <p:spPr>
          <a:xfrm>
            <a:off x="6948360" y="53690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31654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каз родителя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55640" y="549360"/>
            <a:ext cx="40323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проповедь выслушив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не лучше бы взгляну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лучше проводить меня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указать мне пут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лаза умнее слух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ймут все без тру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лова порой запутан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 же - никог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от лучший проповедник 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веру в жизнь прове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бро увидеть в действии 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т лучшая из шко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если все мне показать 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Я выучу уро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нятней мне движенье рук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быстрых слов пото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жно быть можно вери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мыслям, и словам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 я уж лучше погляжу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то делаешь ты с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79ce09b50a2b620d190479ba67404f31"/>
          <p:cNvPicPr/>
          <p:nvPr/>
        </p:nvPicPr>
        <p:blipFill>
          <a:blip r:embed="rId1"/>
          <a:stretch/>
        </p:blipFill>
        <p:spPr>
          <a:xfrm>
            <a:off x="179280" y="1197000"/>
            <a:ext cx="38102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Психофизическое развит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ростко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9120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мена интерес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итическое отношение к прежним авторитета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нижение учебной успеваемос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вышенная утомляем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моциональная неустойчив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отношению к родны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тиворечив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терес к противоположному пол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иск смысла жиз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124"/>
          <p:cNvPicPr/>
          <p:nvPr/>
        </p:nvPicPr>
        <p:blipFill>
          <a:blip r:embed="rId1"/>
          <a:stretch/>
        </p:blipFill>
        <p:spPr>
          <a:xfrm>
            <a:off x="395280" y="198900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85"/>
            </a:gs>
            <a:gs pos="100000">
              <a:srgbClr val="c0c0c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мена интере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никновении новых социальных потребносте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каз от увлечений и стремлений детств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ремление выделиться оригинальностью своих занятий, возвыситься в глазах окружающих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сцельное времяпрепровожд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теряв прежние интересы и не обретя новых, подросток временно утрачивает связи со средой, с окружающими его людьми и может ощущать себя очень одинок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. Толстой назвал этот период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устыней одиночества»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зрослых в этот период - занять ребенка полезным делом, помочь найти нужное увлечение,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ждать с ним его потребност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057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ервой жертвой становятся самые близкие люди – родите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каждый подросток приходит к полному отрицанию родителей, но с детским преклонением перед ними расстается практически любой из ни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57640" y="189000"/>
            <a:ext cx="742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ритическое отношение 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ежним авторитета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нижение учебной успеваем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сли игнорировать этот факт и усилить воспитательный нажим на школьника, то можно получить обратный результат плюс ухудшение поведени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17702acb5af644190b96f11d32cdf40c"/>
          <p:cNvPicPr/>
          <p:nvPr/>
        </p:nvPicPr>
        <p:blipFill>
          <a:blip r:embed="rId2"/>
          <a:stretch/>
        </p:blipFill>
        <p:spPr>
          <a:xfrm>
            <a:off x="6012000" y="4581360"/>
            <a:ext cx="2193840" cy="1946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72"/>
            </a:gs>
            <a:gs pos="50000">
              <a:srgbClr val="c0c0c0"/>
            </a:gs>
            <a:gs pos="100000">
              <a:srgbClr val="7272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вышенная утомляем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никает сходная с ранним детством ситуация: малыш капризничает, потому что устал, а мы наказываем его за неповинов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baby35"/>
          <p:cNvPicPr/>
          <p:nvPr/>
        </p:nvPicPr>
        <p:blipFill>
          <a:blip r:embed="rId1"/>
          <a:stretch/>
        </p:blipFill>
        <p:spPr>
          <a:xfrm>
            <a:off x="6227640" y="4437000"/>
            <a:ext cx="1579680" cy="16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858585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моциональная неустой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ожиданные переходы от радужных надежд к унынию и пессимизму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дирчивое отношение к родным сочетается с острым недовольством собо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baby91"/>
          <p:cNvPicPr/>
          <p:nvPr/>
        </p:nvPicPr>
        <p:blipFill>
          <a:blip r:embed="rId1"/>
          <a:stretch/>
        </p:blipFill>
        <p:spPr>
          <a:xfrm>
            <a:off x="6877080" y="5300640"/>
            <a:ext cx="819000" cy="96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baby90"/>
          <p:cNvPicPr/>
          <p:nvPr/>
        </p:nvPicPr>
        <p:blipFill>
          <a:blip r:embed="rId2"/>
          <a:stretch/>
        </p:blipFill>
        <p:spPr>
          <a:xfrm>
            <a:off x="4572000" y="5373720"/>
            <a:ext cx="923760" cy="87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85858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чуждение по отношению к родны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зическое возмужание подростка дает ему ощущение зрелости, но социальный статус его ни в семье, ни в школе не меняется. И тогда начинается борьба за признание своих прав, самостоятельнос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в такие периоды настойчиво вызывать подростка на откровенность, то можно встретить враждебность, за которой скрывается подавленность и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ны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baby89"/>
          <p:cNvPicPr/>
          <p:nvPr/>
        </p:nvPicPr>
        <p:blipFill>
          <a:blip r:embed="rId1"/>
          <a:stretch/>
        </p:blipFill>
        <p:spPr>
          <a:xfrm>
            <a:off x="6804000" y="5661000"/>
            <a:ext cx="924120" cy="96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37:26Z</dcterms:created>
  <dc:creator>www.PHILka.RU</dc:creator>
  <dc:description/>
  <dc:language>en-US</dc:language>
  <cp:lastModifiedBy>User</cp:lastModifiedBy>
  <dcterms:modified xsi:type="dcterms:W3CDTF">2021-10-26T23:42:41Z</dcterms:modified>
  <cp:revision>7</cp:revision>
  <dc:subject/>
  <dc:title>ПСИХОЛОГИЧЕСКИЕ ВОЗРАСТНЫЕ ОСОБЕННОСТИ ПОДРОСТКА</dc:title>
</cp:coreProperties>
</file>