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1E4-1E9F-43C8-A0B7-178D135F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7DB-DD98-43FD-9C25-0CFF5F8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046-0586-4E57-AB37-A9BB0505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C0B-5E63-4C25-AC37-B7CC9B76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6CE-1E0E-4942-9DB8-1012F9EE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C8C-81FC-492B-A089-788E20EE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CF7-8FA2-4E17-A85F-370D71E7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1C2-2A2D-4741-8232-90B9AB96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C20-63BC-4126-9B63-63CA04CC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25E-D73B-4A36-941D-7838B2E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CDD-36C8-4376-86E0-9CD3A17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F57-C653-4802-9EB9-9E2540E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0E9-C0FF-486D-9FF9-C2B7D75F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341360"/>
            <a:ext cx="468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5000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5000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50000">
                      <a:srgbClr val="8488c4"/>
                    </a:gs>
                    <a:gs pos="100000">
                      <a:srgbClr val="96ab94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50000">
                    <a:srgbClr val="8488c4"/>
                  </a:gs>
                  <a:gs pos="100000">
                    <a:srgbClr val="96ab94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50000">
                      <a:srgbClr val="8488c4"/>
                    </a:gs>
                    <a:gs pos="100000">
                      <a:srgbClr val="96ab94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50000">
                    <a:srgbClr val="8488c4"/>
                  </a:gs>
                  <a:gs pos="100000">
                    <a:srgbClr val="96ab94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89000"/>
            <a:ext cx="856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Посмотри на картинку и исправь ошиб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765000"/>
            <a:ext cx="547380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5084640"/>
            <a:ext cx="8569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ворец вылетел           сквореч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2200" y="5229360"/>
            <a:ext cx="43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3640" y="522936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920" y="189000"/>
            <a:ext cx="856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Посмотри на картинку и исправь ошиб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909720"/>
            <a:ext cx="5473800" cy="403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5084640"/>
            <a:ext cx="8569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ист улетает       пол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796000" y="5229360"/>
            <a:ext cx="647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40360" y="522936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6165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Б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472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61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360" y="6165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ВОР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368280"/>
            <a:ext cx="90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сширять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ставления детей о птиц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ь различать зимующих и перелетных пт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пражнять в согласовании слов в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пражнять в употреблении формы множественного числа имен существительных в имен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креплять в речи пройденные предло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вать мышление и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11280" y="7308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5016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9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11280" y="57636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Это пт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только зимующих пти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5016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только перелетных пти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5016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9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400680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623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920" y="189000"/>
            <a:ext cx="856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Посмотри на картинку и исправь ошиб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1125360"/>
            <a:ext cx="5473800" cy="374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5084640"/>
            <a:ext cx="8569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ворец           скворечник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35280" y="5229360"/>
            <a:ext cx="7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51280" y="522936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0920" y="189000"/>
            <a:ext cx="856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Посмотри на картинку и исправь ошиб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909720"/>
            <a:ext cx="3888000" cy="482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5689440"/>
            <a:ext cx="8569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ворец           скворечник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35280" y="5805360"/>
            <a:ext cx="71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0000" y="580536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32:09Z</dcterms:created>
  <dc:creator>Ирина</dc:creator>
  <dc:description/>
  <dc:language>en-US</dc:language>
  <cp:lastModifiedBy>Ирина</cp:lastModifiedBy>
  <dcterms:modified xsi:type="dcterms:W3CDTF">2012-04-22T16:15:00Z</dcterms:modified>
  <cp:revision>7</cp:revision>
  <dc:subject/>
  <dc:title>Слайд 1</dc:title>
</cp:coreProperties>
</file>