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090-E00A-4356-BEA9-D9953272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12A-8DFC-41A7-90BF-679E97C2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59F-3624-4ACE-8677-AB0DCA8E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97E-E367-4626-89CE-3225BEA7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D91-E430-4AD8-BB5A-1A7C0CD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C08-012A-478A-81E5-0435899F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912-60EF-4297-9AB0-D1B29455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5D5-BF13-4B7F-BC70-787C90F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6D7-9622-4BC3-840D-4CB242E1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1A4-71FA-499A-9598-74DA49D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21D-0E38-4753-A9E0-B026C91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835-1193-44D7-817A-6A68247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FA7-34B7-4342-8C34-D0444BA8E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5.jpeg"/><Relationship Id="rId6" Type="http://schemas.openxmlformats.org/officeDocument/2006/relationships/image" Target="../media/image6.jpeg"/><Relationship Id="rId7" Type="http://schemas.openxmlformats.org/officeDocument/2006/relationships/image" Target="../media/image12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40000" y="1341360"/>
            <a:ext cx="468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27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27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619280" y="1268280"/>
            <a:ext cx="215892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076720" y="1268280"/>
            <a:ext cx="215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24000" y="33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50920" y="189000"/>
            <a:ext cx="856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Посмотри на картинку и исправь ошиб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050920" y="765000"/>
            <a:ext cx="54738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395280" y="5084640"/>
            <a:ext cx="8569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ворец                   из сквореч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3059280" y="5229360"/>
            <a:ext cx="158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лет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2916360" y="5229360"/>
            <a:ext cx="187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лет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50920" y="189000"/>
            <a:ext cx="856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Посмотри на картинку и исправь ошиб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050920" y="909720"/>
            <a:ext cx="5473800" cy="40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826920" y="5589720"/>
            <a:ext cx="7417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ист                        с пол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2771640" y="5734080"/>
            <a:ext cx="30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лета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2987640" y="5734080"/>
            <a:ext cx="244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лета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95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85928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68360" y="602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СО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556000" y="602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859280" y="6021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7093080" y="602136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ВОРОБ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987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78800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39640" y="602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А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2844720" y="602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4788000" y="602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7164360" y="602136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800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кажи одним слов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050920" y="765000"/>
            <a:ext cx="54738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395280" y="5084640"/>
            <a:ext cx="8569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цапли длинные лапы. Какая цапл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771640" y="5877000"/>
            <a:ext cx="3876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ИННОЛАП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800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кажи одним слов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050920" y="765000"/>
            <a:ext cx="54738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395280" y="5084640"/>
            <a:ext cx="8569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синицы жёлтая грудь. Какая синиц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2771640" y="5877000"/>
            <a:ext cx="3876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ТОГРУД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90800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кажи одним слов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050920" y="765000"/>
            <a:ext cx="54738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395280" y="5084640"/>
            <a:ext cx="8569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гусей красные лапы. Какие гус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771640" y="5877000"/>
            <a:ext cx="417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ОЛАПЫ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69236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кажи одним слов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700360" y="765000"/>
            <a:ext cx="381636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395280" y="5084640"/>
            <a:ext cx="8569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ласточки длинный хвост. Какая ласточк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2556000" y="5877000"/>
            <a:ext cx="432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ИННОХВОСТ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189000"/>
            <a:ext cx="900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ставления детей о птиц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ь различать зимующих и перелетных, водоплавающих пт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пражнять в согласовании слов в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пражнять в употреблении формы множественного числа имен существительных в род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пражнять в образовании и правильном употреблении приставочных глаго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пражнять в образовании сложны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вать мышление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411280" y="0"/>
            <a:ext cx="44658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95016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9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843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71636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55600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85928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559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411280" y="144360"/>
            <a:ext cx="44658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985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985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39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У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843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19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РАВ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Б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411280" y="6165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003640" y="61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7451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39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У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только зимующих пти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95016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39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5600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270036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У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только перелетных пти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985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948360" y="4005360"/>
            <a:ext cx="215928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843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85928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7559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79280" y="6165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5600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РАВ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843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219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Б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451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20"/>
          <p:cNvSpPr txBox="1"/>
          <p:nvPr/>
        </p:nvSpPr>
        <p:spPr>
          <a:xfrm>
            <a:off x="468360" y="144360"/>
            <a:ext cx="831672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только водоплавающих пти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36400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292720" y="623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а</cp:lastModifiedBy>
  <dcterms:modified xsi:type="dcterms:W3CDTF">2012-05-04T18:41:54Z</dcterms:modified>
  <cp:revision>14</cp:revision>
  <dc:subject/>
  <dc:title>Слайд 1</dc:title>
</cp:coreProperties>
</file>