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21E-E838-4167-83BF-BE816C7D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D4C-2268-4E69-86D2-A432994F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DD3-3DDF-46D1-9D9D-C746CE3C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048-E81E-4639-8D6A-003795D4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0C65-0FAC-4817-817F-8EEED1FA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BBF6-582B-4053-894C-C8F4D4C2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60B6-F5CE-4196-BEC1-9E86263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F299-5FBA-41B2-84C8-E5AC4C18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4731-57FF-4C6C-8F08-63F8B2E6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3EBC-1AF1-4B30-89EF-E3B553A3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EF96-F682-46F4-BDC1-F9311F8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55E-5727-4E90-9BBF-B7B521AA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2BB5-DB51-4ADE-92CF-A18A69D3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AEEC-BEBD-4E0C-99B7-AF6FD4A9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F938-E61D-4435-899B-0DD22A63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1AD5-C2C3-4CC1-A491-A6F50DE8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B47F-2179-47BB-81EE-034E31F2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603E-6331-480E-B100-998EED43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F040-6461-4CDF-9ED1-E45DB0F7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CB4E-52B1-48CA-820E-C060111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2660-3434-4CD0-BE5C-D021E8D2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50B1-A921-4255-A562-CBB29DCD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6E2-2998-42A0-91BB-38E445FC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D154-B910-494B-989B-138B54F9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17A0E-BF2C-46C1-8D64-544F0D44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7582-82C5-49BC-A4F5-59B0D17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5683-926F-4B82-A752-F21DC02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1FB2-551D-46C1-AD83-E8D4E605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AEEA-B5DA-47CC-821D-7634221A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31D3-EF60-4B6E-A328-265C4B93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7757-CC72-4D18-AEF9-9A4B01FB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EBE1-4108-4CCB-B668-4DFD29F4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6A82-CE96-41A9-91D6-99B0A18D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C81-8FBF-445F-95ED-58B6CC32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CD0F-49C7-42ED-A7F0-E7F74FA8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5DBF-32C7-48DC-8E22-1496A79F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5182-456B-4980-8E25-AE8EA3EB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B04B-B0CA-47A2-80E7-5D78E6F4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FB334-4A40-48D3-B5A6-F547FC4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1386F-2569-450A-9DF6-595085C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6FAC-F433-423B-901D-2FBA74BD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5A59-35EE-457E-96DB-18AB9114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AE1B-ABE7-44A8-B164-9B93C824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E18-6866-4F69-8A20-08BB2EA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3F3-CF8D-4856-9DBD-27304DAC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0C4-6BCE-4393-992A-FF3E567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3FF-B9C5-4187-A797-8FBE60B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E23-668A-43EA-8BFB-5E6454C8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BE3B-CE85-444A-A4AB-4FAE397176A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7D64-83CF-4DF4-863B-C0418B73791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973D-F39B-47F9-B6CF-9E05828746DA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62D0-B3C8-4BBE-A576-AA99D2A15C2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3;&#1077;&#1086;&#1082;&#1083;&#1072;&#1089;&#1089;&#1080;&#1094;&#1080;&#1079;&#1084;" TargetMode="External"/><Relationship Id="rId2" Type="http://schemas.openxmlformats.org/officeDocument/2006/relationships/hyperlink" Target="https://ru.wikipedia.org/wiki/&#1040;&#1084;&#1087;&#1080;&#1088;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8680" y="259920"/>
            <a:ext cx="6348240" cy="2747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Использование старой мебели - рациональное решение для сохранения лесов и переработки отходов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3357720"/>
            <a:ext cx="7453080" cy="302400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сследовательский проект выполнил учени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 «з» класса Муниципального общеобразовательного учреждения "Средняя общеобразовательная школа №30" г.Сыктывкара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ушуев Артём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дагог: Табаева С.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23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При продолжительности жизни 70 лет человеку в среднем  необходимо  около  30 деревьев. А чтобы вырастить 1 дерево необходимо     100 ЛЕТ!! </a:t>
            </a:r>
            <a:br>
              <a:rPr sz="20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rebuchet MS"/>
              </a:rPr>
              <a:t>В 1 кубе древесины примерно от 3  до 7  бревен( деревьев), все зависит от размера деревьев ( все рассчитывается  по специальной  формуле).  Значит человек в среднем за свою жизнь тратит   4 – 10 кубов  древесины. 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Объект 4" descr="расчет расхода дерева на человека"/>
          <p:cNvPicPr/>
          <p:nvPr/>
        </p:nvPicPr>
        <p:blipFill>
          <a:blip r:embed="rId1"/>
          <a:stretch/>
        </p:blipFill>
        <p:spPr>
          <a:xfrm>
            <a:off x="755640" y="2997360"/>
            <a:ext cx="5545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90c226"/>
                </a:solidFill>
                <a:latin typeface="Trebuchet MS"/>
              </a:rPr>
              <a:t>Россиянин выкидывает примерно 12 кг мусора из дерева год!! </a:t>
            </a:r>
            <a:br>
              <a:rPr sz="25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90c226"/>
                </a:solidFill>
                <a:latin typeface="Trebuchet MS"/>
              </a:rPr>
              <a:t>По данным Росприроднадзора, российские свалки занимают 4 миллиона гектаров.Если такие темпы сохранятся, то к 2050 году свалки займут 1% площади России.</a:t>
            </a:r>
            <a:br>
              <a:rPr sz="1500"/>
            </a:br>
            <a:r>
              <a:rPr b="0" lang="ru-RU" sz="1500" spc="-1" strike="noStrike">
                <a:solidFill>
                  <a:srgbClr val="90c226"/>
                </a:solidFill>
                <a:latin typeface="Trebuchet MS"/>
              </a:rPr>
              <a:t>           Среднестатистический россиянин производит в год около двух кубометров мусора — примерно 400 кг. Это около 1,1 кг в день. А 3% отходов занимают отходы из дерева. Значит россиянин производит в год  примерно 12 кг мусора из дерева.</a:t>
            </a:r>
            <a:endParaRPr b="0" lang="en-US" sz="1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Объект 3" descr="Урок экологии в 9–11-х классах по теме &quot;Проблема твердых бытовых отходов&quot;"/>
          <p:cNvPicPr/>
          <p:nvPr/>
        </p:nvPicPr>
        <p:blipFill>
          <a:blip r:embed="rId1"/>
          <a:stretch/>
        </p:blipFill>
        <p:spPr>
          <a:xfrm>
            <a:off x="1187280" y="3573360"/>
            <a:ext cx="4695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Необходимые инструменты для изготовления мебели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. Дрель. Мной разработаны памятки «Все про дрель и как пользоваться дрелью», которые имеются в исследовательской работе «К 100-летию создания электрической дрели» (размещена на сайте «Старт в науке»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2. Шуруповер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3. Лобз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4. Шлифмашин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5. Приборы для измерений.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6. Ручной инстру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7. Оснастка и расходни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Шаги при изготовление мебели своими рукам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выполнение чертежа издел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выполнение разметки и выпиливания элементов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обработку разных элемент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сверление разных отверстий под крепеж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окраску поверхносте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лакировк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сборку конструк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оэтапное изготовление мебели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19890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. Произвели измерения,  сделали Чертежи,  рассчитали количество  нужных конструкций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2206440" cy="32670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15462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4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Подобрали материал из старой мебели: мебельные щиты, полки и  т.п). 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6" name="Рисунок 3" descr="E:\ХЛАМ ВСЯКИХ ДАМ\ПРОЕКТ мебель\IMG_20201104_194418.jpg"/>
          <p:cNvPicPr/>
          <p:nvPr/>
        </p:nvPicPr>
        <p:blipFill>
          <a:blip r:embed="rId1"/>
          <a:stretch/>
        </p:blipFill>
        <p:spPr>
          <a:xfrm>
            <a:off x="826920" y="2239920"/>
            <a:ext cx="1756080" cy="1970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" descr="E:\ХЛАМ ВСЯКИХ ДАМ\ПРОЕКТ мебель\IMG_20201104_194935.jpg"/>
          <p:cNvPicPr/>
          <p:nvPr/>
        </p:nvPicPr>
        <p:blipFill>
          <a:blip r:embed="rId2"/>
          <a:stretch/>
        </p:blipFill>
        <p:spPr>
          <a:xfrm>
            <a:off x="2987640" y="2178000"/>
            <a:ext cx="1832040" cy="19810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E:\ХЛАМ ВСЯКИХ ДАМ\ПРОЕКТ мебель\IMG_20201115_135739.jpg"/>
          <p:cNvPicPr/>
          <p:nvPr/>
        </p:nvPicPr>
        <p:blipFill>
          <a:blip r:embed="rId3"/>
          <a:stretch/>
        </p:blipFill>
        <p:spPr>
          <a:xfrm>
            <a:off x="5342040" y="2152800"/>
            <a:ext cx="1593720" cy="2031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609120" y="1916280"/>
            <a:ext cx="691524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пили: крючки для одежды, держатели для полки, шканты, клей, саморез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выполнили разметки простым карандашом и выпилили лобзиком, ножовкой нужные конструкции.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33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Рисунок 3" descr="E:\ХЛАМ ВСЯКИХ ДАМ\ПРОЕКТ мебель\IMG_20201107_110324.jpg"/>
          <p:cNvPicPr/>
          <p:nvPr/>
        </p:nvPicPr>
        <p:blipFill>
          <a:blip r:embed="rId1"/>
          <a:stretch/>
        </p:blipFill>
        <p:spPr>
          <a:xfrm>
            <a:off x="855720" y="3201840"/>
            <a:ext cx="1379520" cy="24480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E:\ХЛАМ ВСЯКИХ ДАМ\ПРОЕКТ мебель\IMG_20201107_110510.jpg"/>
          <p:cNvPicPr/>
          <p:nvPr/>
        </p:nvPicPr>
        <p:blipFill>
          <a:blip r:embed="rId2"/>
          <a:stretch/>
        </p:blipFill>
        <p:spPr>
          <a:xfrm>
            <a:off x="2627280" y="3213000"/>
            <a:ext cx="1297080" cy="24066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5" descr="E:\ХЛАМ ВСЯКИХ ДАМ\ПРОЕКТ мебель\IMG_20201107_115823 (1).jpg"/>
          <p:cNvPicPr/>
          <p:nvPr/>
        </p:nvPicPr>
        <p:blipFill>
          <a:blip r:embed="rId3"/>
          <a:stretch/>
        </p:blipFill>
        <p:spPr>
          <a:xfrm>
            <a:off x="4572000" y="3201840"/>
            <a:ext cx="1440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Объект 22" descr="https://sun9-9.userapi.com/impg/ExMnVjh9AvkBNnCF1DG1-fcfGifBrv-SFNq-sg/R_UXQdxAFLs.jpg?size=511x1080&amp;quality=96&amp;sign=de726081857f4ff1f2b82fc331358c2b"/>
          <p:cNvPicPr/>
          <p:nvPr/>
        </p:nvPicPr>
        <p:blipFill>
          <a:blip r:embed="rId1"/>
          <a:stretch/>
        </p:blipFill>
        <p:spPr>
          <a:xfrm>
            <a:off x="914400" y="2133720"/>
            <a:ext cx="2362320" cy="39574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3" descr="E:\ХЛАМ ВСЯКИХ ДАМ\ПРОЕКТ мебель\IMG_20201128_113350.jpg"/>
          <p:cNvPicPr/>
          <p:nvPr/>
        </p:nvPicPr>
        <p:blipFill>
          <a:blip r:embed="rId2"/>
          <a:stretch/>
        </p:blipFill>
        <p:spPr>
          <a:xfrm>
            <a:off x="3949560" y="2133720"/>
            <a:ext cx="26384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МЕБЕЛЬ ДЛЯ ПРИХОЖЕ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Объект 5" descr="E:\ХЛАМ ВСЯКИХ ДАМ\ПРОЕКТ мебель\старая  вешалка.jpg"/>
          <p:cNvPicPr/>
          <p:nvPr/>
        </p:nvPicPr>
        <p:blipFill>
          <a:blip r:embed="rId1"/>
          <a:stretch/>
        </p:blipFill>
        <p:spPr>
          <a:xfrm>
            <a:off x="1332000" y="2276640"/>
            <a:ext cx="2016000" cy="33033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E:\ХЛАМ ВСЯКИХ ДАМ\ПРОЕКТ мебель\IMG_20201107_113553 (2).jpg"/>
          <p:cNvPicPr/>
          <p:nvPr/>
        </p:nvPicPr>
        <p:blipFill>
          <a:blip r:embed="rId2"/>
          <a:stretch/>
        </p:blipFill>
        <p:spPr>
          <a:xfrm>
            <a:off x="4788000" y="2276640"/>
            <a:ext cx="1877760" cy="330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А вот что было!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0c226"/>
                </a:solidFill>
                <a:latin typeface="Trebuchet MS"/>
              </a:rPr>
              <a:t>В  результате   анализа литературных источников, а также проведённых мной  исследований  сделаны  следующие выводы: </a:t>
            </a:r>
            <a:br>
              <a:rPr sz="20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. гипотеза о том, что использование старой мебели возможно и это может быть рациональным решением для сохранения лесов и переработки отходов, верна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2.В ходе исследования я достиг цели работы: изготовил мебель для  прихож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3.Предложенная мной   работа будет интересна не только для моих одноклассников, но для всех детей и взрослых, так как будет способствовать возникновению у них интереса к изготовлению новой мебели из старой,  выбору будущей профессии, будет способствовать  развитию  экологической культуры   с целью сохранения лесов и переработки отход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Люди выбрасывают мебель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Объект 3" descr="E:\ХЛАМ ВСЯКИХ ДАМ\ПРОЕКТ мебель\IMG_20201115_122746_1.jpg"/>
          <p:cNvPicPr/>
          <p:nvPr/>
        </p:nvPicPr>
        <p:blipFill>
          <a:blip r:embed="rId1"/>
          <a:stretch/>
        </p:blipFill>
        <p:spPr>
          <a:xfrm>
            <a:off x="250920" y="1943280"/>
            <a:ext cx="439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197000"/>
            <a:ext cx="8229600" cy="540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БЛАГОДАРИМ ЗА ВНИМАНИЕ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Задачи работы :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052280"/>
            <a:ext cx="8642160" cy="5616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узнать, когда впервые появилась мебел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понять, из чего изготавливают мебел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узнать, сколько древесины уходит на изготовление мебели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что необходимо для изготовления мебели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изготовить мебель для прихожей из старой мебели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рассказать одноклассникам, что использование старой мебели – это рациональное решение вопроса сохранения лесов и переработки отходо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Trebuchet MS"/>
              </a:rPr>
              <a:t>Методы исследовани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1484280"/>
            <a:ext cx="6348600" cy="455760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- изучение видов мебел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- анализ литературы и информационных источников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- обобщение полученных данны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- изготовление из старой мебели «Прихожей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Новизна исследования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ru-RU" sz="1700" spc="-1" strike="noStrike">
                <a:solidFill>
                  <a:srgbClr val="ff0000"/>
                </a:solidFill>
                <a:latin typeface="Trebuchet MS"/>
              </a:rPr>
              <a:t>мы провели опрос в классах и оказалось, что среди них  никто не использует старую мебель, никто не умеет изготавливать мебель.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Практическая значимость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- использовать на уроках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-технологии (научить мальчиков изготавливать мебель)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-истории, при изучении деятелей, внесших вклад в развитие мебел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- экологии и окружающего мира, так как использование старой мебели - рациональное решение сохранения лесов и переработки отход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189000"/>
            <a:ext cx="6494760" cy="18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Мебель-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фр. </a:t>
            </a:r>
            <a:r>
              <a:rPr b="1" lang="fr-FR" sz="2000" spc="-1" strike="noStrike">
                <a:solidFill>
                  <a:srgbClr val="000000"/>
                </a:solidFill>
                <a:latin typeface="Trebuchet MS"/>
              </a:rPr>
              <a:t>meuble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, от лат. </a:t>
            </a:r>
            <a:r>
              <a:rPr b="1" lang="la-VA" sz="2000" spc="-1" strike="noStrike">
                <a:solidFill>
                  <a:srgbClr val="000000"/>
                </a:solidFill>
                <a:latin typeface="Trebuchet MS"/>
              </a:rPr>
              <a:t>mobile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) — совокупность передвижных или встроенных изделий для обстановки жилых и общественных помещений и различных зон пребывания человек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988640"/>
            <a:ext cx="59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бель имеет определенную классификацию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i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ягкая мебель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относятся  диваны, кресла, различные пуфы и банкетки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ф-купе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 </a:t>
            </a:r>
            <a:r>
              <a:rPr b="1" i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бель для спальни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 кровати, матрасы, шкафы, прикроватные тумбочки и туалетные столики.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бель для гостиной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:гостиные, стенки, прихожие, витрины, буфеты, комоды, тумбы под ТВ, консоли, журнальные и сервировочные столики, гардеробные и детские комнаты, вешалки, зеркала, винные бары, разнообразные подставки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веточницы, газетницы, корзины и многое другое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хонная мебель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комфортные кухонные уголки, обеденные столы и стулья, готовые и заказные кухни, а также – кухонные фартуки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фисная мебел</a:t>
            </a:r>
            <a:r>
              <a:rPr b="1" i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ь:  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ульчики, строгие столы, шкафы, тумбы, библиотеки,  диваны для посетителей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бель для ресторанов и торговых помещений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барные стойки, стулья, кресла и столы, торговые витрины, прилавки, стойки, стенды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Немного из истории появления  мебели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720"/>
            <a:ext cx="6348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Египетский стул; около 1492–1473 гг. До н. э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; самшит, кипарис, чёрное дерево и льняной шнур; высота: 53 см; Метрополитен-муз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Рисунок 4" descr="https://upload.wikimedia.org/wikipedia/commons/thumb/1/15/Hatnefer%27s_Chair_MET_21M_CAT047R4_%28cropped%29.jpg/170px-Hatnefer%27s_Chair_MET_21M_CAT047R4_%28cropped%29.jpg"/>
          <p:cNvPicPr/>
          <p:nvPr/>
        </p:nvPicPr>
        <p:blipFill>
          <a:blip r:embed="rId1"/>
          <a:stretch/>
        </p:blipFill>
        <p:spPr>
          <a:xfrm>
            <a:off x="2379600" y="3645000"/>
            <a:ext cx="28083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0c226"/>
                </a:solidFill>
                <a:latin typeface="Trebuchet MS"/>
              </a:rPr>
              <a:t>Древнеримский диван и подножие ног; 1–2 века н.э.; дерево, кость и стекло; кушетка: 105,4 × 76,2 × 214,6 см; Метрополитен-музей.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Объект 5" descr="https://upload.wikimedia.org/wikipedia/commons/thumb/b/b7/Couch_and_footstool_with_bone_carvings_and_glass_inlays_MET_DP138722.jpg/170px-Couch_and_footstool_with_bone_carvings_and_glass_inlays_MET_DP138722.jpg"/>
          <p:cNvPicPr/>
          <p:nvPr/>
        </p:nvPicPr>
        <p:blipFill>
          <a:blip r:embed="rId1"/>
          <a:stretch/>
        </p:blipFill>
        <p:spPr>
          <a:xfrm>
            <a:off x="1835280" y="2060640"/>
            <a:ext cx="396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90c226"/>
                </a:solidFill>
                <a:latin typeface="Trebuchet MS"/>
              </a:rPr>
              <a:t>Барочный комод; около 1710-1720 гг.; орех, облицованный чёрным деревом, маркетри из гравированной латуни и черепахового панциря, позолоченная бронза и мрамор; 87,6 × 128,3 × 62,9 см; Метрополитен-музей</a:t>
            </a:r>
            <a:br>
              <a:rPr sz="1500"/>
            </a:br>
            <a:endParaRPr b="0" lang="en-US" sz="1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Объект 3" descr="https://upload.wikimedia.org/wikipedia/commons/thumb/9/97/Commode_MET_DP108742.jpg/170px-Commode_MET_DP108742.jpg"/>
          <p:cNvPicPr/>
          <p:nvPr/>
        </p:nvPicPr>
        <p:blipFill>
          <a:blip r:embed="rId1"/>
          <a:stretch/>
        </p:blipFill>
        <p:spPr>
          <a:xfrm>
            <a:off x="755640" y="1844640"/>
            <a:ext cx="4672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Неоклассическое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 (</a:t>
            </a:r>
            <a:r>
              <a:rPr b="0" lang="ru-RU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Ампир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) письменное кресло; около 1805-1808; красное дерево, позолоченная бронза и атласно-бархатная обивка; 87,6 × 59,7 × 64,8 см; Метрополитен-музей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Объект 3" descr="https://upload.wikimedia.org/wikipedia/commons/thumb/7/76/Desk_chair_%28fauteuil_de_bureau%29_MET_DP278961.jpg/131px-Desk_chair_%28fauteuil_de_bureau%29_MET_DP278961.jpg"/>
          <p:cNvPicPr/>
          <p:nvPr/>
        </p:nvPicPr>
        <p:blipFill>
          <a:blip r:embed="rId3"/>
          <a:stretch/>
        </p:blipFill>
        <p:spPr>
          <a:xfrm>
            <a:off x="1763640" y="1746360"/>
            <a:ext cx="4103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35:10Z</dcterms:created>
  <dc:creator>Татьяна</dc:creator>
  <dc:description/>
  <dc:language>en-US</dc:language>
  <cp:lastModifiedBy>Maxim Shevchenko</cp:lastModifiedBy>
  <dcterms:modified xsi:type="dcterms:W3CDTF">2021-02-28T21:17:37Z</dcterms:modified>
  <cp:revision>133</cp:revision>
  <dc:subject/>
  <dc:title>Основные элементы   налога на игорный бизнес</dc:title>
</cp:coreProperties>
</file>