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44.png" ContentType="image/png"/>
  <Override PartName="/ppt/media/image4.wmf" ContentType="image/x-wmf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12.jpeg" ContentType="image/jpeg"/>
  <Override PartName="/ppt/media/image40.png" ContentType="image/png"/>
  <Override PartName="/ppt/media/image41.png" ContentType="image/png"/>
  <Override PartName="/ppt/media/image30.jpeg" ContentType="image/jpeg"/>
  <Override PartName="/ppt/media/image43.png" ContentType="image/png"/>
  <Override PartName="/ppt/media/image45.png" ContentType="image/png"/>
  <Override PartName="/ppt/media/image46.png" ContentType="image/png"/>
  <Override PartName="/ppt/media/image9.jpeg" ContentType="image/jpeg"/>
  <Override PartName="/ppt/media/image11.png" ContentType="image/png"/>
  <Override PartName="/ppt/media/image39.jpeg" ContentType="image/jpeg"/>
  <Override PartName="/ppt/media/image8.png" ContentType="image/png"/>
  <Override PartName="/ppt/media/image10.png" ContentType="image/png"/>
  <Override PartName="/ppt/media/image47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8.jpeg" ContentType="image/jpeg"/>
  <Override PartName="/ppt/media/image33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1.png" ContentType="image/png"/>
  <Override PartName="/ppt/media/image3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78459-0CC6-4526-B731-10B717016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3B0DCC-7B1F-456A-8AE4-C80CEF4697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400000">
            <a:off x="420480" y="6467400"/>
            <a:ext cx="190440" cy="120600"/>
          </a:xfrm>
          <a:custGeom>
            <a:avLst/>
            <a:gdLst/>
            <a:ahLst/>
            <a:rect l="l" t="t" r="r" b="b"/>
            <a:pathLst>
              <a:path w="530" h="336">
                <a:moveTo>
                  <a:pt x="265" y="0"/>
                </a:moveTo>
                <a:lnTo>
                  <a:pt x="530" y="336"/>
                </a:lnTo>
                <a:lnTo>
                  <a:pt x="0" y="336"/>
                </a:lnTo>
                <a:lnTo>
                  <a:pt x="265" y="0"/>
                </a:lnTo>
              </a:path>
            </a:pathLst>
          </a:cu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 rot="5400000">
            <a:off x="420480" y="6467400"/>
            <a:ext cx="190440" cy="120600"/>
          </a:xfrm>
          <a:custGeom>
            <a:avLst/>
            <a:gdLst/>
            <a:ahLst/>
            <a:rect l="l" t="t" r="r" b="b"/>
            <a:pathLst>
              <a:path w="530" h="336">
                <a:moveTo>
                  <a:pt x="265" y="0"/>
                </a:moveTo>
                <a:lnTo>
                  <a:pt x="530" y="336"/>
                </a:lnTo>
                <a:lnTo>
                  <a:pt x="0" y="336"/>
                </a:lnTo>
                <a:lnTo>
                  <a:pt x="265" y="0"/>
                </a:lnTo>
              </a:path>
            </a:pathLst>
          </a:cu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24080" y="0"/>
            <a:ext cx="475308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78040" y="633240"/>
            <a:ext cx="7296120" cy="4743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60640" cy="579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643720" y="5715000"/>
            <a:ext cx="142560" cy="142920"/>
          </a:xfrm>
          <a:custGeom>
            <a:avLst/>
            <a:gdLst/>
            <a:ahLst/>
            <a:rect l="l" t="t" r="r" b="b"/>
            <a:pathLst>
              <a:path w="291703" h="190500">
                <a:moveTo>
                  <a:pt x="71438" y="35719"/>
                </a:moveTo>
                <a:cubicBezTo>
                  <a:pt x="101203" y="-47625"/>
                  <a:pt x="217289" y="35719"/>
                  <a:pt x="71438" y="142875"/>
                </a:cubicBezTo>
                <a:cubicBezTo>
                  <a:pt x="-74414" y="35719"/>
                  <a:pt x="41672" y="-47625"/>
                  <a:pt x="71438" y="35719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7120" y="5643720"/>
            <a:ext cx="914400" cy="914400"/>
          </a:xfrm>
          <a:custGeom>
            <a:avLst/>
            <a:gdLst/>
            <a:ahLst/>
            <a:rect l="l" t="t" r="r" b="b"/>
            <a:pathLst>
              <a:path stroke="0" w="1957" h="2301">
                <a:moveTo>
                  <a:pt x="0" y="1270"/>
                </a:moveTo>
                <a:lnTo>
                  <a:pt x="1270" y="1270"/>
                </a:lnTo>
                <a:close/>
              </a:path>
              <a:path w="1957" h="2301">
                <a:moveTo>
                  <a:pt x="180" y="360"/>
                </a:moveTo>
                <a:lnTo>
                  <a:pt x="731" y="890"/>
                </a:lnTo>
                <a:moveTo>
                  <a:pt x="132" y="132"/>
                </a:moveTo>
                <a:lnTo>
                  <a:pt x="180" y="360"/>
                </a:lnTo>
                <a:lnTo>
                  <a:pt x="1545" y="890"/>
                </a:lnTo>
              </a:path>
              <a:path fill="none" w="1957" h="2301">
                <a:moveTo>
                  <a:pt x="132" y="132"/>
                </a:moveTo>
                <a:lnTo>
                  <a:pt x="180" y="360"/>
                </a:lnTo>
              </a:path>
              <a:path fill="none" w="1957" h="2301">
                <a:moveTo>
                  <a:pt x="582" y="2301"/>
                </a:moveTo>
                <a:lnTo>
                  <a:pt x="1270" y="1224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7715160" y="505296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8001000" y="0"/>
            <a:ext cx="1047600" cy="981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622760" y="3044880"/>
            <a:ext cx="181080" cy="230040"/>
          </a:xfrm>
          <a:custGeom>
            <a:avLst/>
            <a:gdLst/>
            <a:ahLst/>
            <a:rect l="l" t="t" r="r" b="b"/>
            <a:pathLst>
              <a:path w="504" h="640">
                <a:moveTo>
                  <a:pt x="0" y="320"/>
                </a:moveTo>
                <a:lnTo>
                  <a:pt x="207" y="263"/>
                </a:lnTo>
                <a:lnTo>
                  <a:pt x="252" y="0"/>
                </a:lnTo>
                <a:lnTo>
                  <a:pt x="296" y="263"/>
                </a:lnTo>
                <a:lnTo>
                  <a:pt x="504" y="320"/>
                </a:lnTo>
                <a:lnTo>
                  <a:pt x="296" y="376"/>
                </a:lnTo>
                <a:lnTo>
                  <a:pt x="252" y="640"/>
                </a:lnTo>
                <a:lnTo>
                  <a:pt x="207" y="376"/>
                </a:lnTo>
                <a:lnTo>
                  <a:pt x="0" y="320"/>
                </a:lnTo>
              </a:path>
            </a:pathLst>
          </a:custGeom>
          <a:solidFill>
            <a:srgbClr val="ffffff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35360" y="5770440"/>
            <a:ext cx="181080" cy="231840"/>
          </a:xfrm>
          <a:custGeom>
            <a:avLst/>
            <a:gdLst/>
            <a:ahLst/>
            <a:rect l="l" t="t" r="r" b="b"/>
            <a:pathLst>
              <a:path w="504" h="645">
                <a:moveTo>
                  <a:pt x="0" y="322"/>
                </a:moveTo>
                <a:lnTo>
                  <a:pt x="207" y="265"/>
                </a:lnTo>
                <a:lnTo>
                  <a:pt x="252" y="0"/>
                </a:lnTo>
                <a:lnTo>
                  <a:pt x="296" y="265"/>
                </a:lnTo>
                <a:lnTo>
                  <a:pt x="504" y="322"/>
                </a:lnTo>
                <a:lnTo>
                  <a:pt x="296" y="379"/>
                </a:lnTo>
                <a:lnTo>
                  <a:pt x="252" y="645"/>
                </a:lnTo>
                <a:lnTo>
                  <a:pt x="207" y="379"/>
                </a:lnTo>
                <a:lnTo>
                  <a:pt x="0" y="322"/>
                </a:lnTo>
              </a:path>
            </a:pathLst>
          </a:custGeom>
          <a:solidFill>
            <a:srgbClr val="ffffff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28760" y="0"/>
            <a:ext cx="1857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Big 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7832880" y="6188040"/>
            <a:ext cx="1028520" cy="534960"/>
            <a:chOff x="7832880" y="6188040"/>
            <a:chExt cx="1028520" cy="534960"/>
          </a:xfrm>
        </p:grpSpPr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7832880" y="6188040"/>
              <a:ext cx="102852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7858080" y="6215040"/>
              <a:ext cx="855720" cy="482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8620200" y="6188040"/>
            <a:ext cx="546120" cy="534960"/>
            <a:chOff x="8620200" y="6188040"/>
            <a:chExt cx="546120" cy="534960"/>
          </a:xfrm>
        </p:grpSpPr>
        <p:pic>
          <p:nvPicPr>
            <p:cNvPr id="266" name="" descr=""/>
            <p:cNvPicPr/>
            <p:nvPr/>
          </p:nvPicPr>
          <p:blipFill>
            <a:blip r:embed="rId3"/>
            <a:stretch/>
          </p:blipFill>
          <p:spPr>
            <a:xfrm>
              <a:off x="8620200" y="6188040"/>
              <a:ext cx="54612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8659800" y="6215040"/>
              <a:ext cx="482760" cy="482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-158760" y="328680"/>
            <a:ext cx="4975200" cy="6662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619280" y="836640"/>
            <a:ext cx="53989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Bookman Old Style"/>
              </a:rPr>
              <a:t>Buckingham Pa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7832880" y="6188040"/>
            <a:ext cx="1028520" cy="534960"/>
            <a:chOff x="7832880" y="6188040"/>
            <a:chExt cx="1028520" cy="534960"/>
          </a:xfrm>
        </p:grpSpPr>
        <p:pic>
          <p:nvPicPr>
            <p:cNvPr id="272" name="" descr=""/>
            <p:cNvPicPr/>
            <p:nvPr/>
          </p:nvPicPr>
          <p:blipFill>
            <a:blip r:embed="rId2"/>
            <a:stretch/>
          </p:blipFill>
          <p:spPr>
            <a:xfrm>
              <a:off x="7832880" y="6188040"/>
              <a:ext cx="102852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7858080" y="6215040"/>
              <a:ext cx="855720" cy="482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8620200" y="6188040"/>
            <a:ext cx="546120" cy="534960"/>
            <a:chOff x="8620200" y="6188040"/>
            <a:chExt cx="546120" cy="534960"/>
          </a:xfrm>
        </p:grpSpPr>
        <p:pic>
          <p:nvPicPr>
            <p:cNvPr id="275" name="" descr=""/>
            <p:cNvPicPr/>
            <p:nvPr/>
          </p:nvPicPr>
          <p:blipFill>
            <a:blip r:embed="rId3"/>
            <a:stretch/>
          </p:blipFill>
          <p:spPr>
            <a:xfrm>
              <a:off x="8620200" y="6188040"/>
              <a:ext cx="54612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8659800" y="6215040"/>
              <a:ext cx="482760" cy="482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-85680" y="4943520"/>
            <a:ext cx="4664160" cy="1920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0" y="0"/>
            <a:ext cx="46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339933"/>
                </a:solidFill>
                <a:latin typeface="Cambria"/>
              </a:rPr>
              <a:t>St</a:t>
            </a:r>
            <a:r>
              <a:rPr b="0" lang="en-US" sz="3600" spc="-1" strike="noStrike">
                <a:solidFill>
                  <a:srgbClr val="339933"/>
                </a:solidFill>
                <a:latin typeface="Bookman Old Style"/>
              </a:rPr>
              <a:t>. </a:t>
            </a:r>
            <a:r>
              <a:rPr b="0" lang="ru-RU" sz="3600" spc="-1" strike="noStrike">
                <a:solidFill>
                  <a:srgbClr val="339933"/>
                </a:solidFill>
                <a:latin typeface="Cambria"/>
              </a:rPr>
              <a:t>Paul's</a:t>
            </a:r>
            <a:r>
              <a:rPr b="0" lang="en-US" sz="3600" spc="-1" strike="noStrike">
                <a:solidFill>
                  <a:srgbClr val="339933"/>
                </a:solidFill>
                <a:latin typeface="Bookman Old Style"/>
              </a:rPr>
              <a:t> </a:t>
            </a:r>
            <a:r>
              <a:rPr b="0" lang="ru-RU" sz="3600" spc="-1" strike="noStrike">
                <a:solidFill>
                  <a:srgbClr val="339933"/>
                </a:solidFill>
                <a:latin typeface="Cambria"/>
              </a:rPr>
              <a:t>Cathed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832880" y="6188040"/>
            <a:ext cx="1028520" cy="534960"/>
            <a:chOff x="7832880" y="6188040"/>
            <a:chExt cx="1028520" cy="534960"/>
          </a:xfrm>
        </p:grpSpPr>
        <p:pic>
          <p:nvPicPr>
            <p:cNvPr id="281" name="" descr=""/>
            <p:cNvPicPr/>
            <p:nvPr/>
          </p:nvPicPr>
          <p:blipFill>
            <a:blip r:embed="rId2"/>
            <a:stretch/>
          </p:blipFill>
          <p:spPr>
            <a:xfrm>
              <a:off x="7832880" y="6188040"/>
              <a:ext cx="102852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7858080" y="6215040"/>
              <a:ext cx="855720" cy="482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8620200" y="6188040"/>
            <a:ext cx="546120" cy="534960"/>
            <a:chOff x="8620200" y="6188040"/>
            <a:chExt cx="546120" cy="534960"/>
          </a:xfrm>
        </p:grpSpPr>
        <p:pic>
          <p:nvPicPr>
            <p:cNvPr id="284" name="" descr=""/>
            <p:cNvPicPr/>
            <p:nvPr/>
          </p:nvPicPr>
          <p:blipFill>
            <a:blip r:embed="rId3"/>
            <a:stretch/>
          </p:blipFill>
          <p:spPr>
            <a:xfrm>
              <a:off x="8620200" y="6188040"/>
              <a:ext cx="54612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8659800" y="6215040"/>
              <a:ext cx="482760" cy="482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195640" y="0"/>
            <a:ext cx="4032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Cambria"/>
              </a:rPr>
              <a:t>Tower</a:t>
            </a:r>
            <a:r>
              <a:rPr b="0" lang="en-US" sz="3600" spc="-1" strike="noStrike">
                <a:solidFill>
                  <a:srgbClr val="ffff66"/>
                </a:solidFill>
                <a:latin typeface="Bookman Old Style"/>
              </a:rPr>
              <a:t> </a:t>
            </a:r>
            <a:r>
              <a:rPr b="0" lang="ru-RU" sz="3600" spc="-1" strike="noStrike">
                <a:solidFill>
                  <a:srgbClr val="ffff66"/>
                </a:solidFill>
                <a:latin typeface="Cambria"/>
              </a:rPr>
              <a:t>B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7832880" y="6188040"/>
            <a:ext cx="1028520" cy="534960"/>
            <a:chOff x="7832880" y="6188040"/>
            <a:chExt cx="1028520" cy="534960"/>
          </a:xfrm>
        </p:grpSpPr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7832880" y="6188040"/>
              <a:ext cx="102852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7858080" y="6215040"/>
              <a:ext cx="855720" cy="482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8620200" y="6188040"/>
            <a:ext cx="546120" cy="534960"/>
            <a:chOff x="8620200" y="6188040"/>
            <a:chExt cx="546120" cy="534960"/>
          </a:xfrm>
        </p:grpSpPr>
        <p:pic>
          <p:nvPicPr>
            <p:cNvPr id="292" name="" descr=""/>
            <p:cNvPicPr/>
            <p:nvPr/>
          </p:nvPicPr>
          <p:blipFill>
            <a:blip r:embed="rId3"/>
            <a:stretch/>
          </p:blipFill>
          <p:spPr>
            <a:xfrm>
              <a:off x="8620200" y="6188040"/>
              <a:ext cx="54612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8659800" y="6215040"/>
              <a:ext cx="482760" cy="482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0" y="0"/>
            <a:ext cx="51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c0c0c0"/>
                </a:solidFill>
                <a:latin typeface="Cambria"/>
              </a:rPr>
              <a:t>Westminster Abb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832880" y="6188040"/>
            <a:ext cx="1028520" cy="534960"/>
            <a:chOff x="7832880" y="6188040"/>
            <a:chExt cx="1028520" cy="534960"/>
          </a:xfrm>
        </p:grpSpPr>
        <p:pic>
          <p:nvPicPr>
            <p:cNvPr id="297" name="" descr=""/>
            <p:cNvPicPr/>
            <p:nvPr/>
          </p:nvPicPr>
          <p:blipFill>
            <a:blip r:embed="rId2"/>
            <a:stretch/>
          </p:blipFill>
          <p:spPr>
            <a:xfrm>
              <a:off x="7832880" y="6188040"/>
              <a:ext cx="102852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7858080" y="6215040"/>
              <a:ext cx="855720" cy="482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8620200" y="6188040"/>
            <a:ext cx="546120" cy="534960"/>
            <a:chOff x="8620200" y="6188040"/>
            <a:chExt cx="546120" cy="534960"/>
          </a:xfrm>
        </p:grpSpPr>
        <p:pic>
          <p:nvPicPr>
            <p:cNvPr id="300" name="" descr=""/>
            <p:cNvPicPr/>
            <p:nvPr/>
          </p:nvPicPr>
          <p:blipFill>
            <a:blip r:embed="rId3"/>
            <a:stretch/>
          </p:blipFill>
          <p:spPr>
            <a:xfrm>
              <a:off x="8620200" y="6188040"/>
              <a:ext cx="54612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8659800" y="6215040"/>
              <a:ext cx="482760" cy="482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3902040" y="-79200"/>
            <a:ext cx="2290680" cy="3303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2714760"/>
            <a:ext cx="642924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37960" y="676440"/>
            <a:ext cx="8124840" cy="50479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6632640" y="5638680"/>
            <a:ext cx="2535120" cy="1249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0720" y="-103320"/>
            <a:ext cx="8242560" cy="12556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50720" y="781200"/>
            <a:ext cx="8242560" cy="53816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8358120" y="6072120"/>
            <a:ext cx="484200" cy="484200"/>
          </a:xfrm>
          <a:custGeom>
            <a:avLst/>
            <a:gdLst/>
            <a:ahLst/>
            <a:rect l="l" t="t" r="r" b="b"/>
            <a:pathLst>
              <a:path w="1346" h="1346">
                <a:moveTo>
                  <a:pt x="0" y="0"/>
                </a:moveTo>
                <a:lnTo>
                  <a:pt x="673" y="0"/>
                </a:lnTo>
                <a:lnTo>
                  <a:pt x="1346" y="673"/>
                </a:lnTo>
                <a:lnTo>
                  <a:pt x="673" y="1346"/>
                </a:lnTo>
                <a:lnTo>
                  <a:pt x="0" y="1346"/>
                </a:lnTo>
                <a:lnTo>
                  <a:pt x="673" y="673"/>
                </a:lnTo>
                <a:lnTo>
                  <a:pt x="0" y="0"/>
                </a:lnTo>
              </a:path>
            </a:pathLst>
          </a:cu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-120600" y="0"/>
            <a:ext cx="9385200" cy="7164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74680" y="225360"/>
            <a:ext cx="8418600" cy="92700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7291440" y="5851440"/>
            <a:ext cx="2112840" cy="1693800"/>
            <a:chOff x="7291440" y="5851440"/>
            <a:chExt cx="2112840" cy="1693800"/>
          </a:xfrm>
        </p:grpSpPr>
        <p:pic>
          <p:nvPicPr>
            <p:cNvPr id="178" name="" descr=""/>
            <p:cNvPicPr/>
            <p:nvPr/>
          </p:nvPicPr>
          <p:blipFill>
            <a:blip r:embed="rId3"/>
            <a:stretch/>
          </p:blipFill>
          <p:spPr>
            <a:xfrm>
              <a:off x="7291440" y="5851440"/>
              <a:ext cx="2112840" cy="16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8016840" y="6316560"/>
              <a:ext cx="676440" cy="24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85840" y="225360"/>
            <a:ext cx="8407440" cy="92700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7291440" y="5851440"/>
            <a:ext cx="2112840" cy="1693800"/>
            <a:chOff x="7291440" y="5851440"/>
            <a:chExt cx="2112840" cy="1693800"/>
          </a:xfrm>
        </p:grpSpPr>
        <p:pic>
          <p:nvPicPr>
            <p:cNvPr id="183" name="" descr=""/>
            <p:cNvPicPr/>
            <p:nvPr/>
          </p:nvPicPr>
          <p:blipFill>
            <a:blip r:embed="rId3"/>
            <a:stretch/>
          </p:blipFill>
          <p:spPr>
            <a:xfrm>
              <a:off x="7291440" y="5851440"/>
              <a:ext cx="2112840" cy="16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016840" y="6316560"/>
              <a:ext cx="676440" cy="24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6480" y="5450040"/>
            <a:ext cx="2268720" cy="1414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4392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2840" y="4400640"/>
            <a:ext cx="8358120" cy="97632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2394000" y="5477040"/>
            <a:ext cx="1861920" cy="717480"/>
            <a:chOff x="2394000" y="5477040"/>
            <a:chExt cx="1861920" cy="717480"/>
          </a:xfrm>
        </p:grpSpPr>
        <p:sp>
          <p:nvSpPr>
            <p:cNvPr id="189" name=""/>
            <p:cNvSpPr/>
            <p:nvPr/>
          </p:nvSpPr>
          <p:spPr>
            <a:xfrm>
              <a:off x="2394000" y="5477040"/>
              <a:ext cx="1861920" cy="717480"/>
            </a:xfrm>
            <a:custGeom>
              <a:avLst/>
              <a:gdLst/>
              <a:ahLst/>
              <a:rect l="l" t="t" r="r" b="b"/>
              <a:pathLst>
                <a:path w="5178" h="1998">
                  <a:moveTo>
                    <a:pt x="199" y="0"/>
                  </a:moveTo>
                  <a:lnTo>
                    <a:pt x="200" y="0"/>
                  </a:lnTo>
                  <a:cubicBezTo>
                    <a:pt x="165" y="0"/>
                    <a:pt x="130" y="9"/>
                    <a:pt x="100" y="27"/>
                  </a:cubicBezTo>
                  <a:cubicBezTo>
                    <a:pt x="70" y="44"/>
                    <a:pt x="44" y="70"/>
                    <a:pt x="27" y="100"/>
                  </a:cubicBezTo>
                  <a:cubicBezTo>
                    <a:pt x="9" y="130"/>
                    <a:pt x="0" y="165"/>
                    <a:pt x="0" y="200"/>
                  </a:cubicBezTo>
                  <a:lnTo>
                    <a:pt x="0" y="1798"/>
                  </a:lnTo>
                  <a:lnTo>
                    <a:pt x="0" y="1798"/>
                  </a:lnTo>
                  <a:cubicBezTo>
                    <a:pt x="0" y="1833"/>
                    <a:pt x="9" y="1868"/>
                    <a:pt x="27" y="1898"/>
                  </a:cubicBezTo>
                  <a:cubicBezTo>
                    <a:pt x="44" y="1928"/>
                    <a:pt x="70" y="1954"/>
                    <a:pt x="100" y="1971"/>
                  </a:cubicBezTo>
                  <a:cubicBezTo>
                    <a:pt x="130" y="1989"/>
                    <a:pt x="165" y="1998"/>
                    <a:pt x="200" y="1998"/>
                  </a:cubicBezTo>
                  <a:lnTo>
                    <a:pt x="4978" y="1998"/>
                  </a:lnTo>
                  <a:lnTo>
                    <a:pt x="4978" y="1998"/>
                  </a:lnTo>
                  <a:cubicBezTo>
                    <a:pt x="5013" y="1998"/>
                    <a:pt x="5048" y="1989"/>
                    <a:pt x="5078" y="1971"/>
                  </a:cubicBezTo>
                  <a:cubicBezTo>
                    <a:pt x="5108" y="1954"/>
                    <a:pt x="5134" y="1928"/>
                    <a:pt x="5151" y="1898"/>
                  </a:cubicBezTo>
                  <a:cubicBezTo>
                    <a:pt x="5169" y="1868"/>
                    <a:pt x="5178" y="1833"/>
                    <a:pt x="5178" y="1798"/>
                  </a:cubicBezTo>
                  <a:lnTo>
                    <a:pt x="5177" y="199"/>
                  </a:lnTo>
                  <a:lnTo>
                    <a:pt x="5178" y="200"/>
                  </a:lnTo>
                  <a:lnTo>
                    <a:pt x="5178" y="200"/>
                  </a:lnTo>
                  <a:cubicBezTo>
                    <a:pt x="5178" y="165"/>
                    <a:pt x="5169" y="130"/>
                    <a:pt x="5151" y="100"/>
                  </a:cubicBezTo>
                  <a:cubicBezTo>
                    <a:pt x="5134" y="70"/>
                    <a:pt x="5108" y="44"/>
                    <a:pt x="5078" y="27"/>
                  </a:cubicBezTo>
                  <a:cubicBezTo>
                    <a:pt x="5048" y="9"/>
                    <a:pt x="5013" y="0"/>
                    <a:pt x="4978" y="0"/>
                  </a:cubicBezTo>
                  <a:lnTo>
                    <a:pt x="199" y="0"/>
                  </a:lnTo>
                </a:path>
              </a:pathLst>
            </a:custGeom>
            <a:solidFill>
              <a:srgbClr val="727ca3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94000" y="5477040"/>
              <a:ext cx="18619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880" rIns="56880" tIns="56880" bIns="30600" anchor="t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353880"/>
                  <a:tab algn="l" pos="709560"/>
                  <a:tab algn="l" pos="1065240"/>
                  <a:tab algn="l" pos="1420920"/>
                  <a:tab algn="l" pos="1776240"/>
                  <a:tab algn="l" pos="2131920"/>
                  <a:tab algn="l" pos="2487600"/>
                  <a:tab algn="l" pos="2843280"/>
                  <a:tab algn="l" pos="3200400"/>
                  <a:tab algn="l" pos="3554280"/>
                  <a:tab algn="l" pos="3909960"/>
                  <a:tab algn="l" pos="4265640"/>
                  <a:tab algn="l" pos="4621320"/>
                  <a:tab algn="l" pos="4976640"/>
                  <a:tab algn="l" pos="5332320"/>
                  <a:tab algn="l" pos="5688000"/>
                  <a:tab algn="l" pos="6043680"/>
                  <a:tab algn="l" pos="6400800"/>
                  <a:tab algn="l" pos="6754680"/>
                  <a:tab algn="l" pos="711036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br>
                <a:rPr sz="1800"/>
              </a:br>
              <a:r>
                <a:rPr b="0" lang="en-US" sz="2000" spc="-1" strike="noStrike">
                  <a:solidFill>
                    <a:srgbClr val="ffffff"/>
                  </a:solidFill>
                  <a:latin typeface="Gill Sans MT"/>
                  <a:ea typeface="DejaVu Sans"/>
                </a:rPr>
                <a:t>*</a:t>
              </a:r>
              <a:r>
                <a:rPr b="0" lang="en-US" sz="2000" spc="-1" strike="noStrike">
                  <a:solidFill>
                    <a:srgbClr val="ffff00"/>
                  </a:solidFill>
                  <a:latin typeface="Gill Sans MT"/>
                  <a:ea typeface="DejaVu Sans"/>
                </a:rPr>
                <a:t>Scotl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674800" y="5979960"/>
            <a:ext cx="1862280" cy="876600"/>
            <a:chOff x="2674800" y="5979960"/>
            <a:chExt cx="1862280" cy="876600"/>
          </a:xfrm>
        </p:grpSpPr>
        <p:sp>
          <p:nvSpPr>
            <p:cNvPr id="192" name=""/>
            <p:cNvSpPr/>
            <p:nvPr/>
          </p:nvSpPr>
          <p:spPr>
            <a:xfrm>
              <a:off x="2674800" y="5979960"/>
              <a:ext cx="1862280" cy="876600"/>
            </a:xfrm>
            <a:custGeom>
              <a:avLst/>
              <a:gdLst/>
              <a:ahLst/>
              <a:rect l="l" t="t" r="r" b="b"/>
              <a:pathLst>
                <a:path w="5178" h="2440">
                  <a:moveTo>
                    <a:pt x="244" y="0"/>
                  </a:moveTo>
                  <a:lnTo>
                    <a:pt x="244" y="0"/>
                  </a:lnTo>
                  <a:cubicBezTo>
                    <a:pt x="201" y="0"/>
                    <a:pt x="159" y="11"/>
                    <a:pt x="122" y="33"/>
                  </a:cubicBezTo>
                  <a:cubicBezTo>
                    <a:pt x="85" y="54"/>
                    <a:pt x="54" y="85"/>
                    <a:pt x="33" y="122"/>
                  </a:cubicBezTo>
                  <a:cubicBezTo>
                    <a:pt x="11" y="159"/>
                    <a:pt x="0" y="201"/>
                    <a:pt x="0" y="244"/>
                  </a:cubicBezTo>
                  <a:lnTo>
                    <a:pt x="0" y="2196"/>
                  </a:lnTo>
                  <a:lnTo>
                    <a:pt x="0" y="2196"/>
                  </a:lnTo>
                  <a:cubicBezTo>
                    <a:pt x="0" y="2239"/>
                    <a:pt x="11" y="2281"/>
                    <a:pt x="33" y="2318"/>
                  </a:cubicBezTo>
                  <a:cubicBezTo>
                    <a:pt x="54" y="2355"/>
                    <a:pt x="85" y="2386"/>
                    <a:pt x="122" y="2407"/>
                  </a:cubicBezTo>
                  <a:cubicBezTo>
                    <a:pt x="159" y="2429"/>
                    <a:pt x="201" y="2440"/>
                    <a:pt x="244" y="2440"/>
                  </a:cubicBezTo>
                  <a:lnTo>
                    <a:pt x="4934" y="2440"/>
                  </a:lnTo>
                  <a:lnTo>
                    <a:pt x="4934" y="2440"/>
                  </a:lnTo>
                  <a:cubicBezTo>
                    <a:pt x="4977" y="2440"/>
                    <a:pt x="5019" y="2429"/>
                    <a:pt x="5056" y="2407"/>
                  </a:cubicBezTo>
                  <a:cubicBezTo>
                    <a:pt x="5093" y="2386"/>
                    <a:pt x="5124" y="2355"/>
                    <a:pt x="5145" y="2318"/>
                  </a:cubicBezTo>
                  <a:cubicBezTo>
                    <a:pt x="5167" y="2281"/>
                    <a:pt x="5178" y="2239"/>
                    <a:pt x="5178" y="2196"/>
                  </a:cubicBezTo>
                  <a:lnTo>
                    <a:pt x="5178" y="244"/>
                  </a:lnTo>
                  <a:lnTo>
                    <a:pt x="5178" y="244"/>
                  </a:lnTo>
                  <a:lnTo>
                    <a:pt x="5178" y="244"/>
                  </a:lnTo>
                  <a:cubicBezTo>
                    <a:pt x="5178" y="201"/>
                    <a:pt x="5167" y="159"/>
                    <a:pt x="5145" y="122"/>
                  </a:cubicBezTo>
                  <a:cubicBezTo>
                    <a:pt x="5124" y="85"/>
                    <a:pt x="5093" y="54"/>
                    <a:pt x="5056" y="33"/>
                  </a:cubicBezTo>
                  <a:cubicBezTo>
                    <a:pt x="5019" y="11"/>
                    <a:pt x="4977" y="0"/>
                    <a:pt x="4934" y="0"/>
                  </a:cubicBezTo>
                  <a:lnTo>
                    <a:pt x="244" y="0"/>
                  </a:lnTo>
                </a:path>
              </a:pathLst>
            </a:custGeom>
            <a:solidFill>
              <a:srgbClr val="ffffff">
                <a:alpha val="90000"/>
              </a:srgbClr>
            </a:solidFill>
            <a:ln w="19080">
              <a:solidFill>
                <a:srgbClr val="727c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00360" y="6005520"/>
              <a:ext cx="1811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3760" rIns="113760" tIns="113760" bIns="113760" anchor="t">
              <a:noAutofit/>
            </a:bodyPr>
            <a:p>
              <a:pPr lvl="1" marL="169920" indent="-16992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Gill Sans MT"/>
                <a:buChar char="•"/>
                <a:tabLst>
                  <a:tab algn="l" pos="709560"/>
                  <a:tab algn="l" pos="1420920"/>
                  <a:tab algn="l" pos="2131920"/>
                  <a:tab algn="l" pos="2843280"/>
                  <a:tab algn="l" pos="3554280"/>
                  <a:tab algn="l" pos="4265640"/>
                  <a:tab algn="l" pos="4976640"/>
                  <a:tab algn="l" pos="5688000"/>
                  <a:tab algn="l" pos="6400800"/>
                  <a:tab algn="l" pos="7110360"/>
                  <a:tab algn="l" pos="7821720"/>
                  <a:tab algn="l" pos="8532720"/>
                  <a:tab algn="l" pos="9244080"/>
                  <a:tab algn="l" pos="9955080"/>
                  <a:tab algn="l" pos="10666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  <a:ea typeface="DejaVu Sans"/>
                </a:rPr>
                <a:t>Red lion on a yellow backgr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797360" y="5477040"/>
            <a:ext cx="2254320" cy="717480"/>
            <a:chOff x="4797360" y="5477040"/>
            <a:chExt cx="2254320" cy="717480"/>
          </a:xfrm>
        </p:grpSpPr>
        <p:sp>
          <p:nvSpPr>
            <p:cNvPr id="195" name=""/>
            <p:cNvSpPr/>
            <p:nvPr/>
          </p:nvSpPr>
          <p:spPr>
            <a:xfrm>
              <a:off x="4797360" y="5478480"/>
              <a:ext cx="2154240" cy="716040"/>
            </a:xfrm>
            <a:custGeom>
              <a:avLst/>
              <a:gdLst/>
              <a:ahLst/>
              <a:rect l="l" t="t" r="r" b="b"/>
              <a:pathLst>
                <a:path w="5990" h="1994">
                  <a:moveTo>
                    <a:pt x="199" y="0"/>
                  </a:moveTo>
                  <a:lnTo>
                    <a:pt x="199" y="0"/>
                  </a:lnTo>
                  <a:cubicBezTo>
                    <a:pt x="164" y="0"/>
                    <a:pt x="130" y="9"/>
                    <a:pt x="100" y="27"/>
                  </a:cubicBezTo>
                  <a:cubicBezTo>
                    <a:pt x="69" y="44"/>
                    <a:pt x="44" y="69"/>
                    <a:pt x="27" y="100"/>
                  </a:cubicBezTo>
                  <a:cubicBezTo>
                    <a:pt x="9" y="130"/>
                    <a:pt x="0" y="164"/>
                    <a:pt x="0" y="199"/>
                  </a:cubicBezTo>
                  <a:lnTo>
                    <a:pt x="0" y="1794"/>
                  </a:lnTo>
                  <a:lnTo>
                    <a:pt x="0" y="1795"/>
                  </a:lnTo>
                  <a:cubicBezTo>
                    <a:pt x="0" y="1830"/>
                    <a:pt x="9" y="1864"/>
                    <a:pt x="27" y="1894"/>
                  </a:cubicBezTo>
                  <a:cubicBezTo>
                    <a:pt x="44" y="1925"/>
                    <a:pt x="69" y="1950"/>
                    <a:pt x="100" y="1967"/>
                  </a:cubicBezTo>
                  <a:cubicBezTo>
                    <a:pt x="130" y="1985"/>
                    <a:pt x="164" y="1994"/>
                    <a:pt x="199" y="1994"/>
                  </a:cubicBezTo>
                  <a:lnTo>
                    <a:pt x="5790" y="1993"/>
                  </a:lnTo>
                  <a:lnTo>
                    <a:pt x="5791" y="1994"/>
                  </a:lnTo>
                  <a:cubicBezTo>
                    <a:pt x="5826" y="1994"/>
                    <a:pt x="5860" y="1985"/>
                    <a:pt x="5890" y="1967"/>
                  </a:cubicBezTo>
                  <a:cubicBezTo>
                    <a:pt x="5921" y="1950"/>
                    <a:pt x="5946" y="1925"/>
                    <a:pt x="5963" y="1894"/>
                  </a:cubicBezTo>
                  <a:cubicBezTo>
                    <a:pt x="5981" y="1864"/>
                    <a:pt x="5990" y="1830"/>
                    <a:pt x="5990" y="1795"/>
                  </a:cubicBezTo>
                  <a:lnTo>
                    <a:pt x="5990" y="199"/>
                  </a:lnTo>
                  <a:lnTo>
                    <a:pt x="5990" y="199"/>
                  </a:lnTo>
                  <a:lnTo>
                    <a:pt x="5990" y="199"/>
                  </a:lnTo>
                  <a:cubicBezTo>
                    <a:pt x="5990" y="164"/>
                    <a:pt x="5981" y="130"/>
                    <a:pt x="5963" y="100"/>
                  </a:cubicBezTo>
                  <a:cubicBezTo>
                    <a:pt x="5946" y="69"/>
                    <a:pt x="5921" y="44"/>
                    <a:pt x="5890" y="27"/>
                  </a:cubicBezTo>
                  <a:cubicBezTo>
                    <a:pt x="5860" y="9"/>
                    <a:pt x="5826" y="0"/>
                    <a:pt x="5791" y="0"/>
                  </a:cubicBezTo>
                  <a:lnTo>
                    <a:pt x="199" y="0"/>
                  </a:lnTo>
                </a:path>
              </a:pathLst>
            </a:custGeom>
            <a:solidFill>
              <a:srgbClr val="727ca3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97360" y="5477040"/>
              <a:ext cx="22543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880" rIns="56880" tIns="56880" bIns="30600" anchor="t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353880"/>
                  <a:tab algn="l" pos="709560"/>
                  <a:tab algn="l" pos="1065240"/>
                  <a:tab algn="l" pos="1420920"/>
                  <a:tab algn="l" pos="1776240"/>
                  <a:tab algn="l" pos="2131920"/>
                  <a:tab algn="l" pos="2487600"/>
                  <a:tab algn="l" pos="2843280"/>
                  <a:tab algn="l" pos="3200400"/>
                  <a:tab algn="l" pos="3554280"/>
                  <a:tab algn="l" pos="3909960"/>
                  <a:tab algn="l" pos="4265640"/>
                  <a:tab algn="l" pos="4621320"/>
                  <a:tab algn="l" pos="4976640"/>
                  <a:tab algn="l" pos="5332320"/>
                  <a:tab algn="l" pos="5688000"/>
                  <a:tab algn="l" pos="6043680"/>
                  <a:tab algn="l" pos="6400800"/>
                  <a:tab algn="l" pos="6754680"/>
                  <a:tab algn="l" pos="711036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br>
                <a:rPr sz="1800"/>
              </a:br>
              <a:r>
                <a:rPr b="0" lang="en-US" sz="2000" spc="-1" strike="noStrike">
                  <a:solidFill>
                    <a:srgbClr val="ffffff"/>
                  </a:solidFill>
                  <a:latin typeface="Gill Sans MT"/>
                  <a:ea typeface="DejaVu Sans"/>
                </a:rPr>
                <a:t>* </a:t>
              </a:r>
              <a:r>
                <a:rPr b="0" lang="en-US" sz="2000" spc="-1" strike="noStrike">
                  <a:solidFill>
                    <a:srgbClr val="66ccff"/>
                  </a:solidFill>
                  <a:latin typeface="Gill Sans MT"/>
                  <a:ea typeface="DejaVu Sans"/>
                </a:rPr>
                <a:t>Northern Ireland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138640" y="5958000"/>
            <a:ext cx="2274840" cy="898560"/>
            <a:chOff x="5138640" y="5958000"/>
            <a:chExt cx="2274840" cy="898560"/>
          </a:xfrm>
        </p:grpSpPr>
        <p:sp>
          <p:nvSpPr>
            <p:cNvPr id="198" name=""/>
            <p:cNvSpPr/>
            <p:nvPr/>
          </p:nvSpPr>
          <p:spPr>
            <a:xfrm>
              <a:off x="5138640" y="5958000"/>
              <a:ext cx="2274840" cy="898560"/>
            </a:xfrm>
            <a:custGeom>
              <a:avLst/>
              <a:gdLst/>
              <a:ahLst/>
              <a:rect l="l" t="t" r="r" b="b"/>
              <a:pathLst>
                <a:path w="6325" h="2501">
                  <a:moveTo>
                    <a:pt x="250" y="0"/>
                  </a:moveTo>
                  <a:lnTo>
                    <a:pt x="250" y="0"/>
                  </a:lnTo>
                  <a:cubicBezTo>
                    <a:pt x="206" y="0"/>
                    <a:pt x="163" y="12"/>
                    <a:pt x="125" y="34"/>
                  </a:cubicBezTo>
                  <a:cubicBezTo>
                    <a:pt x="87" y="55"/>
                    <a:pt x="55" y="87"/>
                    <a:pt x="34" y="125"/>
                  </a:cubicBezTo>
                  <a:cubicBezTo>
                    <a:pt x="12" y="163"/>
                    <a:pt x="0" y="206"/>
                    <a:pt x="0" y="250"/>
                  </a:cubicBezTo>
                  <a:lnTo>
                    <a:pt x="0" y="2250"/>
                  </a:lnTo>
                  <a:lnTo>
                    <a:pt x="0" y="2251"/>
                  </a:lnTo>
                  <a:cubicBezTo>
                    <a:pt x="0" y="2295"/>
                    <a:pt x="12" y="2338"/>
                    <a:pt x="34" y="2376"/>
                  </a:cubicBezTo>
                  <a:cubicBezTo>
                    <a:pt x="55" y="2414"/>
                    <a:pt x="87" y="2446"/>
                    <a:pt x="125" y="2467"/>
                  </a:cubicBezTo>
                  <a:cubicBezTo>
                    <a:pt x="163" y="2489"/>
                    <a:pt x="206" y="2501"/>
                    <a:pt x="250" y="2501"/>
                  </a:cubicBezTo>
                  <a:lnTo>
                    <a:pt x="6074" y="2501"/>
                  </a:lnTo>
                  <a:lnTo>
                    <a:pt x="6075" y="2501"/>
                  </a:lnTo>
                  <a:cubicBezTo>
                    <a:pt x="6119" y="2501"/>
                    <a:pt x="6162" y="2489"/>
                    <a:pt x="6200" y="2467"/>
                  </a:cubicBezTo>
                  <a:cubicBezTo>
                    <a:pt x="6238" y="2446"/>
                    <a:pt x="6270" y="2414"/>
                    <a:pt x="6291" y="2376"/>
                  </a:cubicBezTo>
                  <a:cubicBezTo>
                    <a:pt x="6313" y="2338"/>
                    <a:pt x="6325" y="2295"/>
                    <a:pt x="6325" y="2251"/>
                  </a:cubicBezTo>
                  <a:lnTo>
                    <a:pt x="6325" y="250"/>
                  </a:lnTo>
                  <a:lnTo>
                    <a:pt x="6325" y="250"/>
                  </a:lnTo>
                  <a:lnTo>
                    <a:pt x="6325" y="250"/>
                  </a:lnTo>
                  <a:cubicBezTo>
                    <a:pt x="6325" y="206"/>
                    <a:pt x="6313" y="163"/>
                    <a:pt x="6291" y="125"/>
                  </a:cubicBezTo>
                  <a:cubicBezTo>
                    <a:pt x="6270" y="87"/>
                    <a:pt x="6238" y="55"/>
                    <a:pt x="6200" y="34"/>
                  </a:cubicBezTo>
                  <a:cubicBezTo>
                    <a:pt x="6162" y="12"/>
                    <a:pt x="6119" y="0"/>
                    <a:pt x="6075" y="0"/>
                  </a:cubicBezTo>
                  <a:lnTo>
                    <a:pt x="250" y="0"/>
                  </a:lnTo>
                </a:path>
              </a:pathLst>
            </a:custGeom>
            <a:solidFill>
              <a:srgbClr val="ffffff">
                <a:alpha val="90000"/>
              </a:srgbClr>
            </a:solidFill>
            <a:ln w="19080">
              <a:solidFill>
                <a:srgbClr val="727c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ill Sans MT"/>
                  <a:ea typeface="DejaVu Sans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70320" y="5979960"/>
              <a:ext cx="2159280" cy="87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3760" rIns="113760" tIns="113760" bIns="113760" anchor="t">
              <a:noAutofit/>
            </a:bodyPr>
            <a:p>
              <a:pPr lvl="1" marL="169920" indent="-16992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Gill Sans MT"/>
                <a:buChar char="•"/>
                <a:tabLst>
                  <a:tab algn="l" pos="709560"/>
                  <a:tab algn="l" pos="1420920"/>
                  <a:tab algn="l" pos="2131920"/>
                  <a:tab algn="l" pos="2843280"/>
                  <a:tab algn="l" pos="3554280"/>
                  <a:tab algn="l" pos="4265640"/>
                  <a:tab algn="l" pos="4976640"/>
                  <a:tab algn="l" pos="5688000"/>
                  <a:tab algn="l" pos="6400800"/>
                  <a:tab algn="l" pos="7110360"/>
                  <a:tab algn="l" pos="7821720"/>
                  <a:tab algn="l" pos="8532720"/>
                  <a:tab algn="l" pos="9244080"/>
                  <a:tab algn="l" pos="9955080"/>
                  <a:tab algn="l" pos="10666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  <a:ea typeface="DejaVu Sans"/>
                </a:rPr>
                <a:t>Yellow harp on a blue backgr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4475160" y="-176040"/>
            <a:ext cx="4913280" cy="117612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7291440" y="5851440"/>
            <a:ext cx="2112840" cy="1693800"/>
            <a:chOff x="7291440" y="5851440"/>
            <a:chExt cx="2112840" cy="1693800"/>
          </a:xfrm>
        </p:grpSpPr>
        <p:pic>
          <p:nvPicPr>
            <p:cNvPr id="202" name="" descr=""/>
            <p:cNvPicPr/>
            <p:nvPr/>
          </p:nvPicPr>
          <p:blipFill>
            <a:blip r:embed="rId5"/>
            <a:stretch/>
          </p:blipFill>
          <p:spPr>
            <a:xfrm>
              <a:off x="7291440" y="5851440"/>
              <a:ext cx="2112840" cy="16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8016840" y="6316560"/>
              <a:ext cx="676440" cy="24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5929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64653"/>
                </a:solidFill>
                <a:latin typeface="Bookman Old Style"/>
              </a:rPr>
              <a:t>The Flag of the UK is called the Union Flag or The Union Jack.</a:t>
            </a:r>
            <a:br>
              <a:rPr sz="1800"/>
            </a:br>
            <a:r>
              <a:rPr b="0" lang="en-US" sz="1400" spc="-1" strike="noStrike">
                <a:solidFill>
                  <a:srgbClr val="464653"/>
                </a:solidFill>
                <a:latin typeface="Bookman Old Style"/>
              </a:rPr>
              <a:t>The Union Jack is a combination of the crosses of three patron saints of the country</a:t>
            </a:r>
            <a:r>
              <a:rPr b="0" lang="ru-RU" sz="1400" spc="-1" strike="noStrike">
                <a:solidFill>
                  <a:srgbClr val="464653"/>
                </a:solidFill>
                <a:latin typeface="Cambria"/>
              </a:rPr>
              <a:t>:</a:t>
            </a:r>
            <a:r>
              <a:rPr b="0" lang="en-US" sz="1400" spc="-1" strike="noStrike">
                <a:solidFill>
                  <a:srgbClr val="464653"/>
                </a:solidFill>
                <a:latin typeface="Bookman Old Style"/>
              </a:rPr>
              <a:t>                                                </a:t>
            </a:r>
            <a:br>
              <a:rPr sz="1800"/>
            </a:br>
            <a:r>
              <a:rPr b="0" lang="en-US" sz="1400" spc="-1" strike="noStrike">
                <a:solidFill>
                  <a:srgbClr val="464653"/>
                </a:solidFill>
                <a:latin typeface="Bookman Old Style"/>
              </a:rPr>
              <a:t>      * the red cross of Saint GEORGE for England on a white background.</a:t>
            </a:r>
            <a:br>
              <a:rPr sz="1800"/>
            </a:br>
            <a:r>
              <a:rPr b="0" lang="en-US" sz="1400" spc="-1" strike="noStrike">
                <a:solidFill>
                  <a:srgbClr val="464653"/>
                </a:solidFill>
                <a:latin typeface="Bookman Old Style"/>
              </a:rPr>
              <a:t>      * the white diagonal cross of Saint ANDREW for Scotland on a blue background.</a:t>
            </a:r>
            <a:br>
              <a:rPr sz="1800"/>
            </a:br>
            <a:r>
              <a:rPr b="0" lang="en-US" sz="1400" spc="-1" strike="noStrike">
                <a:solidFill>
                  <a:srgbClr val="464653"/>
                </a:solidFill>
                <a:latin typeface="Bookman Old Style"/>
              </a:rPr>
              <a:t>      * the red diagonal cross of Saint PATRICK for Ireland on a white Background.               </a:t>
            </a:r>
            <a:br>
              <a:rPr sz="1800"/>
            </a:br>
            <a:br>
              <a:rPr sz="18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06960" y="3321000"/>
            <a:ext cx="32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w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81920" cy="46432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786800" y="5929200"/>
            <a:ext cx="977760" cy="484200"/>
          </a:xfrm>
          <a:custGeom>
            <a:avLst/>
            <a:gdLst/>
            <a:ahLst/>
            <a:rect l="l" t="t" r="r" b="b"/>
            <a:pathLst>
              <a:path w="977900" h="484187">
                <a:moveTo>
                  <a:pt x="0" y="121047"/>
                </a:moveTo>
                <a:lnTo>
                  <a:pt x="15131" y="121047"/>
                </a:lnTo>
                <a:lnTo>
                  <a:pt x="15131" y="363140"/>
                </a:lnTo>
                <a:lnTo>
                  <a:pt x="0" y="363140"/>
                </a:lnTo>
                <a:close/>
                <a:moveTo>
                  <a:pt x="30262" y="121047"/>
                </a:moveTo>
                <a:lnTo>
                  <a:pt x="60523" y="121047"/>
                </a:lnTo>
                <a:lnTo>
                  <a:pt x="60523" y="363140"/>
                </a:lnTo>
                <a:lnTo>
                  <a:pt x="30262" y="363140"/>
                </a:lnTo>
                <a:close/>
                <a:moveTo>
                  <a:pt x="75654" y="121047"/>
                </a:moveTo>
                <a:lnTo>
                  <a:pt x="735807" y="121047"/>
                </a:lnTo>
                <a:lnTo>
                  <a:pt x="735807" y="0"/>
                </a:lnTo>
                <a:lnTo>
                  <a:pt x="977900" y="242094"/>
                </a:lnTo>
                <a:lnTo>
                  <a:pt x="735807" y="484187"/>
                </a:lnTo>
                <a:lnTo>
                  <a:pt x="735807" y="363140"/>
                </a:lnTo>
                <a:lnTo>
                  <a:pt x="75654" y="36314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75680" cy="691344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8296200" y="3011400"/>
            <a:ext cx="760320" cy="754200"/>
            <a:chOff x="8296200" y="3011400"/>
            <a:chExt cx="760320" cy="754200"/>
          </a:xfrm>
        </p:grpSpPr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8296200" y="3011400"/>
              <a:ext cx="760320" cy="7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8639280" y="3368520"/>
              <a:ext cx="79200" cy="79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011480" y="4224240"/>
            <a:ext cx="833400" cy="833400"/>
            <a:chOff x="4011480" y="4224240"/>
            <a:chExt cx="833400" cy="833400"/>
          </a:xfrm>
        </p:grpSpPr>
        <p:pic>
          <p:nvPicPr>
            <p:cNvPr id="213" name="" descr=""/>
            <p:cNvPicPr/>
            <p:nvPr/>
          </p:nvPicPr>
          <p:blipFill>
            <a:blip r:embed="rId3"/>
            <a:stretch/>
          </p:blipFill>
          <p:spPr>
            <a:xfrm>
              <a:off x="4011480" y="4224240"/>
              <a:ext cx="833400" cy="8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378320" y="4592520"/>
              <a:ext cx="100080" cy="10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535640" y="3681360"/>
            <a:ext cx="631800" cy="706320"/>
            <a:chOff x="4535640" y="3681360"/>
            <a:chExt cx="631800" cy="706320"/>
          </a:xfrm>
        </p:grpSpPr>
        <p:pic>
          <p:nvPicPr>
            <p:cNvPr id="216" name="" descr=""/>
            <p:cNvPicPr/>
            <p:nvPr/>
          </p:nvPicPr>
          <p:blipFill>
            <a:blip r:embed="rId4"/>
            <a:stretch/>
          </p:blipFill>
          <p:spPr>
            <a:xfrm>
              <a:off x="4535640" y="3681360"/>
              <a:ext cx="63180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844880" y="4017960"/>
              <a:ext cx="24120" cy="3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656400" y="1798560"/>
            <a:ext cx="760320" cy="754200"/>
            <a:chOff x="6656400" y="1798560"/>
            <a:chExt cx="760320" cy="754200"/>
          </a:xfrm>
        </p:grpSpPr>
        <p:pic>
          <p:nvPicPr>
            <p:cNvPr id="219" name="" descr=""/>
            <p:cNvPicPr/>
            <p:nvPr/>
          </p:nvPicPr>
          <p:blipFill>
            <a:blip r:embed="rId5"/>
            <a:stretch/>
          </p:blipFill>
          <p:spPr>
            <a:xfrm>
              <a:off x="6656400" y="1798560"/>
              <a:ext cx="760320" cy="7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996240" y="2154240"/>
              <a:ext cx="79200" cy="7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084480" y="3657600"/>
            <a:ext cx="760320" cy="754200"/>
            <a:chOff x="3084480" y="3657600"/>
            <a:chExt cx="760320" cy="754200"/>
          </a:xfrm>
        </p:grpSpPr>
        <p:pic>
          <p:nvPicPr>
            <p:cNvPr id="222" name="" descr=""/>
            <p:cNvPicPr/>
            <p:nvPr/>
          </p:nvPicPr>
          <p:blipFill>
            <a:blip r:embed="rId6"/>
            <a:stretch/>
          </p:blipFill>
          <p:spPr>
            <a:xfrm>
              <a:off x="3084480" y="3657600"/>
              <a:ext cx="760320" cy="7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3424320" y="4011480"/>
              <a:ext cx="79200" cy="79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-371520" y="-201600"/>
            <a:ext cx="2106720" cy="1693800"/>
            <a:chOff x="-371520" y="-201600"/>
            <a:chExt cx="2106720" cy="1693800"/>
          </a:xfrm>
        </p:grpSpPr>
        <p:pic>
          <p:nvPicPr>
            <p:cNvPr id="225" name="" descr=""/>
            <p:cNvPicPr/>
            <p:nvPr/>
          </p:nvPicPr>
          <p:blipFill>
            <a:blip r:embed="rId7"/>
            <a:stretch/>
          </p:blipFill>
          <p:spPr>
            <a:xfrm>
              <a:off x="-371520" y="-201600"/>
              <a:ext cx="2106720" cy="16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 rot="10800000">
              <a:off x="339840" y="269640"/>
              <a:ext cx="676080" cy="247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85680" y="3498840"/>
            <a:ext cx="266760" cy="254160"/>
            <a:chOff x="85680" y="3498840"/>
            <a:chExt cx="266760" cy="254160"/>
          </a:xfrm>
        </p:grpSpPr>
        <p:pic>
          <p:nvPicPr>
            <p:cNvPr id="228" name="" descr=""/>
            <p:cNvPicPr/>
            <p:nvPr/>
          </p:nvPicPr>
          <p:blipFill>
            <a:blip r:embed="rId8"/>
            <a:stretch/>
          </p:blipFill>
          <p:spPr>
            <a:xfrm>
              <a:off x="85680" y="3498840"/>
              <a:ext cx="266760" cy="2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85760" y="3611520"/>
              <a:ext cx="68400" cy="6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8242200" y="2682720"/>
            <a:ext cx="277920" cy="266760"/>
            <a:chOff x="8242200" y="2682720"/>
            <a:chExt cx="277920" cy="266760"/>
          </a:xfrm>
        </p:grpSpPr>
        <p:pic>
          <p:nvPicPr>
            <p:cNvPr id="231" name="" descr=""/>
            <p:cNvPicPr/>
            <p:nvPr/>
          </p:nvPicPr>
          <p:blipFill>
            <a:blip r:embed="rId9"/>
            <a:stretch/>
          </p:blipFill>
          <p:spPr>
            <a:xfrm>
              <a:off x="8242200" y="2682720"/>
              <a:ext cx="27792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8348760" y="2801880"/>
              <a:ext cx="71280" cy="68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254480" y="5016600"/>
            <a:ext cx="309600" cy="291960"/>
            <a:chOff x="4254480" y="5016600"/>
            <a:chExt cx="309600" cy="291960"/>
          </a:xfrm>
        </p:grpSpPr>
        <p:pic>
          <p:nvPicPr>
            <p:cNvPr id="234" name="" descr=""/>
            <p:cNvPicPr/>
            <p:nvPr/>
          </p:nvPicPr>
          <p:blipFill>
            <a:blip r:embed="rId10"/>
            <a:stretch/>
          </p:blipFill>
          <p:spPr>
            <a:xfrm>
              <a:off x="4254480" y="5016600"/>
              <a:ext cx="30960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368960" y="5145120"/>
              <a:ext cx="82440" cy="7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-146160" y="-6480"/>
            <a:ext cx="3900600" cy="927360"/>
          </a:xfrm>
          <a:prstGeom prst="rect">
            <a:avLst/>
          </a:prstGeom>
          <a:ln w="0">
            <a:noFill/>
          </a:ln>
        </p:spPr>
      </p:pic>
      <p:grpSp>
        <p:nvGrpSpPr>
          <p:cNvPr id="238" name=""/>
          <p:cNvGrpSpPr/>
          <p:nvPr/>
        </p:nvGrpSpPr>
        <p:grpSpPr>
          <a:xfrm>
            <a:off x="7832880" y="6188040"/>
            <a:ext cx="1028520" cy="534960"/>
            <a:chOff x="7832880" y="6188040"/>
            <a:chExt cx="1028520" cy="534960"/>
          </a:xfrm>
        </p:grpSpPr>
        <p:pic>
          <p:nvPicPr>
            <p:cNvPr id="239" name="" descr=""/>
            <p:cNvPicPr/>
            <p:nvPr/>
          </p:nvPicPr>
          <p:blipFill>
            <a:blip r:embed="rId3"/>
            <a:stretch/>
          </p:blipFill>
          <p:spPr>
            <a:xfrm>
              <a:off x="7832880" y="6188040"/>
              <a:ext cx="102852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7858080" y="6215040"/>
              <a:ext cx="855720" cy="482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20200" y="6188040"/>
            <a:ext cx="546120" cy="534960"/>
            <a:chOff x="8620200" y="6188040"/>
            <a:chExt cx="546120" cy="534960"/>
          </a:xfrm>
        </p:grpSpPr>
        <p:pic>
          <p:nvPicPr>
            <p:cNvPr id="242" name="" descr=""/>
            <p:cNvPicPr/>
            <p:nvPr/>
          </p:nvPicPr>
          <p:blipFill>
            <a:blip r:embed="rId4"/>
            <a:stretch/>
          </p:blipFill>
          <p:spPr>
            <a:xfrm>
              <a:off x="8620200" y="6188040"/>
              <a:ext cx="54612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8659800" y="6215040"/>
              <a:ext cx="482760" cy="482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947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-158760" y="-128520"/>
            <a:ext cx="3767040" cy="615960"/>
          </a:xfrm>
          <a:prstGeom prst="rect">
            <a:avLst/>
          </a:prstGeom>
          <a:ln w="0">
            <a:noFill/>
          </a:ln>
        </p:spPr>
      </p:pic>
      <p:grpSp>
        <p:nvGrpSpPr>
          <p:cNvPr id="246" name=""/>
          <p:cNvGrpSpPr/>
          <p:nvPr/>
        </p:nvGrpSpPr>
        <p:grpSpPr>
          <a:xfrm>
            <a:off x="7832880" y="6188040"/>
            <a:ext cx="1028520" cy="534960"/>
            <a:chOff x="7832880" y="6188040"/>
            <a:chExt cx="1028520" cy="534960"/>
          </a:xfrm>
        </p:grpSpPr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7832880" y="6188040"/>
              <a:ext cx="102852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7858080" y="6215040"/>
              <a:ext cx="855720" cy="482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8620200" y="6188040"/>
            <a:ext cx="546120" cy="534960"/>
            <a:chOff x="8620200" y="6188040"/>
            <a:chExt cx="546120" cy="534960"/>
          </a:xfrm>
        </p:grpSpPr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8620200" y="6188040"/>
              <a:ext cx="54612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8659800" y="6215040"/>
              <a:ext cx="482760" cy="482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85840" y="225360"/>
            <a:ext cx="8407440" cy="92700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7832880" y="6188040"/>
            <a:ext cx="1028520" cy="534960"/>
            <a:chOff x="7832880" y="6188040"/>
            <a:chExt cx="1028520" cy="534960"/>
          </a:xfrm>
        </p:grpSpPr>
        <p:pic>
          <p:nvPicPr>
            <p:cNvPr id="255" name="" descr=""/>
            <p:cNvPicPr/>
            <p:nvPr/>
          </p:nvPicPr>
          <p:blipFill>
            <a:blip r:embed="rId3"/>
            <a:stretch/>
          </p:blipFill>
          <p:spPr>
            <a:xfrm>
              <a:off x="7832880" y="6188040"/>
              <a:ext cx="102852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858080" y="6215040"/>
              <a:ext cx="855720" cy="482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8620200" y="6188040"/>
            <a:ext cx="546120" cy="534960"/>
            <a:chOff x="8620200" y="6188040"/>
            <a:chExt cx="546120" cy="534960"/>
          </a:xfrm>
        </p:grpSpPr>
        <p:pic>
          <p:nvPicPr>
            <p:cNvPr id="258" name="" descr=""/>
            <p:cNvPicPr/>
            <p:nvPr/>
          </p:nvPicPr>
          <p:blipFill>
            <a:blip r:embed="rId4"/>
            <a:stretch/>
          </p:blipFill>
          <p:spPr>
            <a:xfrm>
              <a:off x="8620200" y="6188040"/>
              <a:ext cx="54612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8659800" y="6215040"/>
              <a:ext cx="482760" cy="482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я</dc:creator>
  <dc:description/>
  <dc:language>en-US</dc:language>
  <cp:lastModifiedBy>Оля</cp:lastModifiedBy>
  <dcterms:modified xsi:type="dcterms:W3CDTF">2022-04-07T14:46:4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