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CC0-24BF-425A-A2E5-E5BD3A88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F1C-CCE8-4D9C-A9DA-0D832B87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7AC-DB15-4D19-86E5-52AA9BF7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319-CF3F-4F29-ABF5-F2053A43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AAC5-A4E0-4938-9CCB-238D7AED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F5C2-3324-43BC-8232-1DBA8EBA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A03A-116D-49A1-ADE3-20373E52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3F13-B6B0-4D80-9A85-A516E7DF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E944-AC99-4B08-BE5E-924C28EF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6CD9-3ACF-4D8F-AF8E-EC936B14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BE02-F504-4521-AFA5-CB8FB1F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6F2-7AD3-48B3-92C7-3C07FB9A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64F9-12E6-4E2E-B137-91E18447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AB8D-8C06-4103-B755-F665F5C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FADD-76E4-4540-A446-99C2FB75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B96D-0F97-4F82-BF2A-EF91E388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76E9-7BAD-443C-AA70-8666F62C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26EFB-A448-4786-8FB7-894CC3F0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3FD5-C0B1-4CA9-ABC3-D1D2884D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B502D-2A5D-4968-BE99-9053D7D9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1152A-DE93-43D2-8E06-33CCBA28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B742-D5A2-42FE-B834-8AF4F1A6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2AB-AF0A-4E2A-9B11-04055723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5E1BB-AE00-479C-9F7A-8D8159FF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5554A-15D0-4256-87B0-5E39D1C7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B07C9-0EF3-47A9-96B3-8F75F725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CA03-CDAA-497F-84D7-18828575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91CEC-21BD-4F43-A697-ADF92642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2B72D-B8B2-4CF3-A4AD-8F686087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576B-1C16-40AD-AF83-018F5E89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05A0F-5527-459B-B6A7-B9E06384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CEEA-40A6-4378-837C-63F39699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54E0F-CF43-4026-AA3B-EECD5461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2A8-EC91-4201-BFF3-1C189516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4FADA-BE54-4B4E-B93E-47A544CA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FA39-F2C7-49E5-9FFA-950120CA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AD1FC-3340-4E5C-BFD7-F756B6A8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4F711-3323-4026-B1F8-30602CE7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81D04-1634-41B0-82B9-3961ED4B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81FCE-4A64-4343-9517-04DB9E97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B7EAB-8EBC-4763-B1BC-D1FFB97C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265F8-1E8F-4BB8-AE29-499B4EC4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C6A08-F742-47BF-A3C6-C512C458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00C7D-2104-4205-8620-3DA934D8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E2E-1E11-42B0-8054-7F0A9C12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C6561-A252-4A69-B673-1D8C9AF5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CC9C9-D630-4191-A5AA-99EF9855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FF9CC-461E-42A6-98F6-1F98212E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DBC78-8CC3-40F6-973A-52E78195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7B0F0-01BD-4378-A0CC-E3141449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F3607-6439-4828-848A-03E882E3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52717-C799-49E8-8B5F-6F55C61D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5456F-5DFC-472B-AE44-7DAB5051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D5498-31E2-43D6-804E-271D022C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D124F-3A9D-4556-8500-9258F3E9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938-AA24-442A-B642-C6178401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AB0FB-3AFA-4843-888D-CF016B08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C7207-83C2-40EA-85D0-AE84C72F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42EB0-BDB0-43C6-ACD4-D892E6F4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64B6D-B85D-44A3-B437-D4157BC3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30BC0-B40E-403A-984A-E7F85C7C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2610D-18A6-4053-A9C1-34A1061B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44875-512F-4AD8-98C3-A1B4DB9C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CE66A-8CD7-410C-BC91-2EBAD740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0415A-4768-4DF1-AC70-68C44AAC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56A65-96B8-4DDC-9800-37FBF529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F72-FCA2-4003-BDCE-052DD41D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035F5-E774-4963-A6A3-F203E73F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A31DE-C5DD-4A48-BEB6-DD00D14F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62884-08A5-4D72-9327-EE233C8E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B9E9-9AED-4204-8C8A-8DFE4BE6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93FAB-49AA-4F42-9B2B-892F1031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7AC2E-0682-4D03-BBA2-23D25E55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F55D7-64F8-4082-81A1-28DA1D6E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03BA9-626D-4D5A-A109-A6C1E444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74BDC-4B70-4AA8-884F-F33E708B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D59CD-526D-4696-A0F9-B1E6E798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984-932B-47D4-A8DE-173BE14C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69F39-63DA-4361-A570-FE797530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B4E76-4FA1-492C-BDBC-A61996FB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2B07E-2DF2-46F9-AB04-5BE6F66B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846B4-6422-49CB-A3C4-AB221DDD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286F7-4111-4465-B3DC-DB544420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8B0-63A3-4402-BF58-E5805668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cdde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cdd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4727-A1F0-4302-9252-3A7163BF6D4F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cdde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cdd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A9D7-0587-47FF-94A0-E37D135292C8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cddea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cdd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FAD2-994B-4304-9513-7E5D930AA52D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cdde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cdd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E99F-CC6B-4AD1-89D8-934F06DB408A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cdde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cdd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DBBA-956A-4F78-BFE1-1AB604777F3E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cdde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cdd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51A2-0CBC-44D1-AD44-B970FFA341D3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d67c02"/>
              </a:gs>
              <a:gs pos="100000">
                <a:srgbClr val="fec6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cdde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cdd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415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65e9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26E4-7887-42AD-B89F-759E0DE8C832}" type="slidenum">
              <a:rPr b="0" lang="ru-RU" sz="1000" spc="-1" strike="noStrike">
                <a:solidFill>
                  <a:srgbClr val="465e9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Детская агрессия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1447560"/>
            <a:ext cx="7408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531d"/>
                </a:solidFill>
                <a:latin typeface="Calibri"/>
              </a:rPr>
              <a:t>«Личные» причины или причины детской агрессивности в ребенке: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Желание возмездия. Если ребенок был несправедливо наказан, он направит свою агрессию на виновника его бед; 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Повышенная раздражительность (Повышенная раздражительность, устойчивая тенденция обижаться даже на нейтральные, казалось бы, высказывания и действия других людей, также могут являться провокаторами проявления агрессии);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Чувство вины (Повышенную агрессивность могут проявлять и те дети, в которых не дремлет совесть. Они испытывают чувство вины и чувство стыда по отношению к тем, с кем поступили нехорошо или кому причинили вред).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чины возникновения агрессивности в поведении детей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1523520"/>
            <a:ext cx="7408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2531d"/>
                </a:solidFill>
                <a:latin typeface="Calibri"/>
              </a:rPr>
              <a:t>Ситуативные причины: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лохое самочувствие, переутомление;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Влияние продуктов питания (низкий уровень холестерина ведет к пассивной агрессивности. Так что не стоит чрезмерно ограничивать потребление детьми жиров, все нужно в меру);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Влияние шума, вибрации, тесноты, температуры воздуха (На ребенка влияет раздражающе уровень шума, вибрация, теснота и высокая температура воздуха).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чины возникновения агрессивности в поведении детей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71560" y="1523880"/>
            <a:ext cx="7408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531d"/>
                </a:solidFill>
                <a:latin typeface="Calibri"/>
              </a:rPr>
              <a:t>Тип темперамента и особенности характера: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33"/>
                </a:solidFill>
                <a:latin typeface="Calibri"/>
              </a:rPr>
              <a:t>Менее всего склонны к активной агрессии меланхолики. Меланхолик предпочтет уединиться и страдать молча. Возможный для него вид агрессии – пассивный, когда агрессивность направляется не на других, а на себя самого, и потому именно меланхолики наиболее склонны к самоубийствам. </a:t>
            </a:r>
            <a:endParaRPr b="0" lang="en-US" sz="19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33"/>
                </a:solidFill>
                <a:latin typeface="Calibri"/>
              </a:rPr>
              <a:t>Не склонны к активной агрессии и флегматики. Флегматики не склонны и к пассивной агрессивности.</a:t>
            </a:r>
            <a:endParaRPr b="0" lang="en-US" sz="19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660033"/>
                </a:solidFill>
                <a:latin typeface="Calibri"/>
              </a:rPr>
              <a:t>Сангвиник по природе своей не агрессивен и чаще всего предпочитает решать проблемные и даже конфликтные ситуации миром. Он жизнерадостен и оптимистичен, очень общителен.  Агрессивное поведение для него будет осознанной необходимостью. В пассивную агрессивность сангвиника может «загнать» чувство вины и ответственности за собственную ошибку. </a:t>
            </a:r>
            <a:endParaRPr b="0" lang="en-US" sz="19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33"/>
                </a:solidFill>
                <a:latin typeface="Calibri"/>
              </a:rPr>
              <a:t>Естественной склонностью к активной агрессии обладают холерики вследствие их крайней неуравновешенности, как нервной, так и эмоциональной. </a:t>
            </a:r>
            <a:endParaRPr b="0" lang="en-US" sz="19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5e9c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чины возникновения агрессивности в поведении детей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da023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32531d"/>
                </a:solidFill>
                <a:latin typeface="Calibri"/>
              </a:rPr>
              <a:t>Акцентуация характера:</a:t>
            </a:r>
            <a:endParaRPr b="0" lang="en-US" sz="2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«Лабильность» - это невероятная скорость протекания нервных процессов, склонность к частой смене эмоций и импульсивности действий;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«Циклоидность» означаем склонность к резкой смене настроения;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«Эпилептоидность» подразумевает недостаточную управляемость, педантичность и конфликтность, склонность «застревать» в ситуации.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24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чины возникновения агрессивности в поведении детей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04560" y="1676160"/>
            <a:ext cx="8381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В психологии под агрессией понимают тенденцию (стремление), проявляющуюся в реальном поведении или фантазировании, с целью подчинить себе других либо доминировать над ними. </a:t>
            </a:r>
            <a:endParaRPr b="0" lang="en-US" sz="32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Что такое агресси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871560" y="2057400"/>
            <a:ext cx="7408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Привлечение к себе внимания сверстников;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Ущемление достоинств другого с целью подчеркнуть свое превосходство;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Защита и месть;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Стремление быть главным;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Calibri"/>
              </a:rPr>
              <a:t>Стремление получить желанный предмет.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Среди ситуаций, провоцирующих агрессивность детей выделяется следующее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2531d"/>
                </a:solidFill>
                <a:latin typeface="Calibri"/>
              </a:rPr>
              <a:t>Вербальная агрессия – косвенная или прямая: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А) Косвенная вербальная агрессия направлена на обвинение или угрозы сверстнику, которые осуществляются в различных высказываниях. В дошкольном возрасте это могут быть жалобы, демонстративный крик, направленный на устранение сверстника, агрессивные фантазии;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Б) Прямая вербальная агрессия представляет собой оскорбления и вербальные формы унижения другого. Традиционными «детскими» формами прямой вербальной агрессии являются: дразнилки и оскорбления. 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232f4e"/>
                </a:solidFill>
                <a:latin typeface="Calibri"/>
              </a:rPr>
              <a:t>Виды агрессии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32531d"/>
                </a:solidFill>
                <a:latin typeface="Calibri"/>
              </a:rPr>
              <a:t>Физическая агрессия - косвенная или прямая: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А) Косвенная физическая агрессия направлена на принесение какого- либо материального ущерба другому через непосредственные физические действия. В дошкольном возрасте это могут быть: разрушение продуктов деятельности другого, уничтожение или порча чужих вещей. 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Б) Прямая физическая агрессия представляет собой непосредственное нападение на другого и нанесение ему физической боли и унижения. Она может принимать символическую и реальную форму.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Символическая агрессия представляет собой угрозы и запугивание, прямая агрессия – непосредственное физическое нападение (драка). 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иды агрессии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1294920"/>
            <a:ext cx="7408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Раздражение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– это переживание при недостатке ресурсов для реагирования или понимания ситуации, неясность объекта, на который агрессия направлена. Энергия и напряжение растёт, но пока не переходит в действие.</a:t>
            </a:r>
            <a:endParaRPr b="0" lang="en-US" sz="16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Злость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– активность по удовлетворению потребности направленная на объект контакта или потребности. Это контактная энергия, направленная на уменьшение дистанции, удовлетворение потребности или укрепление границ.</a:t>
            </a:r>
            <a:endParaRPr b="0" lang="en-US" sz="16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Ярость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– это недифференцированное агрессивное состояние в состоянии слияния, когда нет направления, контакта и контроля. Она относится к незрелым, аффективным реакциям, то есть характерна для раннего детского возраста, когда эмоции бурные, неуправляемые и обращены к кому-то сверхценному, сверхзначимому, всемогущему.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Ненависть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- аффективная реакция. Основная задача заключается в разрушении, причем себя или внешний объект не так важно.</a:t>
            </a:r>
            <a:endParaRPr b="0" lang="en-US" sz="16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275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Calibri"/>
              </a:rPr>
              <a:t>Досада</a:t>
            </a:r>
            <a:r>
              <a:rPr b="0" lang="ru-RU" sz="1600" spc="-1" strike="noStrike">
                <a:solidFill>
                  <a:srgbClr val="660033"/>
                </a:solidFill>
                <a:latin typeface="Calibri"/>
              </a:rPr>
              <a:t> – это злость, перемешанная с болью. Форма агрессии характерная для переживания утраты, для чего-то, что осталось в прошлом</a:t>
            </a: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.</a:t>
            </a:r>
            <a:br>
              <a:rPr sz="1100"/>
            </a:b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275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Формы проявления агресс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1218960"/>
            <a:ext cx="7408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Непрямые способы выражения агрессии: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Вина</a:t>
            </a: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 – обращение агрессии на себя с передачей ответственности другому. Вина опирается на мораль (поиск правого и неправого). И тогда, если есть вина, то есть какая-то правота у кого-то другого. И тогда если он прав, пусть за все и отвечает.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Обида</a:t>
            </a: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 – блокировка агрессии, признанием важности и ценности человека, на которого агрессия направляется. В поэтичном варианте, обида – это злость остановленная любовью. В восточной философии обида – это иньский гнев, т.е. женский способ злиться.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Зависть</a:t>
            </a: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 - сложная социальная комплексная эмоция, включающая в себя злость, интерес и стыд.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Скука</a:t>
            </a: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 – блокировка осознавания агрессии, способ решения проблемы размещения агрессии путем игнорирования самого чувства, затея энергозатратная, поэтому субъективно переживается как рассеянность и упадок сил.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Calibri"/>
              </a:rPr>
              <a:t>Депрессия</a:t>
            </a: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 - заблокированная, подавленная агрессия высокой интенсивности (ярость, ненависть, злость).</a:t>
            </a:r>
            <a:br>
              <a:rPr sz="1800"/>
            </a:b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Формы проявления агресс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32531d"/>
                </a:solidFill>
                <a:latin typeface="Calibri"/>
              </a:rPr>
              <a:t>«Семейные» причины или причины детской агрессивности со стороны родителей: 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Неприятие детей родителями (часто приступы агрессивности проявляются у нежеланных детей). 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Безразличие или враждебность со стороны родителей (Отказ от карьеры из-за болезненного ребенка. Похожесть ребенка на ушедшего из семьи отца). 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Разрушение эмоциональных связей в семье ;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Неуважение к личности ребенка (Некорректная и нетактичная критика, оскорбительные и унизительные замечания в адрес ребенка);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Чрезмерный контроль или полное отсутствие его;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Избыток или недостаток внимания со стороны родителей; 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Запрет на физическую активность;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Отказ в праве на личную свободу;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fda023"/>
              </a:buClr>
              <a:buFont typeface="Symbol" charset="2"/>
              <a:buChar char="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Calibri"/>
              </a:rPr>
              <a:t>Конфликты в семье, связанные с агрессивными действиями взрослых, как пример взаимодействия с окружающими. </a:t>
            </a: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чины возникновения агрессивности в поведении детей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531d"/>
                </a:solidFill>
                <a:latin typeface="Calibri"/>
              </a:rPr>
              <a:t>«Личные» причины или причины детской агрессивности в ребенке: 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Подсознательное ожидание опасности (отсутствие базовой уверенности в безопасности мира);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Повышенная тревожность, связанная со страхом нападения, ожиданием физических наказаний, унижений и оскорблений. Неуверенность в собственной безопасности;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Недовольство собой (Если ребенок не любит себя, считает себя недостойным любви, то он не любит и других. И потому агрессивное отношение к миру с его стороны вполне логично); 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alibri"/>
              </a:rPr>
              <a:t>Стремление ребенка к лидерству среди сверстников при отсутствии возможности реализовать свои ожидания;</a:t>
            </a: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da023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чины возникновения агрессивности в поведении детей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2-04-19T18:59:20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