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70A-5EB6-4559-BF95-FB739A32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795-1E3A-40C9-8653-35179344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4AB-E95D-4BF0-9C38-C110BE1B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461-D61A-4E78-977D-224383B7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D524-2030-47D2-A768-C40A9837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A9A7-E24D-442C-834D-E264B10B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3313-C75D-4571-BABC-F44422D0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C9CD-39C1-4988-BD72-B5ECAA92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8AAA-6E85-40CB-9D63-7A5B312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5312-85EB-43EA-B141-43630E89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D480-AF1E-416D-B7B3-3EE9BE74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7FF-81F3-46D0-B6FD-23EC0A30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17F7-0F95-45B0-BE68-03B6999D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B0FD-D432-4610-B0BD-70E9D45A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EC39-B93A-4DAF-A9E4-EDA0EF40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2690-134E-4D3B-8458-C514B8D4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8254-45B7-43B4-84D7-9734BCD1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1944C-2B23-47B7-833C-CDC971E6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8285B-CEA4-4140-B0E5-8CD5B954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20261-A518-4575-8026-5A16C274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7B2BE-1609-4EE3-9F10-6753D709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28D07-EBA1-4F68-AF8E-87BBE3BE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823-23BF-47A4-A4A2-346BF366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1F58B-4532-4EDF-9F6C-E5F8031B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2953-79B6-4D2F-BC22-4BC6CF54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696F-C11E-4999-B610-65D3B61A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39812-AEDA-4CBD-A4EA-2618F2D8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411A-A85B-4157-B815-A0BFDD2B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4C8C5-7B71-4ADE-B4DF-10E52B4F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0799-C88D-440E-B16C-E36FA5D6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995DE-D461-46DF-8869-E85053A4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067EC-ADB2-4588-80B1-30829285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3B485-860B-4710-B762-09DB6A3D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252-A363-41FC-888D-26CBD4C6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5AC43-C0F3-4D91-A59B-3E6D4D50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0FBC3-F8E4-443F-9BBE-64158A86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19748-5804-483B-8A4B-2070AE1D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FBADD-4397-4796-9A74-23014FB5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CAEA6-9684-4CEA-AC0C-27B6CD33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F8EC-76DE-4F8F-AF37-9BB2E94B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E0D42-080F-49EE-BE52-D60E03CF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191D-D8CB-4469-A2CF-CE84440A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C5109-221C-4653-BDCA-D8AC4D5D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B9CA7-9076-4CF3-821C-62282B14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D3F-6EEC-4A57-A03E-84D4EA5D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DF003-360C-4C24-957F-35AC00D3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6C30F-C890-43D1-B66E-6A3A85A1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C02A9-0232-483A-881C-4C909D36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9DCCD-A9B3-40BB-AAD3-58BE62EF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EDE28-86F2-4297-9555-EA38F0FC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D1F32-D018-4408-8760-6241334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FDEE9-71C0-47AF-BAE1-A2CBE9B9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D584C-6B20-49FE-96B8-59EDC3AB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33505-CF43-498B-8798-83EE67F2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D793-4EAB-40DF-8FCE-016070A5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D8D-CF0B-4C3E-B1D0-FBDF3F6B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B4F53-C730-422D-AEA9-D729838D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EE135-1055-4A70-85BA-30C3EAE4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694D2-2F25-4307-8687-DD2FBE91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EA48E-B0AF-4B58-AF59-D947822B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EE438-BD5C-45DC-AFB9-9677F7B7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25D1B-4C56-402F-9956-7184F448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D9109-80A9-4466-A5D9-9F2CC479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1BCA2-0DEB-4024-9E1E-6973791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DA19B-CF7B-4172-8BD5-23BF547F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C5E6D-9EE8-4A81-BADF-1EA7EC3D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4E8-12B3-42A2-8A61-00D2B7E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043CC-06B1-4A15-8932-9FD5A522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BCF27-8D3A-4150-8DE0-AA9DAFFF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536C5-4449-48A1-8747-02241DAF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D2D4D-8882-40D8-B666-EDF9D779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C8A45-F86E-483E-A981-8D974E4F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9EEF8-52CA-4888-8435-6B06DC74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3EF8D-0D7F-4B12-A321-0AC099C5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B68F6-E3E5-498A-B948-F2F8D9FF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089BD-1406-4BC2-8D61-026D0F21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A26C7-BDFD-4E3B-8ECD-762142E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05D-EA83-4B90-8845-F624BEA3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0C086-F0D9-4ABE-B859-482ECD65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B9952-E19D-4BF4-BFF3-E28D8DF7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68F3E-8D60-4620-85A1-C2B97C00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CC4CD-D3D8-4059-A796-2948E068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79421-E4FB-41DF-A711-0279011A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93F-1316-46E9-94E4-991926F8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cdde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cdd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454D-CCB6-407F-A2F6-6AFF84DC33BE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cdde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cdd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CBD8-41F3-4120-8FFC-C23C86334873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cddea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cdd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6941-01DB-4C2C-A241-5881A581D1E2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cdde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cdd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7FF2-7315-4039-87D9-C1B3535E7CBB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cdde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cdd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A02D-B8ED-45B6-B646-543A6B82C5E7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cdde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cdd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F062-A168-499A-8EC5-9BFF5E2BF298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cdde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cdd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6EF7-23B3-41A5-A376-F1C9CCF897F8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Детская агрессия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1447560"/>
            <a:ext cx="7408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531d"/>
                </a:solidFill>
                <a:latin typeface="Calibri"/>
              </a:rPr>
              <a:t>«Личные» причины или причины детской агрессивности в ребенке: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Желание возмездия. Если ребенок был несправедливо наказан, он направит свою агрессию на виновника его бед; 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Повышенная раздражительность (Повышенная раздражительность, устойчивая тенденция обижаться даже на нейтральные, казалось бы, высказывания и действия других людей, также могут являться провокаторами проявления агрессии);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Чувство вины (Повышенную агрессивность могут проявлять и те дети, в которых не дремлет совесть. Они испытывают чувство вины и чувство стыда по отношению к тем, с кем поступили нехорошо или кому причинили вред).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ичины возникновения агрессивности в поведении детей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1523520"/>
            <a:ext cx="7408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2531d"/>
                </a:solidFill>
                <a:latin typeface="Calibri"/>
              </a:rPr>
              <a:t>Ситуативные причины: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лохое самочувствие, переутомление;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Влияние продуктов питания (низкий уровень холестерина ведет к пассивной агрессивности. Так что не стоит чрезмерно ограничивать потребление детьми жиров, все нужно в меру);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Влияние шума, вибрации, тесноты, температуры воздуха (На ребенка влияет раздражающе уровень шума, вибрация, теснота и высокая температура воздуха).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ичины возникновения агрессивности в поведении детей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1523880"/>
            <a:ext cx="7408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531d"/>
                </a:solidFill>
                <a:latin typeface="Calibri"/>
              </a:rPr>
              <a:t>Тип темперамента и особенности характера: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33"/>
                </a:solidFill>
                <a:latin typeface="Calibri"/>
              </a:rPr>
              <a:t>Менее всего склонны к активной агрессии меланхолики. Меланхолик предпочтет уединиться и страдать молча. Возможный для него вид агрессии – пассивный, когда агрессивность направляется не на других, а на себя самого, и потому именно меланхолики наиболее склонны к самоубийствам. </a:t>
            </a:r>
            <a:endParaRPr b="0" lang="en-US" sz="19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33"/>
                </a:solidFill>
                <a:latin typeface="Calibri"/>
              </a:rPr>
              <a:t>Не склонны к активной агрессии и флегматики. Флегматики не склонны и к пассивной агрессивности.</a:t>
            </a:r>
            <a:endParaRPr b="0" lang="en-US" sz="19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660033"/>
                </a:solidFill>
                <a:latin typeface="Calibri"/>
              </a:rPr>
              <a:t>Сангвиник по природе своей не агрессивен и чаще всего предпочитает решать проблемные и даже конфликтные ситуации миром. Он жизнерадостен и оптимистичен, очень общителен.  Агрессивное поведение для него будет осознанной необходимостью. В пассивную агрессивность сангвиника может «загнать» чувство вины и ответственности за собственную ошибку. </a:t>
            </a:r>
            <a:endParaRPr b="0" lang="en-US" sz="19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33"/>
                </a:solidFill>
                <a:latin typeface="Calibri"/>
              </a:rPr>
              <a:t>Естественной склонностью к активной агрессии обладают холерики вследствие их крайней неуравновешенности, как нервной, так и эмоциональной. </a:t>
            </a:r>
            <a:endParaRPr b="0" lang="en-US" sz="19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ичины возникновения агрессивности в поведении детей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da023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32531d"/>
                </a:solidFill>
                <a:latin typeface="Calibri"/>
              </a:rPr>
              <a:t>Акцентуация характера:</a:t>
            </a:r>
            <a:endParaRPr b="0" lang="en-US" sz="2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«Лабильность» - это невероятная скорость протекания нервных процессов, склонность к частой смене эмоций и импульсивности действий;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«Циклоидность» означаем склонность к резкой смене настроения;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«Эпилептоидность» подразумевает недостаточную управляемость, педантичность и конфликтность, склонность «застревать» в ситуации.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ичины возникновения агрессивности в поведении детей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04560" y="1676160"/>
            <a:ext cx="8381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В психологии под агрессией понимают тенденцию (стремление), проявляющуюся в реальном поведении или фантазировании, с целью подчинить себе других либо доминировать над ними. </a:t>
            </a:r>
            <a:endParaRPr b="0" lang="en-US" sz="32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Что такое агресси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71560" y="2057400"/>
            <a:ext cx="7408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ивлечение к себе внимания сверстников;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Ущемление достоинств другого с целью подчеркнуть свое превосходство;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Защита и месть;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Стремление быть главным;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Стремление получить желанный предмет.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Среди ситуаций, провоцирующих агрессивность детей выделяется следующе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2531d"/>
                </a:solidFill>
                <a:latin typeface="Calibri"/>
              </a:rPr>
              <a:t>Вербальная агрессия – косвенная или прямая: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А) Косвенная вербальная агрессия направлена на обвинение или угрозы сверстнику, которые осуществляются в различных высказываниях. В дошкольном возрасте это могут быть жалобы, демонстративный крик, направленный на устранение сверстника, агрессивные фантазии;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Б) Прямая вербальная агрессия представляет собой оскорбления и вербальные формы унижения другого. Традиционными «детскими» формами прямой вербальной агрессии являются: дразнилки и оскорбления. 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232f4e"/>
                </a:solidFill>
                <a:latin typeface="Calibri"/>
              </a:rPr>
              <a:t>Виды агрессии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2531d"/>
                </a:solidFill>
                <a:latin typeface="Calibri"/>
              </a:rPr>
              <a:t>Физическая агрессия - косвенная или прямая: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А) Косвенная физическая агрессия направлена на принесение какого- либо материального ущерба другому через непосредственные физические действия. В дошкольном возрасте это могут быть: разрушение продуктов деятельности другого, уничтожение или порча чужих вещей. 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Б) Прямая физическая агрессия представляет собой непосредственное нападение на другого и нанесение ему физической боли и унижения. Она может принимать символическую и реальную форму.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Символическая агрессия представляет собой угрозы и запугивание, прямая агрессия – непосредственное физическое нападение (драка). 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иды агрессии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1294920"/>
            <a:ext cx="7408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Раздражение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– это переживание при недостатке ресурсов для реагирования или понимания ситуации, неясность объекта, на который агрессия направлена. Энергия и напряжение растёт, но пока не переходит в действие.</a:t>
            </a:r>
            <a:endParaRPr b="0" lang="en-US" sz="16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Злость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– активность по удовлетворению потребности направленная на объект контакта или потребности. Это контактная энергия, направленная на уменьшение дистанции, удовлетворение потребности или укрепление границ.</a:t>
            </a:r>
            <a:endParaRPr b="0" lang="en-US" sz="16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Ярость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– это недифференцированное агрессивное состояние в состоянии слияния, когда нет направления, контакта и контроля. Она относится к незрелым, аффективным реакциям, то есть характерна для раннего детского возраста, когда эмоции бурные, неуправляемые и обращены к кому-то сверхценному, сверхзначимому, всемогущему.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Ненависть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- аффективная реакция. Основная задача заключается в разрушении, причем себя или внешний объект не так важно.</a:t>
            </a:r>
            <a:endParaRPr b="0" lang="en-US" sz="16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275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Досада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– это злость, перемешанная с болью. Форма агрессии характерная для переживания утраты, для чего-то, что осталось в прошлом</a:t>
            </a: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.</a:t>
            </a:r>
            <a:br>
              <a:rPr sz="1100"/>
            </a:b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275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Формы проявления агресси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1218960"/>
            <a:ext cx="7408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Непрямые способы выражения агрессии: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Вина</a:t>
            </a: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 – обращение агрессии на себя с передачей ответственности другому. Вина опирается на мораль (поиск правого и неправого). И тогда, если есть вина, то есть какая-то правота у кого-то другого. И тогда если он прав, пусть за все и отвечает.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Обида</a:t>
            </a: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 – блокировка агрессии, признанием важности и ценности человека, на которого агрессия направляется. В поэтичном варианте, обида – это злость остановленная любовью. В восточной философии обида – это иньский гнев, т.е. женский способ злиться.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Зависть</a:t>
            </a: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 - сложная социальная комплексная эмоция, включающая в себя злость, интерес и стыд.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Скука</a:t>
            </a: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 – блокировка осознавания агрессии, способ решения проблемы размещения агрессии путем игнорирования самого чувства, затея энергозатратная, поэтому субъективно переживается как рассеянность и упадок сил.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Депрессия</a:t>
            </a: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 - заблокированная, подавленная агрессия высокой интенсивности (ярость, ненависть, злость).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Формы проявления агресси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32531d"/>
                </a:solidFill>
                <a:latin typeface="Calibri"/>
              </a:rPr>
              <a:t>«Семейные» причины или причины детской агрессивности со стороны родителей: 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Неприятие детей родителями (часто приступы агрессивности проявляются у нежеланных детей). 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Безразличие или враждебность со стороны родителей (Отказ от карьеры из-за болезненного ребенка. Похожесть ребенка на ушедшего из семьи отца). 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Разрушение эмоциональных связей в семье ;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Неуважение к личности ребенка (Некорректная и нетактичная критика, оскорбительные и унизительные замечания в адрес ребенка);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Чрезмерный контроль или полное отсутствие его;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Избыток или недостаток внимания со стороны родителей; 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Запрет на физическую активность;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Отказ в праве на личную свободу;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Конфликты в семье, связанные с агрессивными действиями взрослых, как пример взаимодействия с окружающими. 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ичины возникновения агрессивности в поведении детей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531d"/>
                </a:solidFill>
                <a:latin typeface="Calibri"/>
              </a:rPr>
              <a:t>«Личные» причины или причины детской агрессивности в ребенке: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Подсознательное ожидание опасности (отсутствие базовой уверенности в безопасности мира);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Повышенная тревожность, связанная со страхом нападения, ожиданием физических наказаний, унижений и оскорблений. Неуверенность в собственной безопасности;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Недовольство собой (Если ребенок не любит себя, считает себя недостойным любви, то он не любит и других. И потому агрессивное отношение к миру с его стороны вполне логично); 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Стремление ребенка к лидерству среди сверстников при отсутствии возможности реализовать свои ожидания;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ичины возникновения агрессивности в поведении детей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2-04-19T18:59:20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