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158A-E696-4C46-9A00-D51FFC591F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FA3-208E-4F71-BC17-88C812573A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9680" y="1233360"/>
            <a:ext cx="5922720" cy="33321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751280"/>
            <a:ext cx="53928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19600" y="937728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5061-11F9-40F7-9964-7A7A4DC59F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633-BCB0-4B1E-818F-A9C92223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4D0-AB31-480F-A4C3-69404DFC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030-B684-4C5E-9B11-6F7385FB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895A-1570-4946-A60E-84A8FC2F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B41-2863-4F7D-BD32-37D7DB3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649-98BB-4134-A633-23B31144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8E7-5960-4233-8E48-090ED1C7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75B-83B6-46D3-950B-7994E65B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064-4D87-4431-9F23-CF31CFE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03D-2A24-43FE-AC45-C273E70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1EA-1DF5-4725-A01B-D89B52B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CF0-8C96-42F8-9E01-B5E17AA9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ADD-BBD1-4EEB-9A00-00A2A3EAD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20.jpeg"/><Relationship Id="rId7" Type="http://schemas.openxmlformats.org/officeDocument/2006/relationships/image" Target="../media/image19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МКДОУ «Детский сад «Сказка» г. Щигры Курской област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Использование инновационных технологий в образовательной деятельности по речевому развитию детей дошкольного возрас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ставитель: воспита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емерова Ирина Юрь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</a:t>
            </a:r>
            <a:r>
              <a:rPr b="1" lang="en-US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1006560" y="57355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Picture 2" descr="https://i.ytimg.com/vi/jeaivR6YIF4/maxresdefault.jpg"/>
          <p:cNvPicPr/>
          <p:nvPr/>
        </p:nvPicPr>
        <p:blipFill>
          <a:blip r:embed="rId1"/>
          <a:stretch/>
        </p:blipFill>
        <p:spPr>
          <a:xfrm>
            <a:off x="870120" y="200160"/>
            <a:ext cx="10826640" cy="6597360"/>
          </a:xfrm>
          <a:prstGeom prst="rect">
            <a:avLst/>
          </a:prstGeom>
          <a:ln w="76320">
            <a:solidFill>
              <a:srgbClr val="1f4e7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3360" y="263520"/>
            <a:ext cx="103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Зачин (начало сказ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s://1.bp.blogspot.com/-z8ZiwcK9Dtw/XqHL9_tFLGI/AAAAAAAAGQE/exOSYAS97PIFrd2NGnD3spZf-zlrDK9dQCLcBGAsYHQ/s1600/slide-11.jpg"/>
          <p:cNvPicPr/>
          <p:nvPr/>
        </p:nvPicPr>
        <p:blipFill>
          <a:blip r:embed="rId1"/>
          <a:stretch/>
        </p:blipFill>
        <p:spPr>
          <a:xfrm>
            <a:off x="281160" y="1284120"/>
            <a:ext cx="3701880" cy="28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.mycdn.me/i?r=AzEPZsRbOZEKgBhR0XGMT1RksOy79q2evkP6ZlkWOekbfqaKTM5SRkZCeTgDn6uOyic"/>
          <p:cNvPicPr/>
          <p:nvPr/>
        </p:nvPicPr>
        <p:blipFill>
          <a:blip r:embed="rId2"/>
          <a:stretch/>
        </p:blipFill>
        <p:spPr>
          <a:xfrm>
            <a:off x="4125960" y="1305000"/>
            <a:ext cx="3828960" cy="277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i.mycdn.me/i?r=AzEPZsRbOZEKgBhR0XGMT1RksOy79q2evkP6ZlkWOekbfqaKTM5SRkZCeTgDn6uOyic"/>
          <p:cNvPicPr/>
          <p:nvPr/>
        </p:nvPicPr>
        <p:blipFill>
          <a:blip r:embed="rId3"/>
          <a:srcRect l="9330" t="16662" r="41203" b="0"/>
          <a:stretch/>
        </p:blipFill>
        <p:spPr>
          <a:xfrm>
            <a:off x="8423280" y="1320840"/>
            <a:ext cx="3554280" cy="2766960"/>
          </a:xfrm>
          <a:prstGeom prst="rect">
            <a:avLst/>
          </a:prstGeom>
          <a:ln w="0">
            <a:noFill/>
          </a:ln>
        </p:spPr>
      </p:pic>
      <p:pic>
        <p:nvPicPr>
          <p:cNvPr id="105" name="Объект 3" descr=""/>
          <p:cNvPicPr/>
          <p:nvPr/>
        </p:nvPicPr>
        <p:blipFill>
          <a:blip r:embed="rId4"/>
          <a:srcRect l="2118" t="0" r="79650" b="68709"/>
          <a:stretch/>
        </p:blipFill>
        <p:spPr>
          <a:xfrm>
            <a:off x="1222200" y="3924360"/>
            <a:ext cx="2160720" cy="27795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06" name="Рисунок 4" descr=""/>
          <p:cNvPicPr/>
          <p:nvPr/>
        </p:nvPicPr>
        <p:blipFill>
          <a:blip r:embed="rId5"/>
          <a:srcRect l="22047" t="3050" r="60528" b="66861"/>
          <a:stretch/>
        </p:blipFill>
        <p:spPr>
          <a:xfrm>
            <a:off x="5372280" y="3927600"/>
            <a:ext cx="2178000" cy="270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07" name="Рисунок 4" descr=""/>
          <p:cNvPicPr/>
          <p:nvPr/>
        </p:nvPicPr>
        <p:blipFill>
          <a:blip r:embed="rId6"/>
          <a:srcRect l="44051" t="17333" r="40528" b="53717"/>
          <a:stretch/>
        </p:blipFill>
        <p:spPr>
          <a:xfrm>
            <a:off x="9559800" y="3828960"/>
            <a:ext cx="2000520" cy="261144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160560"/>
            <a:ext cx="10515600" cy="13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Picture 6" descr="http://img1.labirint.ru/books/307051/scrn_big_1.jpg"/>
          <p:cNvPicPr/>
          <p:nvPr/>
        </p:nvPicPr>
        <p:blipFill>
          <a:blip r:embed="rId1"/>
          <a:stretch/>
        </p:blipFill>
        <p:spPr>
          <a:xfrm>
            <a:off x="339840" y="750960"/>
            <a:ext cx="3728880" cy="36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s://ds05.infourok.ru/uploads/ex/12cf/000619c6-7869a7c0/img3.jpg"/>
          <p:cNvPicPr/>
          <p:nvPr/>
        </p:nvPicPr>
        <p:blipFill>
          <a:blip r:embed="rId2"/>
          <a:stretch/>
        </p:blipFill>
        <p:spPr>
          <a:xfrm>
            <a:off x="7866000" y="782640"/>
            <a:ext cx="3389400" cy="382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3"/>
          <a:srcRect l="78075" t="1171" r="4386" b="68425"/>
          <a:stretch/>
        </p:blipFill>
        <p:spPr>
          <a:xfrm>
            <a:off x="9605880" y="3327480"/>
            <a:ext cx="2379600" cy="295740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112" name="Picture 8" descr="https://printonic.ru/uploads/images/2016/02/22/img_56cabd48a5260.jpg"/>
          <p:cNvPicPr/>
          <p:nvPr/>
        </p:nvPicPr>
        <p:blipFill>
          <a:blip r:embed="rId4"/>
          <a:stretch/>
        </p:blipFill>
        <p:spPr>
          <a:xfrm>
            <a:off x="4324320" y="735120"/>
            <a:ext cx="3313080" cy="3570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5" descr=""/>
          <p:cNvPicPr/>
          <p:nvPr/>
        </p:nvPicPr>
        <p:blipFill>
          <a:blip r:embed="rId5"/>
          <a:srcRect l="42634" t="36493" r="41756" b="35675"/>
          <a:stretch/>
        </p:blipFill>
        <p:spPr>
          <a:xfrm>
            <a:off x="5237280" y="3362400"/>
            <a:ext cx="2376360" cy="31496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30200" y="56865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7085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5" descr=""/>
          <p:cNvPicPr/>
          <p:nvPr/>
        </p:nvPicPr>
        <p:blipFill>
          <a:blip r:embed="rId6"/>
          <a:srcRect l="61335" t="16572" r="24098" b="52194"/>
          <a:stretch/>
        </p:blipFill>
        <p:spPr>
          <a:xfrm>
            <a:off x="1835280" y="3614760"/>
            <a:ext cx="2271600" cy="282420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8" name="Picture 2" descr="https://i.ytimg.com/vi/HpJyYo7WWwk/maxresdefault.jpg"/>
          <p:cNvPicPr/>
          <p:nvPr/>
        </p:nvPicPr>
        <p:blipFill>
          <a:blip r:embed="rId1"/>
          <a:stretch/>
        </p:blipFill>
        <p:spPr>
          <a:xfrm>
            <a:off x="231840" y="1406520"/>
            <a:ext cx="4581360" cy="30243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9" descr=""/>
          <p:cNvPicPr/>
          <p:nvPr/>
        </p:nvPicPr>
        <p:blipFill>
          <a:blip r:embed="rId2"/>
          <a:stretch/>
        </p:blipFill>
        <p:spPr>
          <a:xfrm>
            <a:off x="4403880" y="1681200"/>
            <a:ext cx="3895560" cy="31273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5" descr=""/>
          <p:cNvPicPr/>
          <p:nvPr/>
        </p:nvPicPr>
        <p:blipFill>
          <a:blip r:embed="rId3"/>
          <a:stretch/>
        </p:blipFill>
        <p:spPr>
          <a:xfrm>
            <a:off x="8334360" y="1690560"/>
            <a:ext cx="3600360" cy="30895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1" descr=""/>
          <p:cNvPicPr/>
          <p:nvPr/>
        </p:nvPicPr>
        <p:blipFill>
          <a:blip r:embed="rId4"/>
          <a:stretch/>
        </p:blipFill>
        <p:spPr>
          <a:xfrm>
            <a:off x="3583080" y="4567320"/>
            <a:ext cx="16700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овк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3" name="Объект 5" descr=""/>
          <p:cNvPicPr/>
          <p:nvPr/>
        </p:nvPicPr>
        <p:blipFill>
          <a:blip r:embed="rId1"/>
          <a:srcRect l="54256" t="26671" r="23564" b="29188"/>
          <a:stretch/>
        </p:blipFill>
        <p:spPr>
          <a:xfrm>
            <a:off x="7683480" y="1563840"/>
            <a:ext cx="3946680" cy="516708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24" name="Рисунок 2" descr=""/>
          <p:cNvPicPr/>
          <p:nvPr/>
        </p:nvPicPr>
        <p:blipFill>
          <a:blip r:embed="rId2"/>
          <a:stretch/>
        </p:blipFill>
        <p:spPr>
          <a:xfrm>
            <a:off x="158760" y="1690560"/>
            <a:ext cx="7554960" cy="516744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IV</a:t>
            </a: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оске стоят карты Проппа,  детям предлагаю пересказать сказку, опираясь на н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V </a:t>
            </a: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инение собственных сказочных историй, с помощью схематических изображ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Практическая ча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1123920"/>
            <a:ext cx="12192120" cy="56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чинение сказки с помощью Карт Про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rcRect l="3906" t="19428" r="80528" b="53717"/>
          <a:stretch/>
        </p:blipFill>
        <p:spPr>
          <a:xfrm>
            <a:off x="457200" y="1960560"/>
            <a:ext cx="167004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rcRect l="44051" t="17333" r="40528" b="53717"/>
          <a:stretch/>
        </p:blipFill>
        <p:spPr>
          <a:xfrm>
            <a:off x="3570120" y="1971720"/>
            <a:ext cx="165420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rcRect l="61335" t="16572" r="24098" b="52194"/>
          <a:stretch/>
        </p:blipFill>
        <p:spPr>
          <a:xfrm>
            <a:off x="6831000" y="1916280"/>
            <a:ext cx="17366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2" name="Рисунок 6" descr=""/>
          <p:cNvPicPr/>
          <p:nvPr/>
        </p:nvPicPr>
        <p:blipFill>
          <a:blip r:embed="rId4"/>
          <a:srcRect l="78335" t="17333" r="6236" b="54100"/>
          <a:stretch/>
        </p:blipFill>
        <p:spPr>
          <a:xfrm>
            <a:off x="9688680" y="1906560"/>
            <a:ext cx="165564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3" name="Рисунок 7" descr=""/>
          <p:cNvPicPr/>
          <p:nvPr/>
        </p:nvPicPr>
        <p:blipFill>
          <a:blip r:embed="rId5"/>
          <a:srcRect l="76906" t="54100" r="7811" b="15239"/>
          <a:stretch/>
        </p:blipFill>
        <p:spPr>
          <a:xfrm>
            <a:off x="6953400" y="4565520"/>
            <a:ext cx="1657080" cy="215928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4" name="Рисунок 8" descr=""/>
          <p:cNvPicPr/>
          <p:nvPr/>
        </p:nvPicPr>
        <p:blipFill>
          <a:blip r:embed="rId6"/>
          <a:srcRect l="54256" t="26671" r="23564" b="29188"/>
          <a:stretch/>
        </p:blipFill>
        <p:spPr>
          <a:xfrm>
            <a:off x="9648720" y="4511520"/>
            <a:ext cx="1735200" cy="216072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5" name="Рисунок 11" descr=""/>
          <p:cNvPicPr/>
          <p:nvPr/>
        </p:nvPicPr>
        <p:blipFill>
          <a:blip r:embed="rId7"/>
          <a:stretch/>
        </p:blipFill>
        <p:spPr>
          <a:xfrm>
            <a:off x="3594240" y="4535640"/>
            <a:ext cx="1670040" cy="21603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pic>
        <p:nvPicPr>
          <p:cNvPr id="136" name="Рисунок 12" descr=""/>
          <p:cNvPicPr/>
          <p:nvPr/>
        </p:nvPicPr>
        <p:blipFill>
          <a:blip r:embed="rId8"/>
          <a:srcRect l="42634" t="36493" r="41756" b="35675"/>
          <a:stretch/>
        </p:blipFill>
        <p:spPr>
          <a:xfrm>
            <a:off x="538200" y="4437000"/>
            <a:ext cx="1633680" cy="218304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Рефлексия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рты Проппа способствуют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диалогической и монологической формы речи дете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ормируют умение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родумывать замысел, следовать ему в сочинении, выбирать тему, строить интересный сюжет героев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огащают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эмоциональную сферу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зволяют изучить </a:t>
            </a:r>
            <a:r>
              <a:rPr b="0" lang="ru-RU" sz="3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громное количество сказок, что способствует успешному обучению в школ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62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</a:t>
            </a:r>
            <a:br>
              <a:rPr sz="8800"/>
            </a:br>
            <a:r>
              <a:rPr b="1" i="1" lang="en-US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218960"/>
            <a:ext cx="10515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новационные технологии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6" descr=""/>
          <p:cNvPicPr/>
          <p:nvPr/>
        </p:nvPicPr>
        <p:blipFill>
          <a:blip r:embed="rId1"/>
          <a:stretch/>
        </p:blipFill>
        <p:spPr>
          <a:xfrm>
            <a:off x="0" y="1494000"/>
            <a:ext cx="3975120" cy="4913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" descr=""/>
          <p:cNvPicPr/>
          <p:nvPr/>
        </p:nvPicPr>
        <p:blipFill>
          <a:blip r:embed="rId2"/>
          <a:stretch/>
        </p:blipFill>
        <p:spPr>
          <a:xfrm>
            <a:off x="3911760" y="1690560"/>
            <a:ext cx="4632120" cy="28432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54" name="Рисунок 10" descr=""/>
          <p:cNvPicPr/>
          <p:nvPr/>
        </p:nvPicPr>
        <p:blipFill>
          <a:blip r:embed="rId3"/>
          <a:stretch/>
        </p:blipFill>
        <p:spPr>
          <a:xfrm>
            <a:off x="8491680" y="1536840"/>
            <a:ext cx="3700440" cy="45655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3681360" y="3979800"/>
            <a:ext cx="46767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6400" y="490680"/>
            <a:ext cx="10817280" cy="13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мастер-класс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«Карты Проппа как инновационная технология в развитии связной речи детей старшего дошкольного возраст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мастер-класс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профессионального уровн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педагогов с новым подходом в обучении детей -творческому рассказыв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опыта по использованию инновационных технологий в процессе образовательной деятельности по речевому развитию дошкольников в рамках ФГОС Д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28160"/>
            <a:ext cx="105156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ладимир Яковлевич Пропп</a:t>
            </a:r>
            <a:br>
              <a:rPr sz="4300"/>
            </a:br>
            <a:r>
              <a:rPr b="1" lang="ru-RU" sz="43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895-1970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4" descr=""/>
          <p:cNvPicPr/>
          <p:nvPr/>
        </p:nvPicPr>
        <p:blipFill>
          <a:blip r:embed="rId1"/>
          <a:stretch/>
        </p:blipFill>
        <p:spPr>
          <a:xfrm>
            <a:off x="212760" y="1139760"/>
            <a:ext cx="4273560" cy="5718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50840" y="1426680"/>
            <a:ext cx="741204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Фольклорист Владимир Яковлевич Пропп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одробно изучал сказки народов мира,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анализировал сотни сюжетов и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выделил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1 постоянную функцию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без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которых не обходится ни одно сказочное</a:t>
            </a:r>
            <a:br>
              <a:rPr sz="2800"/>
            </a:b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произве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Необязательно, что они все вместе будут присутствовать в сказке, иногда нарушается их последовательность, но идея, содержание сказки при этом не страдаю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-255960"/>
            <a:ext cx="1027764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рты Пропп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5" descr=""/>
          <p:cNvPicPr/>
          <p:nvPr/>
        </p:nvPicPr>
        <p:blipFill>
          <a:blip r:embed="rId1"/>
          <a:stretch/>
        </p:blipFill>
        <p:spPr>
          <a:xfrm>
            <a:off x="444600" y="1023840"/>
            <a:ext cx="11325240" cy="5834160"/>
          </a:xfrm>
          <a:prstGeom prst="rect">
            <a:avLst/>
          </a:prstGeom>
          <a:ln w="76320">
            <a:solidFill>
              <a:srgbClr val="2e75b6"/>
            </a:solidFill>
            <a:miter/>
          </a:ln>
        </p:spPr>
      </p:pic>
      <p:sp>
        <p:nvSpPr>
          <p:cNvPr id="65" name="Прямоугольник 7"/>
          <p:cNvSpPr/>
          <p:nvPr/>
        </p:nvSpPr>
        <p:spPr>
          <a:xfrm>
            <a:off x="444600" y="2023920"/>
            <a:ext cx="17128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и-бы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2157480" y="2023920"/>
            <a:ext cx="16225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.Особое обстоятель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3780000" y="2023920"/>
            <a:ext cx="17557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апр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5413320" y="2023920"/>
            <a:ext cx="16336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е запр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7047000" y="2023920"/>
            <a:ext cx="151128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й покидает д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8558280" y="2023920"/>
            <a:ext cx="159696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Появление друга         помощник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3"/>
          <p:cNvSpPr/>
          <p:nvPr/>
        </p:nvSpPr>
        <p:spPr>
          <a:xfrm>
            <a:off x="10147320" y="2023920"/>
            <a:ext cx="1622520" cy="573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Способ достижения 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5"/>
          <p:cNvSpPr/>
          <p:nvPr/>
        </p:nvSpPr>
        <p:spPr>
          <a:xfrm>
            <a:off x="444600" y="3489480"/>
            <a:ext cx="1749240" cy="525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г начинает действов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6"/>
          <p:cNvSpPr/>
          <p:nvPr/>
        </p:nvSpPr>
        <p:spPr>
          <a:xfrm>
            <a:off x="2157480" y="3498840"/>
            <a:ext cx="162252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ржание поб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17"/>
          <p:cNvSpPr/>
          <p:nvPr/>
        </p:nvSpPr>
        <p:spPr>
          <a:xfrm>
            <a:off x="3780000" y="3498840"/>
            <a:ext cx="163332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оня (преследова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5413320" y="3489480"/>
            <a:ext cx="1584360" cy="533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Спасение от пре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7047000" y="3489480"/>
            <a:ext cx="1506600" cy="5252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ритель испытывает геро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8558280" y="3498840"/>
            <a:ext cx="164628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Герой выдерживает испыт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21"/>
          <p:cNvSpPr/>
          <p:nvPr/>
        </p:nvSpPr>
        <p:spPr>
          <a:xfrm>
            <a:off x="10155240" y="3498840"/>
            <a:ext cx="1609560" cy="523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Получение волшебного средства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22"/>
          <p:cNvSpPr/>
          <p:nvPr/>
        </p:nvSpPr>
        <p:spPr>
          <a:xfrm>
            <a:off x="444600" y="4791240"/>
            <a:ext cx="1712880" cy="6094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лучка дарител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23"/>
          <p:cNvSpPr/>
          <p:nvPr/>
        </p:nvSpPr>
        <p:spPr>
          <a:xfrm>
            <a:off x="2157480" y="4800600"/>
            <a:ext cx="162252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й вступает в битву с враго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4"/>
          <p:cNvSpPr/>
          <p:nvPr/>
        </p:nvSpPr>
        <p:spPr>
          <a:xfrm>
            <a:off x="3780000" y="4800600"/>
            <a:ext cx="160956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Враг оказывается поверженным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5"/>
          <p:cNvSpPr/>
          <p:nvPr/>
        </p:nvSpPr>
        <p:spPr>
          <a:xfrm>
            <a:off x="5413320" y="4800600"/>
            <a:ext cx="158436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Метят геро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26"/>
          <p:cNvSpPr/>
          <p:nvPr/>
        </p:nvSpPr>
        <p:spPr>
          <a:xfrm>
            <a:off x="7047000" y="4800600"/>
            <a:ext cx="150660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ю дают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ное зад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7"/>
          <p:cNvSpPr/>
          <p:nvPr/>
        </p:nvSpPr>
        <p:spPr>
          <a:xfrm>
            <a:off x="8553600" y="4800600"/>
            <a:ext cx="159048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выполняет задани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28"/>
          <p:cNvSpPr/>
          <p:nvPr/>
        </p:nvSpPr>
        <p:spPr>
          <a:xfrm>
            <a:off x="10144080" y="4800600"/>
            <a:ext cx="1620720" cy="600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ю даётся новы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9"/>
          <p:cNvSpPr/>
          <p:nvPr/>
        </p:nvSpPr>
        <p:spPr>
          <a:xfrm>
            <a:off x="444600" y="6168960"/>
            <a:ext cx="171900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рой возвращается домой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2157480" y="6178680"/>
            <a:ext cx="1622520" cy="503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Героя не узнают до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1"/>
          <p:cNvSpPr/>
          <p:nvPr/>
        </p:nvSpPr>
        <p:spPr>
          <a:xfrm>
            <a:off x="3780000" y="6178680"/>
            <a:ext cx="1609560" cy="503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является ложный гер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2"/>
          <p:cNvSpPr/>
          <p:nvPr/>
        </p:nvSpPr>
        <p:spPr>
          <a:xfrm>
            <a:off x="5413320" y="6168960"/>
            <a:ext cx="1584360" cy="519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облачение ложного геро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3"/>
          <p:cNvSpPr/>
          <p:nvPr/>
        </p:nvSpPr>
        <p:spPr>
          <a:xfrm>
            <a:off x="7047000" y="6168960"/>
            <a:ext cx="150660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ние геро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34"/>
          <p:cNvSpPr/>
          <p:nvPr/>
        </p:nvSpPr>
        <p:spPr>
          <a:xfrm>
            <a:off x="8602560" y="6168960"/>
            <a:ext cx="1541520" cy="4874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частливый коне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6"/>
          <p:cNvSpPr/>
          <p:nvPr/>
        </p:nvSpPr>
        <p:spPr>
          <a:xfrm>
            <a:off x="10144080" y="6168960"/>
            <a:ext cx="1620720" cy="5191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. Мора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ика обучения.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825200"/>
            <a:ext cx="10515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знакомство детей со сказкой как жанром литературного произведения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2038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объяснение общей структуры сказки: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начало или зачин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завязка (основное содержание сюжета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 концовка (счастливый конец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- мораль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дидактические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казочные слова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гадай по описанию»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Что в дороге пригодится?»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етные слова»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5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III</a:t>
            </a:r>
            <a:r>
              <a:rPr b="1" lang="ru-RU" sz="44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1640" y="1554120"/>
            <a:ext cx="11612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55a11"/>
                </a:solidFill>
                <a:latin typeface="Times New Roman"/>
                <a:ea typeface="Times New Roman"/>
              </a:rPr>
              <a:t>Знакомство с обозначениями Карт Пропп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чтение сказки</a:t>
            </a:r>
            <a:r>
              <a:rPr b="0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</a:t>
            </a:r>
            <a:r>
              <a:rPr b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провождение</a:t>
            </a:r>
            <a:r>
              <a:rPr b="0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её выкладыванием кар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зачина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понадобятся 1. «Жили-были»; 2. «Особое обстоятельство»; 3. «Запрет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основной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части: «Нарушение запрета», «Герой покидает дом», «Враг начинает действовать», «Погоня (Преследование), «Герой выдерживает испытани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цовка</a:t>
            </a:r>
            <a:r>
              <a:rPr b="0" i="1" lang="ru-RU" sz="3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«Счастливый конец» и «Мораль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9T05:06:00Z</dcterms:created>
  <dc:creator>Полянская Татьяна</dc:creator>
  <dc:description/>
  <dc:language>en-US</dc:language>
  <cp:lastModifiedBy>Юля</cp:lastModifiedBy>
  <cp:lastPrinted>2021-03-25T05:47:49Z</cp:lastPrinted>
  <dcterms:modified xsi:type="dcterms:W3CDTF">2022-04-19T07:04:54Z</dcterms:modified>
  <cp:revision>94</cp:revision>
  <dc:subject/>
  <dc:title>МКДОУ «Детский сад «Сказка»  г. Щигры Курской области</dc:title>
</cp:coreProperties>
</file>