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2272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751280"/>
            <a:ext cx="5392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2D58-50E0-4DA6-B922-75CF9FE77A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22720" cy="33321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4640" y="4751280"/>
            <a:ext cx="53928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19600" y="937728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AA20-F09F-4778-B298-E97DB6C567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22720" cy="33321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751280"/>
            <a:ext cx="53928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19600" y="937728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C5CB-0BCF-4183-93ED-FA3A314CD9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106-FADB-4B02-AB00-F7699C5C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281-D2FB-4F5E-B128-364D6449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BD5-99D4-4C82-B6A6-D8AFA86D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DAD-C3E7-428B-BE08-E4F2A674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C1A-D32F-4A7B-8F59-677C34E8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90D-1AAD-4C46-8FF5-A76DFE28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137-6EDF-41B4-95EE-467F1707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F25-2ECF-4C0B-8BD8-6ED2571C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233-6C9B-4450-87CA-118CCEC4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BC1-DA85-480A-B5C8-CEC900C4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1AA-75B0-4507-BCD6-BAE615E3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26D-3D1F-49F8-8CB0-BD8DCC9E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4E73-4993-4A26-A4A6-72AAB24A1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20.jpeg"/><Relationship Id="rId7" Type="http://schemas.openxmlformats.org/officeDocument/2006/relationships/image" Target="../media/image19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МКДОУ «Детский сад «Сказка» г. Щигры Курской област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Использование инновационных технологий в образовательной деятельности по речевому развитию детей дошкольного возрас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оставитель: воспита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Чемерова Ирина Юр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1" lang="en-US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1006560" y="5735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Picture 2" descr="https://i.ytimg.com/vi/jeaivR6YIF4/maxresdefault.jpg"/>
          <p:cNvPicPr/>
          <p:nvPr/>
        </p:nvPicPr>
        <p:blipFill>
          <a:blip r:embed="rId1"/>
          <a:stretch/>
        </p:blipFill>
        <p:spPr>
          <a:xfrm>
            <a:off x="870120" y="200160"/>
            <a:ext cx="10826640" cy="6597360"/>
          </a:xfrm>
          <a:prstGeom prst="rect">
            <a:avLst/>
          </a:prstGeom>
          <a:ln w="76320">
            <a:solidFill>
              <a:srgbClr val="1f4e7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3360" y="263520"/>
            <a:ext cx="103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Зачин (начало сказк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s://1.bp.blogspot.com/-z8ZiwcK9Dtw/XqHL9_tFLGI/AAAAAAAAGQE/exOSYAS97PIFrd2NGnD3spZf-zlrDK9dQCLcBGAsYHQ/s1600/slide-11.jpg"/>
          <p:cNvPicPr/>
          <p:nvPr/>
        </p:nvPicPr>
        <p:blipFill>
          <a:blip r:embed="rId1"/>
          <a:stretch/>
        </p:blipFill>
        <p:spPr>
          <a:xfrm>
            <a:off x="281160" y="1284120"/>
            <a:ext cx="3701880" cy="28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.mycdn.me/i?r=AzEPZsRbOZEKgBhR0XGMT1RksOy79q2evkP6ZlkWOekbfqaKTM5SRkZCeTgDn6uOyic"/>
          <p:cNvPicPr/>
          <p:nvPr/>
        </p:nvPicPr>
        <p:blipFill>
          <a:blip r:embed="rId2"/>
          <a:stretch/>
        </p:blipFill>
        <p:spPr>
          <a:xfrm>
            <a:off x="4125960" y="1305000"/>
            <a:ext cx="3828960" cy="277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i.mycdn.me/i?r=AzEPZsRbOZEKgBhR0XGMT1RksOy79q2evkP6ZlkWOekbfqaKTM5SRkZCeTgDn6uOyic"/>
          <p:cNvPicPr/>
          <p:nvPr/>
        </p:nvPicPr>
        <p:blipFill>
          <a:blip r:embed="rId3"/>
          <a:srcRect l="9330" t="16662" r="41203" b="0"/>
          <a:stretch/>
        </p:blipFill>
        <p:spPr>
          <a:xfrm>
            <a:off x="8423280" y="1320840"/>
            <a:ext cx="3554280" cy="2766960"/>
          </a:xfrm>
          <a:prstGeom prst="rect">
            <a:avLst/>
          </a:prstGeom>
          <a:ln w="0">
            <a:noFill/>
          </a:ln>
        </p:spPr>
      </p:pic>
      <p:pic>
        <p:nvPicPr>
          <p:cNvPr id="105" name="Объект 3" descr=""/>
          <p:cNvPicPr/>
          <p:nvPr/>
        </p:nvPicPr>
        <p:blipFill>
          <a:blip r:embed="rId4"/>
          <a:srcRect l="2118" t="0" r="79650" b="68709"/>
          <a:stretch/>
        </p:blipFill>
        <p:spPr>
          <a:xfrm>
            <a:off x="1222200" y="3924360"/>
            <a:ext cx="2160720" cy="27795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06" name="Рисунок 4" descr=""/>
          <p:cNvPicPr/>
          <p:nvPr/>
        </p:nvPicPr>
        <p:blipFill>
          <a:blip r:embed="rId5"/>
          <a:srcRect l="22047" t="3050" r="60528" b="66861"/>
          <a:stretch/>
        </p:blipFill>
        <p:spPr>
          <a:xfrm>
            <a:off x="5372280" y="3927600"/>
            <a:ext cx="2178000" cy="27003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07" name="Рисунок 4" descr=""/>
          <p:cNvPicPr/>
          <p:nvPr/>
        </p:nvPicPr>
        <p:blipFill>
          <a:blip r:embed="rId6"/>
          <a:srcRect l="44051" t="17333" r="40528" b="53717"/>
          <a:stretch/>
        </p:blipFill>
        <p:spPr>
          <a:xfrm>
            <a:off x="9559800" y="3828960"/>
            <a:ext cx="2000520" cy="261144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160560"/>
            <a:ext cx="10515600" cy="13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часть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9" name="Picture 6" descr="http://img1.labirint.ru/books/307051/scrn_big_1.jpg"/>
          <p:cNvPicPr/>
          <p:nvPr/>
        </p:nvPicPr>
        <p:blipFill>
          <a:blip r:embed="rId1"/>
          <a:stretch/>
        </p:blipFill>
        <p:spPr>
          <a:xfrm>
            <a:off x="339840" y="750960"/>
            <a:ext cx="3728880" cy="36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s://ds05.infourok.ru/uploads/ex/12cf/000619c6-7869a7c0/img3.jpg"/>
          <p:cNvPicPr/>
          <p:nvPr/>
        </p:nvPicPr>
        <p:blipFill>
          <a:blip r:embed="rId2"/>
          <a:stretch/>
        </p:blipFill>
        <p:spPr>
          <a:xfrm>
            <a:off x="7866000" y="782640"/>
            <a:ext cx="3389400" cy="3827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3"/>
          <a:srcRect l="78075" t="1171" r="4386" b="68425"/>
          <a:stretch/>
        </p:blipFill>
        <p:spPr>
          <a:xfrm>
            <a:off x="9605880" y="3327480"/>
            <a:ext cx="2379600" cy="29574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12" name="Picture 8" descr="https://printonic.ru/uploads/images/2016/02/22/img_56cabd48a5260.jpg"/>
          <p:cNvPicPr/>
          <p:nvPr/>
        </p:nvPicPr>
        <p:blipFill>
          <a:blip r:embed="rId4"/>
          <a:stretch/>
        </p:blipFill>
        <p:spPr>
          <a:xfrm>
            <a:off x="4324320" y="735120"/>
            <a:ext cx="3313080" cy="3570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"/>
          <p:cNvPicPr/>
          <p:nvPr/>
        </p:nvPicPr>
        <p:blipFill>
          <a:blip r:embed="rId5"/>
          <a:srcRect l="42634" t="36493" r="41756" b="35675"/>
          <a:stretch/>
        </p:blipFill>
        <p:spPr>
          <a:xfrm>
            <a:off x="5237280" y="3362400"/>
            <a:ext cx="2376360" cy="314964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30200" y="5686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708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5" descr=""/>
          <p:cNvPicPr/>
          <p:nvPr/>
        </p:nvPicPr>
        <p:blipFill>
          <a:blip r:embed="rId6"/>
          <a:srcRect l="61335" t="16572" r="24098" b="52194"/>
          <a:stretch/>
        </p:blipFill>
        <p:spPr>
          <a:xfrm>
            <a:off x="1835280" y="3614760"/>
            <a:ext cx="2271600" cy="282420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8" name="Picture 2" descr="https://i.ytimg.com/vi/HpJyYo7WWwk/maxresdefault.jpg"/>
          <p:cNvPicPr/>
          <p:nvPr/>
        </p:nvPicPr>
        <p:blipFill>
          <a:blip r:embed="rId1"/>
          <a:stretch/>
        </p:blipFill>
        <p:spPr>
          <a:xfrm>
            <a:off x="231840" y="1406520"/>
            <a:ext cx="4581360" cy="30243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"/>
          <p:cNvPicPr/>
          <p:nvPr/>
        </p:nvPicPr>
        <p:blipFill>
          <a:blip r:embed="rId2"/>
          <a:stretch/>
        </p:blipFill>
        <p:spPr>
          <a:xfrm>
            <a:off x="4403880" y="1681200"/>
            <a:ext cx="3895560" cy="31273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5" descr=""/>
          <p:cNvPicPr/>
          <p:nvPr/>
        </p:nvPicPr>
        <p:blipFill>
          <a:blip r:embed="rId3"/>
          <a:stretch/>
        </p:blipFill>
        <p:spPr>
          <a:xfrm>
            <a:off x="8334360" y="1690560"/>
            <a:ext cx="3600360" cy="30895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"/>
          <p:cNvPicPr/>
          <p:nvPr/>
        </p:nvPicPr>
        <p:blipFill>
          <a:blip r:embed="rId4"/>
          <a:stretch/>
        </p:blipFill>
        <p:spPr>
          <a:xfrm>
            <a:off x="3583080" y="4567320"/>
            <a:ext cx="1670040" cy="21603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овк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3" name="Объект 5" descr=""/>
          <p:cNvPicPr/>
          <p:nvPr/>
        </p:nvPicPr>
        <p:blipFill>
          <a:blip r:embed="rId1"/>
          <a:srcRect l="54256" t="26671" r="23564" b="29188"/>
          <a:stretch/>
        </p:blipFill>
        <p:spPr>
          <a:xfrm>
            <a:off x="7683480" y="1563840"/>
            <a:ext cx="3946680" cy="516708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24" name="Рисунок 2" descr=""/>
          <p:cNvPicPr/>
          <p:nvPr/>
        </p:nvPicPr>
        <p:blipFill>
          <a:blip r:embed="rId2"/>
          <a:stretch/>
        </p:blipFill>
        <p:spPr>
          <a:xfrm>
            <a:off x="158760" y="1690560"/>
            <a:ext cx="7554960" cy="516744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IV</a:t>
            </a:r>
            <a:r>
              <a:rPr b="1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этап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оске стоят карты Проппа,  детям предлагаю пересказать сказку, опираясь на ни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V </a:t>
            </a:r>
            <a:r>
              <a:rPr b="1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инение собственных сказочных историй, с помощью схематических изображ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1123920"/>
            <a:ext cx="121921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очинение сказки с помощью Карт Про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rcRect l="3906" t="19428" r="80528" b="53717"/>
          <a:stretch/>
        </p:blipFill>
        <p:spPr>
          <a:xfrm>
            <a:off x="457200" y="1960560"/>
            <a:ext cx="1670040" cy="216072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rcRect l="44051" t="17333" r="40528" b="53717"/>
          <a:stretch/>
        </p:blipFill>
        <p:spPr>
          <a:xfrm>
            <a:off x="3570120" y="1971720"/>
            <a:ext cx="1654200" cy="216072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1" name="Рисунок 5" descr=""/>
          <p:cNvPicPr/>
          <p:nvPr/>
        </p:nvPicPr>
        <p:blipFill>
          <a:blip r:embed="rId3"/>
          <a:srcRect l="61335" t="16572" r="24098" b="52194"/>
          <a:stretch/>
        </p:blipFill>
        <p:spPr>
          <a:xfrm>
            <a:off x="6831000" y="1916280"/>
            <a:ext cx="1736640" cy="21603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2" name="Рисунок 6" descr=""/>
          <p:cNvPicPr/>
          <p:nvPr/>
        </p:nvPicPr>
        <p:blipFill>
          <a:blip r:embed="rId4"/>
          <a:srcRect l="78335" t="17333" r="6236" b="54100"/>
          <a:stretch/>
        </p:blipFill>
        <p:spPr>
          <a:xfrm>
            <a:off x="9688680" y="1906560"/>
            <a:ext cx="1655640" cy="216072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3" name="Рисунок 7" descr=""/>
          <p:cNvPicPr/>
          <p:nvPr/>
        </p:nvPicPr>
        <p:blipFill>
          <a:blip r:embed="rId5"/>
          <a:srcRect l="76906" t="54100" r="7811" b="15239"/>
          <a:stretch/>
        </p:blipFill>
        <p:spPr>
          <a:xfrm>
            <a:off x="6953400" y="4565520"/>
            <a:ext cx="1657080" cy="215928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4" name="Рисунок 8" descr=""/>
          <p:cNvPicPr/>
          <p:nvPr/>
        </p:nvPicPr>
        <p:blipFill>
          <a:blip r:embed="rId6"/>
          <a:srcRect l="54256" t="26671" r="23564" b="29188"/>
          <a:stretch/>
        </p:blipFill>
        <p:spPr>
          <a:xfrm>
            <a:off x="9648720" y="4511520"/>
            <a:ext cx="1735200" cy="216072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5" name="Рисунок 11" descr=""/>
          <p:cNvPicPr/>
          <p:nvPr/>
        </p:nvPicPr>
        <p:blipFill>
          <a:blip r:embed="rId7"/>
          <a:stretch/>
        </p:blipFill>
        <p:spPr>
          <a:xfrm>
            <a:off x="3594240" y="4535640"/>
            <a:ext cx="1670040" cy="21603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6" name="Рисунок 12" descr=""/>
          <p:cNvPicPr/>
          <p:nvPr/>
        </p:nvPicPr>
        <p:blipFill>
          <a:blip r:embed="rId8"/>
          <a:srcRect l="42634" t="36493" r="41756" b="35675"/>
          <a:stretch/>
        </p:blipFill>
        <p:spPr>
          <a:xfrm>
            <a:off x="538200" y="4437000"/>
            <a:ext cx="1633680" cy="218304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Рефлексия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арты Проппа способствуют</a:t>
            </a:r>
            <a:r>
              <a:rPr b="0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диалогической и монологической формы речи детей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формируют умение</a:t>
            </a:r>
            <a:r>
              <a:rPr b="0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продумывать замысел, следовать ему в сочинении, выбирать тему, строить интересный сюжет героев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богащают</a:t>
            </a:r>
            <a:r>
              <a:rPr b="0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эмоциональную сферу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зволяют изучить </a:t>
            </a:r>
            <a:r>
              <a:rPr b="0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громное количество сказок, что способствует успешному обучению в школ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462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</a:t>
            </a:r>
            <a:br>
              <a:rPr sz="8800"/>
            </a:br>
            <a:r>
              <a:rPr b="1" i="1" lang="en-US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1218960"/>
            <a:ext cx="10515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новационные технологии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6" descr=""/>
          <p:cNvPicPr/>
          <p:nvPr/>
        </p:nvPicPr>
        <p:blipFill>
          <a:blip r:embed="rId1"/>
          <a:stretch/>
        </p:blipFill>
        <p:spPr>
          <a:xfrm>
            <a:off x="0" y="1494000"/>
            <a:ext cx="3975120" cy="4913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"/>
          <p:cNvPicPr/>
          <p:nvPr/>
        </p:nvPicPr>
        <p:blipFill>
          <a:blip r:embed="rId2"/>
          <a:stretch/>
        </p:blipFill>
        <p:spPr>
          <a:xfrm>
            <a:off x="3911760" y="1690560"/>
            <a:ext cx="4632120" cy="28432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pic>
        <p:nvPicPr>
          <p:cNvPr id="54" name="Рисунок 10" descr=""/>
          <p:cNvPicPr/>
          <p:nvPr/>
        </p:nvPicPr>
        <p:blipFill>
          <a:blip r:embed="rId3"/>
          <a:stretch/>
        </p:blipFill>
        <p:spPr>
          <a:xfrm>
            <a:off x="8491680" y="1536840"/>
            <a:ext cx="3700440" cy="45655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4"/>
          <a:stretch/>
        </p:blipFill>
        <p:spPr>
          <a:xfrm>
            <a:off x="3681360" y="3979800"/>
            <a:ext cx="46767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6400" y="490680"/>
            <a:ext cx="10817280" cy="13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мастер-класс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Карты Проппа как инновационная технология в развитии связной речи детей старшего дошкольного возраст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мастер-класс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ие профессионального уровня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 педагогов с новым подходом в обучении детей -творческому рассказыв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опыта по использованию инновационных технологий в процессе образовательной деятельности по речевому развитию дошкольников в рамках ФГОС Д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28160"/>
            <a:ext cx="105156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ладимир Яковлевич Пропп</a:t>
            </a:r>
            <a:br>
              <a:rPr sz="4300"/>
            </a:br>
            <a:r>
              <a:rPr b="1" lang="ru-RU" sz="4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1895-1970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4" descr=""/>
          <p:cNvPicPr/>
          <p:nvPr/>
        </p:nvPicPr>
        <p:blipFill>
          <a:blip r:embed="rId1"/>
          <a:stretch/>
        </p:blipFill>
        <p:spPr>
          <a:xfrm>
            <a:off x="212760" y="1139760"/>
            <a:ext cx="4273560" cy="5718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50840" y="1426680"/>
            <a:ext cx="741204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Фольклорист Владимир Яковлевич Пропп</a:t>
            </a:r>
            <a:br>
              <a:rPr sz="2800"/>
            </a:b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одробно изучал сказки народов мира,</a:t>
            </a:r>
            <a:br>
              <a:rPr sz="2800"/>
            </a:b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анализировал сотни сюжетов и</a:t>
            </a:r>
            <a:br>
              <a:rPr sz="2800"/>
            </a:b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выделил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1 постоянную функцию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без</a:t>
            </a:r>
            <a:br>
              <a:rPr sz="2800"/>
            </a:b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которых не обходится ни одно сказочное</a:t>
            </a:r>
            <a:br>
              <a:rPr sz="2800"/>
            </a:b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роизве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Необязательно, что они все вместе будут присутствовать в сказке, иногда нарушается их последовательность, но идея, содержание сказки при этом не страдаю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-255960"/>
            <a:ext cx="1027764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арты Пропп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Объект 5" descr=""/>
          <p:cNvPicPr/>
          <p:nvPr/>
        </p:nvPicPr>
        <p:blipFill>
          <a:blip r:embed="rId1"/>
          <a:stretch/>
        </p:blipFill>
        <p:spPr>
          <a:xfrm>
            <a:off x="444600" y="1023840"/>
            <a:ext cx="11325240" cy="58341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sp>
        <p:nvSpPr>
          <p:cNvPr id="65" name="Прямоугольник 7"/>
          <p:cNvSpPr/>
          <p:nvPr/>
        </p:nvSpPr>
        <p:spPr>
          <a:xfrm>
            <a:off x="444600" y="2023920"/>
            <a:ext cx="171288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ли-бы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2157480" y="2023920"/>
            <a:ext cx="162252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.Особое обстоятель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3780000" y="2023920"/>
            <a:ext cx="175572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Запр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5413320" y="2023920"/>
            <a:ext cx="163368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 запр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7047000" y="2023920"/>
            <a:ext cx="151128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Герой покидает д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8558280" y="2023920"/>
            <a:ext cx="159696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Появление друга         помощник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10147320" y="2023920"/>
            <a:ext cx="162252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Способ достижения ц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444600" y="3489480"/>
            <a:ext cx="1749240" cy="525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г начинает действов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6"/>
          <p:cNvSpPr/>
          <p:nvPr/>
        </p:nvSpPr>
        <p:spPr>
          <a:xfrm>
            <a:off x="2157480" y="3498840"/>
            <a:ext cx="1622520" cy="523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ржание побе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7"/>
          <p:cNvSpPr/>
          <p:nvPr/>
        </p:nvSpPr>
        <p:spPr>
          <a:xfrm>
            <a:off x="3780000" y="3498840"/>
            <a:ext cx="1633320" cy="523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оня (преследова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5413320" y="3489480"/>
            <a:ext cx="1584360" cy="533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Спасение от пре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7047000" y="3489480"/>
            <a:ext cx="1506600" cy="525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ритель испытывает геро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8558280" y="3498840"/>
            <a:ext cx="1646280" cy="523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Герой выдерживает испытани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21"/>
          <p:cNvSpPr/>
          <p:nvPr/>
        </p:nvSpPr>
        <p:spPr>
          <a:xfrm>
            <a:off x="10155240" y="3498840"/>
            <a:ext cx="1609560" cy="523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Получение волшебного средств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2"/>
          <p:cNvSpPr/>
          <p:nvPr/>
        </p:nvSpPr>
        <p:spPr>
          <a:xfrm>
            <a:off x="444600" y="4791240"/>
            <a:ext cx="1712880" cy="6094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лучка дарите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23"/>
          <p:cNvSpPr/>
          <p:nvPr/>
        </p:nvSpPr>
        <p:spPr>
          <a:xfrm>
            <a:off x="2157480" y="4800600"/>
            <a:ext cx="162252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Герой вступает в битву с враго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4"/>
          <p:cNvSpPr/>
          <p:nvPr/>
        </p:nvSpPr>
        <p:spPr>
          <a:xfrm>
            <a:off x="3780000" y="4800600"/>
            <a:ext cx="160956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Враг оказывается поверженны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25"/>
          <p:cNvSpPr/>
          <p:nvPr/>
        </p:nvSpPr>
        <p:spPr>
          <a:xfrm>
            <a:off x="5413320" y="4800600"/>
            <a:ext cx="158436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Метят геро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6"/>
          <p:cNvSpPr/>
          <p:nvPr/>
        </p:nvSpPr>
        <p:spPr>
          <a:xfrm>
            <a:off x="7047000" y="4800600"/>
            <a:ext cx="150660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ю дают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ое задани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7"/>
          <p:cNvSpPr/>
          <p:nvPr/>
        </p:nvSpPr>
        <p:spPr>
          <a:xfrm>
            <a:off x="8553600" y="4800600"/>
            <a:ext cx="159048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.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й выполняет задани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28"/>
          <p:cNvSpPr/>
          <p:nvPr/>
        </p:nvSpPr>
        <p:spPr>
          <a:xfrm>
            <a:off x="10144080" y="4800600"/>
            <a:ext cx="162072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ю даётся новый обл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9"/>
          <p:cNvSpPr/>
          <p:nvPr/>
        </p:nvSpPr>
        <p:spPr>
          <a:xfrm>
            <a:off x="444600" y="6168960"/>
            <a:ext cx="1719000" cy="4874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.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й возвращается дом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0"/>
          <p:cNvSpPr/>
          <p:nvPr/>
        </p:nvSpPr>
        <p:spPr>
          <a:xfrm>
            <a:off x="2157480" y="6178680"/>
            <a:ext cx="1622520" cy="503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Героя не узнают до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1"/>
          <p:cNvSpPr/>
          <p:nvPr/>
        </p:nvSpPr>
        <p:spPr>
          <a:xfrm>
            <a:off x="3780000" y="6178680"/>
            <a:ext cx="1609560" cy="503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яется ложный гер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2"/>
          <p:cNvSpPr/>
          <p:nvPr/>
        </p:nvSpPr>
        <p:spPr>
          <a:xfrm>
            <a:off x="5413320" y="6168960"/>
            <a:ext cx="1584360" cy="519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блачение ложного геро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3"/>
          <p:cNvSpPr/>
          <p:nvPr/>
        </p:nvSpPr>
        <p:spPr>
          <a:xfrm>
            <a:off x="7047000" y="6168960"/>
            <a:ext cx="1506600" cy="4874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вание геро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4"/>
          <p:cNvSpPr/>
          <p:nvPr/>
        </p:nvSpPr>
        <p:spPr>
          <a:xfrm>
            <a:off x="8602560" y="6168960"/>
            <a:ext cx="1541520" cy="4874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частливый коне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6"/>
          <p:cNvSpPr/>
          <p:nvPr/>
        </p:nvSpPr>
        <p:spPr>
          <a:xfrm>
            <a:off x="10144080" y="6168960"/>
            <a:ext cx="1620720" cy="519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. Мора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ика обучения.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825200"/>
            <a:ext cx="10515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знакомство детей со сказкой как жанром литературного произведения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бъяснение общей структуры сказки: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-начало или зачин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-завязка (основное содержание сюжета)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- концовка (счастливый конец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- мораль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дидактические иг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казочные слова»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гадай по описанию»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то в дороге пригодится?»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етные слова»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 этап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1640" y="1554120"/>
            <a:ext cx="11612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Знакомство с обозначениями Карт Пропп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чтение сказки</a:t>
            </a:r>
            <a:r>
              <a:rPr b="0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</a:t>
            </a:r>
            <a:r>
              <a:rPr b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опровождение</a:t>
            </a:r>
            <a:r>
              <a:rPr b="0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её выкладыванием кар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зачина</a:t>
            </a:r>
            <a:r>
              <a:rPr b="0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понадобятся 1. «Жили-были»; 2. «Особое обстоятельство»; 3. «Запрет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основной</a:t>
            </a:r>
            <a:r>
              <a:rPr b="0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части: «Нарушение запрета», «Герой покидает дом», «Враг начинает действовать», «Погоня (Преследование), «Герой выдерживает испытани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нцовка</a:t>
            </a:r>
            <a:r>
              <a:rPr b="0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«Счастливый конец» и «Мораль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9T05:06:00Z</dcterms:created>
  <dc:creator>Полянская Татьяна</dc:creator>
  <dc:description/>
  <dc:language>en-US</dc:language>
  <cp:lastModifiedBy>Юля</cp:lastModifiedBy>
  <cp:lastPrinted>2021-03-25T05:47:49Z</cp:lastPrinted>
  <dcterms:modified xsi:type="dcterms:W3CDTF">2022-04-19T07:04:54Z</dcterms:modified>
  <cp:revision>94</cp:revision>
  <dc:subject/>
  <dc:title>МКДОУ «Детский сад «Сказка»  г. Щигры Курской области</dc:title>
</cp:coreProperties>
</file>