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.wmf" ContentType="image/x-wmf"/>
  <Override PartName="/ppt/media/image15.jpeg" ContentType="image/jpeg"/>
  <Override PartName="/ppt/media/image13.jpeg" ContentType="image/jpeg"/>
  <Override PartName="/ppt/media/image20.gif" ContentType="image/gif"/>
  <Override PartName="/ppt/media/image5.jpeg" ContentType="image/jpeg"/>
  <Override PartName="/ppt/media/image10.jpeg" ContentType="image/jpeg"/>
  <Override PartName="/ppt/media/image12.jpeg" ContentType="image/jpeg"/>
  <Override PartName="/ppt/media/image23.wmf" ContentType="image/x-wmf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4.wmf" ContentType="image/x-wmf"/>
  <Override PartName="/ppt/media/image7.jpeg" ContentType="image/jpeg"/>
  <Override PartName="/ppt/media/image1.wmf" ContentType="image/x-wmf"/>
  <Override PartName="/ppt/media/image28.gif" ContentType="image/gif"/>
  <Override PartName="/ppt/media/image24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wmf" ContentType="image/x-wmf"/>
  <Override PartName="/ppt/media/image22.wmf" ContentType="image/x-wmf"/>
  <Override PartName="/ppt/media/image19.jpeg" ContentType="image/jpeg"/>
  <Override PartName="/ppt/media/image25.png" ContentType="image/png"/>
  <Override PartName="/ppt/media/image27.jpeg" ContentType="image/jpeg"/>
  <Override PartName="/ppt/media/image29.png" ContentType="image/png"/>
  <Override PartName="/ppt/media/image6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433C-F422-4B74-A889-BEE223DD15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1CAC-0F87-4FD2-8AA3-9A942F1C8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707E-CE50-4B37-8620-12C8FED4C5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E6F3-4820-4A60-8A1D-F12E2A79B6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6B07-D686-48C3-8493-8FA888B587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2D80-D681-4631-A6F4-1423CA3006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DA83-56B5-494E-A29D-E907D2672B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EF99-B230-4946-BBB7-C7122079BB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9E03-D525-468B-8876-753F1CDFD5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1DF-A5A7-4EB6-95A5-0E08ACF4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5B9-B09B-4CE3-8EFD-908E8575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2B55-BCC6-4854-B2C3-7D900C08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155-F094-485A-93F9-39C7061A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D3F8-DCD8-412B-A458-5DDD610B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8800-8995-4F47-9DBD-507DEF9B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0122-6669-480A-B0F0-E604A5E8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7ADD-9A5C-4ACE-97BD-17041ADF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62D7-85B0-4238-846B-603362D2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3E30-E916-4CDC-98EA-F56E923C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E241-E324-45B2-BAEE-E5B15FA4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E62-7387-415C-BCD2-B025C32A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0229-139B-403C-BC38-33A324CA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C1B0-0986-498B-B41E-8D0744F7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E447-32DF-4FBF-A21F-D40E1B1B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2E52-54D5-4240-B063-2EDD09B0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4873-34BD-4164-80DF-BA2675E0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740-66DB-4C65-974A-87ABB335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F64-26A8-44D3-8154-9A468973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AE3-E807-4782-AE24-F951F241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970-265B-4452-929B-A7D98BDD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E07-5B79-4CBF-B9E0-4D504520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EAC-1D7D-42DA-924D-7463DFFF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021-E1B9-402E-B48D-5C3234E5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BAC5-E813-45CE-98E1-08847ED37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5FE0-B2AC-48CB-B056-7EFFD2E0C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image" Target="../media/image11.jpeg"/><Relationship Id="rId4" Type="http://schemas.openxmlformats.org/officeDocument/2006/relationships/slide" Target="slide5.xml"/><Relationship Id="rId5" Type="http://schemas.openxmlformats.org/officeDocument/2006/relationships/image" Target="../media/image12.jpeg"/><Relationship Id="rId6" Type="http://schemas.openxmlformats.org/officeDocument/2006/relationships/slide" Target="slide11.xml"/><Relationship Id="rId7" Type="http://schemas.openxmlformats.org/officeDocument/2006/relationships/image" Target="../media/image13.jpeg"/><Relationship Id="rId8" Type="http://schemas.openxmlformats.org/officeDocument/2006/relationships/slide" Target="slide10.xml"/><Relationship Id="rId9" Type="http://schemas.openxmlformats.org/officeDocument/2006/relationships/image" Target="../media/image14.jpeg"/><Relationship Id="rId10" Type="http://schemas.openxmlformats.org/officeDocument/2006/relationships/slide" Target="slide9.xml"/><Relationship Id="rId11" Type="http://schemas.openxmlformats.org/officeDocument/2006/relationships/image" Target="../media/image15.jpeg"/><Relationship Id="rId12" Type="http://schemas.openxmlformats.org/officeDocument/2006/relationships/slide" Target="slide7.xml"/><Relationship Id="rId13" Type="http://schemas.openxmlformats.org/officeDocument/2006/relationships/image" Target="../media/image16.jpeg"/><Relationship Id="rId14" Type="http://schemas.openxmlformats.org/officeDocument/2006/relationships/slide" Target="slide6.xml"/><Relationship Id="rId15" Type="http://schemas.openxmlformats.org/officeDocument/2006/relationships/image" Target="../media/image17.jpeg"/><Relationship Id="rId16" Type="http://schemas.openxmlformats.org/officeDocument/2006/relationships/slide" Target="slide6.xml"/><Relationship Id="rId17" Type="http://schemas.openxmlformats.org/officeDocument/2006/relationships/image" Target="../media/image18.jpe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706400" cy="1824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4360" y="981000"/>
            <a:ext cx="7848360" cy="446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Здоровый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раз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и»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1798920" cy="13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1195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962"/>
          <p:cNvPicPr/>
          <p:nvPr/>
        </p:nvPicPr>
        <p:blipFill>
          <a:blip r:embed="rId2"/>
          <a:stretch/>
        </p:blipFill>
        <p:spPr>
          <a:xfrm>
            <a:off x="428760" y="2022480"/>
            <a:ext cx="4719600" cy="45021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6"/>
          <p:cNvSpPr txBox="1"/>
          <p:nvPr/>
        </p:nvSpPr>
        <p:spPr>
          <a:xfrm>
            <a:off x="1547640" y="333360"/>
            <a:ext cx="676944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доровье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 Black"/>
              </a:rPr>
              <a:t>Пословицы о здоровье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920" y="1268280"/>
            <a:ext cx="406872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В здоровом теле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Кто излишне полнее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вигайся больш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Кто день начинает с заряд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Arial"/>
              </a:rPr>
              <a:t>Чистота 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7480" y="1268280"/>
            <a:ext cx="40035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  <a:ea typeface="Arial"/>
              </a:rPr>
              <a:t>залог здоров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проживёшь доль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  <a:ea typeface="Arial"/>
              </a:rPr>
              <a:t>тот старе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у того дела в поряд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здоровый ду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3851280" y="1628640"/>
            <a:ext cx="1152360" cy="468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2411280" y="2708280"/>
            <a:ext cx="2521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"/>
          <p:cNvSpPr/>
          <p:nvPr/>
        </p:nvSpPr>
        <p:spPr>
          <a:xfrm flipV="1">
            <a:off x="3780000" y="2707920"/>
            <a:ext cx="115236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"/>
          <p:cNvSpPr/>
          <p:nvPr/>
        </p:nvSpPr>
        <p:spPr>
          <a:xfrm flipV="1">
            <a:off x="3276720" y="5084640"/>
            <a:ext cx="15825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1"/>
          <p:cNvSpPr/>
          <p:nvPr/>
        </p:nvSpPr>
        <p:spPr>
          <a:xfrm flipV="1">
            <a:off x="2411280" y="1557360"/>
            <a:ext cx="2521080" cy="496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е-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 это отсутствие болезней.</a:t>
            </a:r>
            <a:br>
              <a:rPr sz="4000"/>
            </a:b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Это физическое, психологическое состояние человека.</a:t>
            </a:r>
            <a:br>
              <a:rPr sz="40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Факторы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здоровья-</a:t>
            </a:r>
            <a:r>
              <a:rPr b="0" lang="en-US" sz="4000" spc="-1" strike="noStrike">
                <a:solidFill>
                  <a:srgbClr val="6600ff"/>
                </a:solidFill>
                <a:latin typeface="Arial Black"/>
              </a:rPr>
              <a:t> движение, питание, режим, закаливание.</a:t>
            </a:r>
            <a:br>
              <a:rPr sz="4000"/>
            </a:b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9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earth"/>
          <p:cNvPicPr/>
          <p:nvPr/>
        </p:nvPicPr>
        <p:blipFill>
          <a:blip r:embed="rId2"/>
          <a:stretch/>
        </p:blipFill>
        <p:spPr>
          <a:xfrm>
            <a:off x="2500200" y="2781360"/>
            <a:ext cx="4016520" cy="36003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1"/>
          <p:cNvSpPr txBox="1"/>
          <p:nvPr/>
        </p:nvSpPr>
        <p:spPr>
          <a:xfrm>
            <a:off x="684360" y="765000"/>
            <a:ext cx="79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2"/>
          <p:cNvSpPr txBox="1"/>
          <p:nvPr/>
        </p:nvSpPr>
        <p:spPr>
          <a:xfrm>
            <a:off x="571680" y="571680"/>
            <a:ext cx="82864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Зем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Arial Black"/>
              </a:rPr>
              <a:t>Заповеди здорового образа жизни</a:t>
            </a:r>
            <a:r>
              <a:rPr b="1" lang="en-US" sz="4000" spc="-1" strike="noStrike">
                <a:solidFill>
                  <a:srgbClr val="6600ff"/>
                </a:solidFill>
                <a:latin typeface="Arial Black"/>
              </a:rPr>
              <a:t> </a:t>
            </a:r>
            <a:r>
              <a:rPr b="1" i="1" lang="en-US" sz="4000" spc="-1" strike="noStrike">
                <a:solidFill>
                  <a:srgbClr val="6600ff"/>
                </a:solidFill>
                <a:latin typeface="Arial Black"/>
              </a:rPr>
              <a:t>для детей:</a:t>
            </a: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Рано ложиться и рано вставать – горя и хвори не будешь ты знать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Прогони остатки сна, одеяло в сторону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Вам гимнастика нужна – помогает здорово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С шумом струйка водяная на руках дробится. Никогда не забывай по утрам умытьс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Дети должны усвоить, а также их родители, что горячий завтрак, обед, полдник – просто необходимы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Ешь спокойно за столом, не надо торопиться. Это вредно и при том можно подавиться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Неряшливость не только не красива, но и опасна. Чистота – залог  здоровья – это знают все прекрас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Чтобы ночью крепко спать, видеть сон хороший, мы советуем гулять вечером погожим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«Мы за здоровый образ жизни!»</a:t>
            </a:r>
            <a:endParaRPr b="0" lang="en-US" sz="60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58" name="Picture 4" descr="смайл"/>
          <p:cNvPicPr/>
          <p:nvPr/>
        </p:nvPicPr>
        <p:blipFill>
          <a:blip r:embed="rId1"/>
          <a:stretch/>
        </p:blipFill>
        <p:spPr>
          <a:xfrm>
            <a:off x="1500120" y="2428920"/>
            <a:ext cx="6429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20000" y="4797360"/>
            <a:ext cx="1871640" cy="18003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5"/>
          <p:cNvSpPr txBox="1"/>
          <p:nvPr/>
        </p:nvSpPr>
        <p:spPr>
          <a:xfrm>
            <a:off x="1332000" y="692280"/>
            <a:ext cx="6408720" cy="410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Спасибо за работу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547640" y="2205000"/>
            <a:ext cx="540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0" t="0" r="0" b="76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arth"/>
          <p:cNvPicPr/>
          <p:nvPr/>
        </p:nvPicPr>
        <p:blipFill>
          <a:blip r:embed="rId2"/>
          <a:stretch/>
        </p:blipFill>
        <p:spPr>
          <a:xfrm>
            <a:off x="6227640" y="3933720"/>
            <a:ext cx="2376720" cy="2376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55640" y="2852640"/>
            <a:ext cx="767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Arial"/>
              </a:rPr>
              <a:t>Моё здоровье - в моих руках!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9"/>
          <p:cNvPicPr/>
          <p:nvPr/>
        </p:nvPicPr>
        <p:blipFill>
          <a:blip r:embed="rId2"/>
          <a:stretch/>
        </p:blipFill>
        <p:spPr>
          <a:xfrm>
            <a:off x="468360" y="2852640"/>
            <a:ext cx="3600360" cy="36007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7"/>
          <p:cNvSpPr txBox="1"/>
          <p:nvPr/>
        </p:nvSpPr>
        <p:spPr>
          <a:xfrm>
            <a:off x="684360" y="476280"/>
            <a:ext cx="792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2"/>
          <p:cNvSpPr txBox="1"/>
          <p:nvPr/>
        </p:nvSpPr>
        <p:spPr>
          <a:xfrm>
            <a:off x="428760" y="723960"/>
            <a:ext cx="8286480" cy="29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спех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500040" y="2071800"/>
            <a:ext cx="428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ежим дн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э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предел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ремен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основ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изнен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елове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0" descr="фото3"/>
          <p:cNvPicPr/>
          <p:nvPr/>
        </p:nvPicPr>
        <p:blipFill>
          <a:blip r:embed="rId1"/>
          <a:stretch/>
        </p:blipFill>
        <p:spPr>
          <a:xfrm>
            <a:off x="5078520" y="1628640"/>
            <a:ext cx="3814560" cy="504036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жим, одно из главных слагаемых  здорового образа жизни.</a:t>
            </a:r>
            <a:r>
              <a:rPr b="0" lang="en-US" sz="40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333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Режим дн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3" descr="фото18"/>
          <p:cNvPicPr/>
          <p:nvPr/>
        </p:nvPicPr>
        <p:blipFill>
          <a:blip r:embed="rId1"/>
          <a:stretch/>
        </p:blipFill>
        <p:spPr>
          <a:xfrm>
            <a:off x="611280" y="189000"/>
            <a:ext cx="227628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5" name="Picture 37" descr="фото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135000"/>
            <a:ext cx="2016360" cy="1914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6" name="Picture 39" descr="фото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72360" y="189000"/>
            <a:ext cx="2089080" cy="204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7" name="Picture 51" descr="фото17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79280" y="2349360"/>
            <a:ext cx="1920960" cy="1944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8" name="Picture 50" descr="фото16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79280" y="4581360"/>
            <a:ext cx="1979640" cy="1886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9" name="Picture 52" descr="фото1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556000" y="5013360"/>
            <a:ext cx="1871640" cy="163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0" name="Picture 48" descr="фото14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643280" y="5013360"/>
            <a:ext cx="1944720" cy="1623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1" name="Picture 45" descr="фото12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877080" y="4508640"/>
            <a:ext cx="2076480" cy="1895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2" name="Picture 42" descr="фото10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7020000" y="2421000"/>
            <a:ext cx="1941480" cy="187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3" name="Прямоугольник 10"/>
          <p:cNvSpPr/>
          <p:nvPr/>
        </p:nvSpPr>
        <p:spPr>
          <a:xfrm>
            <a:off x="2286000" y="2786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РЕЖИМ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Д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214280" y="260280"/>
            <a:ext cx="65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50920" y="1125360"/>
            <a:ext cx="8642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учи себя просыпаться и вставать каждый день в одно и то же время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ыполняй каждый день утреннюю зарядку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леди за чистотой тела, волос, ногтей и полостью 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тарайся есть в одно и то же врем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25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3"/>
          <p:cNvPicPr/>
          <p:nvPr/>
        </p:nvPicPr>
        <p:blipFill>
          <a:blip r:embed="rId2"/>
          <a:stretch/>
        </p:blipFill>
        <p:spPr>
          <a:xfrm>
            <a:off x="539640" y="2276640"/>
            <a:ext cx="4537080" cy="40338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6"/>
          <p:cNvSpPr txBox="1"/>
          <p:nvPr/>
        </p:nvSpPr>
        <p:spPr>
          <a:xfrm>
            <a:off x="500040" y="620640"/>
            <a:ext cx="82152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2"/>
          <p:cNvSpPr txBox="1"/>
          <p:nvPr/>
        </p:nvSpPr>
        <p:spPr>
          <a:xfrm>
            <a:off x="1085760" y="500040"/>
            <a:ext cx="7629480" cy="35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ланета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портивная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547640" y="476280"/>
            <a:ext cx="4969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ор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6600ff"/>
                </a:solidFill>
                <a:latin typeface="Times New Roman"/>
              </a:rPr>
              <a:t>«депорт»- развл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38512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  <a:ea typeface="Arial"/>
              </a:rPr>
              <a:t>Спорт</a:t>
            </a:r>
            <a:endParaRPr b="0" lang="en-US" sz="5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932360" y="6237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" descr="BD13764_"/>
          <p:cNvPicPr/>
          <p:nvPr/>
        </p:nvPicPr>
        <p:blipFill>
          <a:blip r:embed="rId1"/>
          <a:stretch/>
        </p:blipFill>
        <p:spPr>
          <a:xfrm>
            <a:off x="3929040" y="2143080"/>
            <a:ext cx="140328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PE02601_"/>
          <p:cNvPicPr/>
          <p:nvPr/>
        </p:nvPicPr>
        <p:blipFill>
          <a:blip r:embed="rId2"/>
          <a:stretch/>
        </p:blipFill>
        <p:spPr>
          <a:xfrm>
            <a:off x="5572080" y="785880"/>
            <a:ext cx="2357640" cy="27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PE01776_"/>
          <p:cNvPicPr/>
          <p:nvPr/>
        </p:nvPicPr>
        <p:blipFill>
          <a:blip r:embed="rId3"/>
          <a:stretch/>
        </p:blipFill>
        <p:spPr>
          <a:xfrm>
            <a:off x="826920" y="4292640"/>
            <a:ext cx="2737080" cy="241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PE02595_"/>
          <p:cNvPicPr/>
          <p:nvPr/>
        </p:nvPicPr>
        <p:blipFill>
          <a:blip r:embed="rId4"/>
          <a:stretch/>
        </p:blipFill>
        <p:spPr>
          <a:xfrm>
            <a:off x="6804000" y="3500280"/>
            <a:ext cx="2082960" cy="3140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SY00630_"/>
          <p:cNvPicPr/>
          <p:nvPr/>
        </p:nvPicPr>
        <p:blipFill>
          <a:blip r:embed="rId5"/>
          <a:stretch/>
        </p:blipFill>
        <p:spPr>
          <a:xfrm>
            <a:off x="0" y="500040"/>
            <a:ext cx="2948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1:14:51Z</dcterms:created>
  <dc:creator>st1-9</dc:creator>
  <dc:description/>
  <dc:language>en-US</dc:language>
  <cp:lastModifiedBy>Admin</cp:lastModifiedBy>
  <dcterms:modified xsi:type="dcterms:W3CDTF">2011-11-20T13:24:43Z</dcterms:modified>
  <cp:revision>141</cp:revision>
  <dc:subject/>
  <dc:title>Презентация PowerPoint</dc:title>
</cp:coreProperties>
</file>