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.wmf" ContentType="image/x-wmf"/>
  <Override PartName="/ppt/media/image15.jpeg" ContentType="image/jpeg"/>
  <Override PartName="/ppt/media/image13.jpeg" ContentType="image/jpeg"/>
  <Override PartName="/ppt/media/image20.gif" ContentType="image/gif"/>
  <Override PartName="/ppt/media/image5.jpeg" ContentType="image/jpeg"/>
  <Override PartName="/ppt/media/image10.jpeg" ContentType="image/jpeg"/>
  <Override PartName="/ppt/media/image12.jpeg" ContentType="image/jpeg"/>
  <Override PartName="/ppt/media/image23.wmf" ContentType="image/x-wmf"/>
  <Override PartName="/ppt/media/image9.jpeg" ContentType="image/jpeg"/>
  <Override PartName="/ppt/media/image11.jpeg" ContentType="image/jpeg"/>
  <Override PartName="/ppt/media/image14.jpeg" ContentType="image/jpeg"/>
  <Override PartName="/ppt/media/image8.png" ContentType="image/png"/>
  <Override PartName="/ppt/media/image30.gif" ContentType="image/gif"/>
  <Override PartName="/ppt/media/image4.wmf" ContentType="image/x-wmf"/>
  <Override PartName="/ppt/media/image7.jpeg" ContentType="image/jpeg"/>
  <Override PartName="/ppt/media/image1.wmf" ContentType="image/x-wmf"/>
  <Override PartName="/ppt/media/image28.gif" ContentType="image/gif"/>
  <Override PartName="/ppt/media/image24.wmf" ContentType="image/x-wmf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1.wmf" ContentType="image/x-wmf"/>
  <Override PartName="/ppt/media/image22.wmf" ContentType="image/x-wmf"/>
  <Override PartName="/ppt/media/image19.jpeg" ContentType="image/jpeg"/>
  <Override PartName="/ppt/media/image25.png" ContentType="image/png"/>
  <Override PartName="/ppt/media/image27.jpeg" ContentType="image/jpeg"/>
  <Override PartName="/ppt/media/image29.png" ContentType="image/png"/>
  <Override PartName="/ppt/media/image6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1FBC-0B0E-49B9-80EB-8A3F744CB4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B21D-4CFE-40E2-9C80-21649EB869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985F-9AFE-41D4-9F3E-0D1CF5C0C9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5014-0336-4B04-9553-1AEA91034D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ED7F-12CC-4807-AA2C-3E82DC44E4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70E5-D26C-4D47-8A9D-6E18BD6CE0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8A38-04DB-49C9-9DE8-411D00FCC6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8E41-149C-4D8C-BE00-26CA2EAB6B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17CF-3265-48F3-B2F0-BA1DE8AFC0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62CC-E417-4BB6-90E0-88CD5A69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12DE-09A2-4E17-8E7E-A3319267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566-279D-427D-9711-AF5086DC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3BF2-95D2-42A4-9265-02FAC8C8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71AD-971C-42E9-8568-CB5C10D9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3083-CB34-4BAF-BF03-011D579B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FD89-938E-4059-9FC6-4CA27918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D7ED-45C7-4DDF-A701-00D676E2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0705-F8D1-4100-AD94-305D817F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BFBA-C6A0-4F4B-9B31-33D099EA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F4D7-2BF1-44E4-B650-5AC4F42D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5A1D-449D-455E-AA3D-5BFE6C86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BBA0-3551-4912-84C4-2794FF8C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ED9E-21D6-4F72-955B-94FC7ABF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9C44-8887-4BE2-9CD7-F10C4804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20AB-53C9-4884-AEE5-DF6B0504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D4B9-7AEF-4C87-A5CA-19DDC196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7B15-299E-4166-8197-7A2FA296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FF4-EC77-4E68-A00F-B5134BD5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7980-1D60-4746-AD26-159CAA30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2FE3-314E-498C-9DBF-9E52876C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998-AFE3-467F-B3D4-7FC759A5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C57-889C-4DF5-A9E6-24244BBD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771-0340-415C-83CA-DC1C0D28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BE76-EDF0-4D6A-A0E2-EB6EC6185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AA32-0B26-4E33-8E27-4C72AEDBB6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gif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4.xml"/><Relationship Id="rId3" Type="http://schemas.openxmlformats.org/officeDocument/2006/relationships/image" Target="../media/image11.jpeg"/><Relationship Id="rId4" Type="http://schemas.openxmlformats.org/officeDocument/2006/relationships/slide" Target="slide5.xml"/><Relationship Id="rId5" Type="http://schemas.openxmlformats.org/officeDocument/2006/relationships/image" Target="../media/image12.jpeg"/><Relationship Id="rId6" Type="http://schemas.openxmlformats.org/officeDocument/2006/relationships/slide" Target="slide11.xml"/><Relationship Id="rId7" Type="http://schemas.openxmlformats.org/officeDocument/2006/relationships/image" Target="../media/image13.jpeg"/><Relationship Id="rId8" Type="http://schemas.openxmlformats.org/officeDocument/2006/relationships/slide" Target="slide10.xml"/><Relationship Id="rId9" Type="http://schemas.openxmlformats.org/officeDocument/2006/relationships/image" Target="../media/image14.jpeg"/><Relationship Id="rId10" Type="http://schemas.openxmlformats.org/officeDocument/2006/relationships/slide" Target="slide9.xml"/><Relationship Id="rId11" Type="http://schemas.openxmlformats.org/officeDocument/2006/relationships/image" Target="../media/image15.jpeg"/><Relationship Id="rId12" Type="http://schemas.openxmlformats.org/officeDocument/2006/relationships/slide" Target="slide7.xml"/><Relationship Id="rId13" Type="http://schemas.openxmlformats.org/officeDocument/2006/relationships/image" Target="../media/image16.jpeg"/><Relationship Id="rId14" Type="http://schemas.openxmlformats.org/officeDocument/2006/relationships/slide" Target="slide6.xml"/><Relationship Id="rId15" Type="http://schemas.openxmlformats.org/officeDocument/2006/relationships/image" Target="../media/image17.jpeg"/><Relationship Id="rId16" Type="http://schemas.openxmlformats.org/officeDocument/2006/relationships/slide" Target="slide6.xml"/><Relationship Id="rId17" Type="http://schemas.openxmlformats.org/officeDocument/2006/relationships/image" Target="../media/image18.jpe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020000" y="404640"/>
            <a:ext cx="1706400" cy="1824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84360" y="981000"/>
            <a:ext cx="7848360" cy="446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Здоровый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раз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зни»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948360" y="5157720"/>
            <a:ext cx="1798920" cy="1338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4000" y="4797360"/>
            <a:ext cx="1569960" cy="1730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11952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2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962"/>
          <p:cNvPicPr/>
          <p:nvPr/>
        </p:nvPicPr>
        <p:blipFill>
          <a:blip r:embed="rId2"/>
          <a:stretch/>
        </p:blipFill>
        <p:spPr>
          <a:xfrm>
            <a:off x="428760" y="2022480"/>
            <a:ext cx="4719600" cy="4502160"/>
          </a:xfrm>
          <a:prstGeom prst="rect">
            <a:avLst/>
          </a:prstGeom>
          <a:ln w="0">
            <a:noFill/>
          </a:ln>
        </p:spPr>
      </p:pic>
      <p:sp>
        <p:nvSpPr>
          <p:cNvPr id="141" name="WordArt 6"/>
          <p:cNvSpPr txBox="1"/>
          <p:nvPr/>
        </p:nvSpPr>
        <p:spPr>
          <a:xfrm>
            <a:off x="1547640" y="333360"/>
            <a:ext cx="676944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ета 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Здоровье"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 Black"/>
              </a:rPr>
              <a:t>Пословицы о здоровье 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920" y="1268280"/>
            <a:ext cx="406872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В здоровом теле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Arial"/>
                <a:ea typeface="Arial"/>
              </a:rPr>
              <a:t>Кто излишне полнее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Двигайся больш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Кто день начинает с зарядк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  <a:ea typeface="Arial"/>
              </a:rPr>
              <a:t>Чистота 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57480" y="1268280"/>
            <a:ext cx="40035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  <a:ea typeface="Arial"/>
              </a:rPr>
              <a:t>залог здоров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проживёшь доль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Arial"/>
                <a:ea typeface="Arial"/>
              </a:rPr>
              <a:t>тот старе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у того дела в поряд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здоровый ду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3851280" y="1628640"/>
            <a:ext cx="1152360" cy="468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2411280" y="2708280"/>
            <a:ext cx="252108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9"/>
          <p:cNvSpPr/>
          <p:nvPr/>
        </p:nvSpPr>
        <p:spPr>
          <a:xfrm flipV="1">
            <a:off x="3780000" y="2707920"/>
            <a:ext cx="11523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"/>
          <p:cNvSpPr/>
          <p:nvPr/>
        </p:nvSpPr>
        <p:spPr>
          <a:xfrm flipV="1">
            <a:off x="3276720" y="5084640"/>
            <a:ext cx="15825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1"/>
          <p:cNvSpPr/>
          <p:nvPr/>
        </p:nvSpPr>
        <p:spPr>
          <a:xfrm flipV="1">
            <a:off x="2411280" y="1557360"/>
            <a:ext cx="2521080" cy="496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43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 Black"/>
              </a:rPr>
              <a:t>Здоровье-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6600ff"/>
                </a:solidFill>
                <a:latin typeface="Arial Black"/>
              </a:rPr>
              <a:t> это отсутствие болезней.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 Black"/>
              </a:rPr>
              <a:t>Это физическое, психологическое состояние человека.</a:t>
            </a:r>
            <a:br>
              <a:rPr sz="4000"/>
            </a:b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 Black"/>
              </a:rPr>
              <a:t>Факторы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 Black"/>
              </a:rPr>
              <a:t>здоровья-</a:t>
            </a:r>
            <a:r>
              <a:rPr b="0" lang="en-US" sz="4000" spc="-1" strike="noStrike">
                <a:solidFill>
                  <a:srgbClr val="6600ff"/>
                </a:solidFill>
                <a:latin typeface="Arial Black"/>
              </a:rPr>
              <a:t> движение, питание, режим, закаливание.</a:t>
            </a:r>
            <a:br>
              <a:rPr sz="4000"/>
            </a:b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9" descr="2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earth"/>
          <p:cNvPicPr/>
          <p:nvPr/>
        </p:nvPicPr>
        <p:blipFill>
          <a:blip r:embed="rId2"/>
          <a:stretch/>
        </p:blipFill>
        <p:spPr>
          <a:xfrm>
            <a:off x="2500200" y="2781360"/>
            <a:ext cx="4016520" cy="3600360"/>
          </a:xfrm>
          <a:prstGeom prst="rect">
            <a:avLst/>
          </a:prstGeom>
          <a:ln w="0">
            <a:noFill/>
          </a:ln>
        </p:spPr>
      </p:pic>
      <p:sp>
        <p:nvSpPr>
          <p:cNvPr id="153" name="WordArt 11"/>
          <p:cNvSpPr txBox="1"/>
          <p:nvPr/>
        </p:nvSpPr>
        <p:spPr>
          <a:xfrm>
            <a:off x="684360" y="765000"/>
            <a:ext cx="7991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2"/>
          <p:cNvSpPr txBox="1"/>
          <p:nvPr/>
        </p:nvSpPr>
        <p:spPr>
          <a:xfrm>
            <a:off x="571680" y="571680"/>
            <a:ext cx="82864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ета Земл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ff"/>
                </a:solidFill>
                <a:latin typeface="Arial Black"/>
              </a:rPr>
              <a:t>Заповеди здорового образа жизни</a:t>
            </a:r>
            <a:r>
              <a:rPr b="1" lang="en-US" sz="4000" spc="-1" strike="noStrike">
                <a:solidFill>
                  <a:srgbClr val="6600ff"/>
                </a:solidFill>
                <a:latin typeface="Arial Black"/>
              </a:rPr>
              <a:t> </a:t>
            </a:r>
            <a:r>
              <a:rPr b="1" i="1" lang="en-US" sz="4000" spc="-1" strike="noStrike">
                <a:solidFill>
                  <a:srgbClr val="6600ff"/>
                </a:solidFill>
                <a:latin typeface="Arial Black"/>
              </a:rPr>
              <a:t>для детей:</a:t>
            </a: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Рано ложиться и рано вставать – горя и хвори не будешь ты знать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Прогони остатки сна, одеяло в сторону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Вам гимнастика нужна – помогает здоро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С шумом струйка водяная на руках дробится. Никогда не забывай по утрам умыться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Дети должны усвоить, а также их родители, что горячий завтрак, обед, полдник – просто необходимы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Ешь спокойно за столом, не надо торопиться. Это вредно и при том можно подавиться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Неряшливость не только не красива, но и опасна. Чистота – залог  здоровья – это знают все прекрас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Чтобы ночью крепко спать, видеть сон хороший, мы советуем гулять вечером погожим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«Мы за здоровый образ жизни!»</a:t>
            </a:r>
            <a:endParaRPr b="0" lang="en-US" sz="6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58" name="Picture 4" descr="смайл"/>
          <p:cNvPicPr/>
          <p:nvPr/>
        </p:nvPicPr>
        <p:blipFill>
          <a:blip r:embed="rId1"/>
          <a:stretch/>
        </p:blipFill>
        <p:spPr>
          <a:xfrm>
            <a:off x="1500120" y="2428920"/>
            <a:ext cx="64296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020000" y="4797360"/>
            <a:ext cx="1871640" cy="1800360"/>
          </a:xfrm>
          <a:prstGeom prst="rect">
            <a:avLst/>
          </a:prstGeom>
          <a:ln w="0">
            <a:noFill/>
          </a:ln>
        </p:spPr>
      </p:pic>
      <p:sp>
        <p:nvSpPr>
          <p:cNvPr id="160" name="WordArt 15"/>
          <p:cNvSpPr txBox="1"/>
          <p:nvPr/>
        </p:nvSpPr>
        <p:spPr>
          <a:xfrm>
            <a:off x="1332000" y="692280"/>
            <a:ext cx="6408720" cy="410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Спасибо за работу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547640" y="2205000"/>
            <a:ext cx="5400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2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rcRect l="0" t="0" r="0" b="76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arth"/>
          <p:cNvPicPr/>
          <p:nvPr/>
        </p:nvPicPr>
        <p:blipFill>
          <a:blip r:embed="rId2"/>
          <a:stretch/>
        </p:blipFill>
        <p:spPr>
          <a:xfrm>
            <a:off x="6227640" y="3933720"/>
            <a:ext cx="2376720" cy="23767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755640" y="2852640"/>
            <a:ext cx="767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«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Arial"/>
              </a:rPr>
              <a:t>Моё здоровье - в моих руках!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3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2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19"/>
          <p:cNvPicPr/>
          <p:nvPr/>
        </p:nvPicPr>
        <p:blipFill>
          <a:blip r:embed="rId2"/>
          <a:stretch/>
        </p:blipFill>
        <p:spPr>
          <a:xfrm>
            <a:off x="468360" y="2852640"/>
            <a:ext cx="3600360" cy="3600720"/>
          </a:xfrm>
          <a:prstGeom prst="rect">
            <a:avLst/>
          </a:prstGeom>
          <a:ln w="0">
            <a:noFill/>
          </a:ln>
        </p:spPr>
      </p:pic>
      <p:sp>
        <p:nvSpPr>
          <p:cNvPr id="108" name="WordArt 7"/>
          <p:cNvSpPr txBox="1"/>
          <p:nvPr/>
        </p:nvSpPr>
        <p:spPr>
          <a:xfrm>
            <a:off x="684360" y="476280"/>
            <a:ext cx="7920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2"/>
          <p:cNvSpPr txBox="1"/>
          <p:nvPr/>
        </p:nvSpPr>
        <p:spPr>
          <a:xfrm>
            <a:off x="428760" y="723960"/>
            <a:ext cx="8286480" cy="29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ета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спех"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2"/>
          <p:cNvSpPr/>
          <p:nvPr/>
        </p:nvSpPr>
        <p:spPr>
          <a:xfrm>
            <a:off x="500040" y="2071800"/>
            <a:ext cx="4286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ежим дня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эт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авиль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предел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ремен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основ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жизнен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треб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елове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0" descr="фото3"/>
          <p:cNvPicPr/>
          <p:nvPr/>
        </p:nvPicPr>
        <p:blipFill>
          <a:blip r:embed="rId1"/>
          <a:stretch/>
        </p:blipFill>
        <p:spPr>
          <a:xfrm>
            <a:off x="5078520" y="1628640"/>
            <a:ext cx="3814560" cy="5040360"/>
          </a:xfrm>
          <a:prstGeom prst="rect">
            <a:avLst/>
          </a:prstGeom>
          <a:ln w="9360">
            <a:solidFill>
              <a:srgbClr val="ff99ff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жим, одно из главных слагаемых  здорового образа жизни.</a:t>
            </a: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33336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Режим дн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3" descr="фото18"/>
          <p:cNvPicPr/>
          <p:nvPr/>
        </p:nvPicPr>
        <p:blipFill>
          <a:blip r:embed="rId1"/>
          <a:stretch/>
        </p:blipFill>
        <p:spPr>
          <a:xfrm>
            <a:off x="611280" y="189000"/>
            <a:ext cx="2276280" cy="1944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5" name="Picture 37" descr="фото8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35280" y="135000"/>
            <a:ext cx="2016360" cy="1914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6" name="Picture 39" descr="фото9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72360" y="189000"/>
            <a:ext cx="2089080" cy="2046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7" name="Picture 51" descr="фото17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79280" y="2349360"/>
            <a:ext cx="1920960" cy="1944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8" name="Picture 50" descr="фото16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79280" y="4581360"/>
            <a:ext cx="1979640" cy="1886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9" name="Picture 52" descr="фото19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556000" y="5013360"/>
            <a:ext cx="1871640" cy="1638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0" name="Picture 48" descr="фото14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643280" y="5013360"/>
            <a:ext cx="1944720" cy="1623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1" name="Picture 45" descr="фото12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877080" y="4508640"/>
            <a:ext cx="2076480" cy="1895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2" name="Picture 42" descr="фото10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7020000" y="2421000"/>
            <a:ext cx="1941480" cy="1871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3" name="Прямоугольник 10"/>
          <p:cNvSpPr/>
          <p:nvPr/>
        </p:nvSpPr>
        <p:spPr>
          <a:xfrm>
            <a:off x="2286000" y="2786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РЕЖИМ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Д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1214280" y="260280"/>
            <a:ext cx="657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50920" y="1125360"/>
            <a:ext cx="864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иучи себя просыпаться и вставать каждый день в одно и то же врем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полняй каждый день утреннюю зарядку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леди за чистотой тела, волос, ногтей и полостью рта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тарайся есть в одно и то же врем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2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3"/>
          <p:cNvPicPr/>
          <p:nvPr/>
        </p:nvPicPr>
        <p:blipFill>
          <a:blip r:embed="rId2"/>
          <a:stretch/>
        </p:blipFill>
        <p:spPr>
          <a:xfrm>
            <a:off x="539640" y="2276640"/>
            <a:ext cx="4537080" cy="40338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6"/>
          <p:cNvSpPr txBox="1"/>
          <p:nvPr/>
        </p:nvSpPr>
        <p:spPr>
          <a:xfrm>
            <a:off x="500040" y="620640"/>
            <a:ext cx="82152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2"/>
          <p:cNvSpPr txBox="1"/>
          <p:nvPr/>
        </p:nvSpPr>
        <p:spPr>
          <a:xfrm>
            <a:off x="1085760" y="500040"/>
            <a:ext cx="7629480" cy="35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ета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Спортивная"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1547640" y="476280"/>
            <a:ext cx="4969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ор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«депорт»- развле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38512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Black"/>
                <a:ea typeface="Arial"/>
              </a:rPr>
              <a:t>Спорт</a:t>
            </a:r>
            <a:endParaRPr b="0" lang="en-US" sz="5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932360" y="6237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0" descr="BD13764_"/>
          <p:cNvPicPr/>
          <p:nvPr/>
        </p:nvPicPr>
        <p:blipFill>
          <a:blip r:embed="rId1"/>
          <a:stretch/>
        </p:blipFill>
        <p:spPr>
          <a:xfrm>
            <a:off x="3929040" y="2143080"/>
            <a:ext cx="1403280" cy="194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PE02601_"/>
          <p:cNvPicPr/>
          <p:nvPr/>
        </p:nvPicPr>
        <p:blipFill>
          <a:blip r:embed="rId2"/>
          <a:stretch/>
        </p:blipFill>
        <p:spPr>
          <a:xfrm>
            <a:off x="5572080" y="785880"/>
            <a:ext cx="2357640" cy="2762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PE01776_"/>
          <p:cNvPicPr/>
          <p:nvPr/>
        </p:nvPicPr>
        <p:blipFill>
          <a:blip r:embed="rId3"/>
          <a:stretch/>
        </p:blipFill>
        <p:spPr>
          <a:xfrm>
            <a:off x="826920" y="4292640"/>
            <a:ext cx="2737080" cy="2415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PE02595_"/>
          <p:cNvPicPr/>
          <p:nvPr/>
        </p:nvPicPr>
        <p:blipFill>
          <a:blip r:embed="rId4"/>
          <a:stretch/>
        </p:blipFill>
        <p:spPr>
          <a:xfrm>
            <a:off x="6804000" y="3500280"/>
            <a:ext cx="2082960" cy="3140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2" descr="SY00630_"/>
          <p:cNvPicPr/>
          <p:nvPr/>
        </p:nvPicPr>
        <p:blipFill>
          <a:blip r:embed="rId5"/>
          <a:stretch/>
        </p:blipFill>
        <p:spPr>
          <a:xfrm>
            <a:off x="0" y="500040"/>
            <a:ext cx="2948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1:14:51Z</dcterms:created>
  <dc:creator>st1-9</dc:creator>
  <dc:description/>
  <dc:language>en-US</dc:language>
  <cp:lastModifiedBy>Admin</cp:lastModifiedBy>
  <dcterms:modified xsi:type="dcterms:W3CDTF">2011-11-20T13:24:43Z</dcterms:modified>
  <cp:revision>141</cp:revision>
  <dc:subject/>
  <dc:title>Презентация PowerPoint</dc:title>
</cp:coreProperties>
</file>