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86F-ECA9-492E-B7F2-30240224A6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7085-247C-484C-863D-C4E97DFDD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8DE-FD1F-4ADA-825B-785E5B66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8FE-A32A-4F86-A920-F56DB78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0E0-1B36-4F1F-9DD0-298B2A20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547-554C-4C6A-BED8-63ED3FC5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71E-BF1D-4CE5-BE00-327D7B6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08A-84A4-44F8-9F2F-1FB22E4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18A-101D-4406-859F-83CA26A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FAF-0732-460D-88EA-8622483A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AC1-EAD5-4899-8926-93BBD68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46E-7CAD-407B-9A1C-565B8F9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9FF-30D3-49BD-9CA8-B5A4E1B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B32-CBB5-4663-99E3-99CA51E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BF8-59B0-4A01-88CD-2DF730BDF5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26920" y="730080"/>
            <a:ext cx="65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н давно знакомый м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ждый угол в нем зн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се четыре сторон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инаковой дли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ам его представить ра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к зовут его? 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411280" y="4516560"/>
            <a:ext cx="194472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179280" y="220500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1.Любой квадрат – это прямоугольни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Любой прямоугольник – это квадра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3.Любой четырёхугольник – эт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многоугольн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6500880" y="2714760"/>
            <a:ext cx="1428840" cy="15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28760" y="3000240"/>
            <a:ext cx="2143080" cy="141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 rot="20401800">
            <a:off x="3368520" y="3147840"/>
            <a:ext cx="22402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39960"/>
            <a:ext cx="7143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 квадра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214880" y="3769200"/>
            <a:ext cx="571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1645560" y="478620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6432120" y="4500720"/>
            <a:ext cx="4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нельзя назвать данную фигур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857840" y="2714760"/>
            <a:ext cx="1714320" cy="178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прямоугольник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торый разбит на три квадра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500040" y="285768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1428840" y="285768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3357720" y="2286000"/>
            <a:ext cx="41436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3786120" y="228600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4643280" y="2286000"/>
            <a:ext cx="42876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5857920" y="3214800"/>
            <a:ext cx="78588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6643800" y="3214800"/>
            <a:ext cx="78588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18"/>
          <p:cNvSpPr/>
          <p:nvPr/>
        </p:nvSpPr>
        <p:spPr>
          <a:xfrm>
            <a:off x="7429680" y="3214800"/>
            <a:ext cx="785520" cy="92844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32"/>
          <p:cNvSpPr/>
          <p:nvPr/>
        </p:nvSpPr>
        <p:spPr>
          <a:xfrm>
            <a:off x="1074240" y="40719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33"/>
          <p:cNvSpPr/>
          <p:nvPr/>
        </p:nvSpPr>
        <p:spPr>
          <a:xfrm>
            <a:off x="4003560" y="36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34"/>
          <p:cNvSpPr/>
          <p:nvPr/>
        </p:nvSpPr>
        <p:spPr>
          <a:xfrm>
            <a:off x="6575040" y="4429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прямоугольник, у которого все стороны одинаковой длин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120" y="4071600"/>
            <a:ext cx="1757520" cy="20430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5357880" y="2571840"/>
            <a:ext cx="3097080" cy="17287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Равнобедренный треугольник 9"/>
          <p:cNvSpPr/>
          <p:nvPr/>
        </p:nvSpPr>
        <p:spPr>
          <a:xfrm>
            <a:off x="2643120" y="2786040"/>
            <a:ext cx="2357640" cy="2357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857160" y="3143160"/>
            <a:ext cx="5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3575880" y="55008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6360840" y="4500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 нельзя назвать данную фигуру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тырёх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ог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ятиугольник.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429160" y="2500200"/>
            <a:ext cx="1643040" cy="1785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755640" y="47628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Квадрат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11280" y="2690640"/>
            <a:ext cx="624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знакомиться со свойствами квад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аучиться чертить квадрат и  решать задачи на нахождение периметра квад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крепить вычислительные навы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763640" y="5904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Сказка «Родственн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68360" y="1914480"/>
            <a:ext cx="5759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-757080" y="0"/>
            <a:ext cx="10131120" cy="6854760"/>
          </a:xfrm>
          <a:prstGeom prst="rect">
            <a:avLst/>
          </a:prstGeom>
          <a:ln w="0">
            <a:noFill/>
          </a:ln>
        </p:spPr>
      </p:pic>
      <p:sp>
        <p:nvSpPr>
          <p:cNvPr id="55" name="Oval 9"/>
          <p:cNvSpPr/>
          <p:nvPr/>
        </p:nvSpPr>
        <p:spPr>
          <a:xfrm>
            <a:off x="5140440" y="5396040"/>
            <a:ext cx="103644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253040" y="3627360"/>
            <a:ext cx="1738080" cy="16336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oup 11" descr=""/>
          <p:cNvPicPr/>
          <p:nvPr/>
        </p:nvPicPr>
        <p:blipFill>
          <a:blip r:embed="rId2"/>
          <a:stretch/>
        </p:blipFill>
        <p:spPr>
          <a:xfrm>
            <a:off x="4456080" y="3718080"/>
            <a:ext cx="397080" cy="780840"/>
          </a:xfrm>
          <a:prstGeom prst="rect">
            <a:avLst/>
          </a:prstGeom>
          <a:ln w="0">
            <a:noFill/>
          </a:ln>
        </p:spPr>
      </p:pic>
      <p:pic>
        <p:nvPicPr>
          <p:cNvPr id="58" name="Group 14" descr=""/>
          <p:cNvPicPr/>
          <p:nvPr/>
        </p:nvPicPr>
        <p:blipFill>
          <a:blip r:embed="rId3"/>
          <a:stretch/>
        </p:blipFill>
        <p:spPr>
          <a:xfrm>
            <a:off x="5327640" y="3743280"/>
            <a:ext cx="3906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Arc 17"/>
          <p:cNvSpPr/>
          <p:nvPr/>
        </p:nvSpPr>
        <p:spPr>
          <a:xfrm flipV="1" rot="19896600">
            <a:off x="4819680" y="4202280"/>
            <a:ext cx="50652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3790800" y="5383080"/>
            <a:ext cx="1036800" cy="4431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4653000" y="526068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"/>
          <p:cNvSpPr/>
          <p:nvPr/>
        </p:nvSpPr>
        <p:spPr>
          <a:xfrm flipV="1">
            <a:off x="5364000" y="526068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 rot="19422600">
            <a:off x="6183360" y="4306680"/>
            <a:ext cx="64116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991120" y="4710240"/>
            <a:ext cx="24624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4008600" y="471024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4653000" y="4711680"/>
            <a:ext cx="806400" cy="317520"/>
          </a:xfrm>
          <a:custGeom>
            <a:avLst/>
            <a:gdLst/>
            <a:ahLst/>
            <a:rect l="l" t="t" r="r" b="b"/>
            <a:pathLst>
              <a:path w="508" h="200">
                <a:moveTo>
                  <a:pt x="6" y="174"/>
                </a:moveTo>
                <a:cubicBezTo>
                  <a:pt x="0" y="147"/>
                  <a:pt x="153" y="0"/>
                  <a:pt x="236" y="1"/>
                </a:cubicBezTo>
                <a:cubicBezTo>
                  <a:pt x="319" y="9"/>
                  <a:pt x="508" y="166"/>
                  <a:pt x="505" y="183"/>
                </a:cubicBezTo>
                <a:cubicBezTo>
                  <a:pt x="502" y="200"/>
                  <a:pt x="300" y="107"/>
                  <a:pt x="217" y="106"/>
                </a:cubicBezTo>
                <a:cubicBezTo>
                  <a:pt x="134" y="105"/>
                  <a:pt x="50" y="160"/>
                  <a:pt x="6" y="174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2"/>
          <p:cNvSpPr/>
          <p:nvPr/>
        </p:nvSpPr>
        <p:spPr>
          <a:xfrm rot="2211600">
            <a:off x="3417480" y="4300200"/>
            <a:ext cx="64152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4530600" y="3971880"/>
            <a:ext cx="257400" cy="493920"/>
            <a:chOff x="4530600" y="3971880"/>
            <a:chExt cx="257400" cy="493920"/>
          </a:xfrm>
        </p:grpSpPr>
        <p:sp>
          <p:nvSpPr>
            <p:cNvPr id="69" name="Oval 12"/>
            <p:cNvSpPr/>
            <p:nvPr/>
          </p:nvSpPr>
          <p:spPr>
            <a:xfrm>
              <a:off x="4530600" y="3971880"/>
              <a:ext cx="257400" cy="493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3"/>
            <p:cNvSpPr/>
            <p:nvPr/>
          </p:nvSpPr>
          <p:spPr>
            <a:xfrm>
              <a:off x="4572000" y="4182840"/>
              <a:ext cx="184320" cy="26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5396040" y="4000680"/>
            <a:ext cx="257040" cy="493560"/>
            <a:chOff x="5396040" y="4000680"/>
            <a:chExt cx="257040" cy="493560"/>
          </a:xfrm>
        </p:grpSpPr>
        <p:sp>
          <p:nvSpPr>
            <p:cNvPr id="72" name="Oval 12"/>
            <p:cNvSpPr/>
            <p:nvPr/>
          </p:nvSpPr>
          <p:spPr>
            <a:xfrm>
              <a:off x="5396040" y="4000680"/>
              <a:ext cx="257040" cy="493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5437080" y="4211280"/>
              <a:ext cx="183960" cy="26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8"/>
          <p:cNvSpPr/>
          <p:nvPr/>
        </p:nvSpPr>
        <p:spPr>
          <a:xfrm>
            <a:off x="3492360" y="1557360"/>
            <a:ext cx="1738440" cy="2638440"/>
          </a:xfrm>
          <a:prstGeom prst="rect">
            <a:avLst/>
          </a:prstGeom>
          <a:solidFill>
            <a:srgbClr val="b56b85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0"/>
          <p:cNvSpPr/>
          <p:nvPr/>
        </p:nvSpPr>
        <p:spPr>
          <a:xfrm rot="2211600">
            <a:off x="2623680" y="2628720"/>
            <a:ext cx="64152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9"/>
          <p:cNvSpPr/>
          <p:nvPr/>
        </p:nvSpPr>
        <p:spPr>
          <a:xfrm rot="19138800">
            <a:off x="5430960" y="2653920"/>
            <a:ext cx="64116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2944800" y="4379760"/>
            <a:ext cx="103680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4699080" y="4379760"/>
            <a:ext cx="103644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43"/>
          <p:cNvSpPr/>
          <p:nvPr/>
        </p:nvSpPr>
        <p:spPr>
          <a:xfrm>
            <a:off x="3990960" y="3090960"/>
            <a:ext cx="74124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roup 29" descr=""/>
          <p:cNvPicPr/>
          <p:nvPr/>
        </p:nvPicPr>
        <p:blipFill>
          <a:blip r:embed="rId1"/>
          <a:stretch/>
        </p:blipFill>
        <p:spPr>
          <a:xfrm>
            <a:off x="4535640" y="2176560"/>
            <a:ext cx="390240" cy="779400"/>
          </a:xfrm>
          <a:prstGeom prst="rect">
            <a:avLst/>
          </a:prstGeom>
          <a:ln w="0">
            <a:noFill/>
          </a:ln>
        </p:spPr>
      </p:pic>
      <p:pic>
        <p:nvPicPr>
          <p:cNvPr id="81" name="Group 29" descr=""/>
          <p:cNvPicPr/>
          <p:nvPr/>
        </p:nvPicPr>
        <p:blipFill>
          <a:blip r:embed="rId2"/>
          <a:stretch/>
        </p:blipFill>
        <p:spPr>
          <a:xfrm>
            <a:off x="3797280" y="2206800"/>
            <a:ext cx="390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455760" y="2886120"/>
            <a:ext cx="3798360" cy="2592000"/>
            <a:chOff x="455760" y="2886120"/>
            <a:chExt cx="3798360" cy="2592000"/>
          </a:xfrm>
        </p:grpSpPr>
        <p:sp>
          <p:nvSpPr>
            <p:cNvPr id="88" name="Oval 18"/>
            <p:cNvSpPr/>
            <p:nvPr/>
          </p:nvSpPr>
          <p:spPr>
            <a:xfrm>
              <a:off x="2416320" y="4953960"/>
              <a:ext cx="124740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1141560" y="2886120"/>
              <a:ext cx="2092320" cy="19342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1464840" y="3047400"/>
              <a:ext cx="456120" cy="907920"/>
              <a:chOff x="1464840" y="3047400"/>
              <a:chExt cx="456120" cy="907920"/>
            </a:xfrm>
          </p:grpSpPr>
          <p:sp>
            <p:nvSpPr>
              <p:cNvPr id="91" name="Oval 10"/>
              <p:cNvSpPr/>
              <p:nvPr/>
            </p:nvSpPr>
            <p:spPr>
              <a:xfrm>
                <a:off x="1464840" y="3047400"/>
                <a:ext cx="456120" cy="90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11"/>
              <p:cNvSpPr/>
              <p:nvPr/>
            </p:nvSpPr>
            <p:spPr>
              <a:xfrm>
                <a:off x="1595520" y="3436560"/>
                <a:ext cx="325080" cy="48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3"/>
            <p:cNvGrpSpPr/>
            <p:nvPr/>
          </p:nvGrpSpPr>
          <p:grpSpPr>
            <a:xfrm>
              <a:off x="2391120" y="3047400"/>
              <a:ext cx="458640" cy="907920"/>
              <a:chOff x="2391120" y="3047400"/>
              <a:chExt cx="458640" cy="907920"/>
            </a:xfrm>
          </p:grpSpPr>
          <p:sp>
            <p:nvSpPr>
              <p:cNvPr id="94" name="Oval 14"/>
              <p:cNvSpPr/>
              <p:nvPr/>
            </p:nvSpPr>
            <p:spPr>
              <a:xfrm>
                <a:off x="2391120" y="3047400"/>
                <a:ext cx="458640" cy="90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15"/>
              <p:cNvSpPr/>
              <p:nvPr/>
            </p:nvSpPr>
            <p:spPr>
              <a:xfrm>
                <a:off x="2463480" y="3436560"/>
                <a:ext cx="328320" cy="48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Arc 16"/>
            <p:cNvSpPr/>
            <p:nvPr/>
          </p:nvSpPr>
          <p:spPr>
            <a:xfrm flipV="1" rot="19896600">
              <a:off x="1869120" y="3688560"/>
              <a:ext cx="609480" cy="56196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856800" y="4953960"/>
              <a:ext cx="124776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V="1">
              <a:off x="1904040" y="4794120"/>
              <a:ext cx="0" cy="19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V="1">
              <a:off x="2565360" y="4794120"/>
              <a:ext cx="0" cy="234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482280" y="3728160"/>
              <a:ext cx="77184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455760" y="3728160"/>
              <a:ext cx="77184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3224160" y="398196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875880" y="398196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Oval 27"/>
          <p:cNvSpPr/>
          <p:nvPr/>
        </p:nvSpPr>
        <p:spPr>
          <a:xfrm>
            <a:off x="7499520" y="4554360"/>
            <a:ext cx="103644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6300720" y="1773360"/>
            <a:ext cx="1738440" cy="2638440"/>
          </a:xfrm>
          <a:prstGeom prst="rect">
            <a:avLst/>
          </a:prstGeom>
          <a:solidFill>
            <a:srgbClr val="b56b85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roup 29" descr=""/>
          <p:cNvPicPr/>
          <p:nvPr/>
        </p:nvPicPr>
        <p:blipFill>
          <a:blip r:embed="rId5"/>
          <a:stretch/>
        </p:blipFill>
        <p:spPr>
          <a:xfrm>
            <a:off x="6559560" y="2084400"/>
            <a:ext cx="390600" cy="774720"/>
          </a:xfrm>
          <a:prstGeom prst="rect">
            <a:avLst/>
          </a:prstGeom>
          <a:ln w="0">
            <a:noFill/>
          </a:ln>
        </p:spPr>
      </p:pic>
      <p:pic>
        <p:nvPicPr>
          <p:cNvPr id="107" name="Group 32" descr=""/>
          <p:cNvPicPr/>
          <p:nvPr/>
        </p:nvPicPr>
        <p:blipFill>
          <a:blip r:embed="rId6"/>
          <a:stretch/>
        </p:blipFill>
        <p:spPr>
          <a:xfrm>
            <a:off x="7388280" y="2097000"/>
            <a:ext cx="396720" cy="779400"/>
          </a:xfrm>
          <a:prstGeom prst="rect">
            <a:avLst/>
          </a:prstGeom>
          <a:ln w="0">
            <a:noFill/>
          </a:ln>
        </p:spPr>
      </p:pic>
      <p:sp>
        <p:nvSpPr>
          <p:cNvPr id="108" name="Arc 35"/>
          <p:cNvSpPr/>
          <p:nvPr/>
        </p:nvSpPr>
        <p:spPr>
          <a:xfrm flipV="1" rot="19896600">
            <a:off x="6899040" y="2859120"/>
            <a:ext cx="50616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6"/>
          <p:cNvSpPr/>
          <p:nvPr/>
        </p:nvSpPr>
        <p:spPr>
          <a:xfrm>
            <a:off x="6058080" y="4537080"/>
            <a:ext cx="103644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 flipV="1">
            <a:off x="6927840" y="440172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 flipV="1">
            <a:off x="7477200" y="440172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9"/>
          <p:cNvSpPr/>
          <p:nvPr/>
        </p:nvSpPr>
        <p:spPr>
          <a:xfrm rot="19422600">
            <a:off x="8128080" y="3315960"/>
            <a:ext cx="64116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8024760" y="3716280"/>
            <a:ext cx="24624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6073920" y="371628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43"/>
          <p:cNvSpPr/>
          <p:nvPr/>
        </p:nvSpPr>
        <p:spPr>
          <a:xfrm>
            <a:off x="6834240" y="345600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0"/>
          <p:cNvSpPr/>
          <p:nvPr/>
        </p:nvSpPr>
        <p:spPr>
          <a:xfrm rot="2211600">
            <a:off x="5439960" y="3365280"/>
            <a:ext cx="64152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5"/>
          <p:cNvSpPr/>
          <p:nvPr/>
        </p:nvSpPr>
        <p:spPr>
          <a:xfrm>
            <a:off x="3564000" y="4149720"/>
            <a:ext cx="2819160" cy="517680"/>
          </a:xfrm>
          <a:prstGeom prst="wedgeEllipseCallout">
            <a:avLst>
              <a:gd name="adj1" fmla="val 85305"/>
              <a:gd name="adj2" fmla="val -139569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6"/>
          <p:cNvSpPr/>
          <p:nvPr/>
        </p:nvSpPr>
        <p:spPr>
          <a:xfrm>
            <a:off x="3203640" y="5229360"/>
            <a:ext cx="5257800" cy="792000"/>
          </a:xfrm>
          <a:prstGeom prst="wedgeEllipseCallout">
            <a:avLst>
              <a:gd name="adj1" fmla="val -73157"/>
              <a:gd name="adj2" fmla="val -121944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</a:rPr>
              <a:t>А мы не родственники с тоб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1763640" y="4365720"/>
            <a:ext cx="74160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</a:rPr>
              <a:t>Сказка «Родственн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41"/>
          <p:cNvGrpSpPr/>
          <p:nvPr/>
        </p:nvGrpSpPr>
        <p:grpSpPr>
          <a:xfrm>
            <a:off x="1198440" y="4148280"/>
            <a:ext cx="4510440" cy="2461680"/>
            <a:chOff x="1198440" y="4148280"/>
            <a:chExt cx="4510440" cy="2461680"/>
          </a:xfrm>
        </p:grpSpPr>
        <p:sp>
          <p:nvSpPr>
            <p:cNvPr id="122" name="Oval 7"/>
            <p:cNvSpPr/>
            <p:nvPr/>
          </p:nvSpPr>
          <p:spPr>
            <a:xfrm>
              <a:off x="2490480" y="627480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1807920" y="4953960"/>
              <a:ext cx="1120320" cy="123552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1981080" y="5057280"/>
              <a:ext cx="244440" cy="579960"/>
              <a:chOff x="1981080" y="5057280"/>
              <a:chExt cx="244440" cy="57996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1981080" y="5057280"/>
                <a:ext cx="24444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2020320" y="530604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2477160" y="5057280"/>
              <a:ext cx="245520" cy="579960"/>
              <a:chOff x="2477160" y="5057280"/>
              <a:chExt cx="245520" cy="579960"/>
            </a:xfrm>
          </p:grpSpPr>
          <p:sp>
            <p:nvSpPr>
              <p:cNvPr id="128" name="Oval 13"/>
              <p:cNvSpPr/>
              <p:nvPr/>
            </p:nvSpPr>
            <p:spPr>
              <a:xfrm>
                <a:off x="2477160" y="5057280"/>
                <a:ext cx="24552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14"/>
              <p:cNvSpPr/>
              <p:nvPr/>
            </p:nvSpPr>
            <p:spPr>
              <a:xfrm>
                <a:off x="2516400" y="530604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rc 15"/>
            <p:cNvSpPr/>
            <p:nvPr/>
          </p:nvSpPr>
          <p:spPr>
            <a:xfrm flipV="1" rot="19896600">
              <a:off x="2197440" y="5466960"/>
              <a:ext cx="32652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1655640" y="6274800"/>
              <a:ext cx="66780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2216160" y="617292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2570400" y="6172560"/>
              <a:ext cx="0" cy="150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 rot="19422600">
              <a:off x="3045960" y="537624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 rot="2211600">
              <a:off x="1257480" y="538884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2923200" y="565380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1665720" y="565380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2106720" y="5767920"/>
              <a:ext cx="477720" cy="28944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4670280" y="6229440"/>
              <a:ext cx="667800" cy="3348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3987720" y="4148280"/>
              <a:ext cx="1120320" cy="199440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26"/>
            <p:cNvGrpSpPr/>
            <p:nvPr/>
          </p:nvGrpSpPr>
          <p:grpSpPr>
            <a:xfrm>
              <a:off x="4160880" y="4377600"/>
              <a:ext cx="244440" cy="579960"/>
              <a:chOff x="4160880" y="4377600"/>
              <a:chExt cx="244440" cy="579960"/>
            </a:xfrm>
          </p:grpSpPr>
          <p:sp>
            <p:nvSpPr>
              <p:cNvPr id="142" name="Oval 27"/>
              <p:cNvSpPr/>
              <p:nvPr/>
            </p:nvSpPr>
            <p:spPr>
              <a:xfrm>
                <a:off x="4160880" y="4377600"/>
                <a:ext cx="24444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8"/>
              <p:cNvSpPr/>
              <p:nvPr/>
            </p:nvSpPr>
            <p:spPr>
              <a:xfrm>
                <a:off x="4200120" y="462636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9"/>
            <p:cNvGrpSpPr/>
            <p:nvPr/>
          </p:nvGrpSpPr>
          <p:grpSpPr>
            <a:xfrm>
              <a:off x="4696920" y="4388400"/>
              <a:ext cx="245520" cy="579960"/>
              <a:chOff x="4696920" y="4388400"/>
              <a:chExt cx="245520" cy="579960"/>
            </a:xfrm>
          </p:grpSpPr>
          <p:sp>
            <p:nvSpPr>
              <p:cNvPr id="145" name="Oval 30"/>
              <p:cNvSpPr/>
              <p:nvPr/>
            </p:nvSpPr>
            <p:spPr>
              <a:xfrm>
                <a:off x="4696920" y="4388400"/>
                <a:ext cx="24552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31"/>
              <p:cNvSpPr/>
              <p:nvPr/>
            </p:nvSpPr>
            <p:spPr>
              <a:xfrm>
                <a:off x="4736160" y="463716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Arc 32"/>
            <p:cNvSpPr/>
            <p:nvPr/>
          </p:nvSpPr>
          <p:spPr>
            <a:xfrm flipV="1" rot="19896600">
              <a:off x="4377600" y="4960080"/>
              <a:ext cx="32616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35080" y="622944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V="1">
              <a:off x="4395960" y="612720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 flipV="1">
              <a:off x="4750200" y="6127200"/>
              <a:ext cx="0" cy="149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 rot="19422600">
              <a:off x="5237280" y="5295600"/>
              <a:ext cx="412200" cy="33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 rot="2211600">
              <a:off x="3448080" y="5355000"/>
              <a:ext cx="412200" cy="33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5103360" y="560844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3845520" y="560844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40"/>
            <p:cNvSpPr/>
            <p:nvPr/>
          </p:nvSpPr>
          <p:spPr>
            <a:xfrm>
              <a:off x="4335840" y="5411520"/>
              <a:ext cx="477720" cy="28908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60"/>
          <p:cNvSpPr/>
          <p:nvPr/>
        </p:nvSpPr>
        <p:spPr>
          <a:xfrm>
            <a:off x="971640" y="1557360"/>
            <a:ext cx="7488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али они искать, и нашли  у себя четыре признака сходства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1"/>
          <p:cNvSpPr/>
          <p:nvPr/>
        </p:nvSpPr>
        <p:spPr>
          <a:xfrm>
            <a:off x="361800" y="242100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.    4 уг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379800" y="2838600"/>
            <a:ext cx="40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.    Все углы прям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385200" y="325908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.    4 стор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361800" y="3618000"/>
            <a:ext cx="80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. Противоположные стороны фигур рав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4"/>
          <p:cNvSpPr/>
          <p:nvPr/>
        </p:nvSpPr>
        <p:spPr>
          <a:xfrm>
            <a:off x="324000" y="42084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Запомни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68360" y="1700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Квадра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это прямоугольни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которого все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Физкультмину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0000" y="1700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работали отлич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дохнуть не прочь сейчас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зарядка к нам привыч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рок приходит в клас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драт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лопаем в ладоши,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ям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кло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ног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риседа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22-03-16T12:36:37Z</dcterms:modified>
  <cp:revision>107</cp:revision>
  <dc:subject/>
  <dc:title>Слайд 1</dc:title>
</cp:coreProperties>
</file>