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56CA-F576-466A-B771-8248F3E52D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DB43-0082-458C-89DB-DBD4793782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EDF0-0025-4743-9C92-FE256111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1B6-6DA7-4222-A3C6-7D560FCB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8B9-A5E9-4AB3-B046-069A8B72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7E7-1AE7-472A-80FE-DA94E6B1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69C-364C-4C1D-A369-39E0537C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C88-D70A-476F-B858-E971F84D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E8A-00ED-43EF-A453-F0B63260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1CB-CB2C-417B-86D6-2E8DC747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8B2-8AF8-4850-801B-8F6170F7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4E0-8982-4BF8-84CA-D8779AF2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C6F-05EC-4DBD-8A4A-59D7720F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84E-01E2-4469-910B-3FDCB63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AEDB-2D26-4242-934E-FEDC7C4DAB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826920" y="730080"/>
            <a:ext cx="65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н давно знакомый м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Каждый угол в нем зн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се четыре сторон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динаковой длин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ам его представить ра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Как зовут его? …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411280" y="4516560"/>
            <a:ext cx="1944720" cy="187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179280" y="2205000"/>
            <a:ext cx="896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1.Любой квадрат – это прямоугольник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Любой прямоугольник – это квадра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3.Любой четырёхугольник – эт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</a:rPr>
              <a:t>многоугольни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6500880" y="2714760"/>
            <a:ext cx="1428840" cy="150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28760" y="3000240"/>
            <a:ext cx="2143080" cy="1414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 rot="20401800">
            <a:off x="3368520" y="3147840"/>
            <a:ext cx="224028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39960"/>
            <a:ext cx="71438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бери  квадра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060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214880" y="3769200"/>
            <a:ext cx="571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4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4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4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11"/>
          <p:cNvSpPr/>
          <p:nvPr/>
        </p:nvSpPr>
        <p:spPr>
          <a:xfrm>
            <a:off x="1645560" y="478620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7"/>
          <p:cNvSpPr/>
          <p:nvPr/>
        </p:nvSpPr>
        <p:spPr>
          <a:xfrm>
            <a:off x="6432120" y="4500720"/>
            <a:ext cx="46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 нельзя назвать данную фигуру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ямо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е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857840" y="2714760"/>
            <a:ext cx="1714320" cy="178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бери прямоугольник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торый разбит на три квадрат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500040" y="2857680"/>
            <a:ext cx="91440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1428840" y="2857680"/>
            <a:ext cx="91440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3357720" y="2286000"/>
            <a:ext cx="41436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14"/>
          <p:cNvSpPr/>
          <p:nvPr/>
        </p:nvSpPr>
        <p:spPr>
          <a:xfrm>
            <a:off x="3786120" y="2286000"/>
            <a:ext cx="91440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15"/>
          <p:cNvSpPr/>
          <p:nvPr/>
        </p:nvSpPr>
        <p:spPr>
          <a:xfrm>
            <a:off x="4643280" y="2286000"/>
            <a:ext cx="42876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16"/>
          <p:cNvSpPr/>
          <p:nvPr/>
        </p:nvSpPr>
        <p:spPr>
          <a:xfrm>
            <a:off x="5857920" y="3214800"/>
            <a:ext cx="78588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17"/>
          <p:cNvSpPr/>
          <p:nvPr/>
        </p:nvSpPr>
        <p:spPr>
          <a:xfrm>
            <a:off x="6643800" y="3214800"/>
            <a:ext cx="785880" cy="91440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18"/>
          <p:cNvSpPr/>
          <p:nvPr/>
        </p:nvSpPr>
        <p:spPr>
          <a:xfrm>
            <a:off x="7429680" y="3214800"/>
            <a:ext cx="785520" cy="928440"/>
          </a:xfrm>
          <a:prstGeom prst="rect">
            <a:avLst/>
          </a:prstGeom>
          <a:solidFill>
            <a:srgbClr val="3c8c9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32"/>
          <p:cNvSpPr/>
          <p:nvPr/>
        </p:nvSpPr>
        <p:spPr>
          <a:xfrm>
            <a:off x="1074240" y="4071960"/>
            <a:ext cx="49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33"/>
          <p:cNvSpPr/>
          <p:nvPr/>
        </p:nvSpPr>
        <p:spPr>
          <a:xfrm>
            <a:off x="4003560" y="36432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оугольник 34"/>
          <p:cNvSpPr/>
          <p:nvPr/>
        </p:nvSpPr>
        <p:spPr>
          <a:xfrm>
            <a:off x="6575040" y="4429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бери прямоугольник, у которого все стороны одинаковой длин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7120" y="4071600"/>
            <a:ext cx="1757520" cy="204300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7"/>
          <p:cNvSpPr/>
          <p:nvPr/>
        </p:nvSpPr>
        <p:spPr>
          <a:xfrm>
            <a:off x="5357880" y="2571840"/>
            <a:ext cx="3097080" cy="172872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Равнобедренный треугольник 9"/>
          <p:cNvSpPr/>
          <p:nvPr/>
        </p:nvSpPr>
        <p:spPr>
          <a:xfrm>
            <a:off x="2643120" y="2786040"/>
            <a:ext cx="2357640" cy="23576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Прямоугольник 5"/>
          <p:cNvSpPr/>
          <p:nvPr/>
        </p:nvSpPr>
        <p:spPr>
          <a:xfrm>
            <a:off x="857160" y="3143160"/>
            <a:ext cx="50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Прямоугольник 6"/>
          <p:cNvSpPr/>
          <p:nvPr/>
        </p:nvSpPr>
        <p:spPr>
          <a:xfrm>
            <a:off x="3575880" y="550080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Прямоугольник 8"/>
          <p:cNvSpPr/>
          <p:nvPr/>
        </p:nvSpPr>
        <p:spPr>
          <a:xfrm>
            <a:off x="6360840" y="4500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Как нельзя назвать данную фигуру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четырёх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ногоугольн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ятиугольник.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5429160" y="2500200"/>
            <a:ext cx="1643040" cy="1785960"/>
          </a:xfrm>
          <a:prstGeom prst="rect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755640" y="476280"/>
            <a:ext cx="66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Тема урока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«Квадрат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Цели и 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611280" y="2690640"/>
            <a:ext cx="624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знакомиться со свойствами квадр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Научиться чертить квадрат и  решать задачи на нахождение периметра квадра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Закрепить вычислительные навы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763640" y="5904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Times New Roman"/>
              </a:rPr>
              <a:t>Сказка «Родственник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468360" y="1914480"/>
            <a:ext cx="57592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-757080" y="0"/>
            <a:ext cx="10131120" cy="6854760"/>
          </a:xfrm>
          <a:prstGeom prst="rect">
            <a:avLst/>
          </a:prstGeom>
          <a:ln w="0">
            <a:noFill/>
          </a:ln>
        </p:spPr>
      </p:pic>
      <p:sp>
        <p:nvSpPr>
          <p:cNvPr id="55" name="Oval 9"/>
          <p:cNvSpPr/>
          <p:nvPr/>
        </p:nvSpPr>
        <p:spPr>
          <a:xfrm>
            <a:off x="5140440" y="5396040"/>
            <a:ext cx="1036440" cy="4428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253040" y="3627360"/>
            <a:ext cx="1738080" cy="16336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roup 11" descr=""/>
          <p:cNvPicPr/>
          <p:nvPr/>
        </p:nvPicPr>
        <p:blipFill>
          <a:blip r:embed="rId2"/>
          <a:stretch/>
        </p:blipFill>
        <p:spPr>
          <a:xfrm>
            <a:off x="4456080" y="3718080"/>
            <a:ext cx="397080" cy="780840"/>
          </a:xfrm>
          <a:prstGeom prst="rect">
            <a:avLst/>
          </a:prstGeom>
          <a:ln w="0">
            <a:noFill/>
          </a:ln>
        </p:spPr>
      </p:pic>
      <p:pic>
        <p:nvPicPr>
          <p:cNvPr id="58" name="Group 14" descr=""/>
          <p:cNvPicPr/>
          <p:nvPr/>
        </p:nvPicPr>
        <p:blipFill>
          <a:blip r:embed="rId3"/>
          <a:stretch/>
        </p:blipFill>
        <p:spPr>
          <a:xfrm>
            <a:off x="5327640" y="3743280"/>
            <a:ext cx="390600" cy="779400"/>
          </a:xfrm>
          <a:prstGeom prst="rect">
            <a:avLst/>
          </a:prstGeom>
          <a:ln w="0">
            <a:noFill/>
          </a:ln>
        </p:spPr>
      </p:pic>
      <p:sp>
        <p:nvSpPr>
          <p:cNvPr id="59" name="Arc 17"/>
          <p:cNvSpPr/>
          <p:nvPr/>
        </p:nvSpPr>
        <p:spPr>
          <a:xfrm flipV="1" rot="19896600">
            <a:off x="4819680" y="4202280"/>
            <a:ext cx="506520" cy="474480"/>
          </a:xfrm>
          <a:custGeom>
            <a:avLst/>
            <a:gdLst/>
            <a:ahLst/>
            <a:rect l="l" t="t" r="r" b="b"/>
            <a:pathLst>
              <a:path fill="none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20087" y="4314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3790800" y="5383080"/>
            <a:ext cx="1036800" cy="44316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9"/>
          <p:cNvSpPr/>
          <p:nvPr/>
        </p:nvSpPr>
        <p:spPr>
          <a:xfrm flipV="1">
            <a:off x="4653000" y="5260680"/>
            <a:ext cx="0" cy="1666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0"/>
          <p:cNvSpPr/>
          <p:nvPr/>
        </p:nvSpPr>
        <p:spPr>
          <a:xfrm flipV="1">
            <a:off x="5364000" y="5260680"/>
            <a:ext cx="0" cy="198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1"/>
          <p:cNvSpPr/>
          <p:nvPr/>
        </p:nvSpPr>
        <p:spPr>
          <a:xfrm rot="19422600">
            <a:off x="6183360" y="4306680"/>
            <a:ext cx="641160" cy="4428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5991120" y="4710240"/>
            <a:ext cx="246240" cy="14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4008600" y="4710240"/>
            <a:ext cx="244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25"/>
          <p:cNvSpPr/>
          <p:nvPr/>
        </p:nvSpPr>
        <p:spPr>
          <a:xfrm>
            <a:off x="4653000" y="4711680"/>
            <a:ext cx="806400" cy="317520"/>
          </a:xfrm>
          <a:custGeom>
            <a:avLst/>
            <a:gdLst/>
            <a:ahLst/>
            <a:rect l="l" t="t" r="r" b="b"/>
            <a:pathLst>
              <a:path w="508" h="200">
                <a:moveTo>
                  <a:pt x="6" y="174"/>
                </a:moveTo>
                <a:cubicBezTo>
                  <a:pt x="0" y="147"/>
                  <a:pt x="153" y="0"/>
                  <a:pt x="236" y="1"/>
                </a:cubicBezTo>
                <a:cubicBezTo>
                  <a:pt x="319" y="9"/>
                  <a:pt x="508" y="166"/>
                  <a:pt x="505" y="183"/>
                </a:cubicBezTo>
                <a:cubicBezTo>
                  <a:pt x="502" y="200"/>
                  <a:pt x="300" y="107"/>
                  <a:pt x="217" y="106"/>
                </a:cubicBezTo>
                <a:cubicBezTo>
                  <a:pt x="134" y="105"/>
                  <a:pt x="50" y="160"/>
                  <a:pt x="6" y="174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2"/>
          <p:cNvSpPr/>
          <p:nvPr/>
        </p:nvSpPr>
        <p:spPr>
          <a:xfrm rot="2211600">
            <a:off x="3417480" y="4300200"/>
            <a:ext cx="641520" cy="442800"/>
          </a:xfrm>
          <a:prstGeom prst="ellipse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4530600" y="3971880"/>
            <a:ext cx="257400" cy="493920"/>
            <a:chOff x="4530600" y="3971880"/>
            <a:chExt cx="257400" cy="493920"/>
          </a:xfrm>
        </p:grpSpPr>
        <p:sp>
          <p:nvSpPr>
            <p:cNvPr id="69" name="Oval 12"/>
            <p:cNvSpPr/>
            <p:nvPr/>
          </p:nvSpPr>
          <p:spPr>
            <a:xfrm>
              <a:off x="4530600" y="3971880"/>
              <a:ext cx="257400" cy="493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3"/>
            <p:cNvSpPr/>
            <p:nvPr/>
          </p:nvSpPr>
          <p:spPr>
            <a:xfrm>
              <a:off x="4572000" y="4182840"/>
              <a:ext cx="184320" cy="265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1"/>
          <p:cNvGrpSpPr/>
          <p:nvPr/>
        </p:nvGrpSpPr>
        <p:grpSpPr>
          <a:xfrm>
            <a:off x="5396040" y="4000680"/>
            <a:ext cx="257040" cy="493560"/>
            <a:chOff x="5396040" y="4000680"/>
            <a:chExt cx="257040" cy="493560"/>
          </a:xfrm>
        </p:grpSpPr>
        <p:sp>
          <p:nvSpPr>
            <p:cNvPr id="72" name="Oval 12"/>
            <p:cNvSpPr/>
            <p:nvPr/>
          </p:nvSpPr>
          <p:spPr>
            <a:xfrm>
              <a:off x="5396040" y="4000680"/>
              <a:ext cx="257040" cy="493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3"/>
            <p:cNvSpPr/>
            <p:nvPr/>
          </p:nvSpPr>
          <p:spPr>
            <a:xfrm>
              <a:off x="5437080" y="4211280"/>
              <a:ext cx="183960" cy="265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8"/>
          <p:cNvSpPr/>
          <p:nvPr/>
        </p:nvSpPr>
        <p:spPr>
          <a:xfrm>
            <a:off x="3492360" y="1557360"/>
            <a:ext cx="1738440" cy="2638440"/>
          </a:xfrm>
          <a:prstGeom prst="rect">
            <a:avLst/>
          </a:prstGeom>
          <a:solidFill>
            <a:srgbClr val="b56b85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0"/>
          <p:cNvSpPr/>
          <p:nvPr/>
        </p:nvSpPr>
        <p:spPr>
          <a:xfrm rot="2211600">
            <a:off x="2623680" y="2628720"/>
            <a:ext cx="641520" cy="4428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9"/>
          <p:cNvSpPr/>
          <p:nvPr/>
        </p:nvSpPr>
        <p:spPr>
          <a:xfrm rot="19138800">
            <a:off x="5430960" y="2653920"/>
            <a:ext cx="641160" cy="4428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2944800" y="4379760"/>
            <a:ext cx="1036800" cy="44316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6"/>
          <p:cNvSpPr/>
          <p:nvPr/>
        </p:nvSpPr>
        <p:spPr>
          <a:xfrm>
            <a:off x="4699080" y="4379760"/>
            <a:ext cx="1036440" cy="44316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43"/>
          <p:cNvSpPr/>
          <p:nvPr/>
        </p:nvSpPr>
        <p:spPr>
          <a:xfrm>
            <a:off x="3990960" y="3090960"/>
            <a:ext cx="741240" cy="38232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roup 29" descr=""/>
          <p:cNvPicPr/>
          <p:nvPr/>
        </p:nvPicPr>
        <p:blipFill>
          <a:blip r:embed="rId1"/>
          <a:stretch/>
        </p:blipFill>
        <p:spPr>
          <a:xfrm>
            <a:off x="4535640" y="2176560"/>
            <a:ext cx="390240" cy="779400"/>
          </a:xfrm>
          <a:prstGeom prst="rect">
            <a:avLst/>
          </a:prstGeom>
          <a:ln w="0">
            <a:noFill/>
          </a:ln>
        </p:spPr>
      </p:pic>
      <p:pic>
        <p:nvPicPr>
          <p:cNvPr id="81" name="Group 29" descr=""/>
          <p:cNvPicPr/>
          <p:nvPr/>
        </p:nvPicPr>
        <p:blipFill>
          <a:blip r:embed="rId2"/>
          <a:stretch/>
        </p:blipFill>
        <p:spPr>
          <a:xfrm>
            <a:off x="3797280" y="2206800"/>
            <a:ext cx="3906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4" descr="BD15034_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5" descr="BD15034_"/>
          <p:cNvPicPr/>
          <p:nvPr/>
        </p:nvPicPr>
        <p:blipFill>
          <a:blip r:embed="rId2"/>
          <a:stretch/>
        </p:blipFill>
        <p:spPr>
          <a:xfrm>
            <a:off x="0" y="6597720"/>
            <a:ext cx="9144000" cy="152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6" descr="BD15034_"/>
          <p:cNvPicPr/>
          <p:nvPr/>
        </p:nvPicPr>
        <p:blipFill>
          <a:blip r:embed="rId3"/>
          <a:stretch/>
        </p:blipFill>
        <p:spPr>
          <a:xfrm>
            <a:off x="8820000" y="-674640"/>
            <a:ext cx="152640" cy="914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7" descr="BD15034_"/>
          <p:cNvPicPr/>
          <p:nvPr/>
        </p:nvPicPr>
        <p:blipFill>
          <a:blip r:embed="rId4"/>
          <a:stretch/>
        </p:blipFill>
        <p:spPr>
          <a:xfrm>
            <a:off x="179280" y="-747720"/>
            <a:ext cx="152640" cy="9144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Arial"/>
                <a:ea typeface="Arial"/>
              </a:rPr>
              <a:t>Сказка «Родственни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7"/>
          <p:cNvGrpSpPr/>
          <p:nvPr/>
        </p:nvGrpSpPr>
        <p:grpSpPr>
          <a:xfrm>
            <a:off x="455760" y="2886120"/>
            <a:ext cx="3798360" cy="2592000"/>
            <a:chOff x="455760" y="2886120"/>
            <a:chExt cx="3798360" cy="2592000"/>
          </a:xfrm>
        </p:grpSpPr>
        <p:sp>
          <p:nvSpPr>
            <p:cNvPr id="88" name="Oval 18"/>
            <p:cNvSpPr/>
            <p:nvPr/>
          </p:nvSpPr>
          <p:spPr>
            <a:xfrm>
              <a:off x="2416320" y="4953960"/>
              <a:ext cx="1247400" cy="524160"/>
            </a:xfrm>
            <a:prstGeom prst="ellipse">
              <a:avLst/>
            </a:prstGeom>
            <a:solidFill>
              <a:srgbClr val="ff505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1141560" y="2886120"/>
              <a:ext cx="2092320" cy="19342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12"/>
            <p:cNvGrpSpPr/>
            <p:nvPr/>
          </p:nvGrpSpPr>
          <p:grpSpPr>
            <a:xfrm>
              <a:off x="1464840" y="3047400"/>
              <a:ext cx="456120" cy="907920"/>
              <a:chOff x="1464840" y="3047400"/>
              <a:chExt cx="456120" cy="907920"/>
            </a:xfrm>
          </p:grpSpPr>
          <p:sp>
            <p:nvSpPr>
              <p:cNvPr id="91" name="Oval 10"/>
              <p:cNvSpPr/>
              <p:nvPr/>
            </p:nvSpPr>
            <p:spPr>
              <a:xfrm>
                <a:off x="1464840" y="3047400"/>
                <a:ext cx="456120" cy="90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11"/>
              <p:cNvSpPr/>
              <p:nvPr/>
            </p:nvSpPr>
            <p:spPr>
              <a:xfrm>
                <a:off x="1595520" y="3436560"/>
                <a:ext cx="325080" cy="48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3"/>
            <p:cNvGrpSpPr/>
            <p:nvPr/>
          </p:nvGrpSpPr>
          <p:grpSpPr>
            <a:xfrm>
              <a:off x="2391120" y="3047400"/>
              <a:ext cx="458640" cy="907920"/>
              <a:chOff x="2391120" y="3047400"/>
              <a:chExt cx="458640" cy="907920"/>
            </a:xfrm>
          </p:grpSpPr>
          <p:sp>
            <p:nvSpPr>
              <p:cNvPr id="94" name="Oval 14"/>
              <p:cNvSpPr/>
              <p:nvPr/>
            </p:nvSpPr>
            <p:spPr>
              <a:xfrm>
                <a:off x="2391120" y="3047400"/>
                <a:ext cx="458640" cy="90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15"/>
              <p:cNvSpPr/>
              <p:nvPr/>
            </p:nvSpPr>
            <p:spPr>
              <a:xfrm>
                <a:off x="2463480" y="3436560"/>
                <a:ext cx="328320" cy="483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Arc 16"/>
            <p:cNvSpPr/>
            <p:nvPr/>
          </p:nvSpPr>
          <p:spPr>
            <a:xfrm flipV="1" rot="19896600">
              <a:off x="1869120" y="3688560"/>
              <a:ext cx="609480" cy="56196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856800" y="4953960"/>
              <a:ext cx="1247760" cy="524160"/>
            </a:xfrm>
            <a:prstGeom prst="ellipse">
              <a:avLst/>
            </a:prstGeom>
            <a:solidFill>
              <a:srgbClr val="ff505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V="1">
              <a:off x="1904040" y="4794120"/>
              <a:ext cx="0" cy="197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V="1">
              <a:off x="2565360" y="4794120"/>
              <a:ext cx="0" cy="234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482280" y="3728160"/>
              <a:ext cx="771840" cy="524160"/>
            </a:xfrm>
            <a:prstGeom prst="ellipse">
              <a:avLst/>
            </a:prstGeom>
            <a:solidFill>
              <a:srgbClr val="ff505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455760" y="3728160"/>
              <a:ext cx="771840" cy="524160"/>
            </a:xfrm>
            <a:prstGeom prst="ellipse">
              <a:avLst/>
            </a:prstGeom>
            <a:solidFill>
              <a:srgbClr val="ff505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>
              <a:off x="3224160" y="3981960"/>
              <a:ext cx="294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>
              <a:off x="875880" y="3981960"/>
              <a:ext cx="2941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Oval 27"/>
          <p:cNvSpPr/>
          <p:nvPr/>
        </p:nvSpPr>
        <p:spPr>
          <a:xfrm>
            <a:off x="7499520" y="4554360"/>
            <a:ext cx="1036440" cy="44316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6300720" y="1773360"/>
            <a:ext cx="1738440" cy="2638440"/>
          </a:xfrm>
          <a:prstGeom prst="rect">
            <a:avLst/>
          </a:prstGeom>
          <a:solidFill>
            <a:srgbClr val="b56b85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roup 29" descr=""/>
          <p:cNvPicPr/>
          <p:nvPr/>
        </p:nvPicPr>
        <p:blipFill>
          <a:blip r:embed="rId5"/>
          <a:stretch/>
        </p:blipFill>
        <p:spPr>
          <a:xfrm>
            <a:off x="6559560" y="2084400"/>
            <a:ext cx="390600" cy="774720"/>
          </a:xfrm>
          <a:prstGeom prst="rect">
            <a:avLst/>
          </a:prstGeom>
          <a:ln w="0">
            <a:noFill/>
          </a:ln>
        </p:spPr>
      </p:pic>
      <p:pic>
        <p:nvPicPr>
          <p:cNvPr id="107" name="Group 32" descr=""/>
          <p:cNvPicPr/>
          <p:nvPr/>
        </p:nvPicPr>
        <p:blipFill>
          <a:blip r:embed="rId6"/>
          <a:stretch/>
        </p:blipFill>
        <p:spPr>
          <a:xfrm>
            <a:off x="7388280" y="2097000"/>
            <a:ext cx="396720" cy="779400"/>
          </a:xfrm>
          <a:prstGeom prst="rect">
            <a:avLst/>
          </a:prstGeom>
          <a:ln w="0">
            <a:noFill/>
          </a:ln>
        </p:spPr>
      </p:pic>
      <p:sp>
        <p:nvSpPr>
          <p:cNvPr id="108" name="Arc 35"/>
          <p:cNvSpPr/>
          <p:nvPr/>
        </p:nvSpPr>
        <p:spPr>
          <a:xfrm flipV="1" rot="19896600">
            <a:off x="6899040" y="2859120"/>
            <a:ext cx="506160" cy="474480"/>
          </a:xfrm>
          <a:custGeom>
            <a:avLst/>
            <a:gdLst/>
            <a:ahLst/>
            <a:rect l="l" t="t" r="r" b="b"/>
            <a:pathLst>
              <a:path fill="none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43147">
                <a:moveTo>
                  <a:pt x="20087" y="43146"/>
                </a:moveTo>
                <a:cubicBezTo>
                  <a:pt x="8772" y="42352"/>
                  <a:pt x="0" y="3294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20087" y="4314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6"/>
          <p:cNvSpPr/>
          <p:nvPr/>
        </p:nvSpPr>
        <p:spPr>
          <a:xfrm>
            <a:off x="6058080" y="4537080"/>
            <a:ext cx="1036440" cy="4428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7"/>
          <p:cNvSpPr/>
          <p:nvPr/>
        </p:nvSpPr>
        <p:spPr>
          <a:xfrm flipV="1">
            <a:off x="6927840" y="4401720"/>
            <a:ext cx="0" cy="1666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8"/>
          <p:cNvSpPr/>
          <p:nvPr/>
        </p:nvSpPr>
        <p:spPr>
          <a:xfrm flipV="1">
            <a:off x="7477200" y="4401720"/>
            <a:ext cx="0" cy="198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39"/>
          <p:cNvSpPr/>
          <p:nvPr/>
        </p:nvSpPr>
        <p:spPr>
          <a:xfrm rot="19422600">
            <a:off x="8128080" y="3315960"/>
            <a:ext cx="641160" cy="4428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1"/>
          <p:cNvSpPr/>
          <p:nvPr/>
        </p:nvSpPr>
        <p:spPr>
          <a:xfrm>
            <a:off x="8024760" y="3716280"/>
            <a:ext cx="246240" cy="1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2"/>
          <p:cNvSpPr/>
          <p:nvPr/>
        </p:nvSpPr>
        <p:spPr>
          <a:xfrm>
            <a:off x="6073920" y="3716280"/>
            <a:ext cx="2444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43"/>
          <p:cNvSpPr/>
          <p:nvPr/>
        </p:nvSpPr>
        <p:spPr>
          <a:xfrm>
            <a:off x="6834240" y="3456000"/>
            <a:ext cx="741240" cy="38268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40"/>
          <p:cNvSpPr/>
          <p:nvPr/>
        </p:nvSpPr>
        <p:spPr>
          <a:xfrm rot="2211600">
            <a:off x="5439960" y="3365280"/>
            <a:ext cx="641520" cy="44280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5"/>
          <p:cNvSpPr/>
          <p:nvPr/>
        </p:nvSpPr>
        <p:spPr>
          <a:xfrm>
            <a:off x="3564000" y="4149720"/>
            <a:ext cx="2819160" cy="517680"/>
          </a:xfrm>
          <a:prstGeom prst="wedgeEllipseCallout">
            <a:avLst>
              <a:gd name="adj1" fmla="val 85305"/>
              <a:gd name="adj2" fmla="val -139569"/>
            </a:avLst>
          </a:prstGeom>
          <a:gradFill rotWithShape="0">
            <a:gsLst>
              <a:gs pos="0">
                <a:srgbClr val="fffff5">
                  <a:alpha val="70196"/>
                </a:srgbClr>
              </a:gs>
              <a:gs pos="100000">
                <a:srgbClr val="ffff00">
                  <a:alpha val="70196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Times New Roman"/>
              </a:rPr>
              <a:t>Прямоуголь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6"/>
          <p:cNvSpPr/>
          <p:nvPr/>
        </p:nvSpPr>
        <p:spPr>
          <a:xfrm>
            <a:off x="3203640" y="5229360"/>
            <a:ext cx="5257800" cy="792000"/>
          </a:xfrm>
          <a:prstGeom prst="wedgeEllipseCallout">
            <a:avLst>
              <a:gd name="adj1" fmla="val -73157"/>
              <a:gd name="adj2" fmla="val -121944"/>
            </a:avLst>
          </a:prstGeom>
          <a:gradFill rotWithShape="0">
            <a:gsLst>
              <a:gs pos="0">
                <a:srgbClr val="fffff5">
                  <a:alpha val="70196"/>
                </a:srgbClr>
              </a:gs>
              <a:gs pos="100000">
                <a:srgbClr val="ffff00">
                  <a:alpha val="70196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Times New Roman"/>
              </a:rPr>
              <a:t>А мы не родственники с тобо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26"/>
          <p:cNvSpPr/>
          <p:nvPr/>
        </p:nvSpPr>
        <p:spPr>
          <a:xfrm>
            <a:off x="1763640" y="4365720"/>
            <a:ext cx="741600" cy="382320"/>
          </a:xfrm>
          <a:custGeom>
            <a:avLst/>
            <a:gdLst/>
            <a:ahLst/>
            <a:rect l="l" t="t" r="r" b="b"/>
            <a:pathLst>
              <a:path w="896" h="714">
                <a:moveTo>
                  <a:pt x="11" y="125"/>
                </a:moveTo>
                <a:cubicBezTo>
                  <a:pt x="0" y="67"/>
                  <a:pt x="240" y="366"/>
                  <a:pt x="386" y="355"/>
                </a:cubicBezTo>
                <a:cubicBezTo>
                  <a:pt x="532" y="344"/>
                  <a:pt x="874" y="0"/>
                  <a:pt x="885" y="58"/>
                </a:cubicBezTo>
                <a:cubicBezTo>
                  <a:pt x="896" y="116"/>
                  <a:pt x="599" y="688"/>
                  <a:pt x="453" y="701"/>
                </a:cubicBezTo>
                <a:cubicBezTo>
                  <a:pt x="307" y="714"/>
                  <a:pt x="22" y="183"/>
                  <a:pt x="11" y="125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50000">
                <a:srgbClr val="ffff66">
                  <a:alpha val="50196"/>
                </a:srgbClr>
              </a:gs>
              <a:gs pos="100000">
                <a:srgbClr val="0000ff">
                  <a:alpha val="50196"/>
                </a:srgbClr>
              </a:gs>
            </a:gsLst>
            <a:lin ang="2700000"/>
          </a:gradFill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Times New Roman"/>
              </a:rPr>
              <a:t>Сказка «Родственни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41"/>
          <p:cNvGrpSpPr/>
          <p:nvPr/>
        </p:nvGrpSpPr>
        <p:grpSpPr>
          <a:xfrm>
            <a:off x="1198440" y="4148280"/>
            <a:ext cx="4510440" cy="2461680"/>
            <a:chOff x="1198440" y="4148280"/>
            <a:chExt cx="4510440" cy="2461680"/>
          </a:xfrm>
        </p:grpSpPr>
        <p:sp>
          <p:nvSpPr>
            <p:cNvPr id="122" name="Oval 7"/>
            <p:cNvSpPr/>
            <p:nvPr/>
          </p:nvSpPr>
          <p:spPr>
            <a:xfrm>
              <a:off x="2490480" y="6274800"/>
              <a:ext cx="668160" cy="335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>
              <a:off x="1807920" y="4953960"/>
              <a:ext cx="1120320" cy="1235520"/>
            </a:xfrm>
            <a:prstGeom prst="rect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9"/>
            <p:cNvGrpSpPr/>
            <p:nvPr/>
          </p:nvGrpSpPr>
          <p:grpSpPr>
            <a:xfrm>
              <a:off x="1981080" y="5057280"/>
              <a:ext cx="244440" cy="579960"/>
              <a:chOff x="1981080" y="5057280"/>
              <a:chExt cx="244440" cy="57996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1981080" y="5057280"/>
                <a:ext cx="244440" cy="57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11"/>
              <p:cNvSpPr/>
              <p:nvPr/>
            </p:nvSpPr>
            <p:spPr>
              <a:xfrm>
                <a:off x="2020320" y="5306040"/>
                <a:ext cx="17424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12"/>
            <p:cNvGrpSpPr/>
            <p:nvPr/>
          </p:nvGrpSpPr>
          <p:grpSpPr>
            <a:xfrm>
              <a:off x="2477160" y="5057280"/>
              <a:ext cx="245520" cy="579960"/>
              <a:chOff x="2477160" y="5057280"/>
              <a:chExt cx="245520" cy="579960"/>
            </a:xfrm>
          </p:grpSpPr>
          <p:sp>
            <p:nvSpPr>
              <p:cNvPr id="128" name="Oval 13"/>
              <p:cNvSpPr/>
              <p:nvPr/>
            </p:nvSpPr>
            <p:spPr>
              <a:xfrm>
                <a:off x="2477160" y="5057280"/>
                <a:ext cx="245520" cy="57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14"/>
              <p:cNvSpPr/>
              <p:nvPr/>
            </p:nvSpPr>
            <p:spPr>
              <a:xfrm>
                <a:off x="2516400" y="5306040"/>
                <a:ext cx="17496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Arc 15"/>
            <p:cNvSpPr/>
            <p:nvPr/>
          </p:nvSpPr>
          <p:spPr>
            <a:xfrm flipV="1" rot="19896600">
              <a:off x="2197440" y="5466960"/>
              <a:ext cx="326520" cy="35892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1655640" y="6274800"/>
              <a:ext cx="667800" cy="33516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7"/>
            <p:cNvSpPr/>
            <p:nvPr/>
          </p:nvSpPr>
          <p:spPr>
            <a:xfrm flipV="1">
              <a:off x="2216160" y="6172920"/>
              <a:ext cx="0" cy="126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8"/>
            <p:cNvSpPr/>
            <p:nvPr/>
          </p:nvSpPr>
          <p:spPr>
            <a:xfrm flipV="1">
              <a:off x="2570400" y="6172560"/>
              <a:ext cx="0" cy="150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 rot="19422600">
              <a:off x="3045960" y="5376240"/>
              <a:ext cx="413280" cy="3348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4878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 rot="2211600">
              <a:off x="1257480" y="5388840"/>
              <a:ext cx="413280" cy="334800"/>
            </a:xfrm>
            <a:prstGeom prst="ellipse">
              <a:avLst/>
            </a:prstGeom>
            <a:gradFill rotWithShape="0">
              <a:gsLst>
                <a:gs pos="0">
                  <a:srgbClr val="0000ff">
                    <a:alpha val="70196"/>
                  </a:srgbClr>
                </a:gs>
                <a:gs pos="50000">
                  <a:srgbClr val="ff33cc">
                    <a:alpha val="70196"/>
                  </a:srgbClr>
                </a:gs>
                <a:gs pos="100000">
                  <a:srgbClr val="0000ff">
                    <a:alpha val="70196"/>
                  </a:srgbClr>
                </a:gs>
              </a:gsLst>
              <a:lin ang="486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1"/>
            <p:cNvSpPr/>
            <p:nvPr/>
          </p:nvSpPr>
          <p:spPr>
            <a:xfrm>
              <a:off x="2923200" y="5653800"/>
              <a:ext cx="158400" cy="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2"/>
            <p:cNvSpPr/>
            <p:nvPr/>
          </p:nvSpPr>
          <p:spPr>
            <a:xfrm>
              <a:off x="1665720" y="5653800"/>
              <a:ext cx="1573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2106720" y="5767920"/>
              <a:ext cx="477720" cy="289440"/>
            </a:xfrm>
            <a:custGeom>
              <a:avLst/>
              <a:gdLst/>
              <a:ahLst/>
              <a:rect l="l" t="t" r="r" b="b"/>
              <a:pathLst>
                <a:path w="896" h="714">
                  <a:moveTo>
                    <a:pt x="11" y="125"/>
                  </a:moveTo>
                  <a:cubicBezTo>
                    <a:pt x="0" y="67"/>
                    <a:pt x="240" y="366"/>
                    <a:pt x="386" y="355"/>
                  </a:cubicBezTo>
                  <a:cubicBezTo>
                    <a:pt x="532" y="344"/>
                    <a:pt x="874" y="0"/>
                    <a:pt x="885" y="58"/>
                  </a:cubicBezTo>
                  <a:cubicBezTo>
                    <a:pt x="896" y="116"/>
                    <a:pt x="599" y="688"/>
                    <a:pt x="453" y="701"/>
                  </a:cubicBezTo>
                  <a:cubicBezTo>
                    <a:pt x="307" y="714"/>
                    <a:pt x="22" y="183"/>
                    <a:pt x="11" y="125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4670280" y="6229440"/>
              <a:ext cx="667800" cy="33480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25"/>
            <p:cNvSpPr/>
            <p:nvPr/>
          </p:nvSpPr>
          <p:spPr>
            <a:xfrm>
              <a:off x="3987720" y="4148280"/>
              <a:ext cx="1120320" cy="1994400"/>
            </a:xfrm>
            <a:prstGeom prst="rect">
              <a:avLst/>
            </a:prstGeom>
            <a:gradFill rotWithShape="0">
              <a:gsLst>
                <a:gs pos="0">
                  <a:srgbClr val="99cc00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26"/>
            <p:cNvGrpSpPr/>
            <p:nvPr/>
          </p:nvGrpSpPr>
          <p:grpSpPr>
            <a:xfrm>
              <a:off x="4160880" y="4377600"/>
              <a:ext cx="244440" cy="579960"/>
              <a:chOff x="4160880" y="4377600"/>
              <a:chExt cx="244440" cy="579960"/>
            </a:xfrm>
          </p:grpSpPr>
          <p:sp>
            <p:nvSpPr>
              <p:cNvPr id="142" name="Oval 27"/>
              <p:cNvSpPr/>
              <p:nvPr/>
            </p:nvSpPr>
            <p:spPr>
              <a:xfrm>
                <a:off x="4160880" y="4377600"/>
                <a:ext cx="244440" cy="57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28"/>
              <p:cNvSpPr/>
              <p:nvPr/>
            </p:nvSpPr>
            <p:spPr>
              <a:xfrm>
                <a:off x="4200120" y="4626360"/>
                <a:ext cx="17424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29"/>
            <p:cNvGrpSpPr/>
            <p:nvPr/>
          </p:nvGrpSpPr>
          <p:grpSpPr>
            <a:xfrm>
              <a:off x="4696920" y="4388400"/>
              <a:ext cx="245520" cy="579960"/>
              <a:chOff x="4696920" y="4388400"/>
              <a:chExt cx="245520" cy="579960"/>
            </a:xfrm>
          </p:grpSpPr>
          <p:sp>
            <p:nvSpPr>
              <p:cNvPr id="145" name="Oval 30"/>
              <p:cNvSpPr/>
              <p:nvPr/>
            </p:nvSpPr>
            <p:spPr>
              <a:xfrm>
                <a:off x="4696920" y="4388400"/>
                <a:ext cx="245520" cy="57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31"/>
              <p:cNvSpPr/>
              <p:nvPr/>
            </p:nvSpPr>
            <p:spPr>
              <a:xfrm>
                <a:off x="4736160" y="4637160"/>
                <a:ext cx="174960" cy="30888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Arc 32"/>
            <p:cNvSpPr/>
            <p:nvPr/>
          </p:nvSpPr>
          <p:spPr>
            <a:xfrm flipV="1" rot="19896600">
              <a:off x="4377600" y="4960080"/>
              <a:ext cx="326160" cy="358920"/>
            </a:xfrm>
            <a:custGeom>
              <a:avLst/>
              <a:gdLst/>
              <a:ahLst/>
              <a:rect l="l" t="t" r="r" b="b"/>
              <a:pathLst>
                <a:path fill="none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43147">
                  <a:moveTo>
                    <a:pt x="20087" y="43146"/>
                  </a:moveTo>
                  <a:cubicBezTo>
                    <a:pt x="8772" y="42352"/>
                    <a:pt x="0" y="32942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lnTo>
                    <a:pt x="20087" y="431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3835080" y="6229440"/>
              <a:ext cx="668160" cy="33480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2700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V="1">
              <a:off x="4395960" y="6127200"/>
              <a:ext cx="0" cy="126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 flipV="1">
              <a:off x="4750200" y="6127200"/>
              <a:ext cx="0" cy="149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 rot="19422600">
              <a:off x="5237280" y="5295600"/>
              <a:ext cx="412200" cy="3351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4878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 rot="2211600">
              <a:off x="3448080" y="5355000"/>
              <a:ext cx="412200" cy="3351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70196"/>
                  </a:srgbClr>
                </a:gs>
                <a:gs pos="50000">
                  <a:srgbClr val="ff3300">
                    <a:alpha val="70196"/>
                  </a:srgbClr>
                </a:gs>
                <a:gs pos="100000">
                  <a:srgbClr val="99cc00">
                    <a:alpha val="70196"/>
                  </a:srgbClr>
                </a:gs>
              </a:gsLst>
              <a:lin ang="486000"/>
            </a:gra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5103360" y="5608440"/>
              <a:ext cx="158400" cy="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3845520" y="5608440"/>
              <a:ext cx="1573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40"/>
            <p:cNvSpPr/>
            <p:nvPr/>
          </p:nvSpPr>
          <p:spPr>
            <a:xfrm>
              <a:off x="4335840" y="5411520"/>
              <a:ext cx="477720" cy="289080"/>
            </a:xfrm>
            <a:custGeom>
              <a:avLst/>
              <a:gdLst/>
              <a:ahLst/>
              <a:rect l="l" t="t" r="r" b="b"/>
              <a:pathLst>
                <a:path w="896" h="714">
                  <a:moveTo>
                    <a:pt x="11" y="125"/>
                  </a:moveTo>
                  <a:cubicBezTo>
                    <a:pt x="0" y="67"/>
                    <a:pt x="240" y="366"/>
                    <a:pt x="386" y="355"/>
                  </a:cubicBezTo>
                  <a:cubicBezTo>
                    <a:pt x="532" y="344"/>
                    <a:pt x="874" y="0"/>
                    <a:pt x="885" y="58"/>
                  </a:cubicBezTo>
                  <a:cubicBezTo>
                    <a:pt x="896" y="116"/>
                    <a:pt x="599" y="688"/>
                    <a:pt x="453" y="701"/>
                  </a:cubicBezTo>
                  <a:cubicBezTo>
                    <a:pt x="307" y="714"/>
                    <a:pt x="22" y="183"/>
                    <a:pt x="11" y="125"/>
                  </a:cubicBez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Rectangle 60"/>
          <p:cNvSpPr/>
          <p:nvPr/>
        </p:nvSpPr>
        <p:spPr>
          <a:xfrm>
            <a:off x="971640" y="1557360"/>
            <a:ext cx="748800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али они искать, и нашли  у себя четыре признака сходства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1"/>
          <p:cNvSpPr/>
          <p:nvPr/>
        </p:nvSpPr>
        <p:spPr>
          <a:xfrm>
            <a:off x="361800" y="2421000"/>
            <a:ext cx="24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1.    4 уг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379800" y="2838600"/>
            <a:ext cx="404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2.    Все углы прям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385200" y="3259080"/>
            <a:ext cx="29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3.    4 сторо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361800" y="3618000"/>
            <a:ext cx="808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4. Противоположные стороны фигур рав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4"/>
          <p:cNvSpPr/>
          <p:nvPr/>
        </p:nvSpPr>
        <p:spPr>
          <a:xfrm>
            <a:off x="324000" y="42084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Запомни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68360" y="170028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Квадрат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 это прямоугольник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которого все стор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900000" y="54936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Физкультминут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0000" y="1700280"/>
            <a:ext cx="748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ы работали отличн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дохнуть не прочь сейчас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зарядка к нам привыч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урок приходит в клас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вадрат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лопаем в ладоши, </a:t>
            </a:r>
            <a:r>
              <a:rPr b="1" i="1" lang="ru-RU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рямоуголь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клон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ногоуголь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приседа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1</cp:lastModifiedBy>
  <dcterms:modified xsi:type="dcterms:W3CDTF">2022-03-16T12:36:37Z</dcterms:modified>
  <cp:revision>107</cp:revision>
  <dc:subject/>
  <dc:title>Слайд 1</dc:title>
</cp:coreProperties>
</file>