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9B98-D9EF-4057-B4BA-C96CF0BF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EF5D-5B24-417B-9EEC-9C7445E2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60CD-65EE-46E7-8BE2-12500DCAE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C25E-5093-4085-8302-48282DAC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288F-C2F1-4924-B1D4-A3F7704A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3710-3964-4708-BA78-3CF1F911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9693-ADD8-438D-B2F9-160616D3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2029-3E20-4CDD-9B3C-F9442905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AA04-84F5-4F0C-90CF-FBA846CB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1605-00A0-4195-A3A1-46CE6551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7A3A-F47E-4BEB-8140-F5E5F6DD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E8BF-CCB0-41B3-A1AC-895F8FC7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80AC-DC61-4C42-AC7D-096D1C98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F684-9DD1-4E3E-AF38-133C7107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4584-8141-4557-A439-0A2B2B1C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667D-2469-4494-88B4-7F92BB58B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0006-EA0B-4337-B64E-AC198F74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3ABD-2B83-457A-A7F5-F3E1931F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A77B-CF66-4284-BB7A-67813A72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BD9A-6B86-44BC-A77A-9A1EE815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CE68-3B9F-43B3-A7E6-A8F4CE2E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5F90-C1A3-438F-A161-19622B2B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3F3A-5DA1-46D5-B0E1-26C4FACD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5547-1CC8-4D10-A062-42AB75B4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D615-10BD-4181-8209-BB35F8638B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:\клипарты\школа\27c29d078660.png"/>
          <p:cNvPicPr/>
          <p:nvPr/>
        </p:nvPicPr>
        <p:blipFill>
          <a:blip r:embed="rId3"/>
          <a:srcRect l="0" t="0" r="0" b="24081"/>
          <a:stretch/>
        </p:blipFill>
        <p:spPr>
          <a:xfrm>
            <a:off x="285840" y="0"/>
            <a:ext cx="8429400" cy="5207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D:\клипарты\школа\b756a7739ab6.png"/>
          <p:cNvPicPr/>
          <p:nvPr/>
        </p:nvPicPr>
        <p:blipFill>
          <a:blip r:embed="rId4"/>
          <a:stretch/>
        </p:blipFill>
        <p:spPr>
          <a:xfrm>
            <a:off x="214200" y="4214880"/>
            <a:ext cx="1714680" cy="2357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D:\клипарты\школа\Безимени-3.png"/>
          <p:cNvPicPr/>
          <p:nvPr/>
        </p:nvPicPr>
        <p:blipFill>
          <a:blip r:embed="rId5"/>
          <a:stretch/>
        </p:blipFill>
        <p:spPr>
          <a:xfrm>
            <a:off x="7143840" y="5214960"/>
            <a:ext cx="1571400" cy="141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Users\Helen\Desktop\схемы\шаблоны мои\русский язык\2012-02-07_165936.jpg"/>
          <p:cNvPicPr/>
          <p:nvPr/>
        </p:nvPicPr>
        <p:blipFill>
          <a:blip r:embed="rId6"/>
          <a:stretch/>
        </p:blipFill>
        <p:spPr>
          <a:xfrm>
            <a:off x="3071880" y="5429160"/>
            <a:ext cx="2876400" cy="1255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86B1-055E-4A1B-A80E-C1C53CB67D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529200" y="1357200"/>
            <a:ext cx="832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ЕМА УРОКА: «Определение числа глагол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5225760" y="4714920"/>
            <a:ext cx="317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якина О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s://lookw.ru/1/517/1402242410-ptici-2-69.jpg"/>
          <p:cNvPicPr/>
          <p:nvPr/>
        </p:nvPicPr>
        <p:blipFill>
          <a:blip r:embed="rId1"/>
          <a:stretch/>
        </p:blipFill>
        <p:spPr>
          <a:xfrm>
            <a:off x="1835280" y="765000"/>
            <a:ext cx="5364000" cy="40230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2"/>
          <p:cNvSpPr/>
          <p:nvPr/>
        </p:nvSpPr>
        <p:spPr>
          <a:xfrm>
            <a:off x="1643040" y="5143680"/>
            <a:ext cx="59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ьте нераспространённое предложение с этим существительным и глаголом ЛЕТ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s://avatars.mds.yandex.net/i?id=96d8fa5a1be067bc8b7b007bf5940b5c-5234700-images-thumbs&amp;ref=rim&amp;n=33&amp;w=267&amp;h=150"/>
          <p:cNvPicPr/>
          <p:nvPr/>
        </p:nvPicPr>
        <p:blipFill>
          <a:blip r:embed="rId1"/>
          <a:stretch/>
        </p:blipFill>
        <p:spPr>
          <a:xfrm>
            <a:off x="755640" y="981000"/>
            <a:ext cx="7682040" cy="43149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2"/>
          <p:cNvSpPr/>
          <p:nvPr/>
        </p:nvSpPr>
        <p:spPr>
          <a:xfrm>
            <a:off x="1714680" y="5715000"/>
            <a:ext cx="595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ьте нераспространённое предложение с этим существительным и глаголом ЛЕТ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539640" y="404640"/>
            <a:ext cx="835344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зовите строку с глаголами. Запишите глаголы в тетрадь. Определите число глаго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484920" y="1484280"/>
            <a:ext cx="7032600" cy="764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) прыгает,  молния, быстр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471240" y="2565360"/>
            <a:ext cx="6449040" cy="764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) слушают, хочет, прос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88880" y="3573360"/>
            <a:ext cx="5778360" cy="764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) белый, пятый, руб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66920" y="4653000"/>
            <a:ext cx="6654600" cy="764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) ловят, танцует, красн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684360" y="2565360"/>
            <a:ext cx="741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ают  сухие  листья.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я  покрылась  пёстрым  ковром. Шуршит  под  ногами  пожухлая  тра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 лесу  смолкли птичьи  песни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0:35:28Z</dcterms:created>
  <dc:creator>Helen</dc:creator>
  <dc:description/>
  <dc:language>en-US</dc:language>
  <cp:lastModifiedBy>user</cp:lastModifiedBy>
  <dcterms:modified xsi:type="dcterms:W3CDTF">2022-04-19T10:05:18Z</dcterms:modified>
  <cp:revision>47</cp:revision>
  <dc:subject/>
  <dc:title>Слайд 1</dc:title>
</cp:coreProperties>
</file>