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1DB-DAC6-46C5-A065-EB4DC4D3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DBE-90B7-490E-8D1D-FA26AA7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6D7-64F3-4697-B717-628D4256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EDF-70C8-455B-BDA8-F129FF19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4B4B-79AD-485E-BDB7-0B916BFD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E53B-EF82-4AD1-B2B1-B7C700BF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ACE3-0E8A-4A3B-A66A-8D3FDFB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5741-B7F6-4AA5-9264-A8147B7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D477-5A9A-401A-9CD6-DF980B48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613E-95E2-436F-BC52-E4856E2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61D-5AE4-445F-B34B-EE624E4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A40-B778-4CAA-A129-2CAA2555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DB9E-3552-41F6-B6FF-3BB7D353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2253-CD0C-44B7-AED4-50C2925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F2B8-245F-46E9-9B6D-E59E70A8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0F7B-F314-4C21-BF33-E312C0D2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884C-623D-4AE6-9FE2-F2231FF6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796-EC4C-4644-A997-182DE5B9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D88-CE16-40A7-A9FB-2233EF8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DBD-FCD8-459F-966F-71E50AE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777-973B-4C98-AF0B-A4879E2B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52E-45A8-44D2-A48B-2E706A21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F1B-6796-4293-9E44-3D7E2C3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8D9-579A-4562-B883-0E38384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AFAC-E8A6-4200-9BB2-AD91FD506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2F2-F50D-40BC-B84B-1140131FE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29200" y="1357200"/>
            <a:ext cx="83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МА УРОКА: «Определение числа глагол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225760" y="471492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якина О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s://lookw.ru/1/517/1402242410-ptici-2-69.jpg"/>
          <p:cNvPicPr/>
          <p:nvPr/>
        </p:nvPicPr>
        <p:blipFill>
          <a:blip r:embed="rId1"/>
          <a:stretch/>
        </p:blipFill>
        <p:spPr>
          <a:xfrm>
            <a:off x="1835280" y="765000"/>
            <a:ext cx="5364000" cy="4023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643040" y="5143680"/>
            <a:ext cx="59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нераспространённое предложение с этим существительным и глаголом ЛЕТ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avatars.mds.yandex.net/i?id=96d8fa5a1be067bc8b7b007bf5940b5c-5234700-images-thumbs&amp;ref=rim&amp;n=33&amp;w=267&amp;h=150"/>
          <p:cNvPicPr/>
          <p:nvPr/>
        </p:nvPicPr>
        <p:blipFill>
          <a:blip r:embed="rId1"/>
          <a:stretch/>
        </p:blipFill>
        <p:spPr>
          <a:xfrm>
            <a:off x="755640" y="981000"/>
            <a:ext cx="7682040" cy="4314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714680" y="5715000"/>
            <a:ext cx="59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ьте нераспространённое предложение с этим существительным и глаголом ЛЕТ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539640" y="404640"/>
            <a:ext cx="83534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те строку с глаголами. Запишите глаголы в тетрадь. Определите число глаг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4920" y="1484280"/>
            <a:ext cx="703260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) прыгает,  молния, быс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71240" y="2565360"/>
            <a:ext cx="64490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) слушают, хочет, прос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88880" y="3573360"/>
            <a:ext cx="577836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) белый, пятый, руб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6920" y="4653000"/>
            <a:ext cx="665460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) ловят, танцует, красн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256536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ают  сухие  листья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 покрылась  пёстрым  ковром. Шуршит  под  ногами  пожухлая  т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 лесу  смолкли птичьи  песн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user</cp:lastModifiedBy>
  <dcterms:modified xsi:type="dcterms:W3CDTF">2022-04-19T10:05:18Z</dcterms:modified>
  <cp:revision>47</cp:revision>
  <dc:subject/>
  <dc:title>Слайд 1</dc:title>
</cp:coreProperties>
</file>