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gif" ContentType="image/gif"/>
  <Override PartName="/ppt/media/image14.png" ContentType="image/png"/>
  <Override PartName="/ppt/media/image18.jpeg" ContentType="image/jpeg"/>
  <Override PartName="/ppt/media/image6.wmf" ContentType="image/x-wmf"/>
  <Override PartName="/ppt/media/image16.jpeg" ContentType="image/jpeg"/>
  <Override PartName="/ppt/media/image15.png" ContentType="image/png"/>
  <Override PartName="/ppt/media/image9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7.png" ContentType="image/png"/>
  <Override PartName="/ppt/media/image1.jpeg" ContentType="image/jpeg"/>
  <Override PartName="/ppt/media/image10.jpeg" ContentType="image/jpeg"/>
  <Override PartName="/ppt/media/image5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723D-A2E0-49F8-9B0B-6A1B6C4DE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4DDE-555F-4265-98DA-9699F045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24B6-A7A1-4506-BCB2-45F1529C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3C8A-4B69-4559-905A-D90BBE95F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9E2D-09C0-4617-84A3-536699BB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EEEA-4351-4DB1-A5AA-3CC929DB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8214-CE6E-4132-8ABC-E58CE320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C319-6FA4-431B-994C-36E68F3C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9EFA-2A04-45E9-9E12-374D4028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5AD9-5836-4A56-B603-B07CD89D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9D3C-47A4-4F07-9077-BBA5A202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D187-760A-4C32-8E8A-50FA1CEE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8E37-3594-4D0B-8A9D-AE42F814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18DA-BA6C-4AA7-A63A-8CAC64B0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C316-939C-4C55-BD7D-FF7A3808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7F60-9DFB-4723-848D-50A4B294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7D90-5FC2-4EC7-AE98-0A43CC0BA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8CE63-D077-4124-BF33-19D904A80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23C72-DFC7-4686-8DB5-2E2F2604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5DB77-5405-4C90-BE5F-03747830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39871-E4E5-4AA1-8D82-2848AF28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3D1B3-3A08-4159-9EB0-7C3E5874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82C5-D7C1-4BA8-9DEE-6092E249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B62BB-0302-4761-B517-E4E831E3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8BE01-9AAE-4EE9-AE7E-729B9517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A1D68-8753-464A-8323-2E7EDB9D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4E56E-AD9F-4B96-BE5B-8960822C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B420C-D2BC-4B23-8CD2-39316EE5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1CB11-6785-4E7B-A009-A268D8B0D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3A306-58F4-4A8A-9FF3-A99C4CFA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8B5D2-3606-434A-81F9-7F054B79E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504ED-762E-4AE7-97C5-FB0F7B69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67E25-B19E-466B-A054-AF02CEF2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0929-1235-4354-871B-3FEB15C8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43F66-73F1-46C9-AA00-F9B1984E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E767E-44F9-452F-BAB4-73CF5FD9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3FDB9-4680-4876-A1DD-0CCDC23E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9D876-D907-43F6-B0A8-2A52D9C5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3B75E-3D06-4CB9-9A5E-174826D1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3CF36-3896-40B5-8BBD-A0D70269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CA15F-FAAD-467D-B701-C3134769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8D7A4-C2DD-42C0-A340-31CD6B48F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3DD73-DE01-4041-9B65-71429C99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82CA-4834-4854-8E49-C9C999DA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B237-7767-4F6B-8271-3654DD5B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6356-D33A-470C-A1A3-169D40ED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9575-BFAE-425F-A746-6BC80F5C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61CF-2933-4E03-8E28-177972E3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E379-1D23-41B2-94B2-FD253299FA6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0E81-1DCB-4362-AFDC-60D4200E77A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C229-990C-4BAD-BD74-6FEDD22277F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DFE0-BF85-4E3F-B63D-7F047A8B86F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6" descr="ED00019_"/>
          <p:cNvPicPr/>
          <p:nvPr/>
        </p:nvPicPr>
        <p:blipFill>
          <a:blip r:embed="rId1"/>
          <a:stretch/>
        </p:blipFill>
        <p:spPr>
          <a:xfrm>
            <a:off x="324000" y="4365720"/>
            <a:ext cx="2303280" cy="2020680"/>
          </a:xfrm>
          <a:prstGeom prst="rect">
            <a:avLst/>
          </a:prstGeom>
          <a:ln w="0">
            <a:noFill/>
          </a:ln>
        </p:spPr>
      </p:pic>
      <p:sp>
        <p:nvSpPr>
          <p:cNvPr id="196" name="TextBox 5"/>
          <p:cNvSpPr/>
          <p:nvPr/>
        </p:nvSpPr>
        <p:spPr>
          <a:xfrm>
            <a:off x="2416320" y="1628640"/>
            <a:ext cx="41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2771640" y="256536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onstantia"/>
                <a:ea typeface="Times New Roman"/>
              </a:rPr>
              <a:t>Предло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1332000" y="765000"/>
            <a:ext cx="69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Урок русского язы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Object 2"/>
          <p:cNvGraphicFramePr/>
          <p:nvPr/>
        </p:nvGraphicFramePr>
        <p:xfrm>
          <a:off x="500040" y="571680"/>
          <a:ext cx="8083440" cy="557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040" y="571680"/>
                    <a:ext cx="8083440" cy="55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оставим предлож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Мальчик стоит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бором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Яблоки висят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реве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ака лежит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камейкой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Сова сидит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упле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е ошибиться!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Рисунок 3" descr="hello_html_74814ad7.jpg"/>
          <p:cNvPicPr/>
          <p:nvPr/>
        </p:nvPicPr>
        <p:blipFill>
          <a:blip r:embed="rId1"/>
          <a:srcRect l="0" t="18881" r="1797" b="24558"/>
          <a:stretch/>
        </p:blipFill>
        <p:spPr>
          <a:xfrm>
            <a:off x="428760" y="1428840"/>
            <a:ext cx="8143920" cy="2143080"/>
          </a:xfrm>
          <a:prstGeom prst="rect">
            <a:avLst/>
          </a:prstGeom>
          <a:ln w="0">
            <a:noFill/>
          </a:ln>
        </p:spPr>
      </p:pic>
      <p:pic>
        <p:nvPicPr>
          <p:cNvPr id="234" name="Содержимое 4" descr="hello_html_40f38f19.jpg"/>
          <p:cNvPicPr/>
          <p:nvPr/>
        </p:nvPicPr>
        <p:blipFill>
          <a:blip r:embed="rId2"/>
          <a:srcRect l="0" t="14569" r="0" b="34459"/>
          <a:stretch/>
        </p:blipFill>
        <p:spPr>
          <a:xfrm>
            <a:off x="428760" y="3571920"/>
            <a:ext cx="8143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7FBC-D291-48AD-B9EA-5DA63BF2882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146270438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"/>
          <p:cNvSpPr/>
          <p:nvPr/>
        </p:nvSpPr>
        <p:spPr>
          <a:xfrm>
            <a:off x="900000" y="44280"/>
            <a:ext cx="748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onstantia"/>
              </a:rPr>
              <a:t>Рефлекси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7"/>
          <p:cNvSpPr/>
          <p:nvPr/>
        </p:nvSpPr>
        <p:spPr>
          <a:xfrm>
            <a:off x="684360" y="1413000"/>
            <a:ext cx="1657080" cy="1657080"/>
          </a:xfrm>
          <a:prstGeom prst="smileyFace">
            <a:avLst>
              <a:gd name="adj" fmla="val 9282"/>
            </a:avLst>
          </a:prstGeom>
          <a:solidFill>
            <a:srgbClr val="92d05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755640" y="3284640"/>
            <a:ext cx="1655640" cy="1670040"/>
          </a:xfrm>
          <a:prstGeom prst="smileyFace">
            <a:avLst>
              <a:gd name="adj" fmla="val -721"/>
            </a:avLst>
          </a:pr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9"/>
          <p:cNvSpPr/>
          <p:nvPr/>
        </p:nvSpPr>
        <p:spPr>
          <a:xfrm>
            <a:off x="826920" y="5157720"/>
            <a:ext cx="1584360" cy="1629000"/>
          </a:xfrm>
          <a:prstGeom prst="smileyFace">
            <a:avLst>
              <a:gd name="adj" fmla="val -4652"/>
            </a:avLst>
          </a:prstGeom>
          <a:solidFill>
            <a:srgbClr val="ff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WordArt 10"/>
          <p:cNvSpPr txBox="1"/>
          <p:nvPr/>
        </p:nvSpPr>
        <p:spPr>
          <a:xfrm>
            <a:off x="2916360" y="1700280"/>
            <a:ext cx="5327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я всё понял(а)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мне было легк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242" name="WordArt 11"/>
          <p:cNvSpPr txBox="1"/>
          <p:nvPr/>
        </p:nvSpPr>
        <p:spPr>
          <a:xfrm>
            <a:off x="3276720" y="3860640"/>
            <a:ext cx="5111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+mn-lt"/>
              </a:rPr>
              <a:t>я затруднял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+mn-lt"/>
              <a:ea typeface="+mn-lt"/>
            </a:endParaRPr>
          </a:p>
        </p:txBody>
      </p:sp>
      <p:sp>
        <p:nvSpPr>
          <p:cNvPr id="243" name="WordArt 12"/>
          <p:cNvSpPr txBox="1"/>
          <p:nvPr/>
        </p:nvSpPr>
        <p:spPr>
          <a:xfrm>
            <a:off x="3132000" y="5300640"/>
            <a:ext cx="475308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+mn-lt"/>
              </a:rPr>
              <a:t>ничего не понял (а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+mn-lt"/>
              <a:ea typeface="+mn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nstantia"/>
                <a:ea typeface="Times New Roman"/>
              </a:rPr>
              <a:t>Цель урока: </a:t>
            </a:r>
            <a:br>
              <a:rPr sz="44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узнать, что такое предлог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для чего нужны предлоги в русском языке;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как они пишутся с другими частями реч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Заголовок 1"/>
          <p:cNvGrpSpPr/>
          <p:nvPr/>
        </p:nvGrpSpPr>
        <p:grpSpPr>
          <a:xfrm>
            <a:off x="-12600" y="396720"/>
            <a:ext cx="8735760" cy="1657440"/>
            <a:chOff x="-12600" y="396720"/>
            <a:chExt cx="8735760" cy="1657440"/>
          </a:xfrm>
        </p:grpSpPr>
        <p:pic>
          <p:nvPicPr>
            <p:cNvPr id="20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12600" y="396720"/>
              <a:ext cx="87357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428760" y="42876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c00000"/>
                  </a:solidFill>
                  <a:latin typeface="Constantia"/>
                </a:rPr>
                <a:t>Прочитайте предложение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5000" spc="-1" strike="noStrike">
                <a:solidFill>
                  <a:srgbClr val="000000"/>
                </a:solidFill>
                <a:latin typeface="Constantia"/>
              </a:rPr>
              <a:t>Кошка сидит    дереве.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onstantia"/>
              </a:rPr>
              <a:t>-Все ли правильно в этом предложении?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onstantia"/>
              </a:rPr>
              <a:t>-Понятен ли его смысл?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Заголовок 1"/>
          <p:cNvGrpSpPr/>
          <p:nvPr/>
        </p:nvGrpSpPr>
        <p:grpSpPr>
          <a:xfrm>
            <a:off x="360360" y="396720"/>
            <a:ext cx="8362800" cy="1657440"/>
            <a:chOff x="360360" y="396720"/>
            <a:chExt cx="8362800" cy="1657440"/>
          </a:xfrm>
        </p:grpSpPr>
        <p:pic>
          <p:nvPicPr>
            <p:cNvPr id="20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60360" y="396720"/>
              <a:ext cx="836280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428760" y="42876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c00000"/>
                  </a:solidFill>
                  <a:latin typeface="Constantia"/>
                </a:rPr>
                <a:t>Сравните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 txBox="1"/>
          <p:nvPr/>
        </p:nvSpPr>
        <p:spPr>
          <a:xfrm>
            <a:off x="457200" y="1934640"/>
            <a:ext cx="8507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onstantia"/>
              </a:rPr>
              <a:t>Кошка сидит </a:t>
            </a:r>
            <a:r>
              <a:rPr b="0" lang="ru-RU" sz="5000" spc="-1" strike="noStrike">
                <a:solidFill>
                  <a:srgbClr val="c00000"/>
                </a:solidFill>
                <a:latin typeface="Constantia"/>
              </a:rPr>
              <a:t>на</a:t>
            </a:r>
            <a:r>
              <a:rPr b="0" lang="ru-RU" sz="5000" spc="-1" strike="noStrike">
                <a:solidFill>
                  <a:srgbClr val="000000"/>
                </a:solidFill>
                <a:latin typeface="Constantia"/>
              </a:rPr>
              <a:t> дереве.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-Все ли теперь правильно в этом предложении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onstantia"/>
              </a:rPr>
              <a:t>-Какое слово помогло связать слова?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Заголовок 1"/>
          <p:cNvGrpSpPr/>
          <p:nvPr/>
        </p:nvGrpSpPr>
        <p:grpSpPr>
          <a:xfrm>
            <a:off x="360360" y="396720"/>
            <a:ext cx="8362800" cy="1657440"/>
            <a:chOff x="360360" y="396720"/>
            <a:chExt cx="8362800" cy="1657440"/>
          </a:xfrm>
        </p:grpSpPr>
        <p:pic>
          <p:nvPicPr>
            <p:cNvPr id="21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60360" y="396720"/>
              <a:ext cx="836280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428760" y="42876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c00000"/>
                  </a:solidFill>
                  <a:latin typeface="Constantia"/>
                </a:rPr>
                <a:t>Какая это часть речи?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 txBox="1"/>
          <p:nvPr/>
        </p:nvSpPr>
        <p:spPr>
          <a:xfrm>
            <a:off x="456840" y="1934640"/>
            <a:ext cx="8435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Слово</a:t>
            </a:r>
            <a:r>
              <a:rPr b="0" lang="ru-RU" sz="5400" spc="-1" strike="noStrike">
                <a:solidFill>
                  <a:srgbClr val="c00000"/>
                </a:solidFill>
                <a:latin typeface="Constantia"/>
              </a:rPr>
              <a:t> на – 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это</a:t>
            </a:r>
            <a:r>
              <a:rPr b="0" lang="ru-RU" sz="54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lang="ru-RU" sz="5400" spc="-1" strike="noStrike">
                <a:solidFill>
                  <a:srgbClr val="c00000"/>
                </a:solidFill>
                <a:latin typeface="Constantia"/>
              </a:rPr>
              <a:t>предлог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жно ли задать к предлогу вопрос?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Кошка сидит </a:t>
            </a:r>
            <a:r>
              <a:rPr b="1" lang="ru-RU" sz="5400" spc="-1" strike="noStrike">
                <a:solidFill>
                  <a:srgbClr val="c00000"/>
                </a:solidFill>
                <a:latin typeface="Constantia"/>
              </a:rPr>
              <a:t>на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 дереве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468360" y="5516640"/>
            <a:ext cx="792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жно ли предлог измени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чего служат предлоги?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Содержимое 3" descr="hello_html_58e146bd.jpg"/>
          <p:cNvPicPr/>
          <p:nvPr/>
        </p:nvPicPr>
        <p:blipFill>
          <a:blip r:embed="rId1"/>
          <a:stretch/>
        </p:blipFill>
        <p:spPr>
          <a:xfrm>
            <a:off x="571680" y="1928880"/>
            <a:ext cx="80010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FDEF-6775-47B5-9CFB-5A831304387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146270438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Содержимое 3" descr="hello_html_m32424d08.jpg"/>
          <p:cNvPicPr/>
          <p:nvPr/>
        </p:nvPicPr>
        <p:blipFill>
          <a:blip r:embed="rId1"/>
          <a:srcRect l="0" t="11484" r="0" b="11484"/>
          <a:stretch/>
        </p:blipFill>
        <p:spPr>
          <a:xfrm>
            <a:off x="571680" y="1500120"/>
            <a:ext cx="8072280" cy="37148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/>
          <p:cNvSpPr/>
          <p:nvPr/>
        </p:nvSpPr>
        <p:spPr>
          <a:xfrm>
            <a:off x="1299960" y="5214960"/>
            <a:ext cx="649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ного других предлог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6T15:35:58Z</dcterms:created>
  <dc:creator>Лилия</dc:creator>
  <dc:description/>
  <dc:language>en-US</dc:language>
  <cp:lastModifiedBy>1</cp:lastModifiedBy>
  <dcterms:modified xsi:type="dcterms:W3CDTF">2022-02-28T11:20:41Z</dcterms:modified>
  <cp:revision>78</cp:revision>
  <dc:subject/>
  <dc:title>Слайд 1</dc:title>
</cp:coreProperties>
</file>