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gif" ContentType="image/gif"/>
  <Override PartName="/ppt/media/image14.png" ContentType="image/png"/>
  <Override PartName="/ppt/media/image18.jpeg" ContentType="image/jpeg"/>
  <Override PartName="/ppt/media/image6.wmf" ContentType="image/x-wmf"/>
  <Override PartName="/ppt/media/image16.jpeg" ContentType="image/jpeg"/>
  <Override PartName="/ppt/media/image15.png" ContentType="image/png"/>
  <Override PartName="/ppt/media/image9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7.png" ContentType="image/png"/>
  <Override PartName="/ppt/media/image1.jpeg" ContentType="image/jpeg"/>
  <Override PartName="/ppt/media/image10.jpeg" ContentType="image/jpeg"/>
  <Override PartName="/ppt/media/image5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82E0-40A4-4C81-B487-376711DCA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4DEF-A542-4EC2-8650-22D786D0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31BE-AB83-4EBE-AE35-020CB5C1E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C963-00B2-497B-A5E8-FEFBDCCA4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088E-5CEA-4776-B0AE-78A9176FF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31E1-3806-4497-BE50-E798AFF6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C4AF-608A-47FA-B933-CB76E16C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F1D1-5ABC-4CE8-A15F-17578AC5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3464-AD21-47F4-A096-2087C14B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485A-1F41-43F6-9B1F-61DACC57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03F8-88D9-4A29-92DC-4743D067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77AF-1C6C-4A53-A942-20E1C900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4E2D-7B13-4F04-8649-B2CEFA97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A403-053E-483B-8D28-6E0B080C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8F47-860F-4130-8488-3CE07601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D8F2-F9E1-4E7E-87F5-98AE03B4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BF14-69FB-4547-85C8-A6A17386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4831F-8A6E-495A-910E-053691BE2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36528-51D0-47A1-B6F3-778D9326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E903F-EFA9-4390-B033-FC4DDD41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84F97-2689-464E-B7AC-7CC1FAAF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F9E62-34D0-439E-B6AE-F34CE591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AA48-D6EA-44FA-943C-B106B244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651CA-6EDA-4A89-8375-4CD14920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2889F-FB6F-4EB5-B5C1-47FC2CB9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5FBAB-71B1-4405-8A3B-323724B0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CEE9E-E2B1-434F-BB52-E0509C49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22788-F97C-4D0A-A656-632F19C5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E0CD2-91E8-4BDD-85D7-85E3D29B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47564-9429-4904-86D5-B29801A7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C8BC7-5CEB-4F8E-96A4-6686C44F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C6A45-D02E-4068-AA52-5E42D3B0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D86D2-405F-4FCB-9BEE-CB0B1707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B486-2C0B-4FCE-94B3-D5BE4872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F28C5-639A-466B-89C1-C37EB6F4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EE0D8-C6DD-408C-80C5-469B4873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0D6A0-A8F2-422A-B310-3345563F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E39CF-44D0-47E5-8DBD-8446247A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411B9-83DE-4A18-A3BA-B26D74C5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EB94E-A228-45C8-B75A-01B0A10B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DC6D3-FBAD-4527-80A3-31687409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D95A4-8B6E-4A42-B28D-0EF76C4F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C7D3A-87E2-4867-A092-DAA61CCC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7F9C-5A55-44E8-8054-80E01CE0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C5DE-C2E3-448D-A740-5F1BAB0A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1FEB-B742-4C0B-8CF2-38CC549E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D4CA-EB85-44EB-B37A-CB4CA3A8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3DA3-54FE-44AF-8B4D-625E2AEC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2DBC-F129-4759-84BE-BA756F38BE1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5115-1002-4C8A-A73D-316B5CA6E22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FB2F-8AAD-42B3-B9D5-6D13DF64504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D38A-9327-45F2-9ACF-F72F2855B5D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6" descr="ED00019_"/>
          <p:cNvPicPr/>
          <p:nvPr/>
        </p:nvPicPr>
        <p:blipFill>
          <a:blip r:embed="rId1"/>
          <a:stretch/>
        </p:blipFill>
        <p:spPr>
          <a:xfrm>
            <a:off x="324000" y="4365720"/>
            <a:ext cx="2303280" cy="2020680"/>
          </a:xfrm>
          <a:prstGeom prst="rect">
            <a:avLst/>
          </a:prstGeom>
          <a:ln w="0">
            <a:noFill/>
          </a:ln>
        </p:spPr>
      </p:pic>
      <p:sp>
        <p:nvSpPr>
          <p:cNvPr id="196" name="TextBox 5"/>
          <p:cNvSpPr/>
          <p:nvPr/>
        </p:nvSpPr>
        <p:spPr>
          <a:xfrm>
            <a:off x="2416320" y="1628640"/>
            <a:ext cx="41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2771640" y="256536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onstantia"/>
                <a:ea typeface="Times New Roman"/>
              </a:rPr>
              <a:t>Предло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1332000" y="765000"/>
            <a:ext cx="69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Урок русского язы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Object 2"/>
          <p:cNvGraphicFramePr/>
          <p:nvPr/>
        </p:nvGraphicFramePr>
        <p:xfrm>
          <a:off x="500040" y="571680"/>
          <a:ext cx="8083440" cy="557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040" y="571680"/>
                    <a:ext cx="8083440" cy="55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оставим предлож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Мальчик стоит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бором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Яблоки висят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реве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ака лежит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камейкой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Сова сидит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упле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е ошибиться!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Рисунок 3" descr="hello_html_74814ad7.jpg"/>
          <p:cNvPicPr/>
          <p:nvPr/>
        </p:nvPicPr>
        <p:blipFill>
          <a:blip r:embed="rId1"/>
          <a:srcRect l="0" t="18881" r="1797" b="24558"/>
          <a:stretch/>
        </p:blipFill>
        <p:spPr>
          <a:xfrm>
            <a:off x="428760" y="1428840"/>
            <a:ext cx="8143920" cy="2143080"/>
          </a:xfrm>
          <a:prstGeom prst="rect">
            <a:avLst/>
          </a:prstGeom>
          <a:ln w="0">
            <a:noFill/>
          </a:ln>
        </p:spPr>
      </p:pic>
      <p:pic>
        <p:nvPicPr>
          <p:cNvPr id="234" name="Содержимое 4" descr="hello_html_40f38f19.jpg"/>
          <p:cNvPicPr/>
          <p:nvPr/>
        </p:nvPicPr>
        <p:blipFill>
          <a:blip r:embed="rId2"/>
          <a:srcRect l="0" t="14569" r="0" b="34459"/>
          <a:stretch/>
        </p:blipFill>
        <p:spPr>
          <a:xfrm>
            <a:off x="428760" y="3571920"/>
            <a:ext cx="8143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FF15-8A66-4C38-910A-B890454A628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146270438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"/>
          <p:cNvSpPr/>
          <p:nvPr/>
        </p:nvSpPr>
        <p:spPr>
          <a:xfrm>
            <a:off x="900000" y="44280"/>
            <a:ext cx="748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onstantia"/>
              </a:rPr>
              <a:t>Рефлекси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7"/>
          <p:cNvSpPr/>
          <p:nvPr/>
        </p:nvSpPr>
        <p:spPr>
          <a:xfrm>
            <a:off x="684360" y="1413000"/>
            <a:ext cx="1657080" cy="1657080"/>
          </a:xfrm>
          <a:prstGeom prst="smileyFace">
            <a:avLst>
              <a:gd name="adj" fmla="val 9282"/>
            </a:avLst>
          </a:prstGeom>
          <a:solidFill>
            <a:srgbClr val="92d05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755640" y="3284640"/>
            <a:ext cx="1655640" cy="1670040"/>
          </a:xfrm>
          <a:prstGeom prst="smileyFace">
            <a:avLst>
              <a:gd name="adj" fmla="val -721"/>
            </a:avLst>
          </a:pr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9"/>
          <p:cNvSpPr/>
          <p:nvPr/>
        </p:nvSpPr>
        <p:spPr>
          <a:xfrm>
            <a:off x="826920" y="5157720"/>
            <a:ext cx="1584360" cy="1629000"/>
          </a:xfrm>
          <a:prstGeom prst="smileyFace">
            <a:avLst>
              <a:gd name="adj" fmla="val -4652"/>
            </a:avLst>
          </a:prstGeom>
          <a:solidFill>
            <a:srgbClr val="ff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WordArt 10"/>
          <p:cNvSpPr txBox="1"/>
          <p:nvPr/>
        </p:nvSpPr>
        <p:spPr>
          <a:xfrm>
            <a:off x="2916360" y="1700280"/>
            <a:ext cx="5327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я всё понял(а)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мне было легк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242" name="WordArt 11"/>
          <p:cNvSpPr txBox="1"/>
          <p:nvPr/>
        </p:nvSpPr>
        <p:spPr>
          <a:xfrm>
            <a:off x="3276720" y="3860640"/>
            <a:ext cx="5111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+mn-lt"/>
              </a:rPr>
              <a:t>я затруднял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+mn-lt"/>
              <a:ea typeface="+mn-lt"/>
            </a:endParaRPr>
          </a:p>
        </p:txBody>
      </p:sp>
      <p:sp>
        <p:nvSpPr>
          <p:cNvPr id="243" name="WordArt 12"/>
          <p:cNvSpPr txBox="1"/>
          <p:nvPr/>
        </p:nvSpPr>
        <p:spPr>
          <a:xfrm>
            <a:off x="3132000" y="5300640"/>
            <a:ext cx="475308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+mn-lt"/>
              </a:rPr>
              <a:t>ничего не понял (а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+mn-lt"/>
              <a:ea typeface="+mn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nstantia"/>
                <a:ea typeface="Times New Roman"/>
              </a:rPr>
              <a:t>Цель урока: </a:t>
            </a:r>
            <a:br>
              <a:rPr sz="44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узнать, что такое предлог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для чего нужны предлоги в русском языке;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как они пишутся с другими частями реч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Заголовок 1"/>
          <p:cNvGrpSpPr/>
          <p:nvPr/>
        </p:nvGrpSpPr>
        <p:grpSpPr>
          <a:xfrm>
            <a:off x="-12600" y="396720"/>
            <a:ext cx="8735760" cy="1657440"/>
            <a:chOff x="-12600" y="396720"/>
            <a:chExt cx="8735760" cy="1657440"/>
          </a:xfrm>
        </p:grpSpPr>
        <p:pic>
          <p:nvPicPr>
            <p:cNvPr id="20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12600" y="396720"/>
              <a:ext cx="87357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428760" y="42876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c00000"/>
                  </a:solidFill>
                  <a:latin typeface="Constantia"/>
                </a:rPr>
                <a:t>Прочитайте предложение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5000" spc="-1" strike="noStrike">
                <a:solidFill>
                  <a:srgbClr val="000000"/>
                </a:solidFill>
                <a:latin typeface="Constantia"/>
              </a:rPr>
              <a:t>Кошка сидит    дереве.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onstantia"/>
              </a:rPr>
              <a:t>-Все ли правильно в этом предложении?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onstantia"/>
              </a:rPr>
              <a:t>-Понятен ли его смысл?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Заголовок 1"/>
          <p:cNvGrpSpPr/>
          <p:nvPr/>
        </p:nvGrpSpPr>
        <p:grpSpPr>
          <a:xfrm>
            <a:off x="360360" y="396720"/>
            <a:ext cx="8362800" cy="1657440"/>
            <a:chOff x="360360" y="396720"/>
            <a:chExt cx="8362800" cy="1657440"/>
          </a:xfrm>
        </p:grpSpPr>
        <p:pic>
          <p:nvPicPr>
            <p:cNvPr id="20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60360" y="396720"/>
              <a:ext cx="836280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428760" y="42876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c00000"/>
                  </a:solidFill>
                  <a:latin typeface="Constantia"/>
                </a:rPr>
                <a:t>Сравните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 txBox="1"/>
          <p:nvPr/>
        </p:nvSpPr>
        <p:spPr>
          <a:xfrm>
            <a:off x="457200" y="1934640"/>
            <a:ext cx="8507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onstantia"/>
              </a:rPr>
              <a:t>Кошка сидит </a:t>
            </a:r>
            <a:r>
              <a:rPr b="0" lang="ru-RU" sz="5000" spc="-1" strike="noStrike">
                <a:solidFill>
                  <a:srgbClr val="c00000"/>
                </a:solidFill>
                <a:latin typeface="Constantia"/>
              </a:rPr>
              <a:t>на</a:t>
            </a:r>
            <a:r>
              <a:rPr b="0" lang="ru-RU" sz="5000" spc="-1" strike="noStrike">
                <a:solidFill>
                  <a:srgbClr val="000000"/>
                </a:solidFill>
                <a:latin typeface="Constantia"/>
              </a:rPr>
              <a:t> дереве.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-Все ли теперь правильно в этом предложении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onstantia"/>
              </a:rPr>
              <a:t>-Какое слово помогло связать слова?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Заголовок 1"/>
          <p:cNvGrpSpPr/>
          <p:nvPr/>
        </p:nvGrpSpPr>
        <p:grpSpPr>
          <a:xfrm>
            <a:off x="360360" y="396720"/>
            <a:ext cx="8362800" cy="1657440"/>
            <a:chOff x="360360" y="396720"/>
            <a:chExt cx="8362800" cy="1657440"/>
          </a:xfrm>
        </p:grpSpPr>
        <p:pic>
          <p:nvPicPr>
            <p:cNvPr id="21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60360" y="396720"/>
              <a:ext cx="836280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428760" y="42876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c00000"/>
                  </a:solidFill>
                  <a:latin typeface="Constantia"/>
                </a:rPr>
                <a:t>Какая это часть речи?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 txBox="1"/>
          <p:nvPr/>
        </p:nvSpPr>
        <p:spPr>
          <a:xfrm>
            <a:off x="456840" y="1934640"/>
            <a:ext cx="8435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Слово</a:t>
            </a:r>
            <a:r>
              <a:rPr b="0" lang="ru-RU" sz="5400" spc="-1" strike="noStrike">
                <a:solidFill>
                  <a:srgbClr val="c00000"/>
                </a:solidFill>
                <a:latin typeface="Constantia"/>
              </a:rPr>
              <a:t> на – 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это</a:t>
            </a:r>
            <a:r>
              <a:rPr b="0" lang="ru-RU" sz="54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lang="ru-RU" sz="5400" spc="-1" strike="noStrike">
                <a:solidFill>
                  <a:srgbClr val="c00000"/>
                </a:solidFill>
                <a:latin typeface="Constantia"/>
              </a:rPr>
              <a:t>предлог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жно ли задать к предлогу вопрос?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Кошка сидит </a:t>
            </a:r>
            <a:r>
              <a:rPr b="1" lang="ru-RU" sz="5400" spc="-1" strike="noStrike">
                <a:solidFill>
                  <a:srgbClr val="c00000"/>
                </a:solidFill>
                <a:latin typeface="Constantia"/>
              </a:rPr>
              <a:t>на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 дереве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468360" y="5516640"/>
            <a:ext cx="792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жно ли предлог измени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чего служат предлоги?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Содержимое 3" descr="hello_html_58e146bd.jpg"/>
          <p:cNvPicPr/>
          <p:nvPr/>
        </p:nvPicPr>
        <p:blipFill>
          <a:blip r:embed="rId1"/>
          <a:stretch/>
        </p:blipFill>
        <p:spPr>
          <a:xfrm>
            <a:off x="571680" y="1928880"/>
            <a:ext cx="80010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E8A3-D43A-4F9A-AA78-DD07A1381C3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146270438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Содержимое 3" descr="hello_html_m32424d08.jpg"/>
          <p:cNvPicPr/>
          <p:nvPr/>
        </p:nvPicPr>
        <p:blipFill>
          <a:blip r:embed="rId1"/>
          <a:srcRect l="0" t="11484" r="0" b="11484"/>
          <a:stretch/>
        </p:blipFill>
        <p:spPr>
          <a:xfrm>
            <a:off x="571680" y="1500120"/>
            <a:ext cx="8072280" cy="37148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/>
          <p:cNvSpPr/>
          <p:nvPr/>
        </p:nvSpPr>
        <p:spPr>
          <a:xfrm>
            <a:off x="1299960" y="5214960"/>
            <a:ext cx="649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ного других предлог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6T15:35:58Z</dcterms:created>
  <dc:creator>Лилия</dc:creator>
  <dc:description/>
  <dc:language>en-US</dc:language>
  <cp:lastModifiedBy>1</cp:lastModifiedBy>
  <dcterms:modified xsi:type="dcterms:W3CDTF">2022-02-28T11:20:41Z</dcterms:modified>
  <cp:revision>78</cp:revision>
  <dc:subject/>
  <dc:title>Слайд 1</dc:title>
</cp:coreProperties>
</file>