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7.png" ContentType="image/png"/>
  <Override PartName="/ppt/media/image13.jpeg" ContentType="image/jpeg"/>
  <Override PartName="/ppt/media/image27.jpeg" ContentType="image/jpeg"/>
  <Override PartName="/ppt/media/image6.jpeg" ContentType="image/jpeg"/>
  <Override PartName="/ppt/media/image2.png" ContentType="image/png"/>
  <Override PartName="/ppt/media/image25.png" ContentType="image/png"/>
  <Override PartName="/ppt/media/image9.jpeg" ContentType="image/jpeg"/>
  <Override PartName="/ppt/media/image1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jpeg" ContentType="image/jpeg"/>
  <Override PartName="/ppt/media/image23.png" ContentType="image/png"/>
  <Override PartName="/ppt/media/image30.gif" ContentType="image/gif"/>
  <Override PartName="/ppt/media/image14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31.gif" ContentType="image/gif"/>
  <Override PartName="/ppt/media/image16.jpeg" ContentType="image/jpeg"/>
  <Override PartName="/ppt/media/image17.jpeg" ContentType="image/jpeg"/>
  <Override PartName="/ppt/media/image26.png" ContentType="image/png"/>
  <Override PartName="/ppt/media/image3.gif" ContentType="image/gif"/>
  <Override PartName="/ppt/media/image18.jpeg" ContentType="image/jpeg"/>
  <Override PartName="/ppt/media/image19.png" ContentType="image/png"/>
  <Override PartName="/ppt/media/image20.png" ContentType="image/png"/>
  <Override PartName="/ppt/media/image28.jpeg" ContentType="image/jpeg"/>
  <Override PartName="/ppt/media/image21.jpeg" ContentType="image/jpe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F65E-CD40-4270-9EB7-E8E3D4CF2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7476-08A7-4322-ADA5-A90CA9F8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6200-CDC9-4766-B782-C5549CBFC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82D0-4690-4DE5-B148-9C41A6AB0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D05C-7C40-4A88-8421-1535E19A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3B84-FE7A-42EF-BE2C-815D2643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21B7-ACCF-4819-B656-9B402EB5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1EB0-D73E-407B-BE77-D33DC699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2D2E-B920-4FD5-A344-2563A2FF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AF4F-9D1E-4911-A8A3-D6C8F02C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007A-10BB-4481-819F-C138B64D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5D99-B63D-4322-92DE-867C513F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4BFB-D759-42FF-AB3E-25659CF78E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07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d2d8a"/>
                </a:solidFill>
                <a:latin typeface="Arial"/>
              </a:rPr>
              <a:t>Покормите птиц зим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50624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985080" cy="4032360"/>
          </a:xfrm>
          <a:prstGeom prst="rect">
            <a:avLst/>
          </a:prstGeom>
          <a:ln w="0">
            <a:noFill/>
          </a:ln>
        </p:spPr>
      </p:pic>
      <p:sp>
        <p:nvSpPr>
          <p:cNvPr id="44" name="Скругленный прямоугольник 4">
            <a:hlinkClick r:id="rId2"/>
          </p:cNvPr>
          <p:cNvSpPr/>
          <p:nvPr/>
        </p:nvSpPr>
        <p:spPr>
          <a:xfrm>
            <a:off x="684360" y="5445000"/>
            <a:ext cx="792000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ГБДОУ детский сад № 14 общеразвивающего ви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Кронштадтского района Санкт-Петербур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Воспитатель: Фадеева Зоя Борисо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ёрные птиц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лки и вороны – птицы одного семейства, на зиму собираются в общие стаи. Ночью спят, устраиваясь на крышах домов и деревьях, а утром разлетаются в поисках корма: кормятся в основном на помой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ворона"/>
          <p:cNvPicPr/>
          <p:nvPr/>
        </p:nvPicPr>
        <p:blipFill>
          <a:blip r:embed="rId1"/>
          <a:stretch/>
        </p:blipFill>
        <p:spPr>
          <a:xfrm>
            <a:off x="4495680" y="3886200"/>
            <a:ext cx="3986280" cy="2514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галка"/>
          <p:cNvPicPr/>
          <p:nvPr/>
        </p:nvPicPr>
        <p:blipFill>
          <a:blip r:embed="rId2"/>
          <a:stretch/>
        </p:blipFill>
        <p:spPr>
          <a:xfrm>
            <a:off x="533520" y="3809880"/>
            <a:ext cx="36655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року встретишь ближе к домам. Птица умная, ловкая, осторожная. Зимой кочует. Поедает мелких грызунов, насекомых, сем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1" descr="сорока"/>
          <p:cNvPicPr/>
          <p:nvPr/>
        </p:nvPicPr>
        <p:blipFill>
          <a:blip r:embed="rId1"/>
          <a:stretch/>
        </p:blipFill>
        <p:spPr>
          <a:xfrm>
            <a:off x="533520" y="1523880"/>
            <a:ext cx="3657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Подкормка птиц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0040" y="114264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диционный корм для птиц в зимнее время – овес, семена подсолнечника и тыквы, крошки пшеничного хлеба, пшено, сушеные ягоды и фрукты, несоленое сало. А вот ржаной хлеб, кожуру бананов и цитрусовых птицам лучше не давать – это опасно для их здоровь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108000" y="2708280"/>
            <a:ext cx="3456000" cy="2305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3635280" y="2708280"/>
            <a:ext cx="2737080" cy="2309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3" name="Picture 8" descr=""/>
          <p:cNvPicPr/>
          <p:nvPr/>
        </p:nvPicPr>
        <p:blipFill>
          <a:blip r:embed="rId3"/>
          <a:srcRect l="0" t="0" r="3215" b="0"/>
          <a:stretch/>
        </p:blipFill>
        <p:spPr>
          <a:xfrm>
            <a:off x="6372360" y="2781360"/>
            <a:ext cx="2627280" cy="2133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4" name="Picture 9" descr=""/>
          <p:cNvPicPr/>
          <p:nvPr/>
        </p:nvPicPr>
        <p:blipFill>
          <a:blip r:embed="rId4"/>
          <a:stretch/>
        </p:blipFill>
        <p:spPr>
          <a:xfrm>
            <a:off x="0" y="5022720"/>
            <a:ext cx="1835280" cy="1835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5" name="Picture 10" descr=""/>
          <p:cNvPicPr/>
          <p:nvPr/>
        </p:nvPicPr>
        <p:blipFill>
          <a:blip r:embed="rId5"/>
          <a:stretch/>
        </p:blipFill>
        <p:spPr>
          <a:xfrm>
            <a:off x="1835280" y="5013360"/>
            <a:ext cx="1873080" cy="1844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6" name="Picture 11" descr=""/>
          <p:cNvPicPr/>
          <p:nvPr/>
        </p:nvPicPr>
        <p:blipFill>
          <a:blip r:embed="rId6"/>
          <a:stretch/>
        </p:blipFill>
        <p:spPr>
          <a:xfrm>
            <a:off x="3708360" y="5013360"/>
            <a:ext cx="2376360" cy="1844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7" name="Picture 12" descr=""/>
          <p:cNvPicPr/>
          <p:nvPr/>
        </p:nvPicPr>
        <p:blipFill>
          <a:blip r:embed="rId7"/>
          <a:stretch/>
        </p:blipFill>
        <p:spPr>
          <a:xfrm>
            <a:off x="6084720" y="5013360"/>
            <a:ext cx="3059280" cy="1844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042920" y="333360"/>
          <a:ext cx="6913800" cy="5989680"/>
        </p:xfrm>
        <a:graphic>
          <a:graphicData uri="http://schemas.openxmlformats.org/drawingml/2006/table">
            <a:tbl>
              <a:tblPr/>
              <a:tblGrid>
                <a:gridCol w="1465200"/>
                <a:gridCol w="2828880"/>
                <a:gridCol w="2619720"/>
              </a:tblGrid>
              <a:tr h="598680">
                <a:tc>
                  <a:txBody>
                    <a:bodyPr lIns="65880" rIns="65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азвание птиц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Чем питается в природе зим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Чем можно подкармлива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98320">
                <a:tc>
                  <a:txBody>
                    <a:bodyPr lIns="65880" rIns="65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изый голуб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енами растений, зерновыми культур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шено, пшеничные отруби, овсяные хлопья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0120">
                <a:tc>
                  <a:txBody>
                    <a:bodyPr lIns="65880" rIns="65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оробей городс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ена сорных растений, хлебные крош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вес и просо, а также крошки белого хлеб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98320">
                <a:tc>
                  <a:txBody>
                    <a:bodyPr lIns="65880" rIns="65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о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лкими животными, падалью и плод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упы, семена арбуза, крошки белого хлеб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197000">
                <a:tc>
                  <a:txBody>
                    <a:bodyPr lIns="65880" rIns="65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иница больш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енами и другой растительной пищей, личинками и куколками спрятавшихся насекомы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ена, мясо, несоленое  сало.    Очень  любят     семечки  подсолнечник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49320">
                <a:tc>
                  <a:txBody>
                    <a:bodyPr lIns="65880" rIns="65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яте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ена  сосны и ели, личинками и куколками спрятавшихся насекомы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хофрукты, свежие мягкие фрукты , несоленое сал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0120">
                <a:tc>
                  <a:txBody>
                    <a:bodyPr lIns="65880" rIns="65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неги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енами  растений  и  ягод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годы рябины, бузины, боярышни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47800">
                <a:tc>
                  <a:txBody>
                    <a:bodyPr lIns="65880" rIns="65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вирис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дами рябины, калины, плоды можжевельни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сы из сушеных ягод шиповника и боярышник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Кормушка для птиц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роить простейшую кормушку можно из любого подручного материа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324000" y="3284640"/>
            <a:ext cx="2400120" cy="2533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2987640" y="3357720"/>
            <a:ext cx="3210120" cy="2619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6659640" y="3357720"/>
            <a:ext cx="200160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d2d8a"/>
                </a:solidFill>
                <a:latin typeface="Arial"/>
              </a:rPr>
              <a:t>Кормуш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C:\Users\Администратор\Desktop\i.jpeg"/>
          <p:cNvPicPr/>
          <p:nvPr/>
        </p:nvPicPr>
        <p:blipFill>
          <a:blip r:embed="rId1"/>
          <a:stretch/>
        </p:blipFill>
        <p:spPr>
          <a:xfrm>
            <a:off x="324000" y="1844640"/>
            <a:ext cx="3811320" cy="3992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C:\Users\Администратор\Desktop\8.02 eibryowruxsnjxsn 2.jpg"/>
          <p:cNvPicPr/>
          <p:nvPr/>
        </p:nvPicPr>
        <p:blipFill>
          <a:blip r:embed="rId2"/>
          <a:stretch/>
        </p:blipFill>
        <p:spPr>
          <a:xfrm>
            <a:off x="4572000" y="1844640"/>
            <a:ext cx="4032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85840" y="42840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МНИТЕ главные правила при подкормке птиц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ельз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рмить птиц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лён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дуктами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жаным хлеб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это смертельно опасно для них)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начал подкармливать птиц однажды в начале зимы, следи за тем, чтобы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аждый ден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кормушке был кор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мушка должна быть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удобна и безопас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птиц (плотное крепление, никаких острых краёв, недоступность для соседской кошки)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сь кормушку так, чтобы туда могли попасть мелкие и ловкие птицы, но ни как не голуби и вороны (для которых корма достаточно и на улице)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возможности корм должен быть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щищён от непогод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мушку необходим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егулярно чисти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План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обрать и изучить литературу о зимующих птица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ровести собственные наблю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Подключить к акции сотрудников детского с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Смастерить корму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Собрать кормовую смесь для пт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Выпустить листовку призыв для жителей го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3d29"/>
          <p:cNvPicPr/>
          <p:nvPr/>
        </p:nvPicPr>
        <p:blipFill>
          <a:blip r:embed="rId1"/>
          <a:stretch/>
        </p:blipFill>
        <p:spPr>
          <a:xfrm>
            <a:off x="6811920" y="620640"/>
            <a:ext cx="844560" cy="844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mail42"/>
          <p:cNvPicPr/>
          <p:nvPr/>
        </p:nvPicPr>
        <p:blipFill>
          <a:blip r:embed="rId2"/>
          <a:stretch/>
        </p:blipFill>
        <p:spPr>
          <a:xfrm>
            <a:off x="6176880" y="3533760"/>
            <a:ext cx="2063880" cy="168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должи предл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Теперь я знаю, что 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Я понял, что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Я буду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C:\Documents and Settings\user\Мои документы\Мои рисунки\птицы\085.gif"/>
          <p:cNvPicPr/>
          <p:nvPr/>
        </p:nvPicPr>
        <p:blipFill>
          <a:blip r:embed="rId2"/>
          <a:stretch/>
        </p:blipFill>
        <p:spPr>
          <a:xfrm flipH="1">
            <a:off x="2284200" y="1071720"/>
            <a:ext cx="4087800" cy="293364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6"/>
          <p:cNvSpPr/>
          <p:nvPr/>
        </p:nvSpPr>
        <p:spPr>
          <a:xfrm>
            <a:off x="1908000" y="4005360"/>
            <a:ext cx="460872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усть со всех концов К вам слетятся, как домой, Стайки на крыльцо. Не богаты их корма. Горсть зерна нужна, Горсть одна — И не страшна Будет им з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Обоснование выбор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 выбрали эту тему, для того что бы больше  узнать о зимующих птицах в Санкт-Петербурге, об их кормовой баз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3132000" y="2637000"/>
            <a:ext cx="3335400" cy="3690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7" descr="anim058"/>
          <p:cNvPicPr/>
          <p:nvPr/>
        </p:nvPicPr>
        <p:blipFill>
          <a:blip r:embed="rId2"/>
          <a:stretch/>
        </p:blipFill>
        <p:spPr>
          <a:xfrm>
            <a:off x="468360" y="4005360"/>
            <a:ext cx="2521080" cy="18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22960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Цел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ение образа жизни зимующих птиц города Санкт-Петербурга. Помочь птицам перезимо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3295440" cy="2904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5076720" y="2997360"/>
            <a:ext cx="3508560" cy="301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C:\Users\Администратор\Desktop\127453339523.jpg"/>
          <p:cNvPicPr/>
          <p:nvPr/>
        </p:nvPicPr>
        <p:blipFill>
          <a:blip r:embed="rId1"/>
          <a:stretch/>
        </p:blipFill>
        <p:spPr>
          <a:xfrm>
            <a:off x="324000" y="1484280"/>
            <a:ext cx="4171680" cy="4537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C:\Users\Администратор\Desktop\p0080.jpg"/>
          <p:cNvPicPr/>
          <p:nvPr/>
        </p:nvPicPr>
        <p:blipFill>
          <a:blip r:embed="rId3"/>
          <a:stretch/>
        </p:blipFill>
        <p:spPr>
          <a:xfrm>
            <a:off x="4643280" y="1484280"/>
            <a:ext cx="41054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н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 ноября, в былые времена в народе, отмечали праздник «День синицы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и синиц самая крупная и заметная – большая син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а ни от какого угощения  не откажется: семена, насекомые, кусочки сала – всё для неё год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бол синица"/>
          <p:cNvPicPr/>
          <p:nvPr/>
        </p:nvPicPr>
        <p:blipFill>
          <a:blip r:embed="rId1"/>
          <a:stretch/>
        </p:blipFill>
        <p:spPr>
          <a:xfrm>
            <a:off x="4876920" y="1676520"/>
            <a:ext cx="39621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неги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снегирь"/>
          <p:cNvPicPr/>
          <p:nvPr/>
        </p:nvPicPr>
        <p:blipFill>
          <a:blip r:embed="rId1"/>
          <a:stretch/>
        </p:blipFill>
        <p:spPr>
          <a:xfrm>
            <a:off x="304920" y="1600200"/>
            <a:ext cx="3962160" cy="44956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тоящий снегирь с ярко-красной грудкой, в чёрной шапочке, с чёрным хвостом и крыльями. Приметная птица. Любит покормиться ягодой калины и рябины, но и другими семенами не брезгу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вирис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первыми морозами прилетают к нам ещё один северный гость -  свиристель. По красоте оперения не уступает эта птица снегирю. Любит свиристель ягоды рябины – за день, может съесть больше, чем сама вес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свиристель"/>
          <p:cNvPicPr/>
          <p:nvPr/>
        </p:nvPicPr>
        <p:blipFill>
          <a:blip r:embed="rId1"/>
          <a:stretch/>
        </p:blipFill>
        <p:spPr>
          <a:xfrm>
            <a:off x="4800600" y="1600200"/>
            <a:ext cx="4038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ят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дятел"/>
          <p:cNvPicPr/>
          <p:nvPr/>
        </p:nvPicPr>
        <p:blipFill>
          <a:blip r:embed="rId1"/>
          <a:stretch/>
        </p:blipFill>
        <p:spPr>
          <a:xfrm>
            <a:off x="609480" y="1295280"/>
            <a:ext cx="2559240" cy="4876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580920" y="152388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ятлы зимой к синичьим стаям прибиваются. Питаются дятлы червяками, жучками и другими насекомыми, которые портят дерево, но и дятлу зимой трудно прокормиться, приходится за хвойные шишки браться: обработает шишку – выбросит, а другие птицы подбирают, что в распотрошенной шишке остало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робе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робьи очень давно живут рядом с человеком. Воробей – птица самостоятельная: в обиду себя не даст и голодным не останется. Если найдёт где-нибудь что-то съедобное, то сразу других зовёт. Когда воробью холодно, он распушает пёрышки, становится похожим на меховой шар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воробей"/>
          <p:cNvPicPr/>
          <p:nvPr/>
        </p:nvPicPr>
        <p:blipFill>
          <a:blip r:embed="rId1"/>
          <a:stretch/>
        </p:blipFill>
        <p:spPr>
          <a:xfrm>
            <a:off x="4952880" y="1600200"/>
            <a:ext cx="3810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5:31:37Z</dcterms:created>
  <dc:creator/>
  <dc:description>Работа учащегося
МБОУ СОШ № 31
г. Новочеркасска Пласовенко Виолетты
Скачано с сайта www.school31novoch.ucoz.ru</dc:description>
  <dc:language>en-US</dc:language>
  <cp:lastModifiedBy>Sitrus</cp:lastModifiedBy>
  <dcterms:modified xsi:type="dcterms:W3CDTF">2022-04-19T09:59:56Z</dcterms:modified>
  <cp:revision>39</cp:revision>
  <dc:subject/>
  <dc:title>Покормите птиц зимой</dc:title>
</cp:coreProperties>
</file>